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D309-9BEA-47FB-8D0E-5BD2960652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umulación de riqueza era un proxy de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Nula noción de eficiencia (todo se hace en el paí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lta intervención del Estado (Estados Naciones) por lo que hay un una política comercial proteccion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0435-DC45-4007-847D-81649596FF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Bodin estudió el influjo que hubo desde las colonias a los países y encontró infl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ustento de los mercantili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conomía superavitaria X&gt;M mayor inflación, disminuición de la competitividad, luego se revierte el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5497-CAC2-41E0-8CB1-AB76256C4C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Y aquí preguntas que por lo general rondan en cualquier análisis del comercio internacion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as ganancias del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 es el patrón de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os términos de intercamb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8FB1-EF46-4017-A978-7CF1783789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comercio mutuamente beneficioso se basa en el concepto de la ventaja absolu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ineficiente que los países produzcan todo de to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pecialízación, eficiencia, mayor producción, exc </a:t>
            </a:r>
            <a:r>
              <a:rPr b="0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xportación, aumento del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del concepto de costo de oport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A5C9-3FDD-47C1-AA59-ECCC145BBA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Hay comercio incluso cuando hay ventaja comparativa (condición más débi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supuestos: 1fp, 2 bienes, 2 pa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9F4-E3CD-42EC-9771-938A74CA83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ntes los costos de oportunidad eran una línea recta: cop const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 crecientes: frontera de pp conc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ferta neta: cantidad de un bien que un país está dispuesto a expor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países tienden a especializarse pero no hay especialización compl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E088-DA6E-4628-9EAE-1ADBF4C22C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80C-528A-4573-A4B6-FF6B0BF3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8AA-8E49-42DD-87DB-93BF0D92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E4D-77C4-4163-8252-7A68F046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048-AA6C-4184-AC85-EAC73BD7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72E-D3C3-47C4-8540-3318C98F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329-5F60-41B4-A945-13102F6B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D6B-0482-4EAE-B485-EDFAEE3F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3AD-F219-4BC0-A59D-CBAFA35A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407-2C8A-40D4-B812-8B095B21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C5D-337F-487F-964D-A123814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285-A962-47A1-806B-EBCB420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F52-F405-4545-A8F5-A132E9F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B6F2-903E-429F-816B-AF68E4CB38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s críticas se relacionaron con la evidencia empí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tieff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delo de factores específicos (H-O en el 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bases del comercio internacional han permitido entender los flujos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 pesar de su aparente simplicidad la teoría clásica ha permitido explicar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orqué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los países comercian, cuáles son la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gananci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l intercambio y lo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a que se ge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críticas que han seguido a estos modelos han permitido mejorar aún más las conclusiones derivadas de los modelos pio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rcantilismo y su visión particular del comer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714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suele ubicar a este sistema económico entre los siglos XVI hasta la mitad del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dea central: acumulación de riqu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comercio era entendido sólo hacia una balanza comercial “superav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críticas: importante efecto del dinero en una ec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antidad de dinero y su efecto en la econom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Bodin (1569) aumento de precios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Locke (1700) y la teoría cuantit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. Hume (1800) evolución natural de una economía superav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rítica: ¿riqueza = acumul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iqueza de los países radica en otros factores, como la división del trabajo o recursos nat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dam Smith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ienzo de la teoría clásica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dam Smith y las ventajas absolu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mportancia del libre comercio para incrementar la riqueza de las n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ol del factor productivo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delo Ricard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décadas después de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ucede si un país posee ventajas absolutas en la producción de todos los b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 con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ensión del model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introduce la noción de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de oportunidad cre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curvas de oferta 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Heckscher-Oh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ele llamarse a este modelo a una serie de teoremas (que incluyen el de H-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ybczy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eckscher-Oh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tolper-Samu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gualación de precio de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9:45:39Z</dcterms:created>
  <dc:creator>BCCH</dc:creator>
  <dc:description/>
  <dc:language>en-US</dc:language>
  <cp:lastModifiedBy>Gonzalo Becerra</cp:lastModifiedBy>
  <dcterms:modified xsi:type="dcterms:W3CDTF">2009-07-25T12:31:58Z</dcterms:modified>
  <cp:revision>12</cp:revision>
  <dc:subject/>
  <dc:title>Teoría del Comercio Internacional</dc:title>
</cp:coreProperties>
</file>