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5D50-1847-4295-A1D0-39C97F63ED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cumulación de riqueza era un proxy de biene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Nula noción de eficiencia (todo se hace en el paí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lta intervención del Estado (Estados Naciones) por lo que hay un una política comercial proteccion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45CA-1CD4-4F42-8388-578D9E4AE6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Bodin estudió el influjo que hubo desde las colonias a los países y encontró infla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Sustento de los mercantilist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conomía superavitaria X&gt;M mayor inflación, disminuición de la competitividad, luego se revierte el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C8D6-200D-4F5D-956A-07E1D1C227E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Y aquí preguntas que por lo general rondan en cualquier análisis del comercio internacion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¿Cuáles son las ganancias del comerci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¿Cuál es el patrón de comerci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¿Cuáles son los términos de intercambi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C074-7D5E-42EB-BB74-8C3D5AB8A0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 comercio mutuamente beneficioso se basa en el concepto de la ventaja absolu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 ineficiente que los países produzcan todo de to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pecialízación, eficiencia, mayor producción, exc </a:t>
            </a:r>
            <a:r>
              <a:rPr b="0" lang="es-MX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exportación, aumento del biene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Introducción del concepto de costo de oportuni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F1B8-6DC8-4545-A11F-64AB9A28C8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Hay comercio incluso cuando hay ventaja comparativa (condición más débil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os supuestos: 1fp, 2 bienes, 2 pai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A792-0DD3-4E55-805F-D2ABA74DC8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ntes los costos de oportunidad eran una línea recta: cop constan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Cop crecientes: frontera de pp conca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Oferta neta: cantidad de un bien que un país está dispuesto a expor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os países tienden a especializarse pero no hay especialización compl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1FE5-5205-4752-8DBA-1958E1875C8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40C-77DB-4445-98FB-033C65AF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AFB-7ED1-412E-8E7E-F9C776A8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B69-AEE4-4E90-90B9-7C776FF4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8CE-1B24-4A7F-B0C0-CF1AE98B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945-80F5-4584-969A-C5EE4B05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B15-E52B-4A7A-9603-F5D340E0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47F-465D-46CB-B776-43A1AC56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577-C3D7-4D3D-9AB4-0B764B85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3CC-0E1A-4E39-A8A7-EA745F3A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3B6-6A9F-4296-8367-8E91BE3F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6C2B-DED5-447C-A3FB-65F64D59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DB6-52FA-4139-883A-65FBD63F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7E2A-2C1C-410D-97CD-3C6FBB5B9E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ía del Comercio Inter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ploma Estrategia Internacional y Política 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ituto de Estudio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ábado 25 de Julio d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 CuadroTexto"/>
          <p:cNvSpPr/>
          <p:nvPr/>
        </p:nvSpPr>
        <p:spPr>
          <a:xfrm>
            <a:off x="5072040" y="50720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onzalo Becerra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Teoría “Clásica”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spuesta a los clásicos, evidencia empírica y algunas teorí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as críticas se relacionaron con la evidencia empí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eontieff (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delo de factores específicos (H-O en el corto plaz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ercio intraindus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Teoría “Clásica”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Respuesta a los clásicos, evidencia empírica y algunas teorí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s bases del comercio internacional han permitido entender los flujos de comer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 pesar de su aparente simplicidad la teoría clásica ha permitido explicar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porqué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los países comercian, cuáles son las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ganancia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del intercambio y los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precio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a que se gen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s críticas que han seguido a estos modelos han permitido mejorar aún más las conclusiones derivadas de los modelos pion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ía del Comercio Inter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8592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ploma Estrategia Internacional y Política 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ituto de Estudio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ábado 25 de Julio d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CuadroTexto"/>
          <p:cNvSpPr/>
          <p:nvPr/>
        </p:nvSpPr>
        <p:spPr>
          <a:xfrm>
            <a:off x="5072040" y="50720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onzalo Becerra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eoría “Clásica”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spuesta a los clásicos, evidencia empírica y algunas teorí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l mercantilismo y su visión particular del comer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17146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 suele ubicar a este sistema económico entre los siglos XVI hasta la mitad del XV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dea central: acumulación de riqu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comercio era entendido sólo hacia una balanza comercial “superavita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as críticas: importante efecto del dinero en una econom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cantidad de dinero y su efecto en la economí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J. Bodin (1569) aumento de precios en Europa Occid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J. Locke (1700) y la teoría cuantita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. Hume (1800) evolución natural de una economía superav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rítica: ¿riqueza = acumulaci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riqueza de los países radica en otros factores, como la división del trabajo o recursos natu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dam Smith (177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ienzo de la teoría clásica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dam Smith y las ventajas absolu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mportancia del libre comercio para incrementar la riqueza de las n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ol del factor productivo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cepto de especi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lus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Modelo Ricard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4 décadas después de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¿Qué sucede si un país posee ventajas absolutas en la producción de todos los bi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lustración con un 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xtensión del modelo cl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 introduce la noción de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stos de oportunidad crec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érminos de inter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cepto de curvas de oferta n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elo de Heckscher-Oh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uele llamarse a este modelo a una serie de teoremas (que incluyen el de H-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ybczyn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eckscher-Oh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tolper-Samue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gualación de precio de fa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9:45:39Z</dcterms:created>
  <dc:creator>BCCH</dc:creator>
  <dc:description/>
  <dc:language>en-US</dc:language>
  <cp:lastModifiedBy>Gonzalo Becerra</cp:lastModifiedBy>
  <dcterms:modified xsi:type="dcterms:W3CDTF">2009-07-25T12:31:58Z</dcterms:modified>
  <cp:revision>12</cp:revision>
  <dc:subject/>
  <dc:title>Teoría del Comercio Internacional</dc:title>
</cp:coreProperties>
</file>