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12F2-963B-4510-B3CB-7B61484960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7E9B-D4EB-4A20-AD1A-F0DE564EB8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12B-0B17-4538-A747-A688B679FE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D14E-0C66-4637-B363-F23D4EB104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43AD-E754-4A6F-B5BE-BB4436E19F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80F8-2279-4DC3-841A-8C2D309B67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7047-5560-4B45-920D-D1073452E3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72D-CD7A-4D06-BE6E-7F3311FB48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3BB7-7E73-4CA4-9091-E7EE9C9F7D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9660-80FB-4463-826C-A284FAD4D1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5A1-FBD4-4866-B8A6-BDE3592FA6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8C93-F041-4C2C-A328-BCCF6BB0E3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EBE-1312-40F9-AD3F-725708E8AE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98B-2778-47A9-A0B9-33D75C1F8D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85B-2673-4376-A744-6F7F6865F0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4AA-C026-4019-BEB0-62ED57CD5C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1E1C-9416-41BC-81E3-47B488E1B2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E29-6797-45A2-9196-D265078E5F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21CF-E413-469B-9C1B-7A5D88DC80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4"/>
          <p:cNvSpPr/>
          <p:nvPr/>
        </p:nvSpPr>
        <p:spPr>
          <a:xfrm>
            <a:off x="3429000" y="42908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610-33EE-4C2D-9562-D4FA285CF1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BA5-192C-4E73-AD44-128568834E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4A68-30A5-408D-9076-6A37749DCD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8162-C275-4257-A57E-90B79E0821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9B3-9CA0-4332-9C9C-E9479B9BF9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2654280" y="679320"/>
            <a:ext cx="1700280" cy="127476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2222280"/>
            <a:ext cx="502920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E2E6-2655-4A90-B371-331E84FE04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88C-2654-40C3-A67D-BE72628EAC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E14-7D96-4BAE-B898-B5EFEA8C3C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6E2-CC33-48A9-862B-C96C7DFC97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199-C520-417E-96DA-45727958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13D-86FE-4CD8-9ABB-A6DD2676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A3890-A3B1-44E3-86D7-78FFAFC7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A271E-5D52-4768-A3C2-77814FF3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7776A-780F-4751-B964-54CE46D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C089-915C-4E92-ABA6-0AD08D3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74E4D-0BE3-46ED-9CA5-83513B6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FF919-1BD1-4D8D-997B-7F8A2C9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2EE6E-A98D-4BB3-8B8B-5AC1E8F6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ED98F-C0A0-4537-89AF-D6685DA5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8EEBA-F5C7-49C7-8D3A-3685FA7C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0CCCB-583E-4F85-899F-DE183740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C8A-58F5-42A7-9D5B-EC61AE74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3921B-2F10-4940-957C-4116A50C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165DF-1D73-4EE9-ACCB-8C38097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D7910-5DFA-4657-86FD-02EC73B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3FA5A-84B3-48E9-A2CB-05F89148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71643-B09E-4497-8013-A5A319E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3FDE3-70C6-4EC5-91BA-57050BC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921AB-A5D1-4D07-8A4A-5ADAC67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995A4-2749-47C8-9DCF-2B071561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322F1-F23A-4753-8148-EA173244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437B9-7FED-4F5F-95CD-2D9472B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DFF-89BE-4F3E-B2E3-AFA5F51D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326AC-61C1-4FAC-8935-8DC9D27D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51A9D-F3C6-4B0E-A25B-DC9B32EE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40BFC-127F-4540-9012-5EC3300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BF161-6938-437C-B688-0ED57155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F8D8-D7EC-4821-95EC-F25BBEB4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FFFDD-6C0F-4636-B099-950CD5E1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5B685-6969-4636-9754-3D5E7F30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EE10-E672-4745-8726-B7BB27FB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4CFD4-F3B7-44E2-A9C0-1384BD1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2950F-248C-4CE4-92C2-C0C58AF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D14-05F3-4913-B349-6096A0DE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5FF2-12D1-4053-ACDB-316DBF5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F274-B912-49A7-BEE6-57FE9154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DCC37-8323-4257-86A3-273BB5BB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5C71F-85C8-4FBC-8055-3979D109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5FD67-1FFF-4373-9118-D0973DB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81CC7-48F3-46FF-8279-6815540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76589-5BD5-4CF5-B1B5-CA925F5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18B5C-293A-4923-8CED-2F158D3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35BAD-E0CA-4B4D-AB59-FC9CAA6B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254D9-36E0-4F6F-91C4-6B47E61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A192-2E3B-4E99-90DE-802001A5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84417-AE7B-4C42-AF39-DE3513A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538DE-96A5-411B-9400-BE2D976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D807D-01EC-482F-A6E7-BEC2FD44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24C0A-8A6E-4653-B7B3-6337D32E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AB799-011B-479E-BD67-5D72E363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A7C21-0224-4C05-8282-D98E8831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BAB1E-B501-4C52-BF29-39649276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18802-B083-49B0-B770-D7D522F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DEAED-E462-4CC2-8EDB-516870CF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73E1B-C5F1-4CCF-8FA7-7954ABC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70F4-C11D-4537-B3AF-9491EAA3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8CD41-7787-4E64-B05D-9D616B6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0B4A5-7903-45B5-B484-6F4292C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3BF8E-A2EE-44E5-8DDF-C69C88A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C1DC9-50C0-49DE-8E67-CE6E6266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A2EC2-D880-4C1A-A717-2D3C6100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00096-D95F-48F8-9DF6-C0F65D15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5A7E4-C94D-4E28-82F8-97C90FFE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A2AD3-F63E-4DF9-8DB8-F5B2CFF4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1B2C7-B3A1-4DC7-829F-0B7C30D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A0C28-A997-45E3-8798-52ADF4EE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307-6DB1-479B-AAD2-86649EA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C3D1E-75C6-4A48-A60B-573021D3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E97BE-D671-4C65-97C2-C483743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6230D-86B9-44AC-BEE3-A3F65834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4D5FF-9A88-46DF-A8B7-352521B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55734-ABB9-49F3-8177-2B485125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EF5F5-B56C-489B-9BAC-F21398B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E0D22-C60C-4613-8880-BC6E125B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20B6A-7DA9-4F90-B4E5-A7FED53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19BA5-06F2-4DC5-944C-204CE455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C6F91-4361-476F-AD7D-CFBF4729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D9C8-F5C1-49D1-97E9-3A34ADA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A828E-9082-4B00-BCFE-3E26A5AE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94825-196E-47E9-8B6B-B03D8AA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0D392-898A-4F1B-B530-7AC98B0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48A37-3ED0-49AD-B57E-1F5C474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59BDE-62CF-401A-BB91-CF52DE4C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57691-189E-4163-962C-711ABF7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B3716-2980-4082-9473-D05D217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85703-993E-4E52-A26C-D3313FF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D406C-10C9-4E54-AA73-14021DD2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A195D-EA79-4004-83EC-155152AF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4224-09C8-4398-BA8E-D119D6E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B36C4-24AF-4B86-A508-6DD5D064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7BF30-4A02-4BFB-A5A9-BFF2CCC2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B446E-9ECF-4B73-9414-256955E7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15ED1-7D7D-4830-91AC-B6C71481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313AD-6C49-466C-A0DE-526CDE9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722A1-9E88-4D0D-A054-72F69AFB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74054-5D8C-44EF-8879-F454CF7D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A66B5-53E1-4EBE-899D-52F3F15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E9A44-D8EA-40A4-8463-586E219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4D71E-0E32-498C-85E2-7E1BAB1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8759-D265-4061-AFA0-A953E45E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73AB6-BC25-4603-9216-3B4F17B6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13D74-5D64-4848-B4AE-87BAABA7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4A0D3-F420-4BED-9EB6-5FD59512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FAB07-DAB2-47C2-BFB3-7B57F6B8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5A530-16A3-4FB7-A458-F8CE8027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F3B792-BFB0-4760-B664-F8A00377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6650D-41A3-4FE1-9CEA-233B6E6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503E2-1F8D-48BA-9319-294467DA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58A86-92E1-41CA-801C-006AA57F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3B664-037E-4F51-84C0-BE8F86B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F23-1337-4DCC-B343-B928A04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AAD-C9E7-4C55-8263-2B47627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EB484-A8E8-40E5-B32D-57D101D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989F3-69C0-49F5-9C99-5793828D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5982C-EFEB-4D9C-BE6A-E26AAD6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E2939-A3A4-4178-8FB3-4513B58A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33051-B579-4120-B8C2-1D34C215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EBF67-B516-4398-BCDD-7C4F9F3E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216AC-8886-4F78-A495-7820D649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2CC9B-9EC7-4090-BE53-7896968D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765A2-2F26-4FA1-8EE5-49371FDE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39B52-D478-466C-AE7B-9E2A7D95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4F38-1570-4EEB-8396-8C7402E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B71B2-A032-4B8B-A91B-5CB6C022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76DE4-69E4-4123-8B3C-AD190C3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89F90-945A-48F0-84BC-0C9B3F36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29F44-0CE9-4F7F-AF95-D045335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BC716-CF57-49C6-90BE-0C81E17A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41557-5337-4446-96D8-3195D1E1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4E6CF-CB12-425A-9B1E-D83F5B4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CF560-C1A1-407E-B987-329F2DCB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DA97C-2FBE-4F66-819A-477CA82D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039A6-87A7-44FA-9F30-DF1232E8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3738-C6C1-45C5-8783-8E2A107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78E72-C5A9-425F-A25F-F0C97CF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511BF-BD1A-4679-8CCF-42197EF9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5D3AC-D835-4FC7-943C-2B95F1B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4D21D-B619-494C-9FAB-A290213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E7888-F450-4F5C-B5AE-854B009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3AB6D-E831-429D-AE64-2203F42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227B6-5E72-4226-93B9-1EC15A2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43089-D30E-4B0E-B79E-1D677807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87E0E-FA94-4188-89A4-5CBDA6A4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3A401-C9C3-4D3C-9EA6-FCF0FE63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C05B-D9FE-43FB-B40D-52ABF535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5A9B5-6F11-4F4B-9F24-CA1A9CD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7912D-F7AF-463A-BDC2-1F2B57D0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511D0-FE6C-447D-984F-6D3DF85C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FD21A-49EB-4368-B3F0-4544114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EA4700-2776-4206-8B7A-1775CC1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2AB3E-0064-4EB4-8BB4-F964587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EB648-9791-4F6A-B938-24D50F15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8855A-181B-43A6-B1A4-55720D1F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F8ABB9-D9C9-4536-A956-3023C507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375B1-A3BD-4B6F-8A05-5E835C3F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3E0F-C89A-43D5-9082-206A63F9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C7E80-74FC-4A9F-8146-11A15683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E3060-038C-4721-A2CD-DBF0072A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54143-F5EF-4095-BA79-994B7E3F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252E9-5D4D-475B-A633-7FC4724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74C03C-7B75-4E01-BC53-961B4890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027AD-3D70-4152-A7B2-5CE1782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92293-2190-48EA-B32F-08698CA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CAD0B-A6AF-4DE0-8066-11AC40E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B64F31-657B-4FA2-9A32-43B3EBD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EB6AC7-02E3-4D02-8A1B-F9B4B05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6C9D-C67C-4958-8AAC-FE372000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25B84-EC27-414F-A8C9-AEEE5EA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477B0-0085-412D-BDA2-C23FE091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E6BBD-D90B-4923-AF06-4446CEEF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1A5E4-AF32-4756-AA95-9AD73CFC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3EF5D-E106-41F1-9DC3-C4D087C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18F88-C013-43FC-A677-6174A10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46206-58CD-4905-A890-00CDEAA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20138F-CBAD-42FB-9BC1-CF8D794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7C2386-81F1-4900-9920-34E29AF9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05045-4C98-496D-A941-1AA90693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9C5F-94EF-4273-8CE8-0DBD51E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DC004-79DE-42A7-AC4B-B735D3B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58E322-A825-4647-9C43-15CEBDD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4AF8C-9823-42C4-8E01-92D93AD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610B5-40AB-4FBF-AAE9-B5E204D8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A0D2BE-127D-4370-BF2B-FB611E99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0A7DA8-697C-4441-BAED-9C56237C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59505-38D0-4D8C-804D-83444BD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4A4EAE-8769-4148-9702-0CFC224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BEC70-D154-4FEC-9F5E-E6252A3C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B8B3D-513D-4CB4-BFEE-B0CD6E68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12D0-DDAB-4597-85EA-BF81932E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DBBDC-DDC4-4B31-9DB3-2EC6FF94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29CE84-7DF6-4688-BA36-2BE6F42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4048DA-7CC2-48DC-B995-54CF75AD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4B9913-5A76-44A0-BF33-13F4FA2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06B70-EA32-4C2B-9D18-4141349A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77BB5-0DCE-4556-AB4F-D391FF22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2C9A1D-E6B2-4B06-B689-35D82C49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50577-9AE3-4B6B-AF7C-C3338916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E45DB-BEE2-488B-AD6C-BD668D2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98D95F-1236-490C-920C-75428BD1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D42C-2679-40BE-9D94-9A1A84A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2419F-5BB9-4C4E-A22F-D8E814DC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66FE24-6E22-4772-A1E1-26DACDF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95627-4199-483A-94B1-FCD2E575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B029A4-465C-409B-8CE4-42F2D98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91C276-D371-40E2-8129-8419C618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6C0FE-32AA-45BC-8D62-68F9A6E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5D954-C64E-4C30-83B0-8094DD5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2A6F56-8D19-4C77-A77A-39EC9E65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89E50A-5C6F-469F-8C3E-3255B982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98312E-2DE3-488F-A273-B26B351A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0E68-D314-4E49-BCA4-F6848B74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6C0AC9-8CCB-483A-B780-103574C9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4959DA-6BEF-46B4-8360-F363DF6A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F4257C-ECFF-40D4-A7D8-BCB28859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4B1C62-2888-45E5-984B-5D8DE3DB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64FD59-9A6C-45DA-8D81-1268246A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C3411-C532-4EF0-A93F-72E158F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89B5E7-A10F-47CE-BA14-6AEB5AF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DB2F9B-8862-4897-A0B5-E4D833C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01002C-F517-4FF5-BBC0-E3BCF99D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97132-2674-48C4-AE85-C7C07A5A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336-EF20-4968-8146-BCC51B1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C57E-B9A7-4DF7-A790-E3BBABDD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F66C7-9C43-49FD-B3A5-B320F045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FA1EE7-99E2-4A4B-95D8-15C8D465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3BEF70-7DF1-4FA0-8877-975D9061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0DA05E-C2E5-472F-A893-22FFCB8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A72F33-C02C-428C-A43C-24A55FE9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EBA0BD-18F0-4339-BA3D-43E106B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3FEF71-AC80-40F5-BE16-AE68FD3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0D103D-A48A-4140-BB46-FFEE28F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163FFB-9FE8-4CE4-8E93-0461982D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24584-6A23-4B90-8A94-FC2EA19B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878D-0934-4429-8FB5-9CF46A5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E4CF59-E6EE-4A52-B74A-989EEB7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19DEDA-9135-4E16-8D28-D4978573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2EFA7-D599-471C-B602-9C00DA3B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BCE0-FB9A-44C1-9BAA-293CDD19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C366-A733-4D12-A9C4-135BEA8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5BA4-2CB9-4EAD-B510-6EF8EAEC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534B-7103-4C03-98D4-02E1D02B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CA28-9A2A-44E8-97B2-C6A4FB5E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C0FF-B2B5-4BF3-991C-C9A578A5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10F5-E280-4FD5-9C32-2FBD465D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3710-F00B-4F8D-8481-99A49970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00D-BF03-49B6-9A34-C8C8B73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4746-BBBA-438D-B2CF-FA0B2856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D384-4FA3-4172-A965-11EA6540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3E29-0030-4F6C-ABA6-E56D3B90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D854-24A4-4618-AD51-51E02F2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94DA-5140-4C5F-B629-3CC1FD5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155E-925F-410E-9FD7-F24612E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C5A5-9878-4970-804C-05E7518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B849-30CA-4670-B62D-5DAC2594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7CA8-3C80-4418-8E56-D44340F9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D38C-6ACA-46D8-8F7B-4E88EDA3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C72-F21A-4202-AED2-06199C0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936E-7EFC-41F3-8A27-58603029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BC1F-1F03-41AA-9073-2040899D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9FAA-9321-4280-8D11-0BD567C5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026E2-E9CB-49A2-9078-8897150B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5283-BC6F-4A00-9BC5-B08CBC4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DE71-F6F3-4929-B683-72ED3C8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E849-F505-482E-9B7C-C3DA6BB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02AB-74D6-453A-B20C-DFDF77F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F14D-4A8B-419E-A9A8-0CB83AC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BF4E-C74C-47F4-BB11-298362B3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10B-B117-4CA7-9273-3D2CF09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F7E4-B6FB-469F-B269-40B92E08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B5199-5913-46AE-AAE5-CC20C58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759B0-E419-4EE1-86AB-B6CA6B6F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EF58-FD4D-441C-9306-2107A2AD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2D09-40FA-4010-A7F5-8CE6E15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D152A-3636-4987-98BB-2377CFC0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9F03-98A2-4287-A766-C2498AA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7ABC-127A-4C8E-B61B-380DEA4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C6B9-516E-46D1-82AD-CC20D80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4284-F505-435F-A974-A8D9A79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624-45E8-4CDA-B4FE-5AA255E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4D1FC-9F9C-4CBA-9C7D-959461D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1991-A270-4817-9CA4-636E4E27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6A121-4E4E-4614-9ADC-713A4F67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7633-2E65-4B06-81FC-0AE5DCCA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BFB2-4BCD-4661-8194-9DAAA00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6FD37-0A84-47AE-B71B-D41A9BC2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BFAF-1EB8-4BB3-ABB5-DC896970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B9944-1DDF-473C-8706-34C33DE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A371F-3ABF-4790-8BF8-3A05147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F5C5-3E33-42F2-A890-42BE4E5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ABA-18BC-4873-AA3C-9DC2812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DDBD-A802-4A5D-AB9B-4811B5F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B29B-8B03-43BD-AE59-99FCD70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9345-5083-4481-8B7D-EF362210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1B90C-108F-4713-860B-E39EA1FB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D624-C759-4811-B2AC-6204E9E1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2D30-7519-4AE0-A5AF-83C4AA36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73E4-7137-43F7-B714-C4C3FC4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5687B-ED52-4056-BC53-32CBEAD2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4E83-984A-4486-8575-0860AC2A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834C-EB54-4D6E-BCA8-6BD853D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22B-3C14-48C2-9AD6-CB23E1E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4DE73-FA4E-4E92-889F-28C43B8C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45411-0C8D-4AA3-9AFA-2B27C752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F5E4-843C-49F5-B184-A4D86C20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B87AB-E10A-4B2B-8C3C-8200EFE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7280-4017-40F6-9928-7832ECBE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CEAE-5B3B-4AA3-BEE1-A3806302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E1D11-282C-400A-B9EE-AC8D5DE4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E24AF-C761-4B9B-8C8F-034A7160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41A76-2998-431C-95E1-D53D9155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356E0-F954-45D7-A3C1-34C69BCA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367E-F3F9-4D82-945A-7C0B9AE7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 rot="16200000">
            <a:off x="-518760" y="539424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WTO - OMC 20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07F1-F2F0-4C43-AF55-487F9E5B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CE59-CB46-4CB2-A1CF-CB2117EBB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0DA8-8432-42C4-ACC6-98AE95C1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1CB0-3615-4BDE-BC68-06351A30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DF1-6CC9-4799-90E5-1A0809A3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33D5-15D9-402B-AF10-818FB0C5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E63-02FD-4837-9F1C-674FEC20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CFF-6CAC-4943-A405-E37E96D2D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E483-1435-4130-BA55-A9BE94D64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7E8-8F8C-4538-8254-90EE836F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6407-AE8C-445D-9CA7-FE6F84B06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 rot="16200000">
            <a:off x="-442800" y="5317920"/>
            <a:ext cx="12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WTO - OMC 20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5AAC-0DB8-4C2A-800B-01FD6136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3B34-F110-42F6-828B-ED7EDA59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7C7-6894-42D5-9077-88282BCBE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6EFD-0363-45EB-8287-DD3DF38A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786A-E0D2-41D2-B157-A60B8402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C3C6-9F28-4026-B33C-7316FDF53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361-28D4-4B5F-8683-3176BBD8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A577-BCD5-4818-81B6-BABCFD861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4FD3-C5AF-45CB-B4F1-5156E36C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A410-F706-4E3C-8151-AD04F116E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3D5-174A-4208-A1FD-BB76373C0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1C7-2480-4E1F-8E4E-AB5B72A7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971A-3139-4001-8650-258FBFAFD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7A11-AED7-4DB9-A9AE-2A138231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slideLayout" Target="../slideLayouts/slideLayout97.xml"/><Relationship Id="rId3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1500120" y="50004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ploma en Estrategia Internaciona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 Política Comer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6" name="Object 4"/>
          <p:cNvGraphicFramePr/>
          <p:nvPr/>
        </p:nvGraphicFramePr>
        <p:xfrm>
          <a:off x="6786720" y="2857680"/>
          <a:ext cx="20145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6720" y="2857680"/>
                    <a:ext cx="20145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Rectangle 5"/>
          <p:cNvSpPr/>
          <p:nvPr/>
        </p:nvSpPr>
        <p:spPr>
          <a:xfrm>
            <a:off x="0" y="185724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incipios Básicos del Sistema del GATT/OMC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4214880" y="6211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Instituto de Formación y Cooperación Técnica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TO – OMC. 2005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Picture 6" descr="logo estrategia 09.jpg"/>
          <p:cNvPicPr/>
          <p:nvPr/>
        </p:nvPicPr>
        <p:blipFill>
          <a:blip r:embed="rId3"/>
          <a:stretch/>
        </p:blipFill>
        <p:spPr>
          <a:xfrm>
            <a:off x="285840" y="214200"/>
            <a:ext cx="1179360" cy="1576440"/>
          </a:xfrm>
          <a:prstGeom prst="rect">
            <a:avLst/>
          </a:prstGeom>
          <a:ln w="0">
            <a:noFill/>
          </a:ln>
        </p:spPr>
      </p:pic>
      <p:sp>
        <p:nvSpPr>
          <p:cNvPr id="1081" name="TextBox 7"/>
          <p:cNvSpPr/>
          <p:nvPr/>
        </p:nvSpPr>
        <p:spPr>
          <a:xfrm>
            <a:off x="571680" y="4214880"/>
            <a:ext cx="635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orotea López 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 de julio de 200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2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2b2b2"/>
                </a:solidFill>
                <a:latin typeface="Arial"/>
              </a:rPr>
              <a:t>OMC: Normas y disciplina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Group 5"/>
          <p:cNvGrpSpPr/>
          <p:nvPr/>
        </p:nvGrpSpPr>
        <p:grpSpPr>
          <a:xfrm>
            <a:off x="533520" y="2743200"/>
            <a:ext cx="1284120" cy="1828800"/>
            <a:chOff x="533520" y="2743200"/>
            <a:chExt cx="1284120" cy="1828800"/>
          </a:xfrm>
        </p:grpSpPr>
        <p:sp>
          <p:nvSpPr>
            <p:cNvPr id="1379" name="AutoShape 6"/>
            <p:cNvSpPr/>
            <p:nvPr/>
          </p:nvSpPr>
          <p:spPr>
            <a:xfrm>
              <a:off x="5335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7"/>
            <p:cNvSpPr/>
            <p:nvPr/>
          </p:nvSpPr>
          <p:spPr>
            <a:xfrm>
              <a:off x="6858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8"/>
            <p:cNvSpPr/>
            <p:nvPr/>
          </p:nvSpPr>
          <p:spPr>
            <a:xfrm>
              <a:off x="609840" y="3276720"/>
              <a:ext cx="1143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uerdos Multilaterales sobre el Comercio de Mercancí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Group 9"/>
          <p:cNvGrpSpPr/>
          <p:nvPr/>
        </p:nvGrpSpPr>
        <p:grpSpPr>
          <a:xfrm>
            <a:off x="1905120" y="2743200"/>
            <a:ext cx="1284120" cy="1828800"/>
            <a:chOff x="1905120" y="2743200"/>
            <a:chExt cx="1284120" cy="1828800"/>
          </a:xfrm>
        </p:grpSpPr>
        <p:sp>
          <p:nvSpPr>
            <p:cNvPr id="1383" name="AutoShape 10"/>
            <p:cNvSpPr/>
            <p:nvPr/>
          </p:nvSpPr>
          <p:spPr>
            <a:xfrm>
              <a:off x="19051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Text Box 11"/>
            <p:cNvSpPr/>
            <p:nvPr/>
          </p:nvSpPr>
          <p:spPr>
            <a:xfrm>
              <a:off x="20574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Text Box 12"/>
            <p:cNvSpPr/>
            <p:nvPr/>
          </p:nvSpPr>
          <p:spPr>
            <a:xfrm>
              <a:off x="1981440" y="32767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G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Group 13"/>
          <p:cNvGrpSpPr/>
          <p:nvPr/>
        </p:nvGrpSpPr>
        <p:grpSpPr>
          <a:xfrm>
            <a:off x="3276720" y="2743200"/>
            <a:ext cx="1284120" cy="1828800"/>
            <a:chOff x="3276720" y="2743200"/>
            <a:chExt cx="1284120" cy="1828800"/>
          </a:xfrm>
        </p:grpSpPr>
        <p:sp>
          <p:nvSpPr>
            <p:cNvPr id="1387" name="AutoShape 14"/>
            <p:cNvSpPr/>
            <p:nvPr/>
          </p:nvSpPr>
          <p:spPr>
            <a:xfrm>
              <a:off x="32767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Text Box 15"/>
            <p:cNvSpPr/>
            <p:nvPr/>
          </p:nvSpPr>
          <p:spPr>
            <a:xfrm>
              <a:off x="34290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16"/>
            <p:cNvSpPr/>
            <p:nvPr/>
          </p:nvSpPr>
          <p:spPr>
            <a:xfrm>
              <a:off x="3353040" y="32767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DPIC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Group 17"/>
          <p:cNvGrpSpPr/>
          <p:nvPr/>
        </p:nvGrpSpPr>
        <p:grpSpPr>
          <a:xfrm>
            <a:off x="4648320" y="2743200"/>
            <a:ext cx="1284120" cy="1828800"/>
            <a:chOff x="4648320" y="2743200"/>
            <a:chExt cx="1284120" cy="1828800"/>
          </a:xfrm>
        </p:grpSpPr>
        <p:sp>
          <p:nvSpPr>
            <p:cNvPr id="1391" name="AutoShape 18"/>
            <p:cNvSpPr/>
            <p:nvPr/>
          </p:nvSpPr>
          <p:spPr>
            <a:xfrm>
              <a:off x="46483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19"/>
            <p:cNvSpPr/>
            <p:nvPr/>
          </p:nvSpPr>
          <p:spPr>
            <a:xfrm>
              <a:off x="48006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0"/>
            <p:cNvSpPr/>
            <p:nvPr/>
          </p:nvSpPr>
          <p:spPr>
            <a:xfrm>
              <a:off x="4724280" y="327672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ntendimiento sobre Solución de Diferenci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Group 21"/>
          <p:cNvGrpSpPr/>
          <p:nvPr/>
        </p:nvGrpSpPr>
        <p:grpSpPr>
          <a:xfrm>
            <a:off x="6019920" y="2743200"/>
            <a:ext cx="1284120" cy="1828800"/>
            <a:chOff x="6019920" y="2743200"/>
            <a:chExt cx="1284120" cy="1828800"/>
          </a:xfrm>
        </p:grpSpPr>
        <p:sp>
          <p:nvSpPr>
            <p:cNvPr id="1395" name="AutoShape 22"/>
            <p:cNvSpPr/>
            <p:nvPr/>
          </p:nvSpPr>
          <p:spPr>
            <a:xfrm>
              <a:off x="60199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3"/>
            <p:cNvSpPr/>
            <p:nvPr/>
          </p:nvSpPr>
          <p:spPr>
            <a:xfrm>
              <a:off x="61722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4"/>
            <p:cNvSpPr/>
            <p:nvPr/>
          </p:nvSpPr>
          <p:spPr>
            <a:xfrm>
              <a:off x="6095880" y="3276720"/>
              <a:ext cx="1143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ecanismo de Examen de las Políticas Comercia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Group 25"/>
          <p:cNvGrpSpPr/>
          <p:nvPr/>
        </p:nvGrpSpPr>
        <p:grpSpPr>
          <a:xfrm>
            <a:off x="7391520" y="2743200"/>
            <a:ext cx="1284120" cy="1828800"/>
            <a:chOff x="7391520" y="2743200"/>
            <a:chExt cx="1284120" cy="1828800"/>
          </a:xfrm>
        </p:grpSpPr>
        <p:sp>
          <p:nvSpPr>
            <p:cNvPr id="1399" name="AutoShape 26"/>
            <p:cNvSpPr/>
            <p:nvPr/>
          </p:nvSpPr>
          <p:spPr>
            <a:xfrm>
              <a:off x="73915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27"/>
            <p:cNvSpPr/>
            <p:nvPr/>
          </p:nvSpPr>
          <p:spPr>
            <a:xfrm>
              <a:off x="75438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28"/>
            <p:cNvSpPr/>
            <p:nvPr/>
          </p:nvSpPr>
          <p:spPr>
            <a:xfrm>
              <a:off x="7467480" y="327672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cuerdos comerciales plurilatera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29"/>
          <p:cNvGrpSpPr/>
          <p:nvPr/>
        </p:nvGrpSpPr>
        <p:grpSpPr>
          <a:xfrm>
            <a:off x="3962520" y="685800"/>
            <a:ext cx="1447200" cy="1828800"/>
            <a:chOff x="3962520" y="685800"/>
            <a:chExt cx="1447200" cy="1828800"/>
          </a:xfrm>
        </p:grpSpPr>
        <p:sp>
          <p:nvSpPr>
            <p:cNvPr id="1403" name="Rectangle 30"/>
            <p:cNvSpPr/>
            <p:nvPr/>
          </p:nvSpPr>
          <p:spPr>
            <a:xfrm>
              <a:off x="4098960" y="685800"/>
              <a:ext cx="1310760" cy="18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Rectangle 31"/>
            <p:cNvSpPr/>
            <p:nvPr/>
          </p:nvSpPr>
          <p:spPr>
            <a:xfrm>
              <a:off x="3962520" y="685800"/>
              <a:ext cx="136440" cy="1828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2"/>
            <p:cNvSpPr/>
            <p:nvPr/>
          </p:nvSpPr>
          <p:spPr>
            <a:xfrm>
              <a:off x="4016160" y="1025640"/>
              <a:ext cx="55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3"/>
            <p:cNvSpPr/>
            <p:nvPr/>
          </p:nvSpPr>
          <p:spPr>
            <a:xfrm>
              <a:off x="4016160" y="1992240"/>
              <a:ext cx="55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34"/>
            <p:cNvSpPr/>
            <p:nvPr/>
          </p:nvSpPr>
          <p:spPr>
            <a:xfrm>
              <a:off x="4190760" y="1066680"/>
              <a:ext cx="114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WTO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Group 35"/>
          <p:cNvGrpSpPr/>
          <p:nvPr/>
        </p:nvGrpSpPr>
        <p:grpSpPr>
          <a:xfrm>
            <a:off x="533520" y="685800"/>
            <a:ext cx="8229600" cy="5168880"/>
            <a:chOff x="533520" y="685800"/>
            <a:chExt cx="8229600" cy="5168880"/>
          </a:xfrm>
        </p:grpSpPr>
        <p:sp>
          <p:nvSpPr>
            <p:cNvPr id="1409" name="Text Box 36"/>
            <p:cNvSpPr/>
            <p:nvPr/>
          </p:nvSpPr>
          <p:spPr>
            <a:xfrm>
              <a:off x="533520" y="5029200"/>
              <a:ext cx="822960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cuerdo de Marrakech por el que se establece la Organización Mundial del Comercio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Group 37"/>
            <p:cNvGrpSpPr/>
            <p:nvPr/>
          </p:nvGrpSpPr>
          <p:grpSpPr>
            <a:xfrm>
              <a:off x="4114800" y="685800"/>
              <a:ext cx="1284120" cy="1828800"/>
              <a:chOff x="4114800" y="685800"/>
              <a:chExt cx="1284120" cy="1828800"/>
            </a:xfrm>
          </p:grpSpPr>
          <p:sp>
            <p:nvSpPr>
              <p:cNvPr id="1411" name="AutoShape 38"/>
              <p:cNvSpPr/>
              <p:nvPr/>
            </p:nvSpPr>
            <p:spPr>
              <a:xfrm>
                <a:off x="4114800" y="685800"/>
                <a:ext cx="1284120" cy="1828800"/>
              </a:xfrm>
              <a:prstGeom prst="foldedCorner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Text Box 39"/>
              <p:cNvSpPr/>
              <p:nvPr/>
            </p:nvSpPr>
            <p:spPr>
              <a:xfrm>
                <a:off x="4267080" y="822600"/>
                <a:ext cx="990720" cy="45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Arial Black"/>
                  </a:rPr>
                  <a:t>OM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Text Box 40"/>
              <p:cNvSpPr/>
              <p:nvPr/>
            </p:nvSpPr>
            <p:spPr>
              <a:xfrm>
                <a:off x="4190760" y="1219320"/>
                <a:ext cx="114300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 Box 2"/>
          <p:cNvSpPr/>
          <p:nvPr/>
        </p:nvSpPr>
        <p:spPr>
          <a:xfrm>
            <a:off x="1981080" y="1981080"/>
            <a:ext cx="38102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tendimient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3"/>
          <p:cNvSpPr/>
          <p:nvPr/>
        </p:nvSpPr>
        <p:spPr>
          <a:xfrm>
            <a:off x="1981080" y="2514600"/>
            <a:ext cx="71629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cuerdos sobr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"/>
          <p:cNvSpPr/>
          <p:nvPr/>
        </p:nvSpPr>
        <p:spPr>
          <a:xfrm>
            <a:off x="1981080" y="29718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gricultur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1981080" y="3581280"/>
            <a:ext cx="3429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didas Sanitarias y fitosanitari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1981080" y="449568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xtiles y vesti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1981080" y="50292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Barreras técnicas al comerc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1981080" y="5589720"/>
            <a:ext cx="3429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edidas en materia de inversiones relacionadas con el comercio (MIC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9"/>
          <p:cNvSpPr/>
          <p:nvPr/>
        </p:nvSpPr>
        <p:spPr>
          <a:xfrm>
            <a:off x="5715000" y="29718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tidump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10"/>
          <p:cNvSpPr/>
          <p:nvPr/>
        </p:nvSpPr>
        <p:spPr>
          <a:xfrm>
            <a:off x="5715000" y="350532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Valoración en adua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11"/>
          <p:cNvSpPr/>
          <p:nvPr/>
        </p:nvSpPr>
        <p:spPr>
          <a:xfrm>
            <a:off x="5715000" y="4038480"/>
            <a:ext cx="3429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Inspección previa a la expedició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12"/>
          <p:cNvSpPr/>
          <p:nvPr/>
        </p:nvSpPr>
        <p:spPr>
          <a:xfrm>
            <a:off x="5715000" y="45720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glas de Orig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13"/>
          <p:cNvSpPr/>
          <p:nvPr/>
        </p:nvSpPr>
        <p:spPr>
          <a:xfrm>
            <a:off x="5715000" y="5105520"/>
            <a:ext cx="3429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rámite de licencias de importació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4"/>
          <p:cNvSpPr/>
          <p:nvPr/>
        </p:nvSpPr>
        <p:spPr>
          <a:xfrm>
            <a:off x="5715000" y="5638680"/>
            <a:ext cx="3429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bvenciones y medidas compensatoria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5"/>
          <p:cNvSpPr/>
          <p:nvPr/>
        </p:nvSpPr>
        <p:spPr>
          <a:xfrm>
            <a:off x="6019920" y="1981080"/>
            <a:ext cx="31240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tocolo de Marrake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6"/>
          <p:cNvSpPr/>
          <p:nvPr/>
        </p:nvSpPr>
        <p:spPr>
          <a:xfrm>
            <a:off x="5715000" y="646128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alvaguardi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1979640" y="1523880"/>
            <a:ext cx="7164360" cy="67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GATT 1994  </a:t>
            </a:r>
            <a:r>
              <a:rPr b="1" lang="fr-FR" sz="19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ES" sz="1900" spc="-1" strike="noStrike">
                <a:solidFill>
                  <a:srgbClr val="000000"/>
                </a:solidFill>
                <a:latin typeface="Arial Narrow"/>
              </a:rPr>
              <a:t>Acuerdo General sobre Aranceles Aduaneros y Comercio</a:t>
            </a:r>
            <a:r>
              <a:rPr b="1" lang="fr-FR" sz="19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18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OMC: Normas y disciplinas comercial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Group 20"/>
          <p:cNvGrpSpPr/>
          <p:nvPr/>
        </p:nvGrpSpPr>
        <p:grpSpPr>
          <a:xfrm>
            <a:off x="380880" y="2666880"/>
            <a:ext cx="1284120" cy="1828800"/>
            <a:chOff x="380880" y="2666880"/>
            <a:chExt cx="1284120" cy="1828800"/>
          </a:xfrm>
        </p:grpSpPr>
        <p:sp>
          <p:nvSpPr>
            <p:cNvPr id="1433" name="AutoShape 21"/>
            <p:cNvSpPr/>
            <p:nvPr/>
          </p:nvSpPr>
          <p:spPr>
            <a:xfrm>
              <a:off x="380880" y="266688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22"/>
            <p:cNvSpPr/>
            <p:nvPr/>
          </p:nvSpPr>
          <p:spPr>
            <a:xfrm>
              <a:off x="533160" y="2803320"/>
              <a:ext cx="9907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Black"/>
                </a:rPr>
                <a:t>1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23"/>
            <p:cNvSpPr/>
            <p:nvPr/>
          </p:nvSpPr>
          <p:spPr>
            <a:xfrm>
              <a:off x="457200" y="3200400"/>
              <a:ext cx="1143000" cy="855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uerdos Multilaterales sobre el Comercio de Mercancí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Text Box 24"/>
          <p:cNvSpPr/>
          <p:nvPr/>
        </p:nvSpPr>
        <p:spPr>
          <a:xfrm>
            <a:off x="0" y="457200"/>
            <a:ext cx="91440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ff"/>
                </a:solidFill>
                <a:latin typeface="Arial"/>
              </a:rPr>
              <a:t>Anexo 1A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uerdos Multilaterales sobre el Comercio d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Mercancí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0" y="4724280"/>
            <a:ext cx="1981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rcancí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2"/>
          <p:cNvSpPr/>
          <p:nvPr/>
        </p:nvSpPr>
        <p:spPr>
          <a:xfrm>
            <a:off x="0" y="1916280"/>
            <a:ext cx="4329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 OMC como organizació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2"/>
          <p:cNvSpPr/>
          <p:nvPr/>
        </p:nvSpPr>
        <p:spPr>
          <a:xfrm>
            <a:off x="663480" y="1590840"/>
            <a:ext cx="83250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rigida por los Miembros (15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isiones por consens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principi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ferentes tipos de reuni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les, Informales, Sesiones Especiales, Consultas, Multi- / Pluri- / Bilater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Órganos abiertos a todos los Miembr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ciones de la OM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610920" y="126828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 los acuerdos comerciales de la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o para negociac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ta de resolver las diferenci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ervisa las políticas comerciales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istencia técnica y cursos de formación para los países en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peración con otras organizaciones internacionale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2"/>
          <p:cNvSpPr/>
          <p:nvPr/>
        </p:nvSpPr>
        <p:spPr>
          <a:xfrm>
            <a:off x="74448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ersonería jurídica propi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630 funcionari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supuesto: US$ 130 millones aprox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de en Gineb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cretariado independient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2"/>
          <p:cNvSpPr/>
          <p:nvPr/>
        </p:nvSpPr>
        <p:spPr>
          <a:xfrm>
            <a:off x="609480" y="-15228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 de 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Group 3"/>
          <p:cNvGrpSpPr/>
          <p:nvPr/>
        </p:nvGrpSpPr>
        <p:grpSpPr>
          <a:xfrm>
            <a:off x="2235240" y="1295280"/>
            <a:ext cx="4132080" cy="3429000"/>
            <a:chOff x="2235240" y="1295280"/>
            <a:chExt cx="4132080" cy="3429000"/>
          </a:xfrm>
        </p:grpSpPr>
        <p:sp>
          <p:nvSpPr>
            <p:cNvPr id="1451" name="Line 4"/>
            <p:cNvSpPr/>
            <p:nvPr/>
          </p:nvSpPr>
          <p:spPr>
            <a:xfrm>
              <a:off x="2235240" y="2666880"/>
              <a:ext cx="41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5"/>
            <p:cNvSpPr/>
            <p:nvPr/>
          </p:nvSpPr>
          <p:spPr>
            <a:xfrm>
              <a:off x="223524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6"/>
            <p:cNvSpPr/>
            <p:nvPr/>
          </p:nvSpPr>
          <p:spPr>
            <a:xfrm>
              <a:off x="3386520" y="26668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7"/>
            <p:cNvSpPr/>
            <p:nvPr/>
          </p:nvSpPr>
          <p:spPr>
            <a:xfrm>
              <a:off x="440244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8"/>
            <p:cNvSpPr/>
            <p:nvPr/>
          </p:nvSpPr>
          <p:spPr>
            <a:xfrm>
              <a:off x="6367320" y="266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9"/>
            <p:cNvSpPr/>
            <p:nvPr/>
          </p:nvSpPr>
          <p:spPr>
            <a:xfrm>
              <a:off x="4064040" y="1295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Line 10"/>
          <p:cNvSpPr/>
          <p:nvPr/>
        </p:nvSpPr>
        <p:spPr>
          <a:xfrm>
            <a:off x="2303640" y="2057400"/>
            <a:ext cx="35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1"/>
          <p:cNvSpPr/>
          <p:nvPr/>
        </p:nvSpPr>
        <p:spPr>
          <a:xfrm>
            <a:off x="1557360" y="914400"/>
            <a:ext cx="487692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ferencia Ministerial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812880" y="6186600"/>
            <a:ext cx="21225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Secretarí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6635880" y="1052640"/>
            <a:ext cx="1492200" cy="1054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rgano de Apelación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6635880" y="2178000"/>
            <a:ext cx="168120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Grupos Especiale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1490760" y="3930480"/>
            <a:ext cx="1623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mité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6"/>
          <p:cNvSpPr/>
          <p:nvPr/>
        </p:nvSpPr>
        <p:spPr>
          <a:xfrm>
            <a:off x="3564000" y="4005360"/>
            <a:ext cx="1623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mité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7"/>
          <p:cNvSpPr/>
          <p:nvPr/>
        </p:nvSpPr>
        <p:spPr>
          <a:xfrm>
            <a:off x="1353960" y="3032280"/>
            <a:ext cx="189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de Mercancía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8"/>
          <p:cNvSpPr/>
          <p:nvPr/>
        </p:nvSpPr>
        <p:spPr>
          <a:xfrm>
            <a:off x="3589200" y="2852640"/>
            <a:ext cx="162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de Servicio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9"/>
          <p:cNvSpPr/>
          <p:nvPr/>
        </p:nvSpPr>
        <p:spPr>
          <a:xfrm>
            <a:off x="2573280" y="4572000"/>
            <a:ext cx="162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ADPIC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0"/>
          <p:cNvSpPr/>
          <p:nvPr/>
        </p:nvSpPr>
        <p:spPr>
          <a:xfrm>
            <a:off x="5340240" y="3068640"/>
            <a:ext cx="2830680" cy="343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CD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desarroll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CMA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medio ambient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AR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regionalism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BP (Balanza pagos)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GT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inversion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competenci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transparencia – contratación públic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dhesion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Presupuest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1"/>
          <p:cNvSpPr/>
          <p:nvPr/>
        </p:nvSpPr>
        <p:spPr>
          <a:xfrm>
            <a:off x="2438280" y="1849320"/>
            <a:ext cx="311652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General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2"/>
          <p:cNvSpPr/>
          <p:nvPr/>
        </p:nvSpPr>
        <p:spPr>
          <a:xfrm>
            <a:off x="1403280" y="1843200"/>
            <a:ext cx="966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EPC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3"/>
          <p:cNvSpPr/>
          <p:nvPr/>
        </p:nvSpPr>
        <p:spPr>
          <a:xfrm>
            <a:off x="5613480" y="1828800"/>
            <a:ext cx="86508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SD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4"/>
          <p:cNvSpPr/>
          <p:nvPr/>
        </p:nvSpPr>
        <p:spPr>
          <a:xfrm>
            <a:off x="812880" y="5791320"/>
            <a:ext cx="21225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rector-Gener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ferencias Minister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toridad máx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reúne, en principio, cada d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ngapu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emas de Singap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ineb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h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nzamiento Ronda de Doha para el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ncú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ineb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2"/>
          <p:cNvSpPr/>
          <p:nvPr/>
        </p:nvSpPr>
        <p:spPr>
          <a:xfrm>
            <a:off x="677880" y="1600200"/>
            <a:ext cx="7736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onsejo Gener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eres de la Conferencia Ministerial (entre sus sesione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ierto a todos los Miembr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ones princip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general de la OM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rgano de Solución de Diferenci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rgano de Revisión de Política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826920" y="1413000"/>
            <a:ext cx="7788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Mercancí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s de comercio de mercancías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Servici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 General sobre el Comercio de Servicios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ADPI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 sobre los Aspectos de los Derechos de Propiedad Intelectual Relacionados con el Comercio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 Box 5"/>
          <p:cNvSpPr/>
          <p:nvPr/>
        </p:nvSpPr>
        <p:spPr>
          <a:xfrm>
            <a:off x="0" y="2133720"/>
            <a:ext cx="4214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istoria del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ATT /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2"/>
          <p:cNvSpPr/>
          <p:nvPr/>
        </p:nvSpPr>
        <p:spPr>
          <a:xfrm>
            <a:off x="666720" y="1590840"/>
            <a:ext cx="82566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tructura “Ad hoc” de Negociaciones para la Ronda de Doh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ité de Negociaciones Comerci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Informa al Consejo General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Presidido por el Director-General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upos de negociación (ad hoc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siones Especiales” de órganos existen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Text Box 2"/>
          <p:cNvSpPr/>
          <p:nvPr/>
        </p:nvSpPr>
        <p:spPr>
          <a:xfrm>
            <a:off x="0" y="1916280"/>
            <a:ext cx="4329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incipios básicos de la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642960" y="2000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to de la nación más favoreci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 GATT 1947 – Art. II GA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olidación de compromisos y arance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I GATT 1947 – Parte III y Art. XX G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II GATT 1947 – Art. XVII G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hibición de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XI GATT 194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rechos de los Miemb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 GATT 194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vaguar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uerdos regionales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IV GATT 1947, Art. V GATS, Claúsula de habili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ciones por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I GATT 194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das Antidumping / Compensat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VI GATT 1947 y Acuerdo 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0" name="Object 2"/>
          <p:cNvGraphicFramePr/>
          <p:nvPr/>
        </p:nvGraphicFramePr>
        <p:xfrm>
          <a:off x="214200" y="785880"/>
          <a:ext cx="875052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85880"/>
                    <a:ext cx="8750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494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496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97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49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499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00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1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02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03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04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05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06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08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09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10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11" name="Group 19"/>
          <p:cNvGrpSpPr/>
          <p:nvPr/>
        </p:nvGrpSpPr>
        <p:grpSpPr>
          <a:xfrm>
            <a:off x="250920" y="990720"/>
            <a:ext cx="3025440" cy="703800"/>
            <a:chOff x="250920" y="990720"/>
            <a:chExt cx="3025440" cy="703800"/>
          </a:xfrm>
        </p:grpSpPr>
        <p:sp>
          <p:nvSpPr>
            <p:cNvPr id="1512" name="Text Box 20"/>
            <p:cNvSpPr/>
            <p:nvPr/>
          </p:nvSpPr>
          <p:spPr>
            <a:xfrm>
              <a:off x="801000" y="990720"/>
              <a:ext cx="247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Consolidaciones </a:t>
              </a:r>
              <a:r>
                <a:rPr b="1" lang="en-GB" sz="2000" spc="-1" strike="noStrike">
                  <a:solidFill>
                    <a:srgbClr val="b2b2b2"/>
                  </a:solidFill>
                  <a:latin typeface="Tahoma"/>
                </a:rPr>
                <a:t>/ Compromis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Oval 21"/>
            <p:cNvSpPr/>
            <p:nvPr/>
          </p:nvSpPr>
          <p:spPr>
            <a:xfrm>
              <a:off x="250920" y="1067040"/>
              <a:ext cx="366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Text Box 22"/>
          <p:cNvSpPr/>
          <p:nvPr/>
        </p:nvSpPr>
        <p:spPr>
          <a:xfrm>
            <a:off x="179280" y="191628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Cada país se compromete a mantener el nivel acordado de acceso a su mercado, sobre base NMF, para los países proveedo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6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20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1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22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23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24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25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26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28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29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30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31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32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34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5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36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37" name="Group 19"/>
          <p:cNvGrpSpPr/>
          <p:nvPr/>
        </p:nvGrpSpPr>
        <p:grpSpPr>
          <a:xfrm>
            <a:off x="228600" y="990720"/>
            <a:ext cx="2514600" cy="398880"/>
            <a:chOff x="228600" y="990720"/>
            <a:chExt cx="2514600" cy="398880"/>
          </a:xfrm>
        </p:grpSpPr>
        <p:sp>
          <p:nvSpPr>
            <p:cNvPr id="1538" name="Text Box 20"/>
            <p:cNvSpPr/>
            <p:nvPr/>
          </p:nvSpPr>
          <p:spPr>
            <a:xfrm>
              <a:off x="685800" y="9907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Principio NM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Oval 2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Text Box 22"/>
          <p:cNvSpPr/>
          <p:nvPr/>
        </p:nvSpPr>
        <p:spPr>
          <a:xfrm>
            <a:off x="152280" y="1447920"/>
            <a:ext cx="297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No discriminación entre productos / servicios similares originados en o destinados a diferentes países (o nacionales de diferentes países en relación con la protección de DPI). Cada socio comercial obtiene inmediata e incondicionalmente el mejor de los tratos otorgados a cualquier otro socio comerci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2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46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7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48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49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50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51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52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3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54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55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56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57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58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60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61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62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63" name="Group 1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564" name="Text Box 2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0000"/>
                  </a:solidFill>
                  <a:latin typeface="Tahoma"/>
                </a:rPr>
                <a:t>Prohibición de contingent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Oval 2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Text Box 22"/>
          <p:cNvSpPr/>
          <p:nvPr/>
        </p:nvSpPr>
        <p:spPr>
          <a:xfrm>
            <a:off x="304920" y="1916280"/>
            <a:ext cx="29718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bienes, el uso de contingentes (restricciones cuantitativas) está prohibid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ervicios, el uso de contingentes está prohibido para los sectores y modos de suministro indicados en las listas de compromisos específic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Rectangle 3"/>
          <p:cNvSpPr/>
          <p:nvPr/>
        </p:nvSpPr>
        <p:spPr>
          <a:xfrm>
            <a:off x="0" y="85716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Group 4"/>
          <p:cNvGrpSpPr/>
          <p:nvPr/>
        </p:nvGrpSpPr>
        <p:grpSpPr>
          <a:xfrm>
            <a:off x="228600" y="990720"/>
            <a:ext cx="2614320" cy="398880"/>
            <a:chOff x="228600" y="990720"/>
            <a:chExt cx="2614320" cy="398880"/>
          </a:xfrm>
        </p:grpSpPr>
        <p:sp>
          <p:nvSpPr>
            <p:cNvPr id="1572" name="Text Box 5"/>
            <p:cNvSpPr/>
            <p:nvPr/>
          </p:nvSpPr>
          <p:spPr>
            <a:xfrm>
              <a:off x="703800" y="990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Trato  Nacion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6"/>
            <p:cNvSpPr/>
            <p:nvPr/>
          </p:nvSpPr>
          <p:spPr>
            <a:xfrm>
              <a:off x="228600" y="1067040"/>
              <a:ext cx="31680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Text Box 7"/>
          <p:cNvSpPr/>
          <p:nvPr/>
        </p:nvSpPr>
        <p:spPr>
          <a:xfrm>
            <a:off x="152280" y="1714680"/>
            <a:ext cx="2971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os bienes y servicios y proveedores de servicios extranjeros, así como los extranjeros titulares de DPI no deben ser discriminados en relación con los bienes y servicios y proveedores de servicios nacionales o los nacionales titulares de DPI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ervicios, la obligación de TN depende de las listas de compromisos específicos de cada Miembr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5" name="Object 8"/>
          <p:cNvGraphicFramePr/>
          <p:nvPr/>
        </p:nvGraphicFramePr>
        <p:xfrm>
          <a:off x="7467480" y="4176720"/>
          <a:ext cx="144792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4176720"/>
                    <a:ext cx="14479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7" name="Line 9"/>
          <p:cNvSpPr/>
          <p:nvPr/>
        </p:nvSpPr>
        <p:spPr>
          <a:xfrm>
            <a:off x="8153280" y="2666880"/>
            <a:ext cx="0" cy="1828800"/>
          </a:xfrm>
          <a:prstGeom prst="line">
            <a:avLst/>
          </a:prstGeom>
          <a:ln w="20628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Object 10"/>
          <p:cNvGraphicFramePr/>
          <p:nvPr/>
        </p:nvGraphicFramePr>
        <p:xfrm>
          <a:off x="6095880" y="4191120"/>
          <a:ext cx="1447920" cy="13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191120"/>
                    <a:ext cx="14479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0" name="Object 11"/>
          <p:cNvGraphicFramePr/>
          <p:nvPr/>
        </p:nvGraphicFramePr>
        <p:xfrm>
          <a:off x="7620120" y="5396040"/>
          <a:ext cx="1447560" cy="13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5396040"/>
                    <a:ext cx="1447560" cy="138564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82" name="Line 12"/>
          <p:cNvSpPr/>
          <p:nvPr/>
        </p:nvSpPr>
        <p:spPr>
          <a:xfrm>
            <a:off x="5105520" y="3200400"/>
            <a:ext cx="1523880" cy="1371600"/>
          </a:xfrm>
          <a:prstGeom prst="line">
            <a:avLst/>
          </a:prstGeom>
          <a:ln w="247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4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88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90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91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2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93" name="Group 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594" name="Text Box 1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Excepciones Gener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1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Text Box 12"/>
          <p:cNvSpPr/>
          <p:nvPr/>
        </p:nvSpPr>
        <p:spPr>
          <a:xfrm>
            <a:off x="152280" y="213372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as reglas y obligaciones de la OMC no impiden a los Miembros , </a:t>
            </a: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en algunas situaciones particulares y bajo ciertas condiciones,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 tomar medidas que de otra manera serían consideradas ilega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Object 13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Text Box 1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Excepciones Gener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2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04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06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07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09" name="Group 9"/>
          <p:cNvGrpSpPr/>
          <p:nvPr/>
        </p:nvGrpSpPr>
        <p:grpSpPr>
          <a:xfrm>
            <a:off x="228600" y="990720"/>
            <a:ext cx="2514600" cy="1472400"/>
            <a:chOff x="228600" y="990720"/>
            <a:chExt cx="2514600" cy="1472400"/>
          </a:xfrm>
        </p:grpSpPr>
        <p:sp>
          <p:nvSpPr>
            <p:cNvPr id="1610" name="Text Box 10"/>
            <p:cNvSpPr/>
            <p:nvPr/>
          </p:nvSpPr>
          <p:spPr>
            <a:xfrm>
              <a:off x="685800" y="990720"/>
              <a:ext cx="20574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BIEN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Generales de Salvaguardi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11"/>
            <p:cNvSpPr/>
            <p:nvPr/>
          </p:nvSpPr>
          <p:spPr>
            <a:xfrm>
              <a:off x="228600" y="1066680"/>
              <a:ext cx="30492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Text Box 12"/>
          <p:cNvSpPr/>
          <p:nvPr/>
        </p:nvSpPr>
        <p:spPr>
          <a:xfrm>
            <a:off x="152280" y="266688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ituaciones particulares, medidas normalmente contrarias a los principios básicos de la OMC, están a disposición de los Miembros a fin de proteger, condicional y temporariamente, a su industria  nacional de los  aumentos de las importa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13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520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4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Text Box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alvaguard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2"/>
          <p:cNvSpPr/>
          <p:nvPr/>
        </p:nvSpPr>
        <p:spPr>
          <a:xfrm>
            <a:off x="0" y="6286680"/>
            <a:ext cx="84582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3"/>
          <p:cNvGrpSpPr/>
          <p:nvPr/>
        </p:nvGrpSpPr>
        <p:grpSpPr>
          <a:xfrm>
            <a:off x="1295280" y="2133720"/>
            <a:ext cx="952560" cy="3962160"/>
            <a:chOff x="1295280" y="2133720"/>
            <a:chExt cx="952560" cy="3962160"/>
          </a:xfrm>
        </p:grpSpPr>
        <p:grpSp>
          <p:nvGrpSpPr>
            <p:cNvPr id="1089" name="Group 4"/>
            <p:cNvGrpSpPr/>
            <p:nvPr/>
          </p:nvGrpSpPr>
          <p:grpSpPr>
            <a:xfrm>
              <a:off x="1295280" y="2133720"/>
              <a:ext cx="952560" cy="3962160"/>
              <a:chOff x="1295280" y="2133720"/>
              <a:chExt cx="952560" cy="3962160"/>
            </a:xfrm>
          </p:grpSpPr>
          <p:sp>
            <p:nvSpPr>
              <p:cNvPr id="1090" name="Freeform 5"/>
              <p:cNvSpPr/>
              <p:nvPr/>
            </p:nvSpPr>
            <p:spPr>
              <a:xfrm>
                <a:off x="1371600" y="236232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1" name="Object 6"/>
              <p:cNvGraphicFramePr/>
              <p:nvPr/>
            </p:nvGraphicFramePr>
            <p:xfrm>
              <a:off x="1295280" y="2133720"/>
              <a:ext cx="95256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92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2133720"/>
                        <a:ext cx="95256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3" name="Text Box 7"/>
            <p:cNvSpPr/>
            <p:nvPr/>
          </p:nvSpPr>
          <p:spPr>
            <a:xfrm rot="16200000">
              <a:off x="364680" y="4189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Group 8"/>
          <p:cNvGrpSpPr/>
          <p:nvPr/>
        </p:nvGrpSpPr>
        <p:grpSpPr>
          <a:xfrm>
            <a:off x="1714680" y="2286000"/>
            <a:ext cx="952200" cy="3962160"/>
            <a:chOff x="1714680" y="2286000"/>
            <a:chExt cx="952200" cy="3962160"/>
          </a:xfrm>
        </p:grpSpPr>
        <p:grpSp>
          <p:nvGrpSpPr>
            <p:cNvPr id="1095" name="Group 9"/>
            <p:cNvGrpSpPr/>
            <p:nvPr/>
          </p:nvGrpSpPr>
          <p:grpSpPr>
            <a:xfrm>
              <a:off x="1714680" y="2286000"/>
              <a:ext cx="952200" cy="3962160"/>
              <a:chOff x="1714680" y="2286000"/>
              <a:chExt cx="952200" cy="3962160"/>
            </a:xfrm>
          </p:grpSpPr>
          <p:sp>
            <p:nvSpPr>
              <p:cNvPr id="1096" name="Freeform 10"/>
              <p:cNvSpPr/>
              <p:nvPr/>
            </p:nvSpPr>
            <p:spPr>
              <a:xfrm>
                <a:off x="1790640" y="2514600"/>
                <a:ext cx="80424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7" name="Object 11"/>
              <p:cNvGraphicFramePr/>
              <p:nvPr/>
            </p:nvGraphicFramePr>
            <p:xfrm>
              <a:off x="1714680" y="2286000"/>
              <a:ext cx="952200" cy="396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98" name="Object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14680" y="2286000"/>
                        <a:ext cx="95220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9" name="Text Box 12"/>
            <p:cNvSpPr/>
            <p:nvPr/>
          </p:nvSpPr>
          <p:spPr>
            <a:xfrm rot="16200000">
              <a:off x="783720" y="43419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Protocol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Group 13"/>
          <p:cNvGrpSpPr/>
          <p:nvPr/>
        </p:nvGrpSpPr>
        <p:grpSpPr>
          <a:xfrm>
            <a:off x="-360" y="1371600"/>
            <a:ext cx="9144360" cy="457200"/>
            <a:chOff x="-360" y="1371600"/>
            <a:chExt cx="9144360" cy="457200"/>
          </a:xfrm>
        </p:grpSpPr>
        <p:sp>
          <p:nvSpPr>
            <p:cNvPr id="1101" name="Rectangle 14"/>
            <p:cNvSpPr/>
            <p:nvPr/>
          </p:nvSpPr>
          <p:spPr>
            <a:xfrm flipH="1">
              <a:off x="-720" y="1371600"/>
              <a:ext cx="89154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"/>
            <p:cNvSpPr/>
            <p:nvPr/>
          </p:nvSpPr>
          <p:spPr>
            <a:xfrm>
              <a:off x="609480" y="1447920"/>
              <a:ext cx="838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Los años del GAT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6"/>
            <p:cNvSpPr/>
            <p:nvPr/>
          </p:nvSpPr>
          <p:spPr>
            <a:xfrm>
              <a:off x="8915400" y="1371600"/>
              <a:ext cx="228600" cy="457200"/>
            </a:xfrm>
            <a:prstGeom prst="rect">
              <a:avLst/>
            </a:prstGeom>
            <a:solidFill>
              <a:srgbClr val="e4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Group 17"/>
          <p:cNvGrpSpPr/>
          <p:nvPr/>
        </p:nvGrpSpPr>
        <p:grpSpPr>
          <a:xfrm>
            <a:off x="2417760" y="2133720"/>
            <a:ext cx="952560" cy="3962160"/>
            <a:chOff x="2417760" y="2133720"/>
            <a:chExt cx="952560" cy="3962160"/>
          </a:xfrm>
        </p:grpSpPr>
        <p:grpSp>
          <p:nvGrpSpPr>
            <p:cNvPr id="1105" name="Group 18"/>
            <p:cNvGrpSpPr/>
            <p:nvPr/>
          </p:nvGrpSpPr>
          <p:grpSpPr>
            <a:xfrm>
              <a:off x="2417760" y="2133720"/>
              <a:ext cx="952560" cy="3962160"/>
              <a:chOff x="2417760" y="2133720"/>
              <a:chExt cx="952560" cy="3962160"/>
            </a:xfrm>
          </p:grpSpPr>
          <p:sp>
            <p:nvSpPr>
              <p:cNvPr id="1106" name="Freeform 19"/>
              <p:cNvSpPr/>
              <p:nvPr/>
            </p:nvSpPr>
            <p:spPr>
              <a:xfrm>
                <a:off x="2494080" y="236232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7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7760" y="2133720"/>
                <a:ext cx="952560" cy="39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8" name="Text Box 21"/>
            <p:cNvSpPr/>
            <p:nvPr/>
          </p:nvSpPr>
          <p:spPr>
            <a:xfrm rot="16200000">
              <a:off x="1459800" y="4129200"/>
              <a:ext cx="251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Protocolos de Adhesión                        al GAT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Group 22"/>
          <p:cNvGrpSpPr/>
          <p:nvPr/>
        </p:nvGrpSpPr>
        <p:grpSpPr>
          <a:xfrm>
            <a:off x="2938320" y="2135160"/>
            <a:ext cx="952560" cy="3962160"/>
            <a:chOff x="2938320" y="2135160"/>
            <a:chExt cx="952560" cy="3962160"/>
          </a:xfrm>
        </p:grpSpPr>
        <p:grpSp>
          <p:nvGrpSpPr>
            <p:cNvPr id="1110" name="Group 23"/>
            <p:cNvGrpSpPr/>
            <p:nvPr/>
          </p:nvGrpSpPr>
          <p:grpSpPr>
            <a:xfrm>
              <a:off x="2938320" y="2135160"/>
              <a:ext cx="952560" cy="3962160"/>
              <a:chOff x="2938320" y="2135160"/>
              <a:chExt cx="952560" cy="3962160"/>
            </a:xfrm>
          </p:grpSpPr>
          <p:sp>
            <p:nvSpPr>
              <p:cNvPr id="1111" name="Freeform 24"/>
              <p:cNvSpPr/>
              <p:nvPr/>
            </p:nvSpPr>
            <p:spPr>
              <a:xfrm>
                <a:off x="3014640" y="2363760"/>
                <a:ext cx="80496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2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2938320" y="2135160"/>
                <a:ext cx="952560" cy="39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3" name="Text Box 26"/>
            <p:cNvSpPr/>
            <p:nvPr/>
          </p:nvSpPr>
          <p:spPr>
            <a:xfrm rot="16200000">
              <a:off x="1978920" y="41292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Decisiones de PPCC del GAT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(1947-1994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Group 27"/>
          <p:cNvGrpSpPr/>
          <p:nvPr/>
        </p:nvGrpSpPr>
        <p:grpSpPr>
          <a:xfrm>
            <a:off x="3440160" y="2351160"/>
            <a:ext cx="1085400" cy="3638520"/>
            <a:chOff x="3440160" y="2351160"/>
            <a:chExt cx="1085400" cy="3638520"/>
          </a:xfrm>
        </p:grpSpPr>
        <p:grpSp>
          <p:nvGrpSpPr>
            <p:cNvPr id="1115" name="Group 28"/>
            <p:cNvGrpSpPr/>
            <p:nvPr/>
          </p:nvGrpSpPr>
          <p:grpSpPr>
            <a:xfrm>
              <a:off x="3440160" y="2351160"/>
              <a:ext cx="1085400" cy="3638520"/>
              <a:chOff x="3440160" y="2351160"/>
              <a:chExt cx="1085400" cy="3638520"/>
            </a:xfrm>
          </p:grpSpPr>
          <p:grpSp>
            <p:nvGrpSpPr>
              <p:cNvPr id="1116" name="Group 29"/>
              <p:cNvGrpSpPr/>
              <p:nvPr/>
            </p:nvGrpSpPr>
            <p:grpSpPr>
              <a:xfrm>
                <a:off x="3440160" y="2351160"/>
                <a:ext cx="1085400" cy="3638520"/>
                <a:chOff x="3440160" y="2351160"/>
                <a:chExt cx="1085400" cy="3638520"/>
              </a:xfrm>
            </p:grpSpPr>
            <p:sp>
              <p:nvSpPr>
                <p:cNvPr id="1117" name="Freeform 30"/>
                <p:cNvSpPr/>
                <p:nvPr/>
              </p:nvSpPr>
              <p:spPr>
                <a:xfrm>
                  <a:off x="3595320" y="2493720"/>
                  <a:ext cx="63612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18" name="Object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40160" y="2351160"/>
                  <a:ext cx="10854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19" name="Text Box 32"/>
              <p:cNvSpPr/>
              <p:nvPr/>
            </p:nvSpPr>
            <p:spPr>
              <a:xfrm rot="16200000">
                <a:off x="2607480" y="423540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Text Box 33"/>
            <p:cNvSpPr/>
            <p:nvPr/>
          </p:nvSpPr>
          <p:spPr>
            <a:xfrm>
              <a:off x="3630600" y="2943360"/>
              <a:ext cx="30492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34"/>
          <p:cNvGrpSpPr/>
          <p:nvPr/>
        </p:nvGrpSpPr>
        <p:grpSpPr>
          <a:xfrm>
            <a:off x="3935520" y="2351160"/>
            <a:ext cx="1085400" cy="3638520"/>
            <a:chOff x="3935520" y="2351160"/>
            <a:chExt cx="1085400" cy="3638520"/>
          </a:xfrm>
        </p:grpSpPr>
        <p:grpSp>
          <p:nvGrpSpPr>
            <p:cNvPr id="1122" name="Group 35"/>
            <p:cNvGrpSpPr/>
            <p:nvPr/>
          </p:nvGrpSpPr>
          <p:grpSpPr>
            <a:xfrm>
              <a:off x="3935520" y="2351160"/>
              <a:ext cx="1085400" cy="3638520"/>
              <a:chOff x="3935520" y="2351160"/>
              <a:chExt cx="1085400" cy="3638520"/>
            </a:xfrm>
          </p:grpSpPr>
          <p:grpSp>
            <p:nvGrpSpPr>
              <p:cNvPr id="1123" name="Group 36"/>
              <p:cNvGrpSpPr/>
              <p:nvPr/>
            </p:nvGrpSpPr>
            <p:grpSpPr>
              <a:xfrm>
                <a:off x="3935520" y="2351160"/>
                <a:ext cx="1085400" cy="3638520"/>
                <a:chOff x="3935520" y="2351160"/>
                <a:chExt cx="1085400" cy="3638520"/>
              </a:xfrm>
            </p:grpSpPr>
            <p:sp>
              <p:nvSpPr>
                <p:cNvPr id="1124" name="Freeform 37"/>
                <p:cNvSpPr/>
                <p:nvPr/>
              </p:nvSpPr>
              <p:spPr>
                <a:xfrm>
                  <a:off x="4090680" y="2493720"/>
                  <a:ext cx="63612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5" name="Object 3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35520" y="2351160"/>
                  <a:ext cx="10854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26" name="Text Box 39"/>
              <p:cNvSpPr/>
              <p:nvPr/>
            </p:nvSpPr>
            <p:spPr>
              <a:xfrm rot="16200000">
                <a:off x="3106440" y="4237200"/>
                <a:ext cx="235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Text Box 40"/>
            <p:cNvSpPr/>
            <p:nvPr/>
          </p:nvSpPr>
          <p:spPr>
            <a:xfrm>
              <a:off x="4138560" y="2943360"/>
              <a:ext cx="3049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Group 41"/>
          <p:cNvGrpSpPr/>
          <p:nvPr/>
        </p:nvGrpSpPr>
        <p:grpSpPr>
          <a:xfrm>
            <a:off x="4437000" y="2351160"/>
            <a:ext cx="1086840" cy="3638520"/>
            <a:chOff x="4437000" y="2351160"/>
            <a:chExt cx="1086840" cy="3638520"/>
          </a:xfrm>
        </p:grpSpPr>
        <p:grpSp>
          <p:nvGrpSpPr>
            <p:cNvPr id="1129" name="Group 42"/>
            <p:cNvGrpSpPr/>
            <p:nvPr/>
          </p:nvGrpSpPr>
          <p:grpSpPr>
            <a:xfrm>
              <a:off x="4437000" y="2351160"/>
              <a:ext cx="1086840" cy="3638520"/>
              <a:chOff x="4437000" y="2351160"/>
              <a:chExt cx="1086840" cy="3638520"/>
            </a:xfrm>
          </p:grpSpPr>
          <p:grpSp>
            <p:nvGrpSpPr>
              <p:cNvPr id="1130" name="Group 43"/>
              <p:cNvGrpSpPr/>
              <p:nvPr/>
            </p:nvGrpSpPr>
            <p:grpSpPr>
              <a:xfrm>
                <a:off x="4437000" y="2351160"/>
                <a:ext cx="1086840" cy="3638520"/>
                <a:chOff x="4437000" y="2351160"/>
                <a:chExt cx="1086840" cy="3638520"/>
              </a:xfrm>
            </p:grpSpPr>
            <p:sp>
              <p:nvSpPr>
                <p:cNvPr id="1131" name="Freeform 44"/>
                <p:cNvSpPr/>
                <p:nvPr/>
              </p:nvSpPr>
              <p:spPr>
                <a:xfrm>
                  <a:off x="4592520" y="2493720"/>
                  <a:ext cx="636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32" name="Object 4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37000" y="2351160"/>
                  <a:ext cx="108684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33" name="Text Box 46"/>
              <p:cNvSpPr/>
              <p:nvPr/>
            </p:nvSpPr>
            <p:spPr>
              <a:xfrm rot="16200000">
                <a:off x="3605760" y="423864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Text Box 47"/>
            <p:cNvSpPr/>
            <p:nvPr/>
          </p:nvSpPr>
          <p:spPr>
            <a:xfrm>
              <a:off x="4605120" y="2941920"/>
              <a:ext cx="3049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Group 48"/>
          <p:cNvGrpSpPr/>
          <p:nvPr/>
        </p:nvGrpSpPr>
        <p:grpSpPr>
          <a:xfrm>
            <a:off x="4932360" y="2351160"/>
            <a:ext cx="1087200" cy="3638520"/>
            <a:chOff x="4932360" y="2351160"/>
            <a:chExt cx="1087200" cy="3638520"/>
          </a:xfrm>
        </p:grpSpPr>
        <p:grpSp>
          <p:nvGrpSpPr>
            <p:cNvPr id="1136" name="Group 49"/>
            <p:cNvGrpSpPr/>
            <p:nvPr/>
          </p:nvGrpSpPr>
          <p:grpSpPr>
            <a:xfrm>
              <a:off x="4932360" y="2351160"/>
              <a:ext cx="1087200" cy="3638520"/>
              <a:chOff x="4932360" y="2351160"/>
              <a:chExt cx="1087200" cy="3638520"/>
            </a:xfrm>
          </p:grpSpPr>
          <p:grpSp>
            <p:nvGrpSpPr>
              <p:cNvPr id="1137" name="Group 50"/>
              <p:cNvGrpSpPr/>
              <p:nvPr/>
            </p:nvGrpSpPr>
            <p:grpSpPr>
              <a:xfrm>
                <a:off x="4932360" y="2351160"/>
                <a:ext cx="1087200" cy="3638520"/>
                <a:chOff x="4932360" y="2351160"/>
                <a:chExt cx="1087200" cy="3638520"/>
              </a:xfrm>
            </p:grpSpPr>
            <p:sp>
              <p:nvSpPr>
                <p:cNvPr id="1138" name="Freeform 51"/>
                <p:cNvSpPr/>
                <p:nvPr/>
              </p:nvSpPr>
              <p:spPr>
                <a:xfrm>
                  <a:off x="5087880" y="2493720"/>
                  <a:ext cx="6372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39" name="Object 5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32360" y="2351160"/>
                  <a:ext cx="10872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40" name="Text Box 53"/>
              <p:cNvSpPr/>
              <p:nvPr/>
            </p:nvSpPr>
            <p:spPr>
              <a:xfrm rot="16200000">
                <a:off x="4106160" y="421020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Text Box 54"/>
            <p:cNvSpPr/>
            <p:nvPr/>
          </p:nvSpPr>
          <p:spPr>
            <a:xfrm>
              <a:off x="5104080" y="2948040"/>
              <a:ext cx="304560" cy="3373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21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2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23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24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2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26" name="Group 9"/>
          <p:cNvGrpSpPr/>
          <p:nvPr/>
        </p:nvGrpSpPr>
        <p:grpSpPr>
          <a:xfrm>
            <a:off x="228600" y="990720"/>
            <a:ext cx="2758680" cy="1313640"/>
            <a:chOff x="228600" y="990720"/>
            <a:chExt cx="2758680" cy="1313640"/>
          </a:xfrm>
        </p:grpSpPr>
        <p:sp>
          <p:nvSpPr>
            <p:cNvPr id="1627" name="Text Box 10"/>
            <p:cNvSpPr/>
            <p:nvPr/>
          </p:nvSpPr>
          <p:spPr>
            <a:xfrm>
              <a:off x="730080" y="990720"/>
              <a:ext cx="225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de Salvaguardia por dificultades de B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Oval 11"/>
            <p:cNvSpPr/>
            <p:nvPr/>
          </p:nvSpPr>
          <p:spPr>
            <a:xfrm>
              <a:off x="228600" y="1067040"/>
              <a:ext cx="3344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Text Box 12"/>
          <p:cNvSpPr/>
          <p:nvPr/>
        </p:nvSpPr>
        <p:spPr>
          <a:xfrm>
            <a:off x="152280" y="270828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En situaciones particulares, medidas normalmente contrarias a los principios básicos de la OMC, están a disposición de los Miembros para superar 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dificultades en su Balanza de Pag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13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520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1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Text Box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alvaguard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Group 4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638" name="Text Box 5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Integración region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Oval 6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Text Box 7"/>
          <p:cNvSpPr/>
          <p:nvPr/>
        </p:nvSpPr>
        <p:spPr>
          <a:xfrm>
            <a:off x="152280" y="2133720"/>
            <a:ext cx="297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as reglas y obligaciones de la OMC no impiden a los Miembros tomar ciertas medidas, de otra manera ilegales, destinadas a la integración económica con otros países compatible con las normas de integración regional de la OM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Freeform 8"/>
          <p:cNvSpPr/>
          <p:nvPr/>
        </p:nvSpPr>
        <p:spPr>
          <a:xfrm>
            <a:off x="3124080" y="3657600"/>
            <a:ext cx="5791320" cy="3048120"/>
          </a:xfrm>
          <a:prstGeom prst="pie">
            <a:avLst/>
          </a:prstGeom>
          <a:solidFill>
            <a:srgbClr val="99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Group 9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43" name="Line 10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Group 11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45" name="Oval 12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6" name="Object 13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47" name="Object 1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648" name="Text Box 1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Acuerdos Reg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9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Group 4"/>
          <p:cNvGrpSpPr/>
          <p:nvPr/>
        </p:nvGrpSpPr>
        <p:grpSpPr>
          <a:xfrm>
            <a:off x="3132000" y="1413000"/>
            <a:ext cx="3429000" cy="2818800"/>
            <a:chOff x="3132000" y="1413000"/>
            <a:chExt cx="3429000" cy="2818800"/>
          </a:xfrm>
        </p:grpSpPr>
        <p:sp>
          <p:nvSpPr>
            <p:cNvPr id="1653" name="Line 5"/>
            <p:cNvSpPr/>
            <p:nvPr/>
          </p:nvSpPr>
          <p:spPr>
            <a:xfrm>
              <a:off x="5189400" y="3012840"/>
              <a:ext cx="1371600" cy="121896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Group 6"/>
            <p:cNvGrpSpPr/>
            <p:nvPr/>
          </p:nvGrpSpPr>
          <p:grpSpPr>
            <a:xfrm>
              <a:off x="3132000" y="1413000"/>
              <a:ext cx="2362320" cy="2057040"/>
              <a:chOff x="3132000" y="1413000"/>
              <a:chExt cx="2362320" cy="2057040"/>
            </a:xfrm>
          </p:grpSpPr>
          <p:sp>
            <p:nvSpPr>
              <p:cNvPr id="1655" name="Oval 7"/>
              <p:cNvSpPr/>
              <p:nvPr/>
            </p:nvSpPr>
            <p:spPr>
              <a:xfrm>
                <a:off x="3132000" y="1413000"/>
                <a:ext cx="2362320" cy="205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56" name="Object 8"/>
              <p:cNvGraphicFramePr/>
              <p:nvPr/>
            </p:nvGraphicFramePr>
            <p:xfrm>
              <a:off x="3589200" y="1717560"/>
              <a:ext cx="1447920" cy="1385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7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89200" y="1717560"/>
                        <a:ext cx="1447920" cy="138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58" name="Group 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659" name="Text Box 1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antidumpin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1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Text Box 12"/>
          <p:cNvSpPr/>
          <p:nvPr/>
        </p:nvSpPr>
        <p:spPr>
          <a:xfrm>
            <a:off x="152280" y="239220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Medidas, en forma de sobretasas arancelarias, están a disposición de los Miembros para defenderse de o compensar las distorsiones creadas por ciertas prácticas comercial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Picture 13" descr=""/>
          <p:cNvPicPr/>
          <p:nvPr/>
        </p:nvPicPr>
        <p:blipFill>
          <a:blip r:embed="rId5"/>
          <a:stretch/>
        </p:blipFill>
        <p:spPr>
          <a:xfrm>
            <a:off x="4572000" y="1197000"/>
            <a:ext cx="1592280" cy="159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aphicFrame>
        <p:nvGraphicFramePr>
          <p:cNvPr id="1663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Picture 15" descr=""/>
          <p:cNvPicPr/>
          <p:nvPr/>
        </p:nvPicPr>
        <p:blipFill>
          <a:blip r:embed="rId8"/>
          <a:stretch/>
        </p:blipFill>
        <p:spPr>
          <a:xfrm>
            <a:off x="7380360" y="4365720"/>
            <a:ext cx="936720" cy="93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6" name="Text Box 1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Medidas anti-dump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7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9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71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2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73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74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7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76" name="Group 9"/>
          <p:cNvGrpSpPr/>
          <p:nvPr/>
        </p:nvGrpSpPr>
        <p:grpSpPr>
          <a:xfrm>
            <a:off x="108000" y="990720"/>
            <a:ext cx="2808000" cy="1008720"/>
            <a:chOff x="108000" y="990720"/>
            <a:chExt cx="2808000" cy="1008720"/>
          </a:xfrm>
        </p:grpSpPr>
        <p:sp>
          <p:nvSpPr>
            <p:cNvPr id="1677" name="Text Box 10"/>
            <p:cNvSpPr/>
            <p:nvPr/>
          </p:nvSpPr>
          <p:spPr>
            <a:xfrm>
              <a:off x="618480" y="990720"/>
              <a:ext cx="229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Subvenciones y medidas compensatoria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11"/>
            <p:cNvSpPr/>
            <p:nvPr/>
          </p:nvSpPr>
          <p:spPr>
            <a:xfrm>
              <a:off x="108000" y="1066680"/>
              <a:ext cx="34020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9" name="Text Box 12"/>
          <p:cNvSpPr/>
          <p:nvPr/>
        </p:nvSpPr>
        <p:spPr>
          <a:xfrm>
            <a:off x="152280" y="1905120"/>
            <a:ext cx="29718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Algunos subsidios pueden distorsionar el comercio.  Ciertos subsidios están prohibid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Otros subsidios están permitidos, pero los Miembros pueden tomar medidas contra sus efectos advers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Tales medidas son acciones directas (solución de diferencias) o sobretasas (medidas compensatorias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Group 13"/>
          <p:cNvGrpSpPr/>
          <p:nvPr/>
        </p:nvGrpSpPr>
        <p:grpSpPr>
          <a:xfrm>
            <a:off x="3962520" y="1447920"/>
            <a:ext cx="2151000" cy="1066680"/>
            <a:chOff x="3962520" y="1447920"/>
            <a:chExt cx="2151000" cy="1066680"/>
          </a:xfrm>
        </p:grpSpPr>
        <p:sp>
          <p:nvSpPr>
            <p:cNvPr id="1681" name="Freeform 14"/>
            <p:cNvSpPr/>
            <p:nvPr/>
          </p:nvSpPr>
          <p:spPr>
            <a:xfrm>
              <a:off x="3962520" y="1536840"/>
              <a:ext cx="2151000" cy="506160"/>
            </a:xfrm>
            <a:prstGeom prst="pie">
              <a:avLst/>
            </a:prstGeom>
            <a:noFill/>
            <a:ln w="146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2" name="Picture 15" descr=""/>
            <p:cNvPicPr/>
            <p:nvPr/>
          </p:nvPicPr>
          <p:blipFill>
            <a:blip r:embed="rId5"/>
            <a:stretch/>
          </p:blipFill>
          <p:spPr>
            <a:xfrm>
              <a:off x="5030280" y="1447920"/>
              <a:ext cx="934200" cy="1066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83" name="Object 16"/>
          <p:cNvGraphicFramePr/>
          <p:nvPr/>
        </p:nvGraphicFramePr>
        <p:xfrm>
          <a:off x="5486400" y="1371600"/>
          <a:ext cx="1003320" cy="94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4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1371600"/>
                    <a:ext cx="1003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5" name="Picture 17" descr=""/>
          <p:cNvPicPr/>
          <p:nvPr/>
        </p:nvPicPr>
        <p:blipFill>
          <a:blip r:embed="rId8"/>
          <a:stretch/>
        </p:blipFill>
        <p:spPr>
          <a:xfrm>
            <a:off x="3124080" y="1447920"/>
            <a:ext cx="83844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86" name="Line 18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19"/>
          <p:cNvSpPr/>
          <p:nvPr/>
        </p:nvSpPr>
        <p:spPr>
          <a:xfrm>
            <a:off x="5562720" y="2362320"/>
            <a:ext cx="1828800" cy="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AutoShape 20"/>
          <p:cNvSpPr/>
          <p:nvPr/>
        </p:nvSpPr>
        <p:spPr>
          <a:xfrm rot="8563200">
            <a:off x="3885840" y="3047760"/>
            <a:ext cx="914400" cy="9903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9" name="Object 21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0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Text Box 2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ubsidios y medidas compensator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2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5" name="Group 4"/>
          <p:cNvGrpSpPr/>
          <p:nvPr/>
        </p:nvGrpSpPr>
        <p:grpSpPr>
          <a:xfrm>
            <a:off x="228600" y="990720"/>
            <a:ext cx="2758680" cy="1008720"/>
            <a:chOff x="228600" y="990720"/>
            <a:chExt cx="2758680" cy="1008720"/>
          </a:xfrm>
        </p:grpSpPr>
        <p:sp>
          <p:nvSpPr>
            <p:cNvPr id="1696" name="Text Box 5"/>
            <p:cNvSpPr/>
            <p:nvPr/>
          </p:nvSpPr>
          <p:spPr>
            <a:xfrm>
              <a:off x="730080" y="990720"/>
              <a:ext cx="22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compensatorias (anti-subsidios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Oval 6"/>
            <p:cNvSpPr/>
            <p:nvPr/>
          </p:nvSpPr>
          <p:spPr>
            <a:xfrm>
              <a:off x="228600" y="1066680"/>
              <a:ext cx="33444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Text Box 7"/>
          <p:cNvSpPr/>
          <p:nvPr/>
        </p:nvSpPr>
        <p:spPr>
          <a:xfrm>
            <a:off x="152280" y="2514600"/>
            <a:ext cx="297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Medidas, en forma de sobretasas, están a disposición de los Miembros para defenderse o compensar las distorsiones por la importación de productos subsidiad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Group 8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700" name="Line 9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Group 10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702" name="Oval 11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03" name="Object 12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04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705" name="Group 13"/>
          <p:cNvGrpSpPr/>
          <p:nvPr/>
        </p:nvGrpSpPr>
        <p:grpSpPr>
          <a:xfrm>
            <a:off x="3962520" y="1447920"/>
            <a:ext cx="2151000" cy="1066680"/>
            <a:chOff x="3962520" y="1447920"/>
            <a:chExt cx="2151000" cy="1066680"/>
          </a:xfrm>
        </p:grpSpPr>
        <p:sp>
          <p:nvSpPr>
            <p:cNvPr id="1706" name="Freeform 14"/>
            <p:cNvSpPr/>
            <p:nvPr/>
          </p:nvSpPr>
          <p:spPr>
            <a:xfrm>
              <a:off x="3962520" y="1536840"/>
              <a:ext cx="2151000" cy="506160"/>
            </a:xfrm>
            <a:prstGeom prst="pie">
              <a:avLst/>
            </a:prstGeom>
            <a:noFill/>
            <a:ln w="146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7" name="Picture 15" descr=""/>
            <p:cNvPicPr/>
            <p:nvPr/>
          </p:nvPicPr>
          <p:blipFill>
            <a:blip r:embed="rId5"/>
            <a:stretch/>
          </p:blipFill>
          <p:spPr>
            <a:xfrm>
              <a:off x="5030280" y="1447920"/>
              <a:ext cx="9342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8" name="Picture 16" descr=""/>
          <p:cNvPicPr/>
          <p:nvPr/>
        </p:nvPicPr>
        <p:blipFill>
          <a:blip r:embed="rId6"/>
          <a:stretch/>
        </p:blipFill>
        <p:spPr>
          <a:xfrm>
            <a:off x="3124080" y="1447920"/>
            <a:ext cx="83844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09" name="Line 17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0" name="Object 18"/>
          <p:cNvGraphicFramePr/>
          <p:nvPr/>
        </p:nvGraphicFramePr>
        <p:xfrm>
          <a:off x="5486400" y="1371600"/>
          <a:ext cx="100332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371600"/>
                    <a:ext cx="1003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2" name="Object 19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4" name="Text Box 2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ubsidios y medidas compensator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9"/>
          <p:cNvSpPr/>
          <p:nvPr/>
        </p:nvSpPr>
        <p:spPr>
          <a:xfrm>
            <a:off x="611280" y="2133720"/>
            <a:ext cx="8208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pectos Procedimenta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canismo de solución de diferenc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Transparen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7" name="Group 4"/>
          <p:cNvGrpSpPr/>
          <p:nvPr/>
        </p:nvGrpSpPr>
        <p:grpSpPr>
          <a:xfrm>
            <a:off x="1042920" y="2060640"/>
            <a:ext cx="7632360" cy="1747440"/>
            <a:chOff x="1042920" y="2060640"/>
            <a:chExt cx="7632360" cy="1747440"/>
          </a:xfrm>
        </p:grpSpPr>
        <p:sp>
          <p:nvSpPr>
            <p:cNvPr id="1718" name="Text Box 5"/>
            <p:cNvSpPr/>
            <p:nvPr/>
          </p:nvSpPr>
          <p:spPr>
            <a:xfrm>
              <a:off x="1535040" y="2060640"/>
              <a:ext cx="71402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Publicación de normas comerci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(Leyes, reglamentos, decisiones judiciales  y diposiciones administrativas de aplicación general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Oval 6"/>
            <p:cNvSpPr/>
            <p:nvPr/>
          </p:nvSpPr>
          <p:spPr>
            <a:xfrm>
              <a:off x="1042920" y="2136960"/>
              <a:ext cx="3283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Group 7"/>
          <p:cNvGrpSpPr/>
          <p:nvPr/>
        </p:nvGrpSpPr>
        <p:grpSpPr>
          <a:xfrm>
            <a:off x="1044720" y="3705120"/>
            <a:ext cx="7487640" cy="459720"/>
            <a:chOff x="1044720" y="3705120"/>
            <a:chExt cx="7487640" cy="459720"/>
          </a:xfrm>
        </p:grpSpPr>
        <p:sp>
          <p:nvSpPr>
            <p:cNvPr id="1721" name="Text Box 8"/>
            <p:cNvSpPr/>
            <p:nvPr/>
          </p:nvSpPr>
          <p:spPr>
            <a:xfrm>
              <a:off x="1527480" y="3705120"/>
              <a:ext cx="70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Obligaciones de notificació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Oval 9"/>
            <p:cNvSpPr/>
            <p:nvPr/>
          </p:nvSpPr>
          <p:spPr>
            <a:xfrm>
              <a:off x="1044720" y="378144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Group 10"/>
          <p:cNvGrpSpPr/>
          <p:nvPr/>
        </p:nvGrpSpPr>
        <p:grpSpPr>
          <a:xfrm>
            <a:off x="1044720" y="4930920"/>
            <a:ext cx="7086600" cy="459720"/>
            <a:chOff x="1044720" y="4930920"/>
            <a:chExt cx="7086600" cy="459720"/>
          </a:xfrm>
        </p:grpSpPr>
        <p:sp>
          <p:nvSpPr>
            <p:cNvPr id="1724" name="Text Box 11"/>
            <p:cNvSpPr/>
            <p:nvPr/>
          </p:nvSpPr>
          <p:spPr>
            <a:xfrm>
              <a:off x="1501920" y="49309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Revisión jurídica independient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Oval 12"/>
            <p:cNvSpPr/>
            <p:nvPr/>
          </p:nvSpPr>
          <p:spPr>
            <a:xfrm>
              <a:off x="1044720" y="50072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Text Box 13"/>
          <p:cNvSpPr/>
          <p:nvPr/>
        </p:nvSpPr>
        <p:spPr>
          <a:xfrm>
            <a:off x="1476360" y="1100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rt. X GATT, Art. III AG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Group 14"/>
          <p:cNvGrpSpPr/>
          <p:nvPr/>
        </p:nvGrpSpPr>
        <p:grpSpPr>
          <a:xfrm>
            <a:off x="1044720" y="4309920"/>
            <a:ext cx="7487640" cy="459720"/>
            <a:chOff x="1044720" y="4309920"/>
            <a:chExt cx="7487640" cy="459720"/>
          </a:xfrm>
        </p:grpSpPr>
        <p:sp>
          <p:nvSpPr>
            <p:cNvPr id="1728" name="Text Box 15"/>
            <p:cNvSpPr/>
            <p:nvPr/>
          </p:nvSpPr>
          <p:spPr>
            <a:xfrm>
              <a:off x="1527480" y="4309920"/>
              <a:ext cx="70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Administración uniforme, imparcial y razonabl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Oval 16"/>
            <p:cNvSpPr/>
            <p:nvPr/>
          </p:nvSpPr>
          <p:spPr>
            <a:xfrm>
              <a:off x="1044720" y="438624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Group 17"/>
          <p:cNvGrpSpPr/>
          <p:nvPr/>
        </p:nvGrpSpPr>
        <p:grpSpPr>
          <a:xfrm>
            <a:off x="1044720" y="5492880"/>
            <a:ext cx="7487640" cy="825480"/>
            <a:chOff x="1044720" y="5492880"/>
            <a:chExt cx="7487640" cy="825480"/>
          </a:xfrm>
        </p:grpSpPr>
        <p:sp>
          <p:nvSpPr>
            <p:cNvPr id="1731" name="Text Box 18"/>
            <p:cNvSpPr/>
            <p:nvPr/>
          </p:nvSpPr>
          <p:spPr>
            <a:xfrm>
              <a:off x="1527480" y="5492880"/>
              <a:ext cx="700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Mecanismo de examen de las políticas comerci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Oval 19"/>
            <p:cNvSpPr/>
            <p:nvPr/>
          </p:nvSpPr>
          <p:spPr>
            <a:xfrm>
              <a:off x="1044720" y="556920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 txBox="1"/>
          <p:nvPr/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nciones del sistema de solución de diferencias (Art. 3.2 E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servar los derechos y obligaciones de los Miemb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 el marco de los acuerdos abarcados y...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clarar las disposiciones vig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dichos acuerdo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 conformidad con las normas usuales de interpretaci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l derecho internacional público.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olución de Diferencias en la OM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200" spc="-1" strike="noStrike">
                <a:solidFill>
                  <a:srgbClr val="000000"/>
                </a:solidFill>
                <a:latin typeface="Times New Roman"/>
              </a:rPr>
              <a:t>dolopez@uchile.c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2743200" y="3171960"/>
            <a:ext cx="6400080" cy="1339560"/>
            <a:chOff x="2743200" y="3171960"/>
            <a:chExt cx="6400080" cy="1339560"/>
          </a:xfrm>
        </p:grpSpPr>
        <p:sp>
          <p:nvSpPr>
            <p:cNvPr id="1143" name="Text Box 3"/>
            <p:cNvSpPr/>
            <p:nvPr/>
          </p:nvSpPr>
          <p:spPr>
            <a:xfrm>
              <a:off x="2743200" y="3171960"/>
              <a:ext cx="63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REGLAS (Acuerdos Jurídicos) – Decisiones PPC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4" name="Group 4"/>
            <p:cNvGrpSpPr/>
            <p:nvPr/>
          </p:nvGrpSpPr>
          <p:grpSpPr>
            <a:xfrm>
              <a:off x="3563640" y="3462120"/>
              <a:ext cx="5579640" cy="368280"/>
              <a:chOff x="3563640" y="3462120"/>
              <a:chExt cx="5579640" cy="368280"/>
            </a:xfrm>
          </p:grpSpPr>
          <p:sp>
            <p:nvSpPr>
              <p:cNvPr id="1145" name="Text Box 5"/>
              <p:cNvSpPr/>
              <p:nvPr/>
            </p:nvSpPr>
            <p:spPr>
              <a:xfrm>
                <a:off x="3741480" y="346212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“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láusula de Habilitación”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Oval 6"/>
              <p:cNvSpPr/>
              <p:nvPr/>
            </p:nvSpPr>
            <p:spPr>
              <a:xfrm>
                <a:off x="3563640" y="360000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7"/>
            <p:cNvGrpSpPr/>
            <p:nvPr/>
          </p:nvGrpSpPr>
          <p:grpSpPr>
            <a:xfrm>
              <a:off x="3563640" y="3701880"/>
              <a:ext cx="5579640" cy="368280"/>
              <a:chOff x="3563640" y="3701880"/>
              <a:chExt cx="5579640" cy="368280"/>
            </a:xfrm>
          </p:grpSpPr>
          <p:sp>
            <p:nvSpPr>
              <p:cNvPr id="1148" name="Text Box 8"/>
              <p:cNvSpPr/>
              <p:nvPr/>
            </p:nvSpPr>
            <p:spPr>
              <a:xfrm>
                <a:off x="3741480" y="370188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Declaración sobre medidas de BdP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 Narrow"/>
                  </a:rPr>
                  <a:t>(Art. XII, XVIII)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Oval 9"/>
              <p:cNvSpPr/>
              <p:nvPr/>
            </p:nvSpPr>
            <p:spPr>
              <a:xfrm>
                <a:off x="3563640" y="383976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Group 10"/>
            <p:cNvGrpSpPr/>
            <p:nvPr/>
          </p:nvGrpSpPr>
          <p:grpSpPr>
            <a:xfrm>
              <a:off x="3563640" y="3930480"/>
              <a:ext cx="5579640" cy="368280"/>
              <a:chOff x="3563640" y="3930480"/>
              <a:chExt cx="5579640" cy="368280"/>
            </a:xfrm>
          </p:grpSpPr>
          <p:sp>
            <p:nvSpPr>
              <p:cNvPr id="1151" name="Text Box 11"/>
              <p:cNvSpPr/>
              <p:nvPr/>
            </p:nvSpPr>
            <p:spPr>
              <a:xfrm>
                <a:off x="3741480" y="393048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Salvaguardias para objetivos de desarrollo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 Narrow"/>
                  </a:rPr>
                  <a:t>(XVIII)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12"/>
              <p:cNvSpPr/>
              <p:nvPr/>
            </p:nvSpPr>
            <p:spPr>
              <a:xfrm>
                <a:off x="3563640" y="406836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Group 13"/>
            <p:cNvGrpSpPr/>
            <p:nvPr/>
          </p:nvGrpSpPr>
          <p:grpSpPr>
            <a:xfrm>
              <a:off x="3563640" y="4143240"/>
              <a:ext cx="5579640" cy="368280"/>
              <a:chOff x="3563640" y="4143240"/>
              <a:chExt cx="5579640" cy="368280"/>
            </a:xfrm>
          </p:grpSpPr>
          <p:sp>
            <p:nvSpPr>
              <p:cNvPr id="1154" name="Text Box 14"/>
              <p:cNvSpPr/>
              <p:nvPr/>
            </p:nvSpPr>
            <p:spPr>
              <a:xfrm>
                <a:off x="3741480" y="414324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Memorandum sobre Solución de Diferencias (Art. XXI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Oval 15"/>
              <p:cNvSpPr/>
              <p:nvPr/>
            </p:nvSpPr>
            <p:spPr>
              <a:xfrm>
                <a:off x="3563640" y="428112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Group 16"/>
          <p:cNvGrpSpPr/>
          <p:nvPr/>
        </p:nvGrpSpPr>
        <p:grpSpPr>
          <a:xfrm>
            <a:off x="1752480" y="4815000"/>
            <a:ext cx="5867280" cy="1816200"/>
            <a:chOff x="1752480" y="4815000"/>
            <a:chExt cx="5867280" cy="1816200"/>
          </a:xfrm>
        </p:grpSpPr>
        <p:sp>
          <p:nvSpPr>
            <p:cNvPr id="1157" name="Text Box 17"/>
            <p:cNvSpPr/>
            <p:nvPr/>
          </p:nvSpPr>
          <p:spPr>
            <a:xfrm>
              <a:off x="1752480" y="4815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Acuerdos Plurilaterales (CODIGOS DE TOKIO)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Group 18"/>
            <p:cNvGrpSpPr/>
            <p:nvPr/>
          </p:nvGrpSpPr>
          <p:grpSpPr>
            <a:xfrm>
              <a:off x="1904760" y="5119920"/>
              <a:ext cx="5181480" cy="368280"/>
              <a:chOff x="1904760" y="5119920"/>
              <a:chExt cx="5181480" cy="368280"/>
            </a:xfrm>
          </p:grpSpPr>
          <p:sp>
            <p:nvSpPr>
              <p:cNvPr id="1159" name="Text Box 19"/>
              <p:cNvSpPr/>
              <p:nvPr/>
            </p:nvSpPr>
            <p:spPr>
              <a:xfrm>
                <a:off x="2070000" y="51199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Obstáculos Técnicos al Comercio (TBT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Oval 20"/>
              <p:cNvSpPr/>
              <p:nvPr/>
            </p:nvSpPr>
            <p:spPr>
              <a:xfrm>
                <a:off x="1904760" y="52578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21"/>
            <p:cNvGrpSpPr/>
            <p:nvPr/>
          </p:nvGrpSpPr>
          <p:grpSpPr>
            <a:xfrm>
              <a:off x="1904760" y="5348520"/>
              <a:ext cx="5181480" cy="368280"/>
              <a:chOff x="1904760" y="5348520"/>
              <a:chExt cx="5181480" cy="368280"/>
            </a:xfrm>
          </p:grpSpPr>
          <p:sp>
            <p:nvSpPr>
              <p:cNvPr id="1162" name="Text Box 22"/>
              <p:cNvSpPr/>
              <p:nvPr/>
            </p:nvSpPr>
            <p:spPr>
              <a:xfrm>
                <a:off x="2070000" y="53485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ontratación Públic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Oval 23"/>
              <p:cNvSpPr/>
              <p:nvPr/>
            </p:nvSpPr>
            <p:spPr>
              <a:xfrm>
                <a:off x="1904760" y="54864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24"/>
            <p:cNvGrpSpPr/>
            <p:nvPr/>
          </p:nvGrpSpPr>
          <p:grpSpPr>
            <a:xfrm>
              <a:off x="1904760" y="5577120"/>
              <a:ext cx="5181480" cy="368280"/>
              <a:chOff x="1904760" y="5577120"/>
              <a:chExt cx="5181480" cy="368280"/>
            </a:xfrm>
          </p:grpSpPr>
          <p:sp>
            <p:nvSpPr>
              <p:cNvPr id="1165" name="Text Box 25"/>
              <p:cNvSpPr/>
              <p:nvPr/>
            </p:nvSpPr>
            <p:spPr>
              <a:xfrm>
                <a:off x="2070000" y="55771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Subvenciones (Art. VI, XVI, XXI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Oval 26"/>
              <p:cNvSpPr/>
              <p:nvPr/>
            </p:nvSpPr>
            <p:spPr>
              <a:xfrm>
                <a:off x="1904760" y="57150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27"/>
            <p:cNvGrpSpPr/>
            <p:nvPr/>
          </p:nvGrpSpPr>
          <p:grpSpPr>
            <a:xfrm>
              <a:off x="1904760" y="5805720"/>
              <a:ext cx="5181480" cy="368280"/>
              <a:chOff x="1904760" y="5805720"/>
              <a:chExt cx="5181480" cy="368280"/>
            </a:xfrm>
          </p:grpSpPr>
          <p:sp>
            <p:nvSpPr>
              <p:cNvPr id="1168" name="Text Box 28"/>
              <p:cNvSpPr/>
              <p:nvPr/>
            </p:nvSpPr>
            <p:spPr>
              <a:xfrm>
                <a:off x="2070000" y="58057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Valoración en Aduana (Art. V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29"/>
              <p:cNvSpPr/>
              <p:nvPr/>
            </p:nvSpPr>
            <p:spPr>
              <a:xfrm>
                <a:off x="1904760" y="59436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30"/>
            <p:cNvGrpSpPr/>
            <p:nvPr/>
          </p:nvGrpSpPr>
          <p:grpSpPr>
            <a:xfrm>
              <a:off x="1904760" y="6034320"/>
              <a:ext cx="5181480" cy="368280"/>
              <a:chOff x="1904760" y="6034320"/>
              <a:chExt cx="5181480" cy="368280"/>
            </a:xfrm>
          </p:grpSpPr>
          <p:sp>
            <p:nvSpPr>
              <p:cNvPr id="1171" name="Text Box 31"/>
              <p:cNvSpPr/>
              <p:nvPr/>
            </p:nvSpPr>
            <p:spPr>
              <a:xfrm>
                <a:off x="2070000" y="60343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rámite de licencias de importación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Oval 32"/>
              <p:cNvSpPr/>
              <p:nvPr/>
            </p:nvSpPr>
            <p:spPr>
              <a:xfrm>
                <a:off x="1904760" y="61722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33"/>
            <p:cNvGrpSpPr/>
            <p:nvPr/>
          </p:nvGrpSpPr>
          <p:grpSpPr>
            <a:xfrm>
              <a:off x="1904760" y="6262920"/>
              <a:ext cx="5181480" cy="368280"/>
              <a:chOff x="1904760" y="6262920"/>
              <a:chExt cx="5181480" cy="368280"/>
            </a:xfrm>
          </p:grpSpPr>
          <p:sp>
            <p:nvSpPr>
              <p:cNvPr id="1174" name="Text Box 34"/>
              <p:cNvSpPr/>
              <p:nvPr/>
            </p:nvSpPr>
            <p:spPr>
              <a:xfrm>
                <a:off x="2070000" y="62629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Antidumping (Art. V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Oval 35"/>
              <p:cNvSpPr/>
              <p:nvPr/>
            </p:nvSpPr>
            <p:spPr>
              <a:xfrm>
                <a:off x="1904760" y="64008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6" name="Group 36"/>
          <p:cNvGrpSpPr/>
          <p:nvPr/>
        </p:nvGrpSpPr>
        <p:grpSpPr>
          <a:xfrm>
            <a:off x="6012000" y="5184720"/>
            <a:ext cx="5867280" cy="1141200"/>
            <a:chOff x="6012000" y="5184720"/>
            <a:chExt cx="5867280" cy="1141200"/>
          </a:xfrm>
        </p:grpSpPr>
        <p:sp>
          <p:nvSpPr>
            <p:cNvPr id="1177" name="Text Box 37"/>
            <p:cNvSpPr/>
            <p:nvPr/>
          </p:nvSpPr>
          <p:spPr>
            <a:xfrm>
              <a:off x="6012000" y="518472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Acuerdos Sectoriales (pluril.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38"/>
            <p:cNvGrpSpPr/>
            <p:nvPr/>
          </p:nvGrpSpPr>
          <p:grpSpPr>
            <a:xfrm>
              <a:off x="6164280" y="5500440"/>
              <a:ext cx="5180760" cy="368280"/>
              <a:chOff x="6164280" y="5500440"/>
              <a:chExt cx="5180760" cy="368280"/>
            </a:xfrm>
          </p:grpSpPr>
          <p:sp>
            <p:nvSpPr>
              <p:cNvPr id="1179" name="Text Box 39"/>
              <p:cNvSpPr/>
              <p:nvPr/>
            </p:nvSpPr>
            <p:spPr>
              <a:xfrm>
                <a:off x="6329520" y="55004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arne Bovin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Oval 40"/>
              <p:cNvSpPr/>
              <p:nvPr/>
            </p:nvSpPr>
            <p:spPr>
              <a:xfrm>
                <a:off x="6164280" y="56383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41"/>
            <p:cNvGrpSpPr/>
            <p:nvPr/>
          </p:nvGrpSpPr>
          <p:grpSpPr>
            <a:xfrm>
              <a:off x="6164280" y="5729040"/>
              <a:ext cx="5180760" cy="368280"/>
              <a:chOff x="6164280" y="5729040"/>
              <a:chExt cx="5180760" cy="368280"/>
            </a:xfrm>
          </p:grpSpPr>
          <p:sp>
            <p:nvSpPr>
              <p:cNvPr id="1182" name="Text Box 42"/>
              <p:cNvSpPr/>
              <p:nvPr/>
            </p:nvSpPr>
            <p:spPr>
              <a:xfrm>
                <a:off x="6329520" y="57290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Productos Lácteo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Oval 43"/>
              <p:cNvSpPr/>
              <p:nvPr/>
            </p:nvSpPr>
            <p:spPr>
              <a:xfrm>
                <a:off x="6164280" y="58669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4"/>
            <p:cNvGrpSpPr/>
            <p:nvPr/>
          </p:nvGrpSpPr>
          <p:grpSpPr>
            <a:xfrm>
              <a:off x="6164280" y="5957640"/>
              <a:ext cx="5180760" cy="368280"/>
              <a:chOff x="6164280" y="5957640"/>
              <a:chExt cx="5180760" cy="368280"/>
            </a:xfrm>
          </p:grpSpPr>
          <p:sp>
            <p:nvSpPr>
              <p:cNvPr id="1185" name="Text Box 45"/>
              <p:cNvSpPr/>
              <p:nvPr/>
            </p:nvSpPr>
            <p:spPr>
              <a:xfrm>
                <a:off x="6329520" y="59576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Aeronaves civil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Oval 46"/>
              <p:cNvSpPr/>
              <p:nvPr/>
            </p:nvSpPr>
            <p:spPr>
              <a:xfrm>
                <a:off x="6164280" y="60955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Group 47"/>
          <p:cNvGrpSpPr/>
          <p:nvPr/>
        </p:nvGrpSpPr>
        <p:grpSpPr>
          <a:xfrm>
            <a:off x="76320" y="2449440"/>
            <a:ext cx="952560" cy="3962160"/>
            <a:chOff x="76320" y="2449440"/>
            <a:chExt cx="952560" cy="3962160"/>
          </a:xfrm>
        </p:grpSpPr>
        <p:grpSp>
          <p:nvGrpSpPr>
            <p:cNvPr id="1188" name="Group 48"/>
            <p:cNvGrpSpPr/>
            <p:nvPr/>
          </p:nvGrpSpPr>
          <p:grpSpPr>
            <a:xfrm>
              <a:off x="76320" y="2449440"/>
              <a:ext cx="952560" cy="3962160"/>
              <a:chOff x="76320" y="2449440"/>
              <a:chExt cx="952560" cy="3962160"/>
            </a:xfrm>
          </p:grpSpPr>
          <p:sp>
            <p:nvSpPr>
              <p:cNvPr id="1189" name="Freeform 49"/>
              <p:cNvSpPr/>
              <p:nvPr/>
            </p:nvSpPr>
            <p:spPr>
              <a:xfrm>
                <a:off x="152640" y="267804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90" name="Object 50"/>
              <p:cNvGraphicFramePr/>
              <p:nvPr/>
            </p:nvGraphicFramePr>
            <p:xfrm>
              <a:off x="76320" y="2449440"/>
              <a:ext cx="95256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91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320" y="2449440"/>
                        <a:ext cx="95256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92" name="Text Box 51"/>
            <p:cNvSpPr/>
            <p:nvPr/>
          </p:nvSpPr>
          <p:spPr>
            <a:xfrm rot="16200000">
              <a:off x="-857160" y="45003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52"/>
          <p:cNvGrpSpPr/>
          <p:nvPr/>
        </p:nvGrpSpPr>
        <p:grpSpPr>
          <a:xfrm>
            <a:off x="1295280" y="1157400"/>
            <a:ext cx="7848720" cy="398880"/>
            <a:chOff x="1295280" y="1157400"/>
            <a:chExt cx="7848720" cy="398880"/>
          </a:xfrm>
        </p:grpSpPr>
        <p:sp>
          <p:nvSpPr>
            <p:cNvPr id="1194" name="Text Box 53"/>
            <p:cNvSpPr/>
            <p:nvPr/>
          </p:nvSpPr>
          <p:spPr>
            <a:xfrm>
              <a:off x="3200400" y="115740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Annec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54"/>
            <p:cNvSpPr/>
            <p:nvPr/>
          </p:nvSpPr>
          <p:spPr>
            <a:xfrm>
              <a:off x="1295280" y="115740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4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55"/>
          <p:cNvGrpSpPr/>
          <p:nvPr/>
        </p:nvGrpSpPr>
        <p:grpSpPr>
          <a:xfrm>
            <a:off x="1295280" y="1461960"/>
            <a:ext cx="7848720" cy="398880"/>
            <a:chOff x="1295280" y="1461960"/>
            <a:chExt cx="7848720" cy="398880"/>
          </a:xfrm>
        </p:grpSpPr>
        <p:sp>
          <p:nvSpPr>
            <p:cNvPr id="1197" name="Text Box 56"/>
            <p:cNvSpPr/>
            <p:nvPr/>
          </p:nvSpPr>
          <p:spPr>
            <a:xfrm>
              <a:off x="3200400" y="14619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Torqua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57"/>
            <p:cNvSpPr/>
            <p:nvPr/>
          </p:nvSpPr>
          <p:spPr>
            <a:xfrm>
              <a:off x="1295280" y="146196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5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Group 58"/>
          <p:cNvGrpSpPr/>
          <p:nvPr/>
        </p:nvGrpSpPr>
        <p:grpSpPr>
          <a:xfrm>
            <a:off x="1295280" y="1785960"/>
            <a:ext cx="7848720" cy="398880"/>
            <a:chOff x="1295280" y="1785960"/>
            <a:chExt cx="7848720" cy="398880"/>
          </a:xfrm>
        </p:grpSpPr>
        <p:sp>
          <p:nvSpPr>
            <p:cNvPr id="1200" name="Text Box 59"/>
            <p:cNvSpPr/>
            <p:nvPr/>
          </p:nvSpPr>
          <p:spPr>
            <a:xfrm>
              <a:off x="3200400" y="17859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Ginebra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Text Box 60"/>
            <p:cNvSpPr/>
            <p:nvPr/>
          </p:nvSpPr>
          <p:spPr>
            <a:xfrm>
              <a:off x="1295280" y="178596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Group 61"/>
          <p:cNvGrpSpPr/>
          <p:nvPr/>
        </p:nvGrpSpPr>
        <p:grpSpPr>
          <a:xfrm>
            <a:off x="1295280" y="2090880"/>
            <a:ext cx="7848720" cy="401760"/>
            <a:chOff x="1295280" y="2090880"/>
            <a:chExt cx="7848720" cy="401760"/>
          </a:xfrm>
        </p:grpSpPr>
        <p:sp>
          <p:nvSpPr>
            <p:cNvPr id="1203" name="Text Box 62"/>
            <p:cNvSpPr/>
            <p:nvPr/>
          </p:nvSpPr>
          <p:spPr>
            <a:xfrm>
              <a:off x="3200400" y="21243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Dillon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63"/>
            <p:cNvSpPr/>
            <p:nvPr/>
          </p:nvSpPr>
          <p:spPr>
            <a:xfrm>
              <a:off x="1295280" y="209088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60-6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Group 64"/>
          <p:cNvGrpSpPr/>
          <p:nvPr/>
        </p:nvGrpSpPr>
        <p:grpSpPr>
          <a:xfrm>
            <a:off x="1295280" y="2395440"/>
            <a:ext cx="7848720" cy="401760"/>
            <a:chOff x="1295280" y="2395440"/>
            <a:chExt cx="7848720" cy="401760"/>
          </a:xfrm>
        </p:grpSpPr>
        <p:sp>
          <p:nvSpPr>
            <p:cNvPr id="1206" name="Text Box 65"/>
            <p:cNvSpPr/>
            <p:nvPr/>
          </p:nvSpPr>
          <p:spPr>
            <a:xfrm>
              <a:off x="3200400" y="242892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Kennedy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66"/>
            <p:cNvSpPr/>
            <p:nvPr/>
          </p:nvSpPr>
          <p:spPr>
            <a:xfrm>
              <a:off x="1295280" y="239544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64-6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Text Box 67"/>
          <p:cNvSpPr/>
          <p:nvPr/>
        </p:nvSpPr>
        <p:spPr>
          <a:xfrm>
            <a:off x="3276720" y="77616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00000"/>
                </a:solidFill>
                <a:latin typeface="Arial Narrow"/>
              </a:rPr>
              <a:t>Entrada en vigor del GATT (aplicación provision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68"/>
          <p:cNvSpPr/>
          <p:nvPr/>
        </p:nvSpPr>
        <p:spPr>
          <a:xfrm>
            <a:off x="1295280" y="776160"/>
            <a:ext cx="1905120" cy="3988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 Enero 194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69"/>
          <p:cNvSpPr/>
          <p:nvPr/>
        </p:nvSpPr>
        <p:spPr>
          <a:xfrm>
            <a:off x="7380360" y="1160640"/>
            <a:ext cx="16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70"/>
          <p:cNvSpPr/>
          <p:nvPr/>
        </p:nvSpPr>
        <p:spPr>
          <a:xfrm>
            <a:off x="7596360" y="149544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7596360" y="180036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72"/>
          <p:cNvSpPr/>
          <p:nvPr/>
        </p:nvSpPr>
        <p:spPr>
          <a:xfrm>
            <a:off x="7451640" y="209088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3"/>
          <p:cNvSpPr/>
          <p:nvPr/>
        </p:nvSpPr>
        <p:spPr>
          <a:xfrm>
            <a:off x="6804000" y="24098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MNAs - 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4"/>
          <p:cNvSpPr/>
          <p:nvPr/>
        </p:nvSpPr>
        <p:spPr>
          <a:xfrm>
            <a:off x="7020000" y="27147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MNAs - 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75"/>
          <p:cNvGrpSpPr/>
          <p:nvPr/>
        </p:nvGrpSpPr>
        <p:grpSpPr>
          <a:xfrm>
            <a:off x="1295280" y="2690640"/>
            <a:ext cx="7848720" cy="401760"/>
            <a:chOff x="1295280" y="2690640"/>
            <a:chExt cx="7848720" cy="401760"/>
          </a:xfrm>
        </p:grpSpPr>
        <p:sp>
          <p:nvSpPr>
            <p:cNvPr id="1217" name="Text Box 76"/>
            <p:cNvSpPr/>
            <p:nvPr/>
          </p:nvSpPr>
          <p:spPr>
            <a:xfrm>
              <a:off x="3200400" y="272412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de Tokio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Text Box 77"/>
            <p:cNvSpPr/>
            <p:nvPr/>
          </p:nvSpPr>
          <p:spPr>
            <a:xfrm>
              <a:off x="1295280" y="269064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73-7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12600" y="6324480"/>
            <a:ext cx="8458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3"/>
          <p:cNvGrpSpPr/>
          <p:nvPr/>
        </p:nvGrpSpPr>
        <p:grpSpPr>
          <a:xfrm>
            <a:off x="395280" y="1992240"/>
            <a:ext cx="8456400" cy="4357440"/>
            <a:chOff x="395280" y="1992240"/>
            <a:chExt cx="8456400" cy="4357440"/>
          </a:xfrm>
        </p:grpSpPr>
        <p:grpSp>
          <p:nvGrpSpPr>
            <p:cNvPr id="1221" name="Group 4"/>
            <p:cNvGrpSpPr/>
            <p:nvPr/>
          </p:nvGrpSpPr>
          <p:grpSpPr>
            <a:xfrm>
              <a:off x="395280" y="2453040"/>
              <a:ext cx="904680" cy="3762360"/>
              <a:chOff x="395280" y="2453040"/>
              <a:chExt cx="904680" cy="3762360"/>
            </a:xfrm>
          </p:grpSpPr>
          <p:grpSp>
            <p:nvGrpSpPr>
              <p:cNvPr id="1222" name="Group 5"/>
              <p:cNvGrpSpPr/>
              <p:nvPr/>
            </p:nvGrpSpPr>
            <p:grpSpPr>
              <a:xfrm>
                <a:off x="395280" y="2453040"/>
                <a:ext cx="904680" cy="3762360"/>
                <a:chOff x="395280" y="2453040"/>
                <a:chExt cx="904680" cy="3762360"/>
              </a:xfrm>
            </p:grpSpPr>
            <p:sp>
              <p:nvSpPr>
                <p:cNvPr id="1223" name="Freeform 6"/>
                <p:cNvSpPr/>
                <p:nvPr/>
              </p:nvSpPr>
              <p:spPr>
                <a:xfrm>
                  <a:off x="467640" y="266976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24" name="Object 7"/>
                <p:cNvGraphicFramePr/>
                <p:nvPr/>
              </p:nvGraphicFramePr>
              <p:xfrm>
                <a:off x="395280" y="2453040"/>
                <a:ext cx="904680" cy="3762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25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95280" y="2453040"/>
                          <a:ext cx="904680" cy="37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26" name="Text Box 8"/>
              <p:cNvSpPr/>
              <p:nvPr/>
            </p:nvSpPr>
            <p:spPr>
              <a:xfrm rot="16200000">
                <a:off x="-479160" y="4365720"/>
                <a:ext cx="23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GATT 1947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Group 9"/>
            <p:cNvGrpSpPr/>
            <p:nvPr/>
          </p:nvGrpSpPr>
          <p:grpSpPr>
            <a:xfrm>
              <a:off x="889560" y="2586960"/>
              <a:ext cx="904680" cy="3762720"/>
              <a:chOff x="889560" y="2586960"/>
              <a:chExt cx="904680" cy="3762720"/>
            </a:xfrm>
          </p:grpSpPr>
          <p:grpSp>
            <p:nvGrpSpPr>
              <p:cNvPr id="1228" name="Group 10"/>
              <p:cNvGrpSpPr/>
              <p:nvPr/>
            </p:nvGrpSpPr>
            <p:grpSpPr>
              <a:xfrm>
                <a:off x="889560" y="2586960"/>
                <a:ext cx="904680" cy="3762720"/>
                <a:chOff x="889560" y="2586960"/>
                <a:chExt cx="904680" cy="3762720"/>
              </a:xfrm>
            </p:grpSpPr>
            <p:sp>
              <p:nvSpPr>
                <p:cNvPr id="1229" name="Freeform 11"/>
                <p:cNvSpPr/>
                <p:nvPr/>
              </p:nvSpPr>
              <p:spPr>
                <a:xfrm>
                  <a:off x="961920" y="280404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30" name="Object 12"/>
                <p:cNvGraphicFramePr/>
                <p:nvPr/>
              </p:nvGraphicFramePr>
              <p:xfrm>
                <a:off x="889560" y="2586960"/>
                <a:ext cx="904680" cy="3762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31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89560" y="2586960"/>
                          <a:ext cx="904680" cy="376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32" name="Text Box 13"/>
              <p:cNvSpPr/>
              <p:nvPr/>
            </p:nvSpPr>
            <p:spPr>
              <a:xfrm rot="16200000">
                <a:off x="18000" y="4520880"/>
                <a:ext cx="238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Protocolo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Group 14"/>
            <p:cNvGrpSpPr/>
            <p:nvPr/>
          </p:nvGrpSpPr>
          <p:grpSpPr>
            <a:xfrm>
              <a:off x="1565280" y="2453040"/>
              <a:ext cx="904680" cy="3762360"/>
              <a:chOff x="1565280" y="2453040"/>
              <a:chExt cx="904680" cy="3762360"/>
            </a:xfrm>
          </p:grpSpPr>
          <p:grpSp>
            <p:nvGrpSpPr>
              <p:cNvPr id="1234" name="Group 15"/>
              <p:cNvGrpSpPr/>
              <p:nvPr/>
            </p:nvGrpSpPr>
            <p:grpSpPr>
              <a:xfrm>
                <a:off x="1565280" y="2453040"/>
                <a:ext cx="904680" cy="3762360"/>
                <a:chOff x="1565280" y="2453040"/>
                <a:chExt cx="904680" cy="3762360"/>
              </a:xfrm>
            </p:grpSpPr>
            <p:sp>
              <p:nvSpPr>
                <p:cNvPr id="1235" name="Freeform 16"/>
                <p:cNvSpPr/>
                <p:nvPr/>
              </p:nvSpPr>
              <p:spPr>
                <a:xfrm>
                  <a:off x="1637640" y="266976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36" name="Object 17"/>
                <p:cNvGraphicFramePr/>
                <p:nvPr/>
              </p:nvGraphicFramePr>
              <p:xfrm>
                <a:off x="1565280" y="2453040"/>
                <a:ext cx="904680" cy="3762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237" name="Object 1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565280" y="2453040"/>
                          <a:ext cx="904680" cy="37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38" name="Text Box 18"/>
              <p:cNvSpPr/>
              <p:nvPr/>
            </p:nvSpPr>
            <p:spPr>
              <a:xfrm rot="16200000">
                <a:off x="668160" y="4327920"/>
                <a:ext cx="2385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Protocolos de Adhesión                        al GATT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Group 19"/>
            <p:cNvGrpSpPr/>
            <p:nvPr/>
          </p:nvGrpSpPr>
          <p:grpSpPr>
            <a:xfrm>
              <a:off x="2059920" y="2443680"/>
              <a:ext cx="904680" cy="3762720"/>
              <a:chOff x="2059920" y="2443680"/>
              <a:chExt cx="904680" cy="3762720"/>
            </a:xfrm>
          </p:grpSpPr>
          <p:grpSp>
            <p:nvGrpSpPr>
              <p:cNvPr id="1240" name="Group 20"/>
              <p:cNvGrpSpPr/>
              <p:nvPr/>
            </p:nvGrpSpPr>
            <p:grpSpPr>
              <a:xfrm>
                <a:off x="2059920" y="2443680"/>
                <a:ext cx="904680" cy="3762720"/>
                <a:chOff x="2059920" y="2443680"/>
                <a:chExt cx="904680" cy="3762720"/>
              </a:xfrm>
            </p:grpSpPr>
            <p:sp>
              <p:nvSpPr>
                <p:cNvPr id="1241" name="Freeform 21"/>
                <p:cNvSpPr/>
                <p:nvPr/>
              </p:nvSpPr>
              <p:spPr>
                <a:xfrm>
                  <a:off x="2132280" y="2660760"/>
                  <a:ext cx="76428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42" name="Object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59920" y="2443680"/>
                  <a:ext cx="904680" cy="376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3" name="Text Box 23"/>
              <p:cNvSpPr/>
              <p:nvPr/>
            </p:nvSpPr>
            <p:spPr>
              <a:xfrm rot="16200000">
                <a:off x="1152360" y="4303080"/>
                <a:ext cx="24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Decisiones de PPCC del GATT</a:t>
                </a:r>
                <a:br>
                  <a:rPr sz="1200"/>
                </a:b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(1947-1994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24"/>
            <p:cNvGrpSpPr/>
            <p:nvPr/>
          </p:nvGrpSpPr>
          <p:grpSpPr>
            <a:xfrm>
              <a:off x="2538000" y="2659320"/>
              <a:ext cx="1031040" cy="3454920"/>
              <a:chOff x="2538000" y="2659320"/>
              <a:chExt cx="1031040" cy="3454920"/>
            </a:xfrm>
          </p:grpSpPr>
          <p:grpSp>
            <p:nvGrpSpPr>
              <p:cNvPr id="1245" name="Group 25"/>
              <p:cNvGrpSpPr/>
              <p:nvPr/>
            </p:nvGrpSpPr>
            <p:grpSpPr>
              <a:xfrm>
                <a:off x="2538000" y="2659320"/>
                <a:ext cx="1031040" cy="3454920"/>
                <a:chOff x="2538000" y="2659320"/>
                <a:chExt cx="1031040" cy="3454920"/>
              </a:xfrm>
            </p:grpSpPr>
            <p:grpSp>
              <p:nvGrpSpPr>
                <p:cNvPr id="1246" name="Group 26"/>
                <p:cNvGrpSpPr/>
                <p:nvPr/>
              </p:nvGrpSpPr>
              <p:grpSpPr>
                <a:xfrm>
                  <a:off x="2538000" y="2659320"/>
                  <a:ext cx="1031040" cy="3454920"/>
                  <a:chOff x="2538000" y="2659320"/>
                  <a:chExt cx="1031040" cy="3454920"/>
                </a:xfrm>
              </p:grpSpPr>
              <p:sp>
                <p:nvSpPr>
                  <p:cNvPr id="1247" name="Freeform 27"/>
                  <p:cNvSpPr/>
                  <p:nvPr/>
                </p:nvSpPr>
                <p:spPr>
                  <a:xfrm>
                    <a:off x="2685240" y="2794680"/>
                    <a:ext cx="60408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48" name="Object 28"/>
                  <p:cNvGraphicFramePr/>
                  <p:nvPr/>
                </p:nvGraphicFramePr>
                <p:xfrm>
                  <a:off x="2538000" y="2659320"/>
                  <a:ext cx="1031040" cy="345492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1249" name="Object 28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2538000" y="2659320"/>
                            <a:ext cx="10310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50" name="Text Box 29"/>
                <p:cNvSpPr/>
                <p:nvPr/>
              </p:nvSpPr>
              <p:spPr>
                <a:xfrm rot="16200000">
                  <a:off x="1747440" y="4417200"/>
                  <a:ext cx="2256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Text Box 30"/>
              <p:cNvSpPr/>
              <p:nvPr/>
            </p:nvSpPr>
            <p:spPr>
              <a:xfrm>
                <a:off x="2732400" y="3221280"/>
                <a:ext cx="287640" cy="3373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31"/>
            <p:cNvGrpSpPr/>
            <p:nvPr/>
          </p:nvGrpSpPr>
          <p:grpSpPr>
            <a:xfrm>
              <a:off x="3014640" y="2659320"/>
              <a:ext cx="1031040" cy="3454920"/>
              <a:chOff x="3014640" y="2659320"/>
              <a:chExt cx="1031040" cy="3454920"/>
            </a:xfrm>
          </p:grpSpPr>
          <p:grpSp>
            <p:nvGrpSpPr>
              <p:cNvPr id="1253" name="Group 32"/>
              <p:cNvGrpSpPr/>
              <p:nvPr/>
            </p:nvGrpSpPr>
            <p:grpSpPr>
              <a:xfrm>
                <a:off x="3014640" y="2659320"/>
                <a:ext cx="1031040" cy="3454920"/>
                <a:chOff x="3014640" y="2659320"/>
                <a:chExt cx="1031040" cy="3454920"/>
              </a:xfrm>
            </p:grpSpPr>
            <p:grpSp>
              <p:nvGrpSpPr>
                <p:cNvPr id="1254" name="Group 33"/>
                <p:cNvGrpSpPr/>
                <p:nvPr/>
              </p:nvGrpSpPr>
              <p:grpSpPr>
                <a:xfrm>
                  <a:off x="3014640" y="2659320"/>
                  <a:ext cx="1031040" cy="3454920"/>
                  <a:chOff x="3014640" y="2659320"/>
                  <a:chExt cx="1031040" cy="3454920"/>
                </a:xfrm>
              </p:grpSpPr>
              <p:sp>
                <p:nvSpPr>
                  <p:cNvPr id="1255" name="Freeform 34"/>
                  <p:cNvSpPr/>
                  <p:nvPr/>
                </p:nvSpPr>
                <p:spPr>
                  <a:xfrm>
                    <a:off x="3161880" y="2794680"/>
                    <a:ext cx="60408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56" name="Object 35"/>
                  <p:cNvGraphicFramePr/>
                  <p:nvPr/>
                </p:nvGraphicFramePr>
                <p:xfrm>
                  <a:off x="3014640" y="2659320"/>
                  <a:ext cx="1031040" cy="3454920"/>
                </p:xfrm>
                <a:graphic>
                  <a:graphicData uri="http://schemas.openxmlformats.org/presentationml/2006/ole">
                    <p:oleObj r:id="rId10" spid="">
                      <p:embed/>
                      <p:pic>
                        <p:nvPicPr>
                          <p:cNvPr id="1257" name="Object 35" descr=""/>
                          <p:cNvPicPr/>
                          <p:nvPr/>
                        </p:nvPicPr>
                        <p:blipFill>
                          <a:blip r:embed="rId11"/>
                          <a:stretch/>
                        </p:blipFill>
                        <p:spPr>
                          <a:xfrm>
                            <a:off x="3014640" y="2659320"/>
                            <a:ext cx="10310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58" name="Text Box 36"/>
                <p:cNvSpPr/>
                <p:nvPr/>
              </p:nvSpPr>
              <p:spPr>
                <a:xfrm rot="16200000">
                  <a:off x="2222280" y="4416480"/>
                  <a:ext cx="2258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9" name="Text Box 37"/>
              <p:cNvSpPr/>
              <p:nvPr/>
            </p:nvSpPr>
            <p:spPr>
              <a:xfrm>
                <a:off x="3195360" y="3221280"/>
                <a:ext cx="28944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Group 38"/>
            <p:cNvGrpSpPr/>
            <p:nvPr/>
          </p:nvGrpSpPr>
          <p:grpSpPr>
            <a:xfrm>
              <a:off x="3479040" y="2659320"/>
              <a:ext cx="1032480" cy="3454920"/>
              <a:chOff x="3479040" y="2659320"/>
              <a:chExt cx="1032480" cy="3454920"/>
            </a:xfrm>
          </p:grpSpPr>
          <p:grpSp>
            <p:nvGrpSpPr>
              <p:cNvPr id="1261" name="Group 39"/>
              <p:cNvGrpSpPr/>
              <p:nvPr/>
            </p:nvGrpSpPr>
            <p:grpSpPr>
              <a:xfrm>
                <a:off x="3479040" y="2659320"/>
                <a:ext cx="1032480" cy="3454920"/>
                <a:chOff x="3479040" y="2659320"/>
                <a:chExt cx="1032480" cy="3454920"/>
              </a:xfrm>
            </p:grpSpPr>
            <p:grpSp>
              <p:nvGrpSpPr>
                <p:cNvPr id="1262" name="Group 40"/>
                <p:cNvGrpSpPr/>
                <p:nvPr/>
              </p:nvGrpSpPr>
              <p:grpSpPr>
                <a:xfrm>
                  <a:off x="3479040" y="2659320"/>
                  <a:ext cx="1032480" cy="3454920"/>
                  <a:chOff x="3479040" y="2659320"/>
                  <a:chExt cx="1032480" cy="3454920"/>
                </a:xfrm>
              </p:grpSpPr>
              <p:sp>
                <p:nvSpPr>
                  <p:cNvPr id="1263" name="Freeform 41"/>
                  <p:cNvSpPr/>
                  <p:nvPr/>
                </p:nvSpPr>
                <p:spPr>
                  <a:xfrm>
                    <a:off x="3626640" y="2794680"/>
                    <a:ext cx="60480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64" name="Object 42"/>
                  <p:cNvGraphicFramePr/>
                  <p:nvPr/>
                </p:nvGraphicFramePr>
                <p:xfrm>
                  <a:off x="3479040" y="2659320"/>
                  <a:ext cx="1032480" cy="345492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1265" name="Object 42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3479040" y="2659320"/>
                            <a:ext cx="103248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66" name="Text Box 43"/>
                <p:cNvSpPr/>
                <p:nvPr/>
              </p:nvSpPr>
              <p:spPr>
                <a:xfrm rot="16200000">
                  <a:off x="2698560" y="4441320"/>
                  <a:ext cx="2236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7" name="Text Box 44"/>
              <p:cNvSpPr/>
              <p:nvPr/>
            </p:nvSpPr>
            <p:spPr>
              <a:xfrm>
                <a:off x="3650760" y="3213720"/>
                <a:ext cx="289080" cy="3373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Group 45"/>
            <p:cNvGrpSpPr/>
            <p:nvPr/>
          </p:nvGrpSpPr>
          <p:grpSpPr>
            <a:xfrm>
              <a:off x="3946320" y="2659320"/>
              <a:ext cx="1032840" cy="3454920"/>
              <a:chOff x="3946320" y="2659320"/>
              <a:chExt cx="1032840" cy="3454920"/>
            </a:xfrm>
          </p:grpSpPr>
          <p:grpSp>
            <p:nvGrpSpPr>
              <p:cNvPr id="1269" name="Group 46"/>
              <p:cNvGrpSpPr/>
              <p:nvPr/>
            </p:nvGrpSpPr>
            <p:grpSpPr>
              <a:xfrm>
                <a:off x="3946320" y="2659320"/>
                <a:ext cx="1032840" cy="3454920"/>
                <a:chOff x="3946320" y="2659320"/>
                <a:chExt cx="1032840" cy="3454920"/>
              </a:xfrm>
            </p:grpSpPr>
            <p:grpSp>
              <p:nvGrpSpPr>
                <p:cNvPr id="1270" name="Group 47"/>
                <p:cNvGrpSpPr/>
                <p:nvPr/>
              </p:nvGrpSpPr>
              <p:grpSpPr>
                <a:xfrm>
                  <a:off x="3946320" y="2659320"/>
                  <a:ext cx="1032840" cy="3454920"/>
                  <a:chOff x="3946320" y="2659320"/>
                  <a:chExt cx="1032840" cy="3454920"/>
                </a:xfrm>
              </p:grpSpPr>
              <p:sp>
                <p:nvSpPr>
                  <p:cNvPr id="1271" name="Freeform 48"/>
                  <p:cNvSpPr/>
                  <p:nvPr/>
                </p:nvSpPr>
                <p:spPr>
                  <a:xfrm>
                    <a:off x="4093920" y="2794680"/>
                    <a:ext cx="60516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72" name="Object 49"/>
                  <p:cNvGraphicFramePr/>
                  <p:nvPr/>
                </p:nvGraphicFramePr>
                <p:xfrm>
                  <a:off x="3946320" y="2659320"/>
                  <a:ext cx="1032840" cy="345492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1273" name="Object 49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3946320" y="2659320"/>
                            <a:ext cx="10328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74" name="Text Box 50"/>
                <p:cNvSpPr/>
                <p:nvPr/>
              </p:nvSpPr>
              <p:spPr>
                <a:xfrm rot="16200000">
                  <a:off x="3174120" y="4413600"/>
                  <a:ext cx="2232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Text Box 51"/>
              <p:cNvSpPr/>
              <p:nvPr/>
            </p:nvSpPr>
            <p:spPr>
              <a:xfrm>
                <a:off x="4109040" y="3225960"/>
                <a:ext cx="289440" cy="3373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52"/>
            <p:cNvGrpSpPr/>
            <p:nvPr/>
          </p:nvGrpSpPr>
          <p:grpSpPr>
            <a:xfrm>
              <a:off x="4400280" y="2442240"/>
              <a:ext cx="904680" cy="3762360"/>
              <a:chOff x="4400280" y="2442240"/>
              <a:chExt cx="904680" cy="3762360"/>
            </a:xfrm>
          </p:grpSpPr>
          <p:sp>
            <p:nvSpPr>
              <p:cNvPr id="1277" name="Freeform 53"/>
              <p:cNvSpPr/>
              <p:nvPr/>
            </p:nvSpPr>
            <p:spPr>
              <a:xfrm>
                <a:off x="447228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78" name="Object 54"/>
              <p:cNvGraphicFramePr/>
              <p:nvPr/>
            </p:nvGraphicFramePr>
            <p:xfrm>
              <a:off x="4400280" y="2442240"/>
              <a:ext cx="904680" cy="376236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1279" name="Object 54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440028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0" name="Text Box 55"/>
              <p:cNvSpPr/>
              <p:nvPr/>
            </p:nvSpPr>
            <p:spPr>
              <a:xfrm rot="16200000">
                <a:off x="3497760" y="4274280"/>
                <a:ext cx="239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OTC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56"/>
            <p:cNvGrpSpPr/>
            <p:nvPr/>
          </p:nvGrpSpPr>
          <p:grpSpPr>
            <a:xfrm>
              <a:off x="4906800" y="2442240"/>
              <a:ext cx="904680" cy="3762360"/>
              <a:chOff x="4906800" y="2442240"/>
              <a:chExt cx="904680" cy="3762360"/>
            </a:xfrm>
          </p:grpSpPr>
          <p:sp>
            <p:nvSpPr>
              <p:cNvPr id="1282" name="Freeform 57"/>
              <p:cNvSpPr/>
              <p:nvPr/>
            </p:nvSpPr>
            <p:spPr>
              <a:xfrm>
                <a:off x="49788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83" name="Object 58"/>
              <p:cNvGraphicFramePr/>
              <p:nvPr/>
            </p:nvGraphicFramePr>
            <p:xfrm>
              <a:off x="4906800" y="2442240"/>
              <a:ext cx="904680" cy="37623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1284" name="Object 58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90680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5" name="Text Box 59"/>
              <p:cNvSpPr/>
              <p:nvPr/>
            </p:nvSpPr>
            <p:spPr>
              <a:xfrm rot="16200000">
                <a:off x="4098240" y="4230000"/>
                <a:ext cx="23875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Contratación Pública                                         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60"/>
            <p:cNvGrpSpPr/>
            <p:nvPr/>
          </p:nvGrpSpPr>
          <p:grpSpPr>
            <a:xfrm>
              <a:off x="5413680" y="2442240"/>
              <a:ext cx="904320" cy="3762360"/>
              <a:chOff x="5413680" y="2442240"/>
              <a:chExt cx="904320" cy="3762360"/>
            </a:xfrm>
          </p:grpSpPr>
          <p:sp>
            <p:nvSpPr>
              <p:cNvPr id="1287" name="Freeform 61"/>
              <p:cNvSpPr/>
              <p:nvPr/>
            </p:nvSpPr>
            <p:spPr>
              <a:xfrm>
                <a:off x="5485680" y="2658960"/>
                <a:ext cx="76392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88" name="Object 62"/>
              <p:cNvGraphicFramePr/>
              <p:nvPr/>
            </p:nvGraphicFramePr>
            <p:xfrm>
              <a:off x="5413680" y="2442240"/>
              <a:ext cx="904320" cy="37623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289" name="Object 62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413680" y="2442240"/>
                        <a:ext cx="90432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0" name="Text Box 63"/>
              <p:cNvSpPr/>
              <p:nvPr/>
            </p:nvSpPr>
            <p:spPr>
              <a:xfrm rot="16200000">
                <a:off x="451476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SMC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64"/>
            <p:cNvGrpSpPr/>
            <p:nvPr/>
          </p:nvGrpSpPr>
          <p:grpSpPr>
            <a:xfrm>
              <a:off x="5920200" y="2442240"/>
              <a:ext cx="904680" cy="3762360"/>
              <a:chOff x="5920200" y="2442240"/>
              <a:chExt cx="904680" cy="3762360"/>
            </a:xfrm>
          </p:grpSpPr>
          <p:sp>
            <p:nvSpPr>
              <p:cNvPr id="1292" name="Freeform 65"/>
              <p:cNvSpPr/>
              <p:nvPr/>
            </p:nvSpPr>
            <p:spPr>
              <a:xfrm>
                <a:off x="59922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93" name="Object 66"/>
              <p:cNvGraphicFramePr/>
              <p:nvPr/>
            </p:nvGraphicFramePr>
            <p:xfrm>
              <a:off x="5920200" y="2442240"/>
              <a:ext cx="904680" cy="37623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1294" name="Object 66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592020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5" name="Text Box 67"/>
              <p:cNvSpPr/>
              <p:nvPr/>
            </p:nvSpPr>
            <p:spPr>
              <a:xfrm rot="16200000">
                <a:off x="502128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Antidumping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Group 68"/>
            <p:cNvGrpSpPr/>
            <p:nvPr/>
          </p:nvGrpSpPr>
          <p:grpSpPr>
            <a:xfrm>
              <a:off x="6427080" y="2442240"/>
              <a:ext cx="904680" cy="3762360"/>
              <a:chOff x="6427080" y="2442240"/>
              <a:chExt cx="904680" cy="3762360"/>
            </a:xfrm>
          </p:grpSpPr>
          <p:sp>
            <p:nvSpPr>
              <p:cNvPr id="1297" name="Freeform 69"/>
              <p:cNvSpPr/>
              <p:nvPr/>
            </p:nvSpPr>
            <p:spPr>
              <a:xfrm>
                <a:off x="649908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8" name="Object 70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2708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9" name="Text Box 71"/>
              <p:cNvSpPr/>
              <p:nvPr/>
            </p:nvSpPr>
            <p:spPr>
              <a:xfrm rot="16200000">
                <a:off x="552960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Licencias de Importació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72"/>
            <p:cNvGrpSpPr/>
            <p:nvPr/>
          </p:nvGrpSpPr>
          <p:grpSpPr>
            <a:xfrm>
              <a:off x="6933960" y="2442240"/>
              <a:ext cx="904320" cy="3762360"/>
              <a:chOff x="6933960" y="2442240"/>
              <a:chExt cx="904320" cy="3762360"/>
            </a:xfrm>
          </p:grpSpPr>
          <p:sp>
            <p:nvSpPr>
              <p:cNvPr id="1301" name="Freeform 73"/>
              <p:cNvSpPr/>
              <p:nvPr/>
            </p:nvSpPr>
            <p:spPr>
              <a:xfrm>
                <a:off x="7005960" y="2658960"/>
                <a:ext cx="76392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02" name="Object 74"/>
              <p:cNvGraphicFramePr/>
              <p:nvPr/>
            </p:nvGraphicFramePr>
            <p:xfrm>
              <a:off x="6933960" y="2442240"/>
              <a:ext cx="904320" cy="37623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303" name="Object 74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933960" y="2442240"/>
                        <a:ext cx="90432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04" name="Text Box 75"/>
              <p:cNvSpPr/>
              <p:nvPr/>
            </p:nvSpPr>
            <p:spPr>
              <a:xfrm rot="16200000">
                <a:off x="6021000" y="4266720"/>
                <a:ext cx="241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Aeronaves Civi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Group 76"/>
            <p:cNvGrpSpPr/>
            <p:nvPr/>
          </p:nvGrpSpPr>
          <p:grpSpPr>
            <a:xfrm>
              <a:off x="7440120" y="2442240"/>
              <a:ext cx="904680" cy="3762360"/>
              <a:chOff x="7440120" y="2442240"/>
              <a:chExt cx="904680" cy="3762360"/>
            </a:xfrm>
          </p:grpSpPr>
          <p:sp>
            <p:nvSpPr>
              <p:cNvPr id="1306" name="Freeform 77"/>
              <p:cNvSpPr/>
              <p:nvPr/>
            </p:nvSpPr>
            <p:spPr>
              <a:xfrm>
                <a:off x="751212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7" name="Object 78" descr=""/>
              <p:cNvPicPr/>
              <p:nvPr/>
            </p:nvPicPr>
            <p:blipFill>
              <a:blip r:embed="rId27"/>
              <a:stretch/>
            </p:blipFill>
            <p:spPr>
              <a:xfrm>
                <a:off x="744012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8" name="Text Box 79"/>
              <p:cNvSpPr/>
              <p:nvPr/>
            </p:nvSpPr>
            <p:spPr>
              <a:xfrm rot="16200000">
                <a:off x="6532200" y="4240440"/>
                <a:ext cx="2407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Productos Lácteo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80"/>
            <p:cNvGrpSpPr/>
            <p:nvPr/>
          </p:nvGrpSpPr>
          <p:grpSpPr>
            <a:xfrm>
              <a:off x="7947000" y="2442240"/>
              <a:ext cx="904680" cy="3762360"/>
              <a:chOff x="7947000" y="2442240"/>
              <a:chExt cx="904680" cy="3762360"/>
            </a:xfrm>
          </p:grpSpPr>
          <p:sp>
            <p:nvSpPr>
              <p:cNvPr id="1310" name="Freeform 81"/>
              <p:cNvSpPr/>
              <p:nvPr/>
            </p:nvSpPr>
            <p:spPr>
              <a:xfrm>
                <a:off x="80190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1" name="Object 82" descr=""/>
              <p:cNvPicPr/>
              <p:nvPr/>
            </p:nvPicPr>
            <p:blipFill>
              <a:blip r:embed="rId28"/>
              <a:stretch/>
            </p:blipFill>
            <p:spPr>
              <a:xfrm>
                <a:off x="794700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Text Box 83"/>
              <p:cNvSpPr/>
              <p:nvPr/>
            </p:nvSpPr>
            <p:spPr>
              <a:xfrm rot="16200000">
                <a:off x="7050240" y="4230720"/>
                <a:ext cx="2387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Carne Bovin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Freeform 84"/>
            <p:cNvSpPr/>
            <p:nvPr/>
          </p:nvSpPr>
          <p:spPr>
            <a:xfrm>
              <a:off x="2337480" y="2104560"/>
              <a:ext cx="324000" cy="651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85"/>
            <p:cNvSpPr/>
            <p:nvPr/>
          </p:nvSpPr>
          <p:spPr>
            <a:xfrm rot="476400">
              <a:off x="2573640" y="2006280"/>
              <a:ext cx="263880" cy="807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Text Box 86"/>
          <p:cNvSpPr/>
          <p:nvPr/>
        </p:nvSpPr>
        <p:spPr>
          <a:xfrm>
            <a:off x="2742480" y="114300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ego de la Ronda de Tok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1752480" y="2162160"/>
            <a:ext cx="7314840" cy="401400"/>
            <a:chOff x="1752480" y="2162160"/>
            <a:chExt cx="7314840" cy="401400"/>
          </a:xfrm>
        </p:grpSpPr>
        <p:sp>
          <p:nvSpPr>
            <p:cNvPr id="1317" name="Text Box 3"/>
            <p:cNvSpPr/>
            <p:nvPr/>
          </p:nvSpPr>
          <p:spPr>
            <a:xfrm>
              <a:off x="3528000" y="2195280"/>
              <a:ext cx="55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Urugua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4"/>
            <p:cNvSpPr/>
            <p:nvPr/>
          </p:nvSpPr>
          <p:spPr>
            <a:xfrm>
              <a:off x="1752480" y="216216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86-9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Group 5"/>
          <p:cNvGrpSpPr/>
          <p:nvPr/>
        </p:nvGrpSpPr>
        <p:grpSpPr>
          <a:xfrm>
            <a:off x="1752480" y="1628640"/>
            <a:ext cx="7314840" cy="398880"/>
            <a:chOff x="1752480" y="1628640"/>
            <a:chExt cx="7314840" cy="398880"/>
          </a:xfrm>
        </p:grpSpPr>
        <p:sp>
          <p:nvSpPr>
            <p:cNvPr id="1320" name="Text Box 6"/>
            <p:cNvSpPr/>
            <p:nvPr/>
          </p:nvSpPr>
          <p:spPr>
            <a:xfrm>
              <a:off x="3598920" y="162864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Primer intento de expandir el  GATT - Fallid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Text Box 7"/>
            <p:cNvSpPr/>
            <p:nvPr/>
          </p:nvSpPr>
          <p:spPr>
            <a:xfrm>
              <a:off x="1752480" y="162864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Nov. 198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Group 8"/>
          <p:cNvGrpSpPr/>
          <p:nvPr/>
        </p:nvGrpSpPr>
        <p:grpSpPr>
          <a:xfrm>
            <a:off x="1793880" y="2755800"/>
            <a:ext cx="7314840" cy="398880"/>
            <a:chOff x="1793880" y="2755800"/>
            <a:chExt cx="7314840" cy="398880"/>
          </a:xfrm>
        </p:grpSpPr>
        <p:sp>
          <p:nvSpPr>
            <p:cNvPr id="1323" name="Text Box 9"/>
            <p:cNvSpPr/>
            <p:nvPr/>
          </p:nvSpPr>
          <p:spPr>
            <a:xfrm>
              <a:off x="3640320" y="275580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Declaración de Punta del Este (Uruguay)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10"/>
            <p:cNvSpPr/>
            <p:nvPr/>
          </p:nvSpPr>
          <p:spPr>
            <a:xfrm>
              <a:off x="1793880" y="275580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Sep. 198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Group 11"/>
          <p:cNvGrpSpPr/>
          <p:nvPr/>
        </p:nvGrpSpPr>
        <p:grpSpPr>
          <a:xfrm>
            <a:off x="1793880" y="3305160"/>
            <a:ext cx="7314840" cy="398880"/>
            <a:chOff x="1793880" y="3305160"/>
            <a:chExt cx="7314840" cy="398880"/>
          </a:xfrm>
        </p:grpSpPr>
        <p:sp>
          <p:nvSpPr>
            <p:cNvPr id="1326" name="Text Box 12"/>
            <p:cNvSpPr/>
            <p:nvPr/>
          </p:nvSpPr>
          <p:spPr>
            <a:xfrm>
              <a:off x="3640320" y="330516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Balance a mitad de período (Montreal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13"/>
            <p:cNvSpPr/>
            <p:nvPr/>
          </p:nvSpPr>
          <p:spPr>
            <a:xfrm>
              <a:off x="1793880" y="330516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198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Group 14"/>
          <p:cNvGrpSpPr/>
          <p:nvPr/>
        </p:nvGrpSpPr>
        <p:grpSpPr>
          <a:xfrm>
            <a:off x="1793880" y="3838680"/>
            <a:ext cx="7314840" cy="398880"/>
            <a:chOff x="1793880" y="3838680"/>
            <a:chExt cx="7314840" cy="398880"/>
          </a:xfrm>
        </p:grpSpPr>
        <p:sp>
          <p:nvSpPr>
            <p:cNvPr id="1329" name="Text Box 15"/>
            <p:cNvSpPr/>
            <p:nvPr/>
          </p:nvSpPr>
          <p:spPr>
            <a:xfrm>
              <a:off x="3640320" y="383868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ferencia de Brusela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16"/>
            <p:cNvSpPr/>
            <p:nvPr/>
          </p:nvSpPr>
          <p:spPr>
            <a:xfrm>
              <a:off x="1793880" y="383868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Dic. 19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Group 17"/>
          <p:cNvGrpSpPr/>
          <p:nvPr/>
        </p:nvGrpSpPr>
        <p:grpSpPr>
          <a:xfrm>
            <a:off x="1793880" y="4371840"/>
            <a:ext cx="7314840" cy="398880"/>
            <a:chOff x="1793880" y="4371840"/>
            <a:chExt cx="7314840" cy="398880"/>
          </a:xfrm>
        </p:grpSpPr>
        <p:sp>
          <p:nvSpPr>
            <p:cNvPr id="1332" name="Text Box 18"/>
            <p:cNvSpPr/>
            <p:nvPr/>
          </p:nvSpPr>
          <p:spPr>
            <a:xfrm>
              <a:off x="3640320" y="437184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clusión de la Ronda (Adopción del ACTA FINAL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19"/>
            <p:cNvSpPr/>
            <p:nvPr/>
          </p:nvSpPr>
          <p:spPr>
            <a:xfrm>
              <a:off x="1793880" y="437184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Dic. 199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Group 20"/>
          <p:cNvGrpSpPr/>
          <p:nvPr/>
        </p:nvGrpSpPr>
        <p:grpSpPr>
          <a:xfrm>
            <a:off x="1793880" y="4905360"/>
            <a:ext cx="7314840" cy="398880"/>
            <a:chOff x="1793880" y="4905360"/>
            <a:chExt cx="7314840" cy="398880"/>
          </a:xfrm>
        </p:grpSpPr>
        <p:sp>
          <p:nvSpPr>
            <p:cNvPr id="1335" name="Text Box 21"/>
            <p:cNvSpPr/>
            <p:nvPr/>
          </p:nvSpPr>
          <p:spPr>
            <a:xfrm>
              <a:off x="3640320" y="490536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ferencia Ministerial de Marrake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22"/>
            <p:cNvSpPr/>
            <p:nvPr/>
          </p:nvSpPr>
          <p:spPr>
            <a:xfrm>
              <a:off x="1793880" y="490536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Abr. 199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Group 23"/>
          <p:cNvGrpSpPr/>
          <p:nvPr/>
        </p:nvGrpSpPr>
        <p:grpSpPr>
          <a:xfrm>
            <a:off x="1752480" y="5438880"/>
            <a:ext cx="7314840" cy="398880"/>
            <a:chOff x="1752480" y="5438880"/>
            <a:chExt cx="7314840" cy="398880"/>
          </a:xfrm>
        </p:grpSpPr>
        <p:sp>
          <p:nvSpPr>
            <p:cNvPr id="1338" name="Text Box 24"/>
            <p:cNvSpPr/>
            <p:nvPr/>
          </p:nvSpPr>
          <p:spPr>
            <a:xfrm>
              <a:off x="3598920" y="543888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b00000"/>
                  </a:solidFill>
                  <a:latin typeface="Arial Narrow"/>
                </a:rPr>
                <a:t>Entrada en vigor del Acuerdo de Marrakech (OM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25"/>
            <p:cNvSpPr/>
            <p:nvPr/>
          </p:nvSpPr>
          <p:spPr>
            <a:xfrm>
              <a:off x="1752480" y="543888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 Ene. 199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Group 26"/>
          <p:cNvGrpSpPr/>
          <p:nvPr/>
        </p:nvGrpSpPr>
        <p:grpSpPr>
          <a:xfrm>
            <a:off x="1752480" y="5956200"/>
            <a:ext cx="7314840" cy="398880"/>
            <a:chOff x="1752480" y="5956200"/>
            <a:chExt cx="7314840" cy="398880"/>
          </a:xfrm>
        </p:grpSpPr>
        <p:sp>
          <p:nvSpPr>
            <p:cNvPr id="1341" name="Text Box 27"/>
            <p:cNvSpPr/>
            <p:nvPr/>
          </p:nvSpPr>
          <p:spPr>
            <a:xfrm>
              <a:off x="3598920" y="595620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b00000"/>
                  </a:solidFill>
                  <a:latin typeface="Arial Narrow"/>
                </a:rPr>
                <a:t>Fin del GATT de 1947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Text Box 28"/>
            <p:cNvSpPr/>
            <p:nvPr/>
          </p:nvSpPr>
          <p:spPr>
            <a:xfrm>
              <a:off x="1752480" y="595620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31 Dic. 199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Group 29"/>
          <p:cNvGrpSpPr/>
          <p:nvPr/>
        </p:nvGrpSpPr>
        <p:grpSpPr>
          <a:xfrm>
            <a:off x="343080" y="2000160"/>
            <a:ext cx="952200" cy="3962160"/>
            <a:chOff x="343080" y="2000160"/>
            <a:chExt cx="952200" cy="3962160"/>
          </a:xfrm>
        </p:grpSpPr>
        <p:grpSp>
          <p:nvGrpSpPr>
            <p:cNvPr id="1344" name="Group 30"/>
            <p:cNvGrpSpPr/>
            <p:nvPr/>
          </p:nvGrpSpPr>
          <p:grpSpPr>
            <a:xfrm>
              <a:off x="343080" y="2000160"/>
              <a:ext cx="952200" cy="3962160"/>
              <a:chOff x="343080" y="2000160"/>
              <a:chExt cx="952200" cy="3962160"/>
            </a:xfrm>
          </p:grpSpPr>
          <p:sp>
            <p:nvSpPr>
              <p:cNvPr id="1345" name="Freeform 31"/>
              <p:cNvSpPr/>
              <p:nvPr/>
            </p:nvSpPr>
            <p:spPr>
              <a:xfrm>
                <a:off x="419040" y="2228760"/>
                <a:ext cx="80424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46" name="Object 32"/>
              <p:cNvGraphicFramePr/>
              <p:nvPr/>
            </p:nvGraphicFramePr>
            <p:xfrm>
              <a:off x="343080" y="2000160"/>
              <a:ext cx="95220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47" name="Object 3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3080" y="2000160"/>
                        <a:ext cx="95220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48" name="Text Box 33"/>
            <p:cNvSpPr/>
            <p:nvPr/>
          </p:nvSpPr>
          <p:spPr>
            <a:xfrm rot="16200000">
              <a:off x="-589320" y="404964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Text Box 34"/>
          <p:cNvSpPr/>
          <p:nvPr/>
        </p:nvSpPr>
        <p:spPr>
          <a:xfrm>
            <a:off x="2743920" y="6922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a 8ª Ronda GA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8"/>
          <p:cNvSpPr/>
          <p:nvPr/>
        </p:nvSpPr>
        <p:spPr>
          <a:xfrm>
            <a:off x="0" y="28584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ondas Multilaterales 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egociacione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1143000" y="1428840"/>
            <a:ext cx="66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7: Ginebra (23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49: Annecy (2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51: Torquay (32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56: Ginebra (33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0-61: Dillon (3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3-67: Kennedy (74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73-79: Tokio (9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86-94 Uruguay (128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6" name="Text Box 5"/>
          <p:cNvSpPr/>
          <p:nvPr/>
        </p:nvSpPr>
        <p:spPr>
          <a:xfrm>
            <a:off x="0" y="2349360"/>
            <a:ext cx="442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la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2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3"/>
          <p:cNvSpPr/>
          <p:nvPr/>
        </p:nvSpPr>
        <p:spPr>
          <a:xfrm>
            <a:off x="1143000" y="990720"/>
            <a:ext cx="3657600" cy="533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4"/>
          <p:cNvSpPr/>
          <p:nvPr/>
        </p:nvSpPr>
        <p:spPr>
          <a:xfrm>
            <a:off x="152388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5"/>
          <p:cNvSpPr/>
          <p:nvPr/>
        </p:nvSpPr>
        <p:spPr>
          <a:xfrm>
            <a:off x="152388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"/>
          <p:cNvSpPr/>
          <p:nvPr/>
        </p:nvSpPr>
        <p:spPr>
          <a:xfrm>
            <a:off x="762120" y="990720"/>
            <a:ext cx="380880" cy="5333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7"/>
          <p:cNvSpPr/>
          <p:nvPr/>
        </p:nvSpPr>
        <p:spPr>
          <a:xfrm>
            <a:off x="9144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914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9"/>
          <p:cNvSpPr/>
          <p:nvPr/>
        </p:nvSpPr>
        <p:spPr>
          <a:xfrm>
            <a:off x="1523880" y="2133720"/>
            <a:ext cx="281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imes New Roman"/>
              </a:rPr>
              <a:t>Acuerdo de Marrakech por el que se establece la Organización Mundial del Comerci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Group 10"/>
          <p:cNvGrpSpPr/>
          <p:nvPr/>
        </p:nvGrpSpPr>
        <p:grpSpPr>
          <a:xfrm>
            <a:off x="5029200" y="1523880"/>
            <a:ext cx="3809880" cy="825480"/>
            <a:chOff x="5029200" y="1523880"/>
            <a:chExt cx="3809880" cy="825480"/>
          </a:xfrm>
        </p:grpSpPr>
        <p:sp>
          <p:nvSpPr>
            <p:cNvPr id="1366" name="Text Box 11"/>
            <p:cNvSpPr/>
            <p:nvPr/>
          </p:nvSpPr>
          <p:spPr>
            <a:xfrm>
              <a:off x="5257800" y="152388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Firmado en Marrakech el 15 de Abril de 199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Oval 12"/>
            <p:cNvSpPr/>
            <p:nvPr/>
          </p:nvSpPr>
          <p:spPr>
            <a:xfrm>
              <a:off x="502920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Group 13"/>
          <p:cNvGrpSpPr/>
          <p:nvPr/>
        </p:nvGrpSpPr>
        <p:grpSpPr>
          <a:xfrm>
            <a:off x="5029200" y="2590920"/>
            <a:ext cx="3809880" cy="825480"/>
            <a:chOff x="5029200" y="2590920"/>
            <a:chExt cx="3809880" cy="825480"/>
          </a:xfrm>
        </p:grpSpPr>
        <p:sp>
          <p:nvSpPr>
            <p:cNvPr id="1369" name="Text Box 14"/>
            <p:cNvSpPr/>
            <p:nvPr/>
          </p:nvSpPr>
          <p:spPr>
            <a:xfrm>
              <a:off x="5257800" y="259092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Ratificado de acuerdo a los procedimientos nacion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15"/>
            <p:cNvSpPr/>
            <p:nvPr/>
          </p:nvSpPr>
          <p:spPr>
            <a:xfrm>
              <a:off x="5029200" y="274320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Group 16"/>
          <p:cNvGrpSpPr/>
          <p:nvPr/>
        </p:nvGrpSpPr>
        <p:grpSpPr>
          <a:xfrm>
            <a:off x="5029200" y="3581280"/>
            <a:ext cx="3809880" cy="2166120"/>
            <a:chOff x="5029200" y="3581280"/>
            <a:chExt cx="3809880" cy="2166120"/>
          </a:xfrm>
        </p:grpSpPr>
        <p:sp>
          <p:nvSpPr>
            <p:cNvPr id="1372" name="Text Box 17"/>
            <p:cNvSpPr/>
            <p:nvPr/>
          </p:nvSpPr>
          <p:spPr>
            <a:xfrm>
              <a:off x="5257800" y="3581280"/>
              <a:ext cx="358128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Entrada en vigor el 1º de Enero de 1995                     </a:t>
              </a:r>
              <a:r>
                <a:rPr b="1" lang="en-GB" sz="2200" spc="-1" strike="noStrike">
                  <a:solidFill>
                    <a:srgbClr val="000000"/>
                  </a:solidFill>
                  <a:latin typeface="Arial Narrow"/>
                </a:rPr>
                <a:t>(instrumento internacional vinculante, que compromete la responsabilidad de los Estados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18"/>
            <p:cNvSpPr/>
            <p:nvPr/>
          </p:nvSpPr>
          <p:spPr>
            <a:xfrm>
              <a:off x="5029200" y="3733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Text 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2b2b2"/>
                </a:solidFill>
                <a:latin typeface="Arial"/>
              </a:rPr>
              <a:t>OMC: un acuerdo internacio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0"/>
          <p:cNvSpPr/>
          <p:nvPr/>
        </p:nvSpPr>
        <p:spPr>
          <a:xfrm>
            <a:off x="8872200" y="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0:28:19Z</dcterms:created>
  <dc:creator>Rey</dc:creator>
  <dc:description/>
  <dc:language>en-US</dc:language>
  <cp:lastModifiedBy>Doris</cp:lastModifiedBy>
  <cp:lastPrinted>2000-01-19T08:15:03Z</cp:lastPrinted>
  <dcterms:modified xsi:type="dcterms:W3CDTF">2009-07-23T21:05:34Z</dcterms:modified>
  <cp:revision>309</cp:revision>
  <dc:subject/>
  <dc:title>No Slide Title</dc:title>
</cp:coreProperties>
</file>