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  <p:sldId id="288" r:id="rId61"/>
    <p:sldId id="289" r:id="rId62"/>
    <p:sldId id="290" r:id="rId63"/>
    <p:sldId id="291" r:id="rId64"/>
    <p:sldId id="292" r:id="rId65"/>
    <p:sldId id="293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slide" Target="slides/slide33.xml"/><Relationship Id="rId62" Type="http://schemas.openxmlformats.org/officeDocument/2006/relationships/slide" Target="slides/slide34.xml"/><Relationship Id="rId63" Type="http://schemas.openxmlformats.org/officeDocument/2006/relationships/slide" Target="slides/slide35.xml"/><Relationship Id="rId64" Type="http://schemas.openxmlformats.org/officeDocument/2006/relationships/slide" Target="slides/slide36.xml"/><Relationship Id="rId65" Type="http://schemas.openxmlformats.org/officeDocument/2006/relationships/slide" Target="slides/slide37.xml"/><Relationship Id="rId66" Type="http://schemas.openxmlformats.org/officeDocument/2006/relationships/slide" Target="slides/slide3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BDB-F8A0-4823-98CC-8D76AA6DE8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DA2C-EF83-4ED8-AE92-FCA93CFBBD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9381-B54D-4BBA-B1ED-1E455D7660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8868-EFC6-41A1-BD6A-AB1270B3F9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909-C2EC-4F79-8167-156CD2DA24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0978-E332-45D0-80FF-AA760046A7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EA57-61C0-409B-97B7-B38D33ACF9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B43-CC73-418F-BA44-4AF1C14101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D6D6-A182-4873-BA84-F019D9D093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542B-0D0D-4F47-B98D-D56D219E14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5155-B27A-42CE-A6D3-5C24992757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E4C9-2E01-4657-B81D-864AC253AD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CB05-69E8-4A26-A135-40A9F8FFE2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E68A-B388-41D9-933F-DFFB2BE486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8B85-5F89-490D-8888-462D0F3B34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AC54-5F7C-4877-BEFD-A3CF68596A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63D3-34CD-4C38-B8A7-77843CE686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C98-8FAD-4B0C-ABFC-E643ACD95F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AB83-D408-4C7D-8106-989E63F358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4"/>
          <p:cNvSpPr/>
          <p:nvPr/>
        </p:nvSpPr>
        <p:spPr>
          <a:xfrm>
            <a:off x="3429000" y="42908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8842-8302-46B3-A8F5-3C935D69B3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E8EB-1B34-42D7-A7A5-202800EE64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716-692B-4F5F-96A0-2B811AE704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2030-C44A-470A-ABF7-36560FCB8A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59B5-2673-434F-A14E-0B6A5EADBE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2654280" y="679320"/>
            <a:ext cx="1700280" cy="127476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2222280"/>
            <a:ext cx="502920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007F-F8BC-48E3-AB00-D91A489833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B647-2C10-49C3-B552-C6264C6F23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91DD-CBAE-49D9-BA67-E2076AA588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E7F-857B-48C0-9159-F8E5C31F53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53A-6CAB-454E-A45E-56621802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522-BA0C-4E70-A30E-54617DA6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B5AAA-34BB-4CA3-916E-F58AC2E0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BF571-5DB2-48E2-9A5B-8EABC4D0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BA83F-CF5C-4DFB-9539-773A0DB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F972C-42BE-461E-A9EB-0DC0A90E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698C5-A455-403A-9C66-B26B5305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BAC8E-0445-478C-A6E6-10F1B531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66936-6C76-456D-BABA-26DCCE52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CCE68-5FA0-4656-B9B8-744B45CA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A4A12-9882-4109-B71C-7F03A705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846EC-3936-41A8-8420-1756078D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87F-FCF0-4AAA-9620-383AD2CB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96C84-6BB0-4976-9A30-CF34AE24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DB595-64DD-4CBC-94FA-90B5F560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49461-10DC-40EB-B028-E8A24970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62EF8-F91C-481D-AE79-1DDCB70B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A5EC8-A4D4-428D-8306-85CB87D6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C4CA8-5933-4851-9A28-7745465F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97021-3C08-4AAB-9034-A1FF4E40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6021F-BF23-4157-94E5-E65D58A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6F03C-72EE-46E0-AA86-61833340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3DB10-974E-41C7-A1AA-C447869D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C4C-2039-42F5-8FC2-9E5C0E1B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B6C3F-8CD5-4DAD-988F-CA9EC9E3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E6E5B-F0D5-4CFB-A911-29BA7C27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67CBF-50AB-4AA6-83DB-43C3114F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AA698-9B41-45E4-8798-1647F37D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66AE3-64F5-48C9-BDBF-179855C7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A5BFF-1BEA-4101-8D26-E7C3A05C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D16B3-9E05-4C28-B099-619E48E3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57DDF-50EC-4ED9-BA0E-904B5DEA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FB647-4669-4E74-8D34-0F130E0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6C8AA-DD2B-45FB-BD0C-4E58B922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835C-D232-4C8F-9295-0914AF57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5C2BF-CE19-4577-874F-E4B06EFA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B7CFD-148A-43E6-8E19-09421CC3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83ECA-8E39-4C5C-867A-C87BC24E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C0860-9D85-410C-B9A2-CF6D8DEE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4E35A-ED84-4CE2-8A1A-DC2FE1DD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8426F-2DB4-454B-AD16-714AB2B3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3C074-6D4F-416E-97C2-F5E73952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1CAEA-2E84-4B3B-9917-58DEAFED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4D020-54FE-41CD-8BB6-811CC9B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A7FC6-90D9-4BAA-B7E4-B29B179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E0FE-C8C0-4750-891D-28B2606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359DA-72EF-421B-B00A-1FA7DBA4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104F1-4397-4C09-AD11-EA7A6C74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B30CB-08E0-4BEC-B6CB-4060EC1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B3AEF-3247-4A66-8116-B871687A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92F9D-D222-4FF9-BD46-58C089B6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8AFC2-3E3D-48EC-90CA-955CBE58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ADEC7-0BE4-41E5-A7E4-1DFBFC3B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7011D-8C4F-4C0D-B8C7-DE472D5C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2A393-9F7A-4EEA-90A2-BB049C40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96CBD-9FBD-45E0-AF27-E157495F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C1B-E4E8-4D50-8D0C-5EE7DB1B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807AE-404E-44AE-B9CC-4A478D33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77ADA-7DF7-4464-A1A1-D8AF8096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8860B-E0DB-4287-A704-6BC1EFA6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3F181-5EAC-460A-B93A-8351C486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831B4-FE12-44F9-B36C-F33E816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27CC8-CE3F-4708-BCCD-2E2907D1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097B1-8AAB-46A4-A5F6-FB71253D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47BB5-D8D6-4396-B744-7E25F5F4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40D2C-44D8-4210-878D-07FC0FF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0B89E-398B-4D13-81D0-DC977CE8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AF83-96C6-4B14-8535-1F3B97AB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1F6C6-E6AD-4AF8-8808-DC913C53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752EE-D162-43EB-84B1-A554DD07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96A85-2BB4-40E2-A6F5-FC7BCEA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6815D-6F12-4E02-A82E-0C94BB4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EEB46-6AEB-41B8-8689-5C5B3DE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83C51-58D0-4DCA-93F2-26FCEC80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ECE4F-9065-4DDE-87E8-882C9494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3F557-8663-4EFE-969F-CBE3E147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2149C-9B0B-48B5-B5DD-63D5A618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89873-D072-4B08-B5DE-2AC6471F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D98A-63D2-49B2-97B9-ABD57F9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FD04E-F57B-4EBC-B21E-8BF0FC4F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1DBE2-17C0-47D4-BB6F-1C81D1F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B6FF8-FEC3-4D89-8695-354C36F4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2851B-20F5-4E3D-8891-D1EB40A8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4F6EA-23CC-4A8A-8BA4-04E42060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7F0B3-30A5-4321-9F58-3911E82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0BD39-DB62-47DD-A55F-8D06E365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E03AE-7517-4862-BA6B-CBDB48CA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B23F7-A59C-462F-8CD9-CD98B7BD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78FEB-90B1-4A0A-8819-0FFEC304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D28F-541B-46AC-B95D-409C6C7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223D7-1824-498D-9E33-E2798974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6E4F6-A7D1-4AE0-A914-EDA498BA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42B34-FD19-4B19-8D8C-FACA9E2B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C2224-FF91-47DF-985B-2027E092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3DEBB-5631-4E71-AAD9-81294EA0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5A883-27C7-45A0-BCE1-0441C67C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4A641-C222-43EB-8163-66530261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94557-4DBC-4243-A0DC-29AB787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C7A3B-ECDF-42C7-B3C9-EEC967E6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24AB4-1435-427D-9094-2157E6A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656B-5B97-4BFE-BF8D-85F633C3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DA5B5-B549-47CF-92F3-34CB5613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B298D-56E5-4CA0-AA86-880A6316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470C5-E05B-4BDF-96FD-32256852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FDE580-74A0-40B1-9F3B-2DAC3852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50459-9BB4-42B7-B6DF-C96247B2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6B77C-F051-403C-8566-CCEF1DFB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89CD1-756D-4F49-8E89-E855DDA8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DEA11-8E85-4376-8699-D7D885C8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BD94E-662E-4685-980E-29E1DA0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11AE9-A779-416A-A47F-666AC007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6D8-DFCB-4E18-AFA6-37FE1EA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D4BC-572F-4F5E-B321-25C5B55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D6AE3-D03E-49D9-A27C-6B4CCAA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F09AB-3138-43F6-869D-27ADC5EB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221C2-6C7A-4A39-AFAA-B38A185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85FDF-7F69-49E0-A107-097BC0ED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EBDDA-65BE-42B0-92AB-9AEFF4B2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91AE7-0D9B-4586-8CFE-B73468E0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B20BA-8A86-4A02-AFF4-54730646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FBDB9-2DB9-4E3D-9E0E-C2914A3E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A51E3-93BF-43F0-998E-12695495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AA2BA-E14A-4B68-A8DA-3A9C0EE0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5FBD-E1E9-4893-A231-EC3B7BD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72765-3BBD-49AF-BD0A-4C06F19D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0088F-B6C8-4818-A042-93FD0AF1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B9A10-8238-4F0F-8C77-4EFF1D3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2497F9-9CBE-43BC-BCBF-892EB0E9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96FEE-CF83-474B-A087-3C143C71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BEAAD-5FAD-4380-9C1E-246DEB89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ACC35-BF7B-4682-9A04-879E0921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4CAA20-D1E5-4F40-8735-08A6C6F7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96DA8-99A5-4AFD-98F7-91EAD96A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6D7A0-1F68-4DA2-94DF-6C5051E9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6CA6-0750-4A07-B47B-240A97BD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C2548-E6F8-4785-8F60-1758BB1F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3D9704-5142-4D7A-8FD4-995986EB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52FB71-0449-4F6C-B1DE-861820CA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91F07-FE5D-45B2-AD3D-40337868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97E90-7F18-4BE2-993E-1743D33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E5EDD-41F7-49FB-9506-A2DF2BC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53698-2B2F-45E6-86A7-A9E0A81C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18E5A-69F0-48ED-AD43-9C5FBBF7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7AEE9-E92F-4F04-AAFA-C51054A3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13799E-64BC-4BBF-8AB5-30EF0E74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668B-6E1F-47CE-8D51-96166C0B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DAE23-1A26-44C2-A622-54549AD0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FE59E-5F40-4260-BCF1-D1A760A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1AAEB-01BF-437B-86F3-6ED44BC2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E5F3F-89CB-44BA-A3ED-6BCC0CA9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72311-3514-4B1B-9353-0A65A5BE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2F8E0-16FB-4A0C-9952-1664ECA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A72F0-F853-4995-9252-92BA56DB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4ED911-16C5-4E64-A8A9-1C40DA92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6606EA-15F0-4FE2-B165-64E9038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A3322-6BF9-4278-9464-8ABE77FB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C670-2529-4B41-881A-03016B2F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71AE8-791A-4C6D-84ED-D57F4034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6CE1E8-1965-40EE-9E77-B081E861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3D2B9-1FC0-4FEC-99B7-3C73965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F40FE-4BFF-468A-A6F8-55BF0646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BFF07C-890D-462E-B1A0-589B69C9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32751-A07A-4B21-8656-73081405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30AE0-2688-4252-9D02-59038816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8B9E1-8005-442C-BA8E-F689DBB2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0EF0DB-2B07-47EE-9358-2C069DD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A3138-74C5-4E8A-82C7-0441D853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DBA7-9474-4D28-BB51-13A29455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FB743-3C3D-4543-95D5-EC3BC33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CE00AD-3958-4531-93EB-02589B86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FDE7F7-4612-4269-9D89-4EDFDC6D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22FFCF-BBCB-4C79-8936-BBF733CC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48A90B-6A44-46C5-B1B3-4B5975DB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2F3EFE-1608-416B-8823-FCF026D6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0C0D7F-67C0-4379-87B3-7A74DF25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4303C7-9D95-4986-903A-8666F373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BBC21-298B-4AED-B2CE-2B3D5F89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EF6554-ED85-4AF9-A3C4-CE0AFD5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E0EC0-0384-4FF1-A058-D460CE5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034682-B78F-4F3B-8674-8CE9DCD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9D9C6E-66A0-44EB-BB7A-7A553387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7CEF98-6A1E-495A-BB95-7CC5B388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208F4-12CA-4BCB-B53A-E3390ADC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E6D216-83BC-4596-893D-B6CE9EA8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035CF3-C4F2-41B5-BABA-8B13BB29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4F773D-E315-4A83-A8E6-073A4339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A3E0D1-101C-4B4C-9E33-2FFB1EE9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D65D9-FC19-4F99-AD6A-990125DB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99587D-A95F-437E-9918-F7460523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C164-C6EB-473B-80EA-ED2804E2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7F4D62-784B-4957-B10C-8BDE2BD6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F89A9-D168-4D44-86BE-E447542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49E04-87AC-4180-B024-4E4708AD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CE393E-0C84-4BC8-9CF3-1DDAC6B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1C5B82-FDDD-4D6B-9B95-7541FAB9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B66F4A-76A2-42BF-950F-4B4EEE10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5E6801-0851-4418-A63C-9A7218F5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A324F0-360D-4AF8-A225-73AF642D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02FCDA-CF03-4613-84D3-F22BCD69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BCE9E0-BCEF-4D99-9463-AC99D2E4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12F1-AEDF-4A98-9CF9-4541E220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8F7199-21F5-4BC0-A22D-A874FD0D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5F9F83-83AD-4781-B5FC-A8D7186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FE9224-FA99-42C1-B6FD-75F5731D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746AF2-6735-4B5D-B576-3F401420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191CEF-0D81-4865-A56C-DE2073B2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B9B538-24C7-4940-8BE9-6AFD1CD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8E1BB-5B3B-47F3-B37F-0680020B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FF8CC1-2362-4286-BE6D-0C86D92D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C4D35A-7E5B-4438-B421-7CC8D75D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9210DA-6AB8-40B7-B482-7E533650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D215-DFBB-45A6-8E0E-1CC0679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D1ED50-8267-4CB7-A3DB-35A288FA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9CBC8F-20AB-4219-B047-2B469BFA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89865E-DD22-41BF-B0A5-7F2C7FB7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54A816-3BC5-437D-A6A2-C96CE246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AEE877-0104-47C6-9EBE-4EA00145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130792-3CE5-4E8B-8A65-F1DF326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A41572-5D79-4EA1-9C3B-7482396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DE1726-FE2F-4307-850E-4768E52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A6F014-A69B-40B5-8E85-CF2542C8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63FE2B-1260-4B27-A2AF-1280CD4C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DEC-4353-47EE-9877-61ED1232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90B1-48B1-4AA4-AA32-76A6F4DA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92AD9B-56F3-40B4-890D-4A283ADE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DBEA39-E02E-4A68-BEE0-564175B9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7EE22B-61BD-4CC4-9571-0D6E1EDF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4E8B39-A95F-45C4-8F68-1EBB5760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08CB8A-D344-4108-ADB9-047091E6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BB0A5E-0F4E-46FC-9C0C-F1F661D8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14E458-44E7-4237-80A6-D8965826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224698-633D-4BE6-A5F3-0B04055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4D8656-8B7F-4335-8C2D-9BE15449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FFBFEF-13F5-4B5E-9E4B-45AE7F4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9A8D-5E4D-4B14-9AA4-667129F3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5350EC-2943-433B-AA14-B2F2CF8A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49E558-65D2-4CDE-B88E-40EBB1F0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0B5317-FE03-4BDB-BB76-18D42B43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93C3-A833-4B37-9F39-606180E6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4427-2C02-43AB-B566-CBB8B8C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C6CB-2636-4B75-A24F-4357E3ED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3C14-ABF9-4C44-912D-2D60E55B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32EB-5612-4980-A6B6-41175B94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FB1A0-CD77-4AC4-8207-8F0723BC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49CE0-B1CE-4C72-A812-1AC8196A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05A7-1814-4D51-AFA3-E64FC496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4A6-EB5F-4B3E-ACDE-19692D6D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DFE4-3CFA-4D08-948E-627F988B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1DBBD-4B96-4C8C-BBEA-117959CB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EB94-54A2-485F-A4C5-54380056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F27BB-6748-43F6-B82D-5AE3FA73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77AAC-50DD-4F75-87C3-D23531D3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7B92-387A-4D29-A5AF-45A17390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C99E-AF5A-4DC8-9F8A-94136635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24CD-74B7-4B44-AB53-1818E9AD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DBE6-9205-4D91-93F9-B7216E65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8DA23-DBB9-46E9-910F-8B88FF9A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3B3-8474-4194-A559-75207F1F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CB91-4123-4139-8BA7-6355260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5C82D-9F99-4D18-AD26-7D524ABC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0997B-0A44-4369-9D73-FE7E31CE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A096-FD47-40E9-A2C1-563B5A7E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F9933-85EE-4C20-93DA-07817588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EC0E-577C-4618-9871-5DDC5F83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3AB49-F67B-47AD-8FBE-25189C5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094D-C860-48D2-A3DB-8F9EA221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5559-C158-49A7-B147-457E29D6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55532-9A0A-4F74-AD95-4EAE643F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2E7-38B0-4D77-AC64-C7E3035A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D6B45-D2C3-4818-BCF5-0336E9A6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DC70-0910-4C72-AE11-C932C745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06941-4E87-4BCD-94C8-95885C70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03CC9-7073-4F82-B10E-DB4537ED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2E2BA-495D-41F6-82E4-EE2BB902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8F6A5-8FDE-48CD-99B8-8B416B99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A9316-3325-43BA-B217-F1795BD6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0B2C6-CDE4-4366-A400-7D7106D8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F73D-D8FA-4421-B789-1994A38E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D428F-8D8B-435D-BADE-6A165918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A33-84B1-4B2D-9D74-5F50B65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9FDBC-6C84-415A-A771-5B613927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C2C5C-E5AF-4CA4-88DD-29BAD331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2D344-F5BC-4988-AD5C-569F3E27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CE0EB-556A-42CB-8996-55F5E0AC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B6DCE-F3E3-4146-B87C-296DAD06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FBB6-69AA-48A1-AA8E-0090EE73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A70CC-909F-4758-B8FB-4079EB79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2635D-CB11-4009-AC8B-8DF38C10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FDF09-0143-4367-86CF-DE673EFA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02763-0B08-405F-915E-66782B2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7DD-46AB-47F2-9774-50425CB6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4265-2C42-4D8A-AB8D-37361E4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A03E4-10B7-4D8B-B495-1D46F256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1D27C-DB9F-4E4F-BB2A-24DF391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2B068-54AA-4C4D-89B0-BF520C7A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82D12-55E4-4068-88DB-FA711CA0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18E4A-B524-4C74-ACD0-DA87EE8A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5EF5F-26DE-4FC9-97F2-FB4818A4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08A64-51D3-42D9-ABE8-C0CA7641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0E71D-6B82-45FF-B083-CD0C5C50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57A73-8C21-4B33-9250-96E14AFE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2B2-C5B0-42EE-9021-A1E9256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2099-3C80-4E68-B476-BC0010E8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0392-6902-46D7-B470-DDBCAA17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CCFE7-B528-490B-A410-FE867563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A7A5B-4204-4C6B-A564-27B32DFE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70F02-EE5B-4316-883E-F5151C30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10DC7-BAFF-4533-80F8-75BEFDCE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FB7FD-3130-4351-8BB0-E9FB2951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54A99-3E1C-499D-88B7-A8FECFF3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17299-C28F-4D42-B645-D9176421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8BC30-E90C-4632-B4EE-5FDDFAAE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DF99-EF92-4DE6-82C1-4DB83830C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 rot="16200000">
            <a:off x="-518760" y="5394240"/>
            <a:ext cx="12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WTO - OMC 200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08EB-66E6-4CA7-A709-653E6DD2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D9B3-7AE6-4494-A02E-43C8195B4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73AD-821A-433D-800D-30C0EB38D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8AD2-B148-448F-89FF-D77BE200F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B6DD-B096-4A1A-B99D-0472EE92D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2D23-D505-4C85-A396-BD6906193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2267-8815-46A6-B8BF-8FA824D34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B623-73A9-4010-B15F-97BE35A16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5362-15E8-4065-B417-7E987A87E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7A08-5D35-4550-A77B-CE4725235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C7E9-9B92-4EDC-91F4-3921A91F8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 rot="16200000">
            <a:off x="-442800" y="5317920"/>
            <a:ext cx="128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WTO - OMC 200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F267-F586-496B-9889-80A9C3C54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981C-4F3C-441E-94D8-28DC8BDE1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75DD-687D-48F6-BF43-ACFF1AF22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E623-8B49-40DD-80C1-4FF306221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FBC6-2492-4083-866F-45C9E422B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1C6A-444F-4819-8DB8-4F3D549F6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B199-B100-4C26-85EC-97DE75163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55A3-3BB1-4639-9DC7-717E62B67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0FB3-797A-418F-88D1-E91211039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C813-CDE1-4D75-8855-2C96CF9F5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8F54-5D15-443D-99FC-1D38B3CE6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E99F-3B70-429F-9188-1454163D5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7217-0B16-4877-A7C4-54B89889E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A044-D083-4413-A475-81D1B0883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97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97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97.xml"/><Relationship Id="rId1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slideLayout" Target="../slideLayouts/slideLayout97.xml"/><Relationship Id="rId3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1500120" y="50004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ploma en Estrategia Internaciona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 Política Comer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6" name="Object 4"/>
          <p:cNvGraphicFramePr/>
          <p:nvPr/>
        </p:nvGraphicFramePr>
        <p:xfrm>
          <a:off x="6786720" y="2857680"/>
          <a:ext cx="201456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6720" y="2857680"/>
                    <a:ext cx="20145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Rectangle 5"/>
          <p:cNvSpPr/>
          <p:nvPr/>
        </p:nvSpPr>
        <p:spPr>
          <a:xfrm>
            <a:off x="0" y="185724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Principios Básicos del Sistema del GATT/OMC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4214880" y="62118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Instituto de Formación y Cooperación Técnica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TO – OMC. 2005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Picture 6" descr="logo estrategia 09.jpg"/>
          <p:cNvPicPr/>
          <p:nvPr/>
        </p:nvPicPr>
        <p:blipFill>
          <a:blip r:embed="rId3"/>
          <a:stretch/>
        </p:blipFill>
        <p:spPr>
          <a:xfrm>
            <a:off x="285840" y="214200"/>
            <a:ext cx="1179360" cy="1576440"/>
          </a:xfrm>
          <a:prstGeom prst="rect">
            <a:avLst/>
          </a:prstGeom>
          <a:ln w="0">
            <a:noFill/>
          </a:ln>
        </p:spPr>
      </p:pic>
      <p:sp>
        <p:nvSpPr>
          <p:cNvPr id="1081" name="TextBox 7"/>
          <p:cNvSpPr/>
          <p:nvPr/>
        </p:nvSpPr>
        <p:spPr>
          <a:xfrm>
            <a:off x="571680" y="4214880"/>
            <a:ext cx="6357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orotea López 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5 de julio de 200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2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b2b2b2"/>
                </a:solidFill>
                <a:latin typeface="Arial"/>
              </a:rPr>
              <a:t>OMC: Normas y disciplinas comerci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8" name="Group 5"/>
          <p:cNvGrpSpPr/>
          <p:nvPr/>
        </p:nvGrpSpPr>
        <p:grpSpPr>
          <a:xfrm>
            <a:off x="533520" y="2743200"/>
            <a:ext cx="1284120" cy="1828800"/>
            <a:chOff x="533520" y="2743200"/>
            <a:chExt cx="1284120" cy="1828800"/>
          </a:xfrm>
        </p:grpSpPr>
        <p:sp>
          <p:nvSpPr>
            <p:cNvPr id="1379" name="AutoShape 6"/>
            <p:cNvSpPr/>
            <p:nvPr/>
          </p:nvSpPr>
          <p:spPr>
            <a:xfrm>
              <a:off x="5335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Text Box 7"/>
            <p:cNvSpPr/>
            <p:nvPr/>
          </p:nvSpPr>
          <p:spPr>
            <a:xfrm>
              <a:off x="685800" y="2879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1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Text Box 8"/>
            <p:cNvSpPr/>
            <p:nvPr/>
          </p:nvSpPr>
          <p:spPr>
            <a:xfrm>
              <a:off x="609840" y="3276720"/>
              <a:ext cx="11430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cuerdos Multilaterales sobre el Comercio de Mercancí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Group 9"/>
          <p:cNvGrpSpPr/>
          <p:nvPr/>
        </p:nvGrpSpPr>
        <p:grpSpPr>
          <a:xfrm>
            <a:off x="1905120" y="2743200"/>
            <a:ext cx="1284120" cy="1828800"/>
            <a:chOff x="1905120" y="2743200"/>
            <a:chExt cx="1284120" cy="1828800"/>
          </a:xfrm>
        </p:grpSpPr>
        <p:sp>
          <p:nvSpPr>
            <p:cNvPr id="1383" name="AutoShape 10"/>
            <p:cNvSpPr/>
            <p:nvPr/>
          </p:nvSpPr>
          <p:spPr>
            <a:xfrm>
              <a:off x="19051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Text Box 11"/>
            <p:cNvSpPr/>
            <p:nvPr/>
          </p:nvSpPr>
          <p:spPr>
            <a:xfrm>
              <a:off x="2057400" y="2879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1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Text Box 12"/>
            <p:cNvSpPr/>
            <p:nvPr/>
          </p:nvSpPr>
          <p:spPr>
            <a:xfrm>
              <a:off x="1981440" y="327672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G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Group 13"/>
          <p:cNvGrpSpPr/>
          <p:nvPr/>
        </p:nvGrpSpPr>
        <p:grpSpPr>
          <a:xfrm>
            <a:off x="3276720" y="2743200"/>
            <a:ext cx="1284120" cy="1828800"/>
            <a:chOff x="3276720" y="2743200"/>
            <a:chExt cx="1284120" cy="1828800"/>
          </a:xfrm>
        </p:grpSpPr>
        <p:sp>
          <p:nvSpPr>
            <p:cNvPr id="1387" name="AutoShape 14"/>
            <p:cNvSpPr/>
            <p:nvPr/>
          </p:nvSpPr>
          <p:spPr>
            <a:xfrm>
              <a:off x="32767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Text Box 15"/>
            <p:cNvSpPr/>
            <p:nvPr/>
          </p:nvSpPr>
          <p:spPr>
            <a:xfrm>
              <a:off x="3429000" y="2879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1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Text Box 16"/>
            <p:cNvSpPr/>
            <p:nvPr/>
          </p:nvSpPr>
          <p:spPr>
            <a:xfrm>
              <a:off x="3353040" y="327672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DPIC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Group 17"/>
          <p:cNvGrpSpPr/>
          <p:nvPr/>
        </p:nvGrpSpPr>
        <p:grpSpPr>
          <a:xfrm>
            <a:off x="4648320" y="2743200"/>
            <a:ext cx="1284120" cy="1828800"/>
            <a:chOff x="4648320" y="2743200"/>
            <a:chExt cx="1284120" cy="1828800"/>
          </a:xfrm>
        </p:grpSpPr>
        <p:sp>
          <p:nvSpPr>
            <p:cNvPr id="1391" name="AutoShape 18"/>
            <p:cNvSpPr/>
            <p:nvPr/>
          </p:nvSpPr>
          <p:spPr>
            <a:xfrm>
              <a:off x="46483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19"/>
            <p:cNvSpPr/>
            <p:nvPr/>
          </p:nvSpPr>
          <p:spPr>
            <a:xfrm>
              <a:off x="4800600" y="288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20"/>
            <p:cNvSpPr/>
            <p:nvPr/>
          </p:nvSpPr>
          <p:spPr>
            <a:xfrm>
              <a:off x="4724280" y="327672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ntendimiento sobre Solución de Diferenci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Group 21"/>
          <p:cNvGrpSpPr/>
          <p:nvPr/>
        </p:nvGrpSpPr>
        <p:grpSpPr>
          <a:xfrm>
            <a:off x="6019920" y="2743200"/>
            <a:ext cx="1284120" cy="1828800"/>
            <a:chOff x="6019920" y="2743200"/>
            <a:chExt cx="1284120" cy="1828800"/>
          </a:xfrm>
        </p:grpSpPr>
        <p:sp>
          <p:nvSpPr>
            <p:cNvPr id="1395" name="AutoShape 22"/>
            <p:cNvSpPr/>
            <p:nvPr/>
          </p:nvSpPr>
          <p:spPr>
            <a:xfrm>
              <a:off x="60199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23"/>
            <p:cNvSpPr/>
            <p:nvPr/>
          </p:nvSpPr>
          <p:spPr>
            <a:xfrm>
              <a:off x="6172200" y="288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24"/>
            <p:cNvSpPr/>
            <p:nvPr/>
          </p:nvSpPr>
          <p:spPr>
            <a:xfrm>
              <a:off x="6095880" y="3276720"/>
              <a:ext cx="1143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Mecanismo de Examen de las Políticas Comercia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Group 25"/>
          <p:cNvGrpSpPr/>
          <p:nvPr/>
        </p:nvGrpSpPr>
        <p:grpSpPr>
          <a:xfrm>
            <a:off x="7391520" y="2743200"/>
            <a:ext cx="1284120" cy="1828800"/>
            <a:chOff x="7391520" y="2743200"/>
            <a:chExt cx="1284120" cy="1828800"/>
          </a:xfrm>
        </p:grpSpPr>
        <p:sp>
          <p:nvSpPr>
            <p:cNvPr id="1399" name="AutoShape 26"/>
            <p:cNvSpPr/>
            <p:nvPr/>
          </p:nvSpPr>
          <p:spPr>
            <a:xfrm>
              <a:off x="73915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27"/>
            <p:cNvSpPr/>
            <p:nvPr/>
          </p:nvSpPr>
          <p:spPr>
            <a:xfrm>
              <a:off x="7543800" y="288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28"/>
            <p:cNvSpPr/>
            <p:nvPr/>
          </p:nvSpPr>
          <p:spPr>
            <a:xfrm>
              <a:off x="7467480" y="327672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cuerdos comerciales plurilatera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2" name="Group 29"/>
          <p:cNvGrpSpPr/>
          <p:nvPr/>
        </p:nvGrpSpPr>
        <p:grpSpPr>
          <a:xfrm>
            <a:off x="3962520" y="685800"/>
            <a:ext cx="1447200" cy="1828800"/>
            <a:chOff x="3962520" y="685800"/>
            <a:chExt cx="1447200" cy="1828800"/>
          </a:xfrm>
        </p:grpSpPr>
        <p:sp>
          <p:nvSpPr>
            <p:cNvPr id="1403" name="Rectangle 30"/>
            <p:cNvSpPr/>
            <p:nvPr/>
          </p:nvSpPr>
          <p:spPr>
            <a:xfrm>
              <a:off x="4098960" y="685800"/>
              <a:ext cx="1310760" cy="1828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Rectangle 31"/>
            <p:cNvSpPr/>
            <p:nvPr/>
          </p:nvSpPr>
          <p:spPr>
            <a:xfrm>
              <a:off x="3962520" y="685800"/>
              <a:ext cx="136440" cy="1828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Oval 32"/>
            <p:cNvSpPr/>
            <p:nvPr/>
          </p:nvSpPr>
          <p:spPr>
            <a:xfrm>
              <a:off x="4016160" y="1025640"/>
              <a:ext cx="554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Oval 33"/>
            <p:cNvSpPr/>
            <p:nvPr/>
          </p:nvSpPr>
          <p:spPr>
            <a:xfrm>
              <a:off x="4016160" y="1992240"/>
              <a:ext cx="5544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34"/>
            <p:cNvSpPr/>
            <p:nvPr/>
          </p:nvSpPr>
          <p:spPr>
            <a:xfrm>
              <a:off x="4190760" y="1066680"/>
              <a:ext cx="114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WTO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Group 35"/>
          <p:cNvGrpSpPr/>
          <p:nvPr/>
        </p:nvGrpSpPr>
        <p:grpSpPr>
          <a:xfrm>
            <a:off x="533520" y="685800"/>
            <a:ext cx="8229600" cy="5168880"/>
            <a:chOff x="533520" y="685800"/>
            <a:chExt cx="8229600" cy="5168880"/>
          </a:xfrm>
        </p:grpSpPr>
        <p:sp>
          <p:nvSpPr>
            <p:cNvPr id="1409" name="Text Box 36"/>
            <p:cNvSpPr/>
            <p:nvPr/>
          </p:nvSpPr>
          <p:spPr>
            <a:xfrm>
              <a:off x="533520" y="5029200"/>
              <a:ext cx="8229600" cy="8254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cuerdo de Marrakech por el que se establece la Organización Mundial del Comercio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0" name="Group 37"/>
            <p:cNvGrpSpPr/>
            <p:nvPr/>
          </p:nvGrpSpPr>
          <p:grpSpPr>
            <a:xfrm>
              <a:off x="4114800" y="685800"/>
              <a:ext cx="1284120" cy="1828800"/>
              <a:chOff x="4114800" y="685800"/>
              <a:chExt cx="1284120" cy="1828800"/>
            </a:xfrm>
          </p:grpSpPr>
          <p:sp>
            <p:nvSpPr>
              <p:cNvPr id="1411" name="AutoShape 38"/>
              <p:cNvSpPr/>
              <p:nvPr/>
            </p:nvSpPr>
            <p:spPr>
              <a:xfrm>
                <a:off x="4114800" y="685800"/>
                <a:ext cx="1284120" cy="1828800"/>
              </a:xfrm>
              <a:prstGeom prst="foldedCorner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Text Box 39"/>
              <p:cNvSpPr/>
              <p:nvPr/>
            </p:nvSpPr>
            <p:spPr>
              <a:xfrm>
                <a:off x="4267080" y="822600"/>
                <a:ext cx="990720" cy="45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Arial Black"/>
                  </a:rPr>
                  <a:t>OM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Text Box 40"/>
              <p:cNvSpPr/>
              <p:nvPr/>
            </p:nvSpPr>
            <p:spPr>
              <a:xfrm>
                <a:off x="4190760" y="1219320"/>
                <a:ext cx="1143000" cy="45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Text Box 2"/>
          <p:cNvSpPr/>
          <p:nvPr/>
        </p:nvSpPr>
        <p:spPr>
          <a:xfrm>
            <a:off x="1981080" y="1981080"/>
            <a:ext cx="38102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ntendimient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3"/>
          <p:cNvSpPr/>
          <p:nvPr/>
        </p:nvSpPr>
        <p:spPr>
          <a:xfrm>
            <a:off x="1981080" y="2514600"/>
            <a:ext cx="71629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cuerdos sobr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"/>
          <p:cNvSpPr/>
          <p:nvPr/>
        </p:nvSpPr>
        <p:spPr>
          <a:xfrm>
            <a:off x="1981080" y="29718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gricultur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1981080" y="3581280"/>
            <a:ext cx="34290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didas Sanitarias y fitosanitari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6"/>
          <p:cNvSpPr/>
          <p:nvPr/>
        </p:nvSpPr>
        <p:spPr>
          <a:xfrm>
            <a:off x="1981080" y="449568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xtiles y vesti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7"/>
          <p:cNvSpPr/>
          <p:nvPr/>
        </p:nvSpPr>
        <p:spPr>
          <a:xfrm>
            <a:off x="1981080" y="50292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Barreras técnicas al comerc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8"/>
          <p:cNvSpPr/>
          <p:nvPr/>
        </p:nvSpPr>
        <p:spPr>
          <a:xfrm>
            <a:off x="1981080" y="5589720"/>
            <a:ext cx="3429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edidas en materia de inversiones relacionadas con el comercio (MIC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9"/>
          <p:cNvSpPr/>
          <p:nvPr/>
        </p:nvSpPr>
        <p:spPr>
          <a:xfrm>
            <a:off x="5715000" y="29718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tidump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10"/>
          <p:cNvSpPr/>
          <p:nvPr/>
        </p:nvSpPr>
        <p:spPr>
          <a:xfrm>
            <a:off x="5715000" y="350532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Valoración en aduan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11"/>
          <p:cNvSpPr/>
          <p:nvPr/>
        </p:nvSpPr>
        <p:spPr>
          <a:xfrm>
            <a:off x="5715000" y="4038480"/>
            <a:ext cx="3429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Inspección previa a la expedició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12"/>
          <p:cNvSpPr/>
          <p:nvPr/>
        </p:nvSpPr>
        <p:spPr>
          <a:xfrm>
            <a:off x="5715000" y="45720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glas de Orig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13"/>
          <p:cNvSpPr/>
          <p:nvPr/>
        </p:nvSpPr>
        <p:spPr>
          <a:xfrm>
            <a:off x="5715000" y="5105520"/>
            <a:ext cx="3429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rámite de licencias de importació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14"/>
          <p:cNvSpPr/>
          <p:nvPr/>
        </p:nvSpPr>
        <p:spPr>
          <a:xfrm>
            <a:off x="5715000" y="5638680"/>
            <a:ext cx="34290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bvenciones y medidas compensatoria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15"/>
          <p:cNvSpPr/>
          <p:nvPr/>
        </p:nvSpPr>
        <p:spPr>
          <a:xfrm>
            <a:off x="6019920" y="1981080"/>
            <a:ext cx="31240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tocolo de Marrake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16"/>
          <p:cNvSpPr/>
          <p:nvPr/>
        </p:nvSpPr>
        <p:spPr>
          <a:xfrm>
            <a:off x="5715000" y="646128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alvaguardi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1979640" y="1523880"/>
            <a:ext cx="7164360" cy="67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GATT 1994  </a:t>
            </a:r>
            <a:r>
              <a:rPr b="1" lang="fr-FR" sz="19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s-ES" sz="1900" spc="-1" strike="noStrike">
                <a:solidFill>
                  <a:srgbClr val="000000"/>
                </a:solidFill>
                <a:latin typeface="Arial Narrow"/>
              </a:rPr>
              <a:t>Acuerdo General sobre Aranceles Aduaneros y Comercio</a:t>
            </a:r>
            <a:r>
              <a:rPr b="1" lang="fr-FR" sz="19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18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19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OMC: Normas y disciplinas comerciale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Group 20"/>
          <p:cNvGrpSpPr/>
          <p:nvPr/>
        </p:nvGrpSpPr>
        <p:grpSpPr>
          <a:xfrm>
            <a:off x="380880" y="2666880"/>
            <a:ext cx="1284120" cy="1828800"/>
            <a:chOff x="380880" y="2666880"/>
            <a:chExt cx="1284120" cy="1828800"/>
          </a:xfrm>
        </p:grpSpPr>
        <p:sp>
          <p:nvSpPr>
            <p:cNvPr id="1433" name="AutoShape 21"/>
            <p:cNvSpPr/>
            <p:nvPr/>
          </p:nvSpPr>
          <p:spPr>
            <a:xfrm>
              <a:off x="380880" y="266688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22"/>
            <p:cNvSpPr/>
            <p:nvPr/>
          </p:nvSpPr>
          <p:spPr>
            <a:xfrm>
              <a:off x="533160" y="2803320"/>
              <a:ext cx="99072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 Black"/>
                </a:rPr>
                <a:t>1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Text Box 23"/>
            <p:cNvSpPr/>
            <p:nvPr/>
          </p:nvSpPr>
          <p:spPr>
            <a:xfrm>
              <a:off x="457200" y="3200400"/>
              <a:ext cx="1143000" cy="855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cuerdos Multilaterales sobre el Comercio de Mercancí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6" name="Text Box 24"/>
          <p:cNvSpPr/>
          <p:nvPr/>
        </p:nvSpPr>
        <p:spPr>
          <a:xfrm>
            <a:off x="0" y="457200"/>
            <a:ext cx="91440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ff"/>
                </a:solidFill>
                <a:latin typeface="Arial"/>
              </a:rPr>
              <a:t>Anexo 1A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uerdos Multilaterales sobre el Comercio de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Mercancí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25"/>
          <p:cNvSpPr/>
          <p:nvPr/>
        </p:nvSpPr>
        <p:spPr>
          <a:xfrm>
            <a:off x="0" y="4724280"/>
            <a:ext cx="1981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rcancí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Text Box 2"/>
          <p:cNvSpPr/>
          <p:nvPr/>
        </p:nvSpPr>
        <p:spPr>
          <a:xfrm>
            <a:off x="0" y="1916280"/>
            <a:ext cx="4329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 OMC como organizació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9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1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2"/>
          <p:cNvSpPr/>
          <p:nvPr/>
        </p:nvSpPr>
        <p:spPr>
          <a:xfrm>
            <a:off x="663480" y="1590840"/>
            <a:ext cx="832500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rigida por los Miembros (15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isiones por consens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principi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ferentes tipos de reuni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les, Informales, Sesiones Especiales, Consultas, Multi- / Pluri- / Bilater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Órganos abiertos a todos los Miembr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ciones de la OM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610920" y="126828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 los acuerdos comerciales de la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o para negociacione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ta de resolver las diferencia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ervisa las políticas comerciales 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istencia técnica y cursos de formación para los países en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peración con otras organizaciones internacionales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2"/>
          <p:cNvSpPr/>
          <p:nvPr/>
        </p:nvSpPr>
        <p:spPr>
          <a:xfrm>
            <a:off x="744480" y="1981080"/>
            <a:ext cx="805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ersonería jurídica propi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630 funcionari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esupuesto: US$ 130 millones aprox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ede en Gineb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ecretariado independient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2"/>
          <p:cNvSpPr/>
          <p:nvPr/>
        </p:nvSpPr>
        <p:spPr>
          <a:xfrm>
            <a:off x="609480" y="-15228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structura de 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Group 3"/>
          <p:cNvGrpSpPr/>
          <p:nvPr/>
        </p:nvGrpSpPr>
        <p:grpSpPr>
          <a:xfrm>
            <a:off x="2235240" y="1295280"/>
            <a:ext cx="4132080" cy="3429000"/>
            <a:chOff x="2235240" y="1295280"/>
            <a:chExt cx="4132080" cy="3429000"/>
          </a:xfrm>
        </p:grpSpPr>
        <p:sp>
          <p:nvSpPr>
            <p:cNvPr id="1451" name="Line 4"/>
            <p:cNvSpPr/>
            <p:nvPr/>
          </p:nvSpPr>
          <p:spPr>
            <a:xfrm>
              <a:off x="2235240" y="2666880"/>
              <a:ext cx="41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5"/>
            <p:cNvSpPr/>
            <p:nvPr/>
          </p:nvSpPr>
          <p:spPr>
            <a:xfrm>
              <a:off x="2235240" y="2666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6"/>
            <p:cNvSpPr/>
            <p:nvPr/>
          </p:nvSpPr>
          <p:spPr>
            <a:xfrm>
              <a:off x="3386520" y="26668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7"/>
            <p:cNvSpPr/>
            <p:nvPr/>
          </p:nvSpPr>
          <p:spPr>
            <a:xfrm>
              <a:off x="4402440" y="2666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8"/>
            <p:cNvSpPr/>
            <p:nvPr/>
          </p:nvSpPr>
          <p:spPr>
            <a:xfrm>
              <a:off x="6367320" y="266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9"/>
            <p:cNvSpPr/>
            <p:nvPr/>
          </p:nvSpPr>
          <p:spPr>
            <a:xfrm>
              <a:off x="4064040" y="1295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Line 10"/>
          <p:cNvSpPr/>
          <p:nvPr/>
        </p:nvSpPr>
        <p:spPr>
          <a:xfrm>
            <a:off x="2303640" y="2057400"/>
            <a:ext cx="35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1"/>
          <p:cNvSpPr/>
          <p:nvPr/>
        </p:nvSpPr>
        <p:spPr>
          <a:xfrm>
            <a:off x="1557360" y="914400"/>
            <a:ext cx="487692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ferencia Ministerial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2"/>
          <p:cNvSpPr/>
          <p:nvPr/>
        </p:nvSpPr>
        <p:spPr>
          <a:xfrm>
            <a:off x="812880" y="6186600"/>
            <a:ext cx="212256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Secretarí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3"/>
          <p:cNvSpPr/>
          <p:nvPr/>
        </p:nvSpPr>
        <p:spPr>
          <a:xfrm>
            <a:off x="6635880" y="1052640"/>
            <a:ext cx="1492200" cy="1054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Organo de Apelación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4"/>
          <p:cNvSpPr/>
          <p:nvPr/>
        </p:nvSpPr>
        <p:spPr>
          <a:xfrm>
            <a:off x="6635880" y="2178000"/>
            <a:ext cx="168120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Grupos Especiale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5"/>
          <p:cNvSpPr/>
          <p:nvPr/>
        </p:nvSpPr>
        <p:spPr>
          <a:xfrm>
            <a:off x="1490760" y="3930480"/>
            <a:ext cx="162396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mité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16"/>
          <p:cNvSpPr/>
          <p:nvPr/>
        </p:nvSpPr>
        <p:spPr>
          <a:xfrm>
            <a:off x="3564000" y="4005360"/>
            <a:ext cx="162396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mité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17"/>
          <p:cNvSpPr/>
          <p:nvPr/>
        </p:nvSpPr>
        <p:spPr>
          <a:xfrm>
            <a:off x="1353960" y="3032280"/>
            <a:ext cx="189576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de Mercancía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18"/>
          <p:cNvSpPr/>
          <p:nvPr/>
        </p:nvSpPr>
        <p:spPr>
          <a:xfrm>
            <a:off x="3589200" y="2852640"/>
            <a:ext cx="162576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de Servicio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19"/>
          <p:cNvSpPr/>
          <p:nvPr/>
        </p:nvSpPr>
        <p:spPr>
          <a:xfrm>
            <a:off x="2573280" y="4572000"/>
            <a:ext cx="162576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ADPIC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0"/>
          <p:cNvSpPr/>
          <p:nvPr/>
        </p:nvSpPr>
        <p:spPr>
          <a:xfrm>
            <a:off x="5340240" y="3068640"/>
            <a:ext cx="2830680" cy="3431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CD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desarroll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CMA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medio ambient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AR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regionalism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BP (Balanza pagos)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GT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inversione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competenci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transparencia – contratación públic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dhesion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Presupuest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1"/>
          <p:cNvSpPr/>
          <p:nvPr/>
        </p:nvSpPr>
        <p:spPr>
          <a:xfrm>
            <a:off x="2438280" y="1849320"/>
            <a:ext cx="311652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General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2"/>
          <p:cNvSpPr/>
          <p:nvPr/>
        </p:nvSpPr>
        <p:spPr>
          <a:xfrm>
            <a:off x="1403280" y="1843200"/>
            <a:ext cx="96696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OEPC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3"/>
          <p:cNvSpPr/>
          <p:nvPr/>
        </p:nvSpPr>
        <p:spPr>
          <a:xfrm>
            <a:off x="5613480" y="1828800"/>
            <a:ext cx="86508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OSD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4"/>
          <p:cNvSpPr/>
          <p:nvPr/>
        </p:nvSpPr>
        <p:spPr>
          <a:xfrm>
            <a:off x="812880" y="5791320"/>
            <a:ext cx="212256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rector-Gener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ferencias Minister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utoridad máx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reúne, en principio, cada d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ngapu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emas de Singap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ineb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h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nzamiento Ronda de Doha para el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ncú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ineb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2"/>
          <p:cNvSpPr/>
          <p:nvPr/>
        </p:nvSpPr>
        <p:spPr>
          <a:xfrm>
            <a:off x="677880" y="1600200"/>
            <a:ext cx="7736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onsejo Gener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8040" indent="-42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deres de la Conferencia Ministerial (entre sus sesione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8040" indent="-42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ierto a todos los Miembr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8040" indent="-42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ones princip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076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 general de la OMC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076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Órgano de Solución de Diferenci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076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Órgano de Revisión de Políticas Comerci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2"/>
          <p:cNvSpPr/>
          <p:nvPr/>
        </p:nvSpPr>
        <p:spPr>
          <a:xfrm>
            <a:off x="826920" y="1413000"/>
            <a:ext cx="7788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jo de Mercancí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visa funcionamiento Anexo 1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Acuerdos de comercio de mercancías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jo de Servici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visa funcionamiento Anexo 1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Acuerdo General sobre el Comercio de Servicios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jo de ADPI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visa funcionamiento Anexo 1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Acuerdo sobre los Aspectos de los Derechos de Propiedad Intelectual Relacionados con el Comercio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2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Text Box 5"/>
          <p:cNvSpPr/>
          <p:nvPr/>
        </p:nvSpPr>
        <p:spPr>
          <a:xfrm>
            <a:off x="0" y="2133720"/>
            <a:ext cx="42148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istoria del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ATT / OM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2"/>
          <p:cNvSpPr/>
          <p:nvPr/>
        </p:nvSpPr>
        <p:spPr>
          <a:xfrm>
            <a:off x="666720" y="1590840"/>
            <a:ext cx="82566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structura “Ad hoc” de Negociaciones para la Ronda de Doh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ité de Negociaciones Comerci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Informa al Consejo General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Presidido por el Director-General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upos de negociación (ad hoc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siones Especiales” de órganos existen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Text Box 2"/>
          <p:cNvSpPr/>
          <p:nvPr/>
        </p:nvSpPr>
        <p:spPr>
          <a:xfrm>
            <a:off x="0" y="1916280"/>
            <a:ext cx="4329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incipios básicos de la OM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2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incipi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642960" y="2000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to de la nación más favoreci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I GATT 1947 – Art. II GAT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olidación de compromisos y arance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II GATT 1947 – Parte III y Art. XX GA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to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III GATT 1947 – Art. XVII GA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hibición de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XI GATT 194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rechos de los Miemb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p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XX GATT 194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vaguard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uerdos regionales de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XXIV GATT 1947, Art. V GATS, Claúsula de habilit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pciones por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XXI GATT 194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das Antidumping / Compensato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VI GATT 1947 y Acuerdo A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0" name="Object 2"/>
          <p:cNvGraphicFramePr/>
          <p:nvPr/>
        </p:nvGraphicFramePr>
        <p:xfrm>
          <a:off x="214200" y="785880"/>
          <a:ext cx="875052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785880"/>
                    <a:ext cx="8750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2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3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494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5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496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97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49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499" name="Group 9"/>
          <p:cNvGrpSpPr/>
          <p:nvPr/>
        </p:nvGrpSpPr>
        <p:grpSpPr>
          <a:xfrm>
            <a:off x="6553080" y="1219320"/>
            <a:ext cx="2362320" cy="3047760"/>
            <a:chOff x="6553080" y="1219320"/>
            <a:chExt cx="2362320" cy="3047760"/>
          </a:xfrm>
        </p:grpSpPr>
        <p:sp>
          <p:nvSpPr>
            <p:cNvPr id="1500" name="Line 10"/>
            <p:cNvSpPr/>
            <p:nvPr/>
          </p:nvSpPr>
          <p:spPr>
            <a:xfrm>
              <a:off x="8153280" y="3124080"/>
              <a:ext cx="0" cy="11430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1" name="Group 11"/>
            <p:cNvGrpSpPr/>
            <p:nvPr/>
          </p:nvGrpSpPr>
          <p:grpSpPr>
            <a:xfrm>
              <a:off x="6553080" y="1219320"/>
              <a:ext cx="2362320" cy="2057400"/>
              <a:chOff x="6553080" y="1219320"/>
              <a:chExt cx="2362320" cy="2057400"/>
            </a:xfrm>
          </p:grpSpPr>
          <p:sp>
            <p:nvSpPr>
              <p:cNvPr id="1502" name="Oval 12"/>
              <p:cNvSpPr/>
              <p:nvPr/>
            </p:nvSpPr>
            <p:spPr>
              <a:xfrm>
                <a:off x="6553080" y="1219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03" name="Object 13"/>
              <p:cNvGraphicFramePr/>
              <p:nvPr/>
            </p:nvGraphicFramePr>
            <p:xfrm>
              <a:off x="7010280" y="1600200"/>
              <a:ext cx="1447920" cy="1386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04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160020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05" name="Group 14"/>
          <p:cNvGrpSpPr/>
          <p:nvPr/>
        </p:nvGrpSpPr>
        <p:grpSpPr>
          <a:xfrm>
            <a:off x="3352680" y="4648320"/>
            <a:ext cx="3353040" cy="2057400"/>
            <a:chOff x="3352680" y="4648320"/>
            <a:chExt cx="3353040" cy="2057400"/>
          </a:xfrm>
        </p:grpSpPr>
        <p:sp>
          <p:nvSpPr>
            <p:cNvPr id="1506" name="Line 15"/>
            <p:cNvSpPr/>
            <p:nvPr/>
          </p:nvSpPr>
          <p:spPr>
            <a:xfrm flipV="1">
              <a:off x="5486400" y="5029200"/>
              <a:ext cx="1219320" cy="4572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7" name="Group 16"/>
            <p:cNvGrpSpPr/>
            <p:nvPr/>
          </p:nvGrpSpPr>
          <p:grpSpPr>
            <a:xfrm>
              <a:off x="3352680" y="4648320"/>
              <a:ext cx="2362320" cy="2057400"/>
              <a:chOff x="3352680" y="4648320"/>
              <a:chExt cx="2362320" cy="2057400"/>
            </a:xfrm>
          </p:grpSpPr>
          <p:sp>
            <p:nvSpPr>
              <p:cNvPr id="1508" name="Oval 17"/>
              <p:cNvSpPr/>
              <p:nvPr/>
            </p:nvSpPr>
            <p:spPr>
              <a:xfrm>
                <a:off x="3352680" y="4648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09" name="Object 18"/>
              <p:cNvGraphicFramePr/>
              <p:nvPr/>
            </p:nvGraphicFramePr>
            <p:xfrm>
              <a:off x="3809880" y="4952880"/>
              <a:ext cx="1447920" cy="1386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10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495288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11" name="Group 19"/>
          <p:cNvGrpSpPr/>
          <p:nvPr/>
        </p:nvGrpSpPr>
        <p:grpSpPr>
          <a:xfrm>
            <a:off x="250920" y="990720"/>
            <a:ext cx="3025440" cy="703800"/>
            <a:chOff x="250920" y="990720"/>
            <a:chExt cx="3025440" cy="703800"/>
          </a:xfrm>
        </p:grpSpPr>
        <p:sp>
          <p:nvSpPr>
            <p:cNvPr id="1512" name="Text Box 20"/>
            <p:cNvSpPr/>
            <p:nvPr/>
          </p:nvSpPr>
          <p:spPr>
            <a:xfrm>
              <a:off x="801000" y="990720"/>
              <a:ext cx="247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Consolidaciones </a:t>
              </a:r>
              <a:r>
                <a:rPr b="1" lang="en-GB" sz="2000" spc="-1" strike="noStrike">
                  <a:solidFill>
                    <a:srgbClr val="b2b2b2"/>
                  </a:solidFill>
                  <a:latin typeface="Tahoma"/>
                </a:rPr>
                <a:t>/ Compromis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Oval 21"/>
            <p:cNvSpPr/>
            <p:nvPr/>
          </p:nvSpPr>
          <p:spPr>
            <a:xfrm>
              <a:off x="250920" y="1067040"/>
              <a:ext cx="366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Text Box 22"/>
          <p:cNvSpPr/>
          <p:nvPr/>
        </p:nvSpPr>
        <p:spPr>
          <a:xfrm>
            <a:off x="179280" y="1916280"/>
            <a:ext cx="297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Cada país se compromete a mantener el nivel acordado de acceso a su mercado, sobre base NMF, para los países proveedor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6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8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520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1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522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23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24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25" name="Group 9"/>
          <p:cNvGrpSpPr/>
          <p:nvPr/>
        </p:nvGrpSpPr>
        <p:grpSpPr>
          <a:xfrm>
            <a:off x="6553080" y="1219320"/>
            <a:ext cx="2362320" cy="3047760"/>
            <a:chOff x="6553080" y="1219320"/>
            <a:chExt cx="2362320" cy="3047760"/>
          </a:xfrm>
        </p:grpSpPr>
        <p:sp>
          <p:nvSpPr>
            <p:cNvPr id="1526" name="Line 10"/>
            <p:cNvSpPr/>
            <p:nvPr/>
          </p:nvSpPr>
          <p:spPr>
            <a:xfrm>
              <a:off x="8153280" y="3124080"/>
              <a:ext cx="0" cy="11430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Group 11"/>
            <p:cNvGrpSpPr/>
            <p:nvPr/>
          </p:nvGrpSpPr>
          <p:grpSpPr>
            <a:xfrm>
              <a:off x="6553080" y="1219320"/>
              <a:ext cx="2362320" cy="2057400"/>
              <a:chOff x="6553080" y="1219320"/>
              <a:chExt cx="2362320" cy="2057400"/>
            </a:xfrm>
          </p:grpSpPr>
          <p:sp>
            <p:nvSpPr>
              <p:cNvPr id="1528" name="Oval 12"/>
              <p:cNvSpPr/>
              <p:nvPr/>
            </p:nvSpPr>
            <p:spPr>
              <a:xfrm>
                <a:off x="6553080" y="1219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29" name="Object 13"/>
              <p:cNvGraphicFramePr/>
              <p:nvPr/>
            </p:nvGraphicFramePr>
            <p:xfrm>
              <a:off x="7010280" y="1600200"/>
              <a:ext cx="1447920" cy="1386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30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160020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31" name="Group 14"/>
          <p:cNvGrpSpPr/>
          <p:nvPr/>
        </p:nvGrpSpPr>
        <p:grpSpPr>
          <a:xfrm>
            <a:off x="3352680" y="4648320"/>
            <a:ext cx="3353040" cy="2057400"/>
            <a:chOff x="3352680" y="4648320"/>
            <a:chExt cx="3353040" cy="2057400"/>
          </a:xfrm>
        </p:grpSpPr>
        <p:sp>
          <p:nvSpPr>
            <p:cNvPr id="1532" name="Line 15"/>
            <p:cNvSpPr/>
            <p:nvPr/>
          </p:nvSpPr>
          <p:spPr>
            <a:xfrm flipV="1">
              <a:off x="5486400" y="5029200"/>
              <a:ext cx="1219320" cy="4572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Group 16"/>
            <p:cNvGrpSpPr/>
            <p:nvPr/>
          </p:nvGrpSpPr>
          <p:grpSpPr>
            <a:xfrm>
              <a:off x="3352680" y="4648320"/>
              <a:ext cx="2362320" cy="2057400"/>
              <a:chOff x="3352680" y="4648320"/>
              <a:chExt cx="2362320" cy="2057400"/>
            </a:xfrm>
          </p:grpSpPr>
          <p:sp>
            <p:nvSpPr>
              <p:cNvPr id="1534" name="Oval 17"/>
              <p:cNvSpPr/>
              <p:nvPr/>
            </p:nvSpPr>
            <p:spPr>
              <a:xfrm>
                <a:off x="3352680" y="4648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35" name="Object 18"/>
              <p:cNvGraphicFramePr/>
              <p:nvPr/>
            </p:nvGraphicFramePr>
            <p:xfrm>
              <a:off x="3809880" y="4952880"/>
              <a:ext cx="1447920" cy="1386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36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495288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37" name="Group 19"/>
          <p:cNvGrpSpPr/>
          <p:nvPr/>
        </p:nvGrpSpPr>
        <p:grpSpPr>
          <a:xfrm>
            <a:off x="228600" y="990720"/>
            <a:ext cx="2514600" cy="398880"/>
            <a:chOff x="228600" y="990720"/>
            <a:chExt cx="2514600" cy="398880"/>
          </a:xfrm>
        </p:grpSpPr>
        <p:sp>
          <p:nvSpPr>
            <p:cNvPr id="1538" name="Text Box 20"/>
            <p:cNvSpPr/>
            <p:nvPr/>
          </p:nvSpPr>
          <p:spPr>
            <a:xfrm>
              <a:off x="685800" y="9907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Principio NM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Oval 2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Text Box 22"/>
          <p:cNvSpPr/>
          <p:nvPr/>
        </p:nvSpPr>
        <p:spPr>
          <a:xfrm>
            <a:off x="152280" y="1447920"/>
            <a:ext cx="2971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No discriminación entre productos / servicios similares originados en o destinados a diferentes países (o nacionales de diferentes países en relación con la protección de DPI). Cada socio comercial obtiene inmediata e incondicionalmente el mejor de los tratos otorgados a cualquier otro socio comercia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2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2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4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546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7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548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49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50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51" name="Group 9"/>
          <p:cNvGrpSpPr/>
          <p:nvPr/>
        </p:nvGrpSpPr>
        <p:grpSpPr>
          <a:xfrm>
            <a:off x="6553080" y="1219320"/>
            <a:ext cx="2362320" cy="3047760"/>
            <a:chOff x="6553080" y="1219320"/>
            <a:chExt cx="2362320" cy="3047760"/>
          </a:xfrm>
        </p:grpSpPr>
        <p:sp>
          <p:nvSpPr>
            <p:cNvPr id="1552" name="Line 10"/>
            <p:cNvSpPr/>
            <p:nvPr/>
          </p:nvSpPr>
          <p:spPr>
            <a:xfrm>
              <a:off x="8153280" y="3124080"/>
              <a:ext cx="0" cy="11430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3" name="Group 11"/>
            <p:cNvGrpSpPr/>
            <p:nvPr/>
          </p:nvGrpSpPr>
          <p:grpSpPr>
            <a:xfrm>
              <a:off x="6553080" y="1219320"/>
              <a:ext cx="2362320" cy="2057400"/>
              <a:chOff x="6553080" y="1219320"/>
              <a:chExt cx="2362320" cy="2057400"/>
            </a:xfrm>
          </p:grpSpPr>
          <p:sp>
            <p:nvSpPr>
              <p:cNvPr id="1554" name="Oval 12"/>
              <p:cNvSpPr/>
              <p:nvPr/>
            </p:nvSpPr>
            <p:spPr>
              <a:xfrm>
                <a:off x="6553080" y="1219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55" name="Object 13"/>
              <p:cNvGraphicFramePr/>
              <p:nvPr/>
            </p:nvGraphicFramePr>
            <p:xfrm>
              <a:off x="7010280" y="1600200"/>
              <a:ext cx="1447920" cy="1386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56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160020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57" name="Group 14"/>
          <p:cNvGrpSpPr/>
          <p:nvPr/>
        </p:nvGrpSpPr>
        <p:grpSpPr>
          <a:xfrm>
            <a:off x="3352680" y="4648320"/>
            <a:ext cx="3353040" cy="2057400"/>
            <a:chOff x="3352680" y="4648320"/>
            <a:chExt cx="3353040" cy="2057400"/>
          </a:xfrm>
        </p:grpSpPr>
        <p:sp>
          <p:nvSpPr>
            <p:cNvPr id="1558" name="Line 15"/>
            <p:cNvSpPr/>
            <p:nvPr/>
          </p:nvSpPr>
          <p:spPr>
            <a:xfrm flipV="1">
              <a:off x="5486400" y="5029200"/>
              <a:ext cx="1219320" cy="4572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Group 16"/>
            <p:cNvGrpSpPr/>
            <p:nvPr/>
          </p:nvGrpSpPr>
          <p:grpSpPr>
            <a:xfrm>
              <a:off x="3352680" y="4648320"/>
              <a:ext cx="2362320" cy="2057400"/>
              <a:chOff x="3352680" y="4648320"/>
              <a:chExt cx="2362320" cy="2057400"/>
            </a:xfrm>
          </p:grpSpPr>
          <p:sp>
            <p:nvSpPr>
              <p:cNvPr id="1560" name="Oval 17"/>
              <p:cNvSpPr/>
              <p:nvPr/>
            </p:nvSpPr>
            <p:spPr>
              <a:xfrm>
                <a:off x="3352680" y="4648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61" name="Object 18"/>
              <p:cNvGraphicFramePr/>
              <p:nvPr/>
            </p:nvGraphicFramePr>
            <p:xfrm>
              <a:off x="3809880" y="4952880"/>
              <a:ext cx="1447920" cy="1386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62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495288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63" name="Group 19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564" name="Text Box 20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0000"/>
                  </a:solidFill>
                  <a:latin typeface="Tahoma"/>
                </a:rPr>
                <a:t>Prohibición de contingent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Oval 2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Text Box 22"/>
          <p:cNvSpPr/>
          <p:nvPr/>
        </p:nvSpPr>
        <p:spPr>
          <a:xfrm>
            <a:off x="304920" y="1916280"/>
            <a:ext cx="29718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bienes, el uso de contingentes (restricciones cuantitativas) está prohibid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servicios, el uso de contingentes está prohibido para los sectores y modos de suministro indicados en las listas de compromisos específic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8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0" name="Rectangle 3"/>
          <p:cNvSpPr/>
          <p:nvPr/>
        </p:nvSpPr>
        <p:spPr>
          <a:xfrm>
            <a:off x="0" y="85716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Group 4"/>
          <p:cNvGrpSpPr/>
          <p:nvPr/>
        </p:nvGrpSpPr>
        <p:grpSpPr>
          <a:xfrm>
            <a:off x="228600" y="990720"/>
            <a:ext cx="2614320" cy="398880"/>
            <a:chOff x="228600" y="990720"/>
            <a:chExt cx="2614320" cy="398880"/>
          </a:xfrm>
        </p:grpSpPr>
        <p:sp>
          <p:nvSpPr>
            <p:cNvPr id="1572" name="Text Box 5"/>
            <p:cNvSpPr/>
            <p:nvPr/>
          </p:nvSpPr>
          <p:spPr>
            <a:xfrm>
              <a:off x="703800" y="990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Trato  Nacion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Oval 6"/>
            <p:cNvSpPr/>
            <p:nvPr/>
          </p:nvSpPr>
          <p:spPr>
            <a:xfrm>
              <a:off x="228600" y="1067040"/>
              <a:ext cx="31680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Text Box 7"/>
          <p:cNvSpPr/>
          <p:nvPr/>
        </p:nvSpPr>
        <p:spPr>
          <a:xfrm>
            <a:off x="152280" y="1714680"/>
            <a:ext cx="2971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os bienes y servicios y proveedores de servicios extranjeros, así como los extranjeros titulares de DPI no deben ser discriminados en relación con los bienes y servicios y proveedores de servicios nacionales o los nacionales titulares de DPI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servicios, la obligación de TN depende de las listas de compromisos específicos de cada Miembr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5" name="Object 8"/>
          <p:cNvGraphicFramePr/>
          <p:nvPr/>
        </p:nvGraphicFramePr>
        <p:xfrm>
          <a:off x="7467480" y="4176720"/>
          <a:ext cx="144792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4176720"/>
                    <a:ext cx="14479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7" name="Line 9"/>
          <p:cNvSpPr/>
          <p:nvPr/>
        </p:nvSpPr>
        <p:spPr>
          <a:xfrm>
            <a:off x="8153280" y="2666880"/>
            <a:ext cx="0" cy="1828800"/>
          </a:xfrm>
          <a:prstGeom prst="line">
            <a:avLst/>
          </a:prstGeom>
          <a:ln w="20628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Object 10"/>
          <p:cNvGraphicFramePr/>
          <p:nvPr/>
        </p:nvGraphicFramePr>
        <p:xfrm>
          <a:off x="6095880" y="4191120"/>
          <a:ext cx="1447920" cy="13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191120"/>
                    <a:ext cx="14479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0" name="Object 11"/>
          <p:cNvGraphicFramePr/>
          <p:nvPr/>
        </p:nvGraphicFramePr>
        <p:xfrm>
          <a:off x="7620120" y="5396040"/>
          <a:ext cx="1447560" cy="13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5396040"/>
                    <a:ext cx="1447560" cy="138564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82" name="Line 12"/>
          <p:cNvSpPr/>
          <p:nvPr/>
        </p:nvSpPr>
        <p:spPr>
          <a:xfrm>
            <a:off x="5105520" y="3200400"/>
            <a:ext cx="1523880" cy="1371600"/>
          </a:xfrm>
          <a:prstGeom prst="line">
            <a:avLst/>
          </a:prstGeom>
          <a:ln w="247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4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6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588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9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590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91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92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93" name="Group 9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594" name="Text Box 10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Excepciones Gener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Oval 1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6" name="Text Box 12"/>
          <p:cNvSpPr/>
          <p:nvPr/>
        </p:nvSpPr>
        <p:spPr>
          <a:xfrm>
            <a:off x="152280" y="2133720"/>
            <a:ext cx="297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as reglas y obligaciones de la OMC no impiden a los Miembros , </a:t>
            </a:r>
            <a:r>
              <a:rPr b="0" lang="es-ES" sz="2000" spc="-1" strike="noStrike">
                <a:solidFill>
                  <a:srgbClr val="cc0000"/>
                </a:solidFill>
                <a:latin typeface="Tahoma"/>
              </a:rPr>
              <a:t>en algunas situaciones particulares y bajo ciertas condiciones,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 tomar medidas que de otra manera serían consideradas ilega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Object 13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Text Box 1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Excepciones Gener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0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2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3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04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5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06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07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0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09" name="Group 9"/>
          <p:cNvGrpSpPr/>
          <p:nvPr/>
        </p:nvGrpSpPr>
        <p:grpSpPr>
          <a:xfrm>
            <a:off x="228600" y="990720"/>
            <a:ext cx="2514600" cy="1472400"/>
            <a:chOff x="228600" y="990720"/>
            <a:chExt cx="2514600" cy="1472400"/>
          </a:xfrm>
        </p:grpSpPr>
        <p:sp>
          <p:nvSpPr>
            <p:cNvPr id="1610" name="Text Box 10"/>
            <p:cNvSpPr/>
            <p:nvPr/>
          </p:nvSpPr>
          <p:spPr>
            <a:xfrm>
              <a:off x="685800" y="990720"/>
              <a:ext cx="205740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BIEN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Generales de Salvaguardi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Oval 11"/>
            <p:cNvSpPr/>
            <p:nvPr/>
          </p:nvSpPr>
          <p:spPr>
            <a:xfrm>
              <a:off x="228600" y="1066680"/>
              <a:ext cx="304920" cy="30420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2" name="Text Box 12"/>
          <p:cNvSpPr/>
          <p:nvPr/>
        </p:nvSpPr>
        <p:spPr>
          <a:xfrm>
            <a:off x="152280" y="2666880"/>
            <a:ext cx="297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situaciones particulares, medidas normalmente contrarias a los principios básicos de la OMC, están a disposición de los Miembros a fin de proteger, condicional y temporariamente, a su industria  nacional de los  aumentos de las importa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13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520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4" name="Object 14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6" name="Text Box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alvaguard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2"/>
          <p:cNvSpPr/>
          <p:nvPr/>
        </p:nvSpPr>
        <p:spPr>
          <a:xfrm>
            <a:off x="0" y="6286680"/>
            <a:ext cx="84582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Group 3"/>
          <p:cNvGrpSpPr/>
          <p:nvPr/>
        </p:nvGrpSpPr>
        <p:grpSpPr>
          <a:xfrm>
            <a:off x="1295280" y="2133720"/>
            <a:ext cx="952560" cy="3962160"/>
            <a:chOff x="1295280" y="2133720"/>
            <a:chExt cx="952560" cy="3962160"/>
          </a:xfrm>
        </p:grpSpPr>
        <p:grpSp>
          <p:nvGrpSpPr>
            <p:cNvPr id="1089" name="Group 4"/>
            <p:cNvGrpSpPr/>
            <p:nvPr/>
          </p:nvGrpSpPr>
          <p:grpSpPr>
            <a:xfrm>
              <a:off x="1295280" y="2133720"/>
              <a:ext cx="952560" cy="3962160"/>
              <a:chOff x="1295280" y="2133720"/>
              <a:chExt cx="952560" cy="3962160"/>
            </a:xfrm>
          </p:grpSpPr>
          <p:sp>
            <p:nvSpPr>
              <p:cNvPr id="1090" name="Freeform 5"/>
              <p:cNvSpPr/>
              <p:nvPr/>
            </p:nvSpPr>
            <p:spPr>
              <a:xfrm>
                <a:off x="1371600" y="2362320"/>
                <a:ext cx="80460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91" name="Object 6"/>
              <p:cNvGraphicFramePr/>
              <p:nvPr/>
            </p:nvGraphicFramePr>
            <p:xfrm>
              <a:off x="1295280" y="2133720"/>
              <a:ext cx="952560" cy="3962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92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95280" y="2133720"/>
                        <a:ext cx="95256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93" name="Text Box 7"/>
            <p:cNvSpPr/>
            <p:nvPr/>
          </p:nvSpPr>
          <p:spPr>
            <a:xfrm rot="16200000">
              <a:off x="364680" y="41896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GATT 194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Group 8"/>
          <p:cNvGrpSpPr/>
          <p:nvPr/>
        </p:nvGrpSpPr>
        <p:grpSpPr>
          <a:xfrm>
            <a:off x="1714680" y="2286000"/>
            <a:ext cx="952200" cy="3962160"/>
            <a:chOff x="1714680" y="2286000"/>
            <a:chExt cx="952200" cy="3962160"/>
          </a:xfrm>
        </p:grpSpPr>
        <p:grpSp>
          <p:nvGrpSpPr>
            <p:cNvPr id="1095" name="Group 9"/>
            <p:cNvGrpSpPr/>
            <p:nvPr/>
          </p:nvGrpSpPr>
          <p:grpSpPr>
            <a:xfrm>
              <a:off x="1714680" y="2286000"/>
              <a:ext cx="952200" cy="3962160"/>
              <a:chOff x="1714680" y="2286000"/>
              <a:chExt cx="952200" cy="3962160"/>
            </a:xfrm>
          </p:grpSpPr>
          <p:sp>
            <p:nvSpPr>
              <p:cNvPr id="1096" name="Freeform 10"/>
              <p:cNvSpPr/>
              <p:nvPr/>
            </p:nvSpPr>
            <p:spPr>
              <a:xfrm>
                <a:off x="1790640" y="2514600"/>
                <a:ext cx="80424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97" name="Object 11"/>
              <p:cNvGraphicFramePr/>
              <p:nvPr/>
            </p:nvGraphicFramePr>
            <p:xfrm>
              <a:off x="1714680" y="2286000"/>
              <a:ext cx="952200" cy="396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98" name="Object 1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14680" y="2286000"/>
                        <a:ext cx="95220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99" name="Text Box 12"/>
            <p:cNvSpPr/>
            <p:nvPr/>
          </p:nvSpPr>
          <p:spPr>
            <a:xfrm rot="16200000">
              <a:off x="783720" y="434196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Protocol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Group 13"/>
          <p:cNvGrpSpPr/>
          <p:nvPr/>
        </p:nvGrpSpPr>
        <p:grpSpPr>
          <a:xfrm>
            <a:off x="-360" y="1371600"/>
            <a:ext cx="9144360" cy="457200"/>
            <a:chOff x="-360" y="1371600"/>
            <a:chExt cx="9144360" cy="457200"/>
          </a:xfrm>
        </p:grpSpPr>
        <p:sp>
          <p:nvSpPr>
            <p:cNvPr id="1101" name="Rectangle 14"/>
            <p:cNvSpPr/>
            <p:nvPr/>
          </p:nvSpPr>
          <p:spPr>
            <a:xfrm flipH="1">
              <a:off x="-720" y="1371600"/>
              <a:ext cx="89154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15"/>
            <p:cNvSpPr/>
            <p:nvPr/>
          </p:nvSpPr>
          <p:spPr>
            <a:xfrm>
              <a:off x="609480" y="1447920"/>
              <a:ext cx="838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1.</a:t>
              </a: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Los años del GAT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6"/>
            <p:cNvSpPr/>
            <p:nvPr/>
          </p:nvSpPr>
          <p:spPr>
            <a:xfrm>
              <a:off x="8915400" y="1371600"/>
              <a:ext cx="228600" cy="457200"/>
            </a:xfrm>
            <a:prstGeom prst="rect">
              <a:avLst/>
            </a:prstGeom>
            <a:solidFill>
              <a:srgbClr val="e4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Group 17"/>
          <p:cNvGrpSpPr/>
          <p:nvPr/>
        </p:nvGrpSpPr>
        <p:grpSpPr>
          <a:xfrm>
            <a:off x="2417760" y="2133720"/>
            <a:ext cx="952560" cy="3962160"/>
            <a:chOff x="2417760" y="2133720"/>
            <a:chExt cx="952560" cy="3962160"/>
          </a:xfrm>
        </p:grpSpPr>
        <p:grpSp>
          <p:nvGrpSpPr>
            <p:cNvPr id="1105" name="Group 18"/>
            <p:cNvGrpSpPr/>
            <p:nvPr/>
          </p:nvGrpSpPr>
          <p:grpSpPr>
            <a:xfrm>
              <a:off x="2417760" y="2133720"/>
              <a:ext cx="952560" cy="3962160"/>
              <a:chOff x="2417760" y="2133720"/>
              <a:chExt cx="952560" cy="3962160"/>
            </a:xfrm>
          </p:grpSpPr>
          <p:sp>
            <p:nvSpPr>
              <p:cNvPr id="1106" name="Freeform 19"/>
              <p:cNvSpPr/>
              <p:nvPr/>
            </p:nvSpPr>
            <p:spPr>
              <a:xfrm>
                <a:off x="2494080" y="2362320"/>
                <a:ext cx="80460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7" name="Object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7760" y="2133720"/>
                <a:ext cx="952560" cy="39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8" name="Text Box 21"/>
            <p:cNvSpPr/>
            <p:nvPr/>
          </p:nvSpPr>
          <p:spPr>
            <a:xfrm rot="16200000">
              <a:off x="1459800" y="4129200"/>
              <a:ext cx="251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Protocolos de Adhesión                        al GAT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Group 22"/>
          <p:cNvGrpSpPr/>
          <p:nvPr/>
        </p:nvGrpSpPr>
        <p:grpSpPr>
          <a:xfrm>
            <a:off x="2938320" y="2135160"/>
            <a:ext cx="952560" cy="3962160"/>
            <a:chOff x="2938320" y="2135160"/>
            <a:chExt cx="952560" cy="3962160"/>
          </a:xfrm>
        </p:grpSpPr>
        <p:grpSp>
          <p:nvGrpSpPr>
            <p:cNvPr id="1110" name="Group 23"/>
            <p:cNvGrpSpPr/>
            <p:nvPr/>
          </p:nvGrpSpPr>
          <p:grpSpPr>
            <a:xfrm>
              <a:off x="2938320" y="2135160"/>
              <a:ext cx="952560" cy="3962160"/>
              <a:chOff x="2938320" y="2135160"/>
              <a:chExt cx="952560" cy="3962160"/>
            </a:xfrm>
          </p:grpSpPr>
          <p:sp>
            <p:nvSpPr>
              <p:cNvPr id="1111" name="Freeform 24"/>
              <p:cNvSpPr/>
              <p:nvPr/>
            </p:nvSpPr>
            <p:spPr>
              <a:xfrm>
                <a:off x="3014640" y="2363760"/>
                <a:ext cx="80496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12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2938320" y="2135160"/>
                <a:ext cx="952560" cy="39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3" name="Text Box 26"/>
            <p:cNvSpPr/>
            <p:nvPr/>
          </p:nvSpPr>
          <p:spPr>
            <a:xfrm rot="16200000">
              <a:off x="1978920" y="412920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Decisiones de PPCC del GAT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(1947-1994)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Group 27"/>
          <p:cNvGrpSpPr/>
          <p:nvPr/>
        </p:nvGrpSpPr>
        <p:grpSpPr>
          <a:xfrm>
            <a:off x="3440160" y="2351160"/>
            <a:ext cx="1085400" cy="3638520"/>
            <a:chOff x="3440160" y="2351160"/>
            <a:chExt cx="1085400" cy="3638520"/>
          </a:xfrm>
        </p:grpSpPr>
        <p:grpSp>
          <p:nvGrpSpPr>
            <p:cNvPr id="1115" name="Group 28"/>
            <p:cNvGrpSpPr/>
            <p:nvPr/>
          </p:nvGrpSpPr>
          <p:grpSpPr>
            <a:xfrm>
              <a:off x="3440160" y="2351160"/>
              <a:ext cx="1085400" cy="3638520"/>
              <a:chOff x="3440160" y="2351160"/>
              <a:chExt cx="1085400" cy="3638520"/>
            </a:xfrm>
          </p:grpSpPr>
          <p:grpSp>
            <p:nvGrpSpPr>
              <p:cNvPr id="1116" name="Group 29"/>
              <p:cNvGrpSpPr/>
              <p:nvPr/>
            </p:nvGrpSpPr>
            <p:grpSpPr>
              <a:xfrm>
                <a:off x="3440160" y="2351160"/>
                <a:ext cx="1085400" cy="3638520"/>
                <a:chOff x="3440160" y="2351160"/>
                <a:chExt cx="1085400" cy="3638520"/>
              </a:xfrm>
            </p:grpSpPr>
            <p:sp>
              <p:nvSpPr>
                <p:cNvPr id="1117" name="Freeform 30"/>
                <p:cNvSpPr/>
                <p:nvPr/>
              </p:nvSpPr>
              <p:spPr>
                <a:xfrm>
                  <a:off x="3595320" y="2493720"/>
                  <a:ext cx="63612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18" name="Object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40160" y="2351160"/>
                  <a:ext cx="108540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19" name="Text Box 32"/>
              <p:cNvSpPr/>
              <p:nvPr/>
            </p:nvSpPr>
            <p:spPr>
              <a:xfrm rot="16200000">
                <a:off x="2607480" y="4235400"/>
                <a:ext cx="2352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Text Box 33"/>
            <p:cNvSpPr/>
            <p:nvPr/>
          </p:nvSpPr>
          <p:spPr>
            <a:xfrm>
              <a:off x="3630600" y="2943360"/>
              <a:ext cx="30492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Group 34"/>
          <p:cNvGrpSpPr/>
          <p:nvPr/>
        </p:nvGrpSpPr>
        <p:grpSpPr>
          <a:xfrm>
            <a:off x="3935520" y="2351160"/>
            <a:ext cx="1085400" cy="3638520"/>
            <a:chOff x="3935520" y="2351160"/>
            <a:chExt cx="1085400" cy="3638520"/>
          </a:xfrm>
        </p:grpSpPr>
        <p:grpSp>
          <p:nvGrpSpPr>
            <p:cNvPr id="1122" name="Group 35"/>
            <p:cNvGrpSpPr/>
            <p:nvPr/>
          </p:nvGrpSpPr>
          <p:grpSpPr>
            <a:xfrm>
              <a:off x="3935520" y="2351160"/>
              <a:ext cx="1085400" cy="3638520"/>
              <a:chOff x="3935520" y="2351160"/>
              <a:chExt cx="1085400" cy="3638520"/>
            </a:xfrm>
          </p:grpSpPr>
          <p:grpSp>
            <p:nvGrpSpPr>
              <p:cNvPr id="1123" name="Group 36"/>
              <p:cNvGrpSpPr/>
              <p:nvPr/>
            </p:nvGrpSpPr>
            <p:grpSpPr>
              <a:xfrm>
                <a:off x="3935520" y="2351160"/>
                <a:ext cx="1085400" cy="3638520"/>
                <a:chOff x="3935520" y="2351160"/>
                <a:chExt cx="1085400" cy="3638520"/>
              </a:xfrm>
            </p:grpSpPr>
            <p:sp>
              <p:nvSpPr>
                <p:cNvPr id="1124" name="Freeform 37"/>
                <p:cNvSpPr/>
                <p:nvPr/>
              </p:nvSpPr>
              <p:spPr>
                <a:xfrm>
                  <a:off x="4090680" y="2493720"/>
                  <a:ext cx="63612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5" name="Object 3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935520" y="2351160"/>
                  <a:ext cx="108540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26" name="Text Box 39"/>
              <p:cNvSpPr/>
              <p:nvPr/>
            </p:nvSpPr>
            <p:spPr>
              <a:xfrm rot="16200000">
                <a:off x="3106440" y="4237200"/>
                <a:ext cx="235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Text Box 40"/>
            <p:cNvSpPr/>
            <p:nvPr/>
          </p:nvSpPr>
          <p:spPr>
            <a:xfrm>
              <a:off x="4138560" y="2943360"/>
              <a:ext cx="3049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Group 41"/>
          <p:cNvGrpSpPr/>
          <p:nvPr/>
        </p:nvGrpSpPr>
        <p:grpSpPr>
          <a:xfrm>
            <a:off x="4437000" y="2351160"/>
            <a:ext cx="1086840" cy="3638520"/>
            <a:chOff x="4437000" y="2351160"/>
            <a:chExt cx="1086840" cy="3638520"/>
          </a:xfrm>
        </p:grpSpPr>
        <p:grpSp>
          <p:nvGrpSpPr>
            <p:cNvPr id="1129" name="Group 42"/>
            <p:cNvGrpSpPr/>
            <p:nvPr/>
          </p:nvGrpSpPr>
          <p:grpSpPr>
            <a:xfrm>
              <a:off x="4437000" y="2351160"/>
              <a:ext cx="1086840" cy="3638520"/>
              <a:chOff x="4437000" y="2351160"/>
              <a:chExt cx="1086840" cy="3638520"/>
            </a:xfrm>
          </p:grpSpPr>
          <p:grpSp>
            <p:nvGrpSpPr>
              <p:cNvPr id="1130" name="Group 43"/>
              <p:cNvGrpSpPr/>
              <p:nvPr/>
            </p:nvGrpSpPr>
            <p:grpSpPr>
              <a:xfrm>
                <a:off x="4437000" y="2351160"/>
                <a:ext cx="1086840" cy="3638520"/>
                <a:chOff x="4437000" y="2351160"/>
                <a:chExt cx="1086840" cy="3638520"/>
              </a:xfrm>
            </p:grpSpPr>
            <p:sp>
              <p:nvSpPr>
                <p:cNvPr id="1131" name="Freeform 44"/>
                <p:cNvSpPr/>
                <p:nvPr/>
              </p:nvSpPr>
              <p:spPr>
                <a:xfrm>
                  <a:off x="4592520" y="2493720"/>
                  <a:ext cx="63684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32" name="Object 4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37000" y="2351160"/>
                  <a:ext cx="108684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33" name="Text Box 46"/>
              <p:cNvSpPr/>
              <p:nvPr/>
            </p:nvSpPr>
            <p:spPr>
              <a:xfrm rot="16200000">
                <a:off x="3605760" y="4238640"/>
                <a:ext cx="2352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4" name="Text Box 47"/>
            <p:cNvSpPr/>
            <p:nvPr/>
          </p:nvSpPr>
          <p:spPr>
            <a:xfrm>
              <a:off x="4605120" y="2941920"/>
              <a:ext cx="304920" cy="337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Group 48"/>
          <p:cNvGrpSpPr/>
          <p:nvPr/>
        </p:nvGrpSpPr>
        <p:grpSpPr>
          <a:xfrm>
            <a:off x="4932360" y="2351160"/>
            <a:ext cx="1087200" cy="3638520"/>
            <a:chOff x="4932360" y="2351160"/>
            <a:chExt cx="1087200" cy="3638520"/>
          </a:xfrm>
        </p:grpSpPr>
        <p:grpSp>
          <p:nvGrpSpPr>
            <p:cNvPr id="1136" name="Group 49"/>
            <p:cNvGrpSpPr/>
            <p:nvPr/>
          </p:nvGrpSpPr>
          <p:grpSpPr>
            <a:xfrm>
              <a:off x="4932360" y="2351160"/>
              <a:ext cx="1087200" cy="3638520"/>
              <a:chOff x="4932360" y="2351160"/>
              <a:chExt cx="1087200" cy="3638520"/>
            </a:xfrm>
          </p:grpSpPr>
          <p:grpSp>
            <p:nvGrpSpPr>
              <p:cNvPr id="1137" name="Group 50"/>
              <p:cNvGrpSpPr/>
              <p:nvPr/>
            </p:nvGrpSpPr>
            <p:grpSpPr>
              <a:xfrm>
                <a:off x="4932360" y="2351160"/>
                <a:ext cx="1087200" cy="3638520"/>
                <a:chOff x="4932360" y="2351160"/>
                <a:chExt cx="1087200" cy="3638520"/>
              </a:xfrm>
            </p:grpSpPr>
            <p:sp>
              <p:nvSpPr>
                <p:cNvPr id="1138" name="Freeform 51"/>
                <p:cNvSpPr/>
                <p:nvPr/>
              </p:nvSpPr>
              <p:spPr>
                <a:xfrm>
                  <a:off x="5087880" y="2493720"/>
                  <a:ext cx="6372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39" name="Object 5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932360" y="2351160"/>
                  <a:ext cx="108720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40" name="Text Box 53"/>
              <p:cNvSpPr/>
              <p:nvPr/>
            </p:nvSpPr>
            <p:spPr>
              <a:xfrm rot="16200000">
                <a:off x="4106160" y="4210200"/>
                <a:ext cx="2352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Text Box 54"/>
            <p:cNvSpPr/>
            <p:nvPr/>
          </p:nvSpPr>
          <p:spPr>
            <a:xfrm>
              <a:off x="5104080" y="2948040"/>
              <a:ext cx="304560" cy="3373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7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21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2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23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24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25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26" name="Group 9"/>
          <p:cNvGrpSpPr/>
          <p:nvPr/>
        </p:nvGrpSpPr>
        <p:grpSpPr>
          <a:xfrm>
            <a:off x="228600" y="990720"/>
            <a:ext cx="2758680" cy="1313640"/>
            <a:chOff x="228600" y="990720"/>
            <a:chExt cx="2758680" cy="1313640"/>
          </a:xfrm>
        </p:grpSpPr>
        <p:sp>
          <p:nvSpPr>
            <p:cNvPr id="1627" name="Text Box 10"/>
            <p:cNvSpPr/>
            <p:nvPr/>
          </p:nvSpPr>
          <p:spPr>
            <a:xfrm>
              <a:off x="730080" y="990720"/>
              <a:ext cx="2257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de Salvaguardia por dificultades de B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Oval 11"/>
            <p:cNvSpPr/>
            <p:nvPr/>
          </p:nvSpPr>
          <p:spPr>
            <a:xfrm>
              <a:off x="228600" y="1067040"/>
              <a:ext cx="3344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Text Box 12"/>
          <p:cNvSpPr/>
          <p:nvPr/>
        </p:nvSpPr>
        <p:spPr>
          <a:xfrm>
            <a:off x="152280" y="2708280"/>
            <a:ext cx="297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ahoma"/>
              </a:rPr>
              <a:t>En situaciones particulares, medidas normalmente contrarias a los principios básicos de la OMC, están a disposición de los Miembros para superar 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dificultades en su Balanza de Pag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13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520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1" name="Object 14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3" name="Text Box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alvaguard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4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Group 4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638" name="Text Box 5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Integración region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Oval 6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Text Box 7"/>
          <p:cNvSpPr/>
          <p:nvPr/>
        </p:nvSpPr>
        <p:spPr>
          <a:xfrm>
            <a:off x="152280" y="2133720"/>
            <a:ext cx="2971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as reglas y obligaciones de la OMC no impiden a los Miembros tomar ciertas medidas, de otra manera ilegales, destinadas a la integración económica con otros países compatible con las normas de integración regional de la OM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Freeform 8"/>
          <p:cNvSpPr/>
          <p:nvPr/>
        </p:nvSpPr>
        <p:spPr>
          <a:xfrm>
            <a:off x="3124080" y="3657600"/>
            <a:ext cx="5791320" cy="3048120"/>
          </a:xfrm>
          <a:prstGeom prst="pie">
            <a:avLst/>
          </a:prstGeom>
          <a:solidFill>
            <a:srgbClr val="99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Group 9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43" name="Line 10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4" name="Group 11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45" name="Oval 12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46" name="Object 13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47" name="Object 1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648" name="Text Box 1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Acuerdos Region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9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2" name="Group 4"/>
          <p:cNvGrpSpPr/>
          <p:nvPr/>
        </p:nvGrpSpPr>
        <p:grpSpPr>
          <a:xfrm>
            <a:off x="3132000" y="1413000"/>
            <a:ext cx="3429000" cy="2818800"/>
            <a:chOff x="3132000" y="1413000"/>
            <a:chExt cx="3429000" cy="2818800"/>
          </a:xfrm>
        </p:grpSpPr>
        <p:sp>
          <p:nvSpPr>
            <p:cNvPr id="1653" name="Line 5"/>
            <p:cNvSpPr/>
            <p:nvPr/>
          </p:nvSpPr>
          <p:spPr>
            <a:xfrm>
              <a:off x="5189400" y="3012840"/>
              <a:ext cx="1371600" cy="121896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4" name="Group 6"/>
            <p:cNvGrpSpPr/>
            <p:nvPr/>
          </p:nvGrpSpPr>
          <p:grpSpPr>
            <a:xfrm>
              <a:off x="3132000" y="1413000"/>
              <a:ext cx="2362320" cy="2057040"/>
              <a:chOff x="3132000" y="1413000"/>
              <a:chExt cx="2362320" cy="2057040"/>
            </a:xfrm>
          </p:grpSpPr>
          <p:sp>
            <p:nvSpPr>
              <p:cNvPr id="1655" name="Oval 7"/>
              <p:cNvSpPr/>
              <p:nvPr/>
            </p:nvSpPr>
            <p:spPr>
              <a:xfrm>
                <a:off x="3132000" y="1413000"/>
                <a:ext cx="2362320" cy="205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56" name="Object 8"/>
              <p:cNvGraphicFramePr/>
              <p:nvPr/>
            </p:nvGraphicFramePr>
            <p:xfrm>
              <a:off x="3589200" y="1717560"/>
              <a:ext cx="1447920" cy="1385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7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89200" y="1717560"/>
                        <a:ext cx="1447920" cy="138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58" name="Group 9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659" name="Text Box 10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antidumpin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1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Text Box 12"/>
          <p:cNvSpPr/>
          <p:nvPr/>
        </p:nvSpPr>
        <p:spPr>
          <a:xfrm>
            <a:off x="152280" y="2392200"/>
            <a:ext cx="297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Medidas, en forma de sobretasas arancelarias, están a disposición de los Miembros para defenderse de o compensar las distorsiones creadas por ciertas prácticas comercial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Picture 13" descr=""/>
          <p:cNvPicPr/>
          <p:nvPr/>
        </p:nvPicPr>
        <p:blipFill>
          <a:blip r:embed="rId5"/>
          <a:stretch/>
        </p:blipFill>
        <p:spPr>
          <a:xfrm>
            <a:off x="4572000" y="1197000"/>
            <a:ext cx="1592280" cy="1592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aphicFrame>
        <p:nvGraphicFramePr>
          <p:cNvPr id="1663" name="Object 14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5" name="Picture 15" descr=""/>
          <p:cNvPicPr/>
          <p:nvPr/>
        </p:nvPicPr>
        <p:blipFill>
          <a:blip r:embed="rId8"/>
          <a:stretch/>
        </p:blipFill>
        <p:spPr>
          <a:xfrm>
            <a:off x="7380360" y="4365720"/>
            <a:ext cx="936720" cy="93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66" name="Text Box 1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Medidas anti-dump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7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9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71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2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73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74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75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76" name="Group 9"/>
          <p:cNvGrpSpPr/>
          <p:nvPr/>
        </p:nvGrpSpPr>
        <p:grpSpPr>
          <a:xfrm>
            <a:off x="108000" y="990720"/>
            <a:ext cx="2808000" cy="1008720"/>
            <a:chOff x="108000" y="990720"/>
            <a:chExt cx="2808000" cy="1008720"/>
          </a:xfrm>
        </p:grpSpPr>
        <p:sp>
          <p:nvSpPr>
            <p:cNvPr id="1677" name="Text Box 10"/>
            <p:cNvSpPr/>
            <p:nvPr/>
          </p:nvSpPr>
          <p:spPr>
            <a:xfrm>
              <a:off x="618480" y="990720"/>
              <a:ext cx="229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Subvenciones y medidas compensatoria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Oval 11"/>
            <p:cNvSpPr/>
            <p:nvPr/>
          </p:nvSpPr>
          <p:spPr>
            <a:xfrm>
              <a:off x="108000" y="1066680"/>
              <a:ext cx="340200" cy="30420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9" name="Text Box 12"/>
          <p:cNvSpPr/>
          <p:nvPr/>
        </p:nvSpPr>
        <p:spPr>
          <a:xfrm>
            <a:off x="152280" y="1905120"/>
            <a:ext cx="297180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0000"/>
                </a:solidFill>
                <a:latin typeface="Tahoma"/>
              </a:rPr>
              <a:t>Algunos subsidios pueden distorsionar el comercio.  Ciertos subsidios están prohibido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0000"/>
                </a:solidFill>
                <a:latin typeface="Tahoma"/>
              </a:rPr>
              <a:t>Otros subsidios están permitidos, pero los Miembros pueden tomar medidas contra sus efectos adverso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0000"/>
                </a:solidFill>
                <a:latin typeface="Tahoma"/>
              </a:rPr>
              <a:t>Tales medidas son acciones directas (solución de diferencias) o sobretasas (medidas compensatorias)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Group 13"/>
          <p:cNvGrpSpPr/>
          <p:nvPr/>
        </p:nvGrpSpPr>
        <p:grpSpPr>
          <a:xfrm>
            <a:off x="3962520" y="1447920"/>
            <a:ext cx="2151000" cy="1066680"/>
            <a:chOff x="3962520" y="1447920"/>
            <a:chExt cx="2151000" cy="1066680"/>
          </a:xfrm>
        </p:grpSpPr>
        <p:sp>
          <p:nvSpPr>
            <p:cNvPr id="1681" name="Freeform 14"/>
            <p:cNvSpPr/>
            <p:nvPr/>
          </p:nvSpPr>
          <p:spPr>
            <a:xfrm>
              <a:off x="3962520" y="1536840"/>
              <a:ext cx="2151000" cy="506160"/>
            </a:xfrm>
            <a:prstGeom prst="pie">
              <a:avLst/>
            </a:prstGeom>
            <a:noFill/>
            <a:ln w="146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2" name="Picture 15" descr=""/>
            <p:cNvPicPr/>
            <p:nvPr/>
          </p:nvPicPr>
          <p:blipFill>
            <a:blip r:embed="rId5"/>
            <a:stretch/>
          </p:blipFill>
          <p:spPr>
            <a:xfrm>
              <a:off x="5030280" y="1447920"/>
              <a:ext cx="934200" cy="1066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683" name="Object 16"/>
          <p:cNvGraphicFramePr/>
          <p:nvPr/>
        </p:nvGraphicFramePr>
        <p:xfrm>
          <a:off x="5486400" y="1371600"/>
          <a:ext cx="1003320" cy="94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4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1371600"/>
                    <a:ext cx="1003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5" name="Picture 17" descr=""/>
          <p:cNvPicPr/>
          <p:nvPr/>
        </p:nvPicPr>
        <p:blipFill>
          <a:blip r:embed="rId8"/>
          <a:stretch/>
        </p:blipFill>
        <p:spPr>
          <a:xfrm>
            <a:off x="3124080" y="1447920"/>
            <a:ext cx="83844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86" name="Line 18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190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Line 19"/>
          <p:cNvSpPr/>
          <p:nvPr/>
        </p:nvSpPr>
        <p:spPr>
          <a:xfrm>
            <a:off x="5562720" y="2362320"/>
            <a:ext cx="1828800" cy="0"/>
          </a:xfrm>
          <a:prstGeom prst="line">
            <a:avLst/>
          </a:prstGeom>
          <a:ln w="190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AutoShape 20"/>
          <p:cNvSpPr/>
          <p:nvPr/>
        </p:nvSpPr>
        <p:spPr>
          <a:xfrm rot="8563200">
            <a:off x="3885840" y="3047760"/>
            <a:ext cx="914400" cy="9903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9" name="Object 21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0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1" name="Text Box 2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ubsidios y medidas compensator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2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5" name="Group 4"/>
          <p:cNvGrpSpPr/>
          <p:nvPr/>
        </p:nvGrpSpPr>
        <p:grpSpPr>
          <a:xfrm>
            <a:off x="228600" y="990720"/>
            <a:ext cx="2758680" cy="1008720"/>
            <a:chOff x="228600" y="990720"/>
            <a:chExt cx="2758680" cy="1008720"/>
          </a:xfrm>
        </p:grpSpPr>
        <p:sp>
          <p:nvSpPr>
            <p:cNvPr id="1696" name="Text Box 5"/>
            <p:cNvSpPr/>
            <p:nvPr/>
          </p:nvSpPr>
          <p:spPr>
            <a:xfrm>
              <a:off x="730080" y="990720"/>
              <a:ext cx="225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compensatorias (anti-subsidios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Oval 6"/>
            <p:cNvSpPr/>
            <p:nvPr/>
          </p:nvSpPr>
          <p:spPr>
            <a:xfrm>
              <a:off x="228600" y="1066680"/>
              <a:ext cx="334440" cy="30420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8" name="Text Box 7"/>
          <p:cNvSpPr/>
          <p:nvPr/>
        </p:nvSpPr>
        <p:spPr>
          <a:xfrm>
            <a:off x="152280" y="2514600"/>
            <a:ext cx="297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ahoma"/>
              </a:rPr>
              <a:t>Medidas, en forma de sobretasas, están a disposición de los Miembros para defenderse o compensar las distorsiones por la importación de productos subsidiad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Group 8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700" name="Line 9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Group 10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702" name="Oval 11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03" name="Object 12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04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705" name="Group 13"/>
          <p:cNvGrpSpPr/>
          <p:nvPr/>
        </p:nvGrpSpPr>
        <p:grpSpPr>
          <a:xfrm>
            <a:off x="3962520" y="1447920"/>
            <a:ext cx="2151000" cy="1066680"/>
            <a:chOff x="3962520" y="1447920"/>
            <a:chExt cx="2151000" cy="1066680"/>
          </a:xfrm>
        </p:grpSpPr>
        <p:sp>
          <p:nvSpPr>
            <p:cNvPr id="1706" name="Freeform 14"/>
            <p:cNvSpPr/>
            <p:nvPr/>
          </p:nvSpPr>
          <p:spPr>
            <a:xfrm>
              <a:off x="3962520" y="1536840"/>
              <a:ext cx="2151000" cy="506160"/>
            </a:xfrm>
            <a:prstGeom prst="pie">
              <a:avLst/>
            </a:prstGeom>
            <a:noFill/>
            <a:ln w="146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7" name="Picture 15" descr=""/>
            <p:cNvPicPr/>
            <p:nvPr/>
          </p:nvPicPr>
          <p:blipFill>
            <a:blip r:embed="rId5"/>
            <a:stretch/>
          </p:blipFill>
          <p:spPr>
            <a:xfrm>
              <a:off x="5030280" y="1447920"/>
              <a:ext cx="93420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8" name="Picture 16" descr=""/>
          <p:cNvPicPr/>
          <p:nvPr/>
        </p:nvPicPr>
        <p:blipFill>
          <a:blip r:embed="rId6"/>
          <a:stretch/>
        </p:blipFill>
        <p:spPr>
          <a:xfrm>
            <a:off x="3124080" y="1447920"/>
            <a:ext cx="83844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09" name="Line 17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190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0" name="Object 18"/>
          <p:cNvGraphicFramePr/>
          <p:nvPr/>
        </p:nvGraphicFramePr>
        <p:xfrm>
          <a:off x="5486400" y="1371600"/>
          <a:ext cx="100332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371600"/>
                    <a:ext cx="1003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2" name="Object 19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4" name="Text Box 2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ubsidios y medidas compensator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Text Box 9"/>
          <p:cNvSpPr/>
          <p:nvPr/>
        </p:nvSpPr>
        <p:spPr>
          <a:xfrm>
            <a:off x="611280" y="2133720"/>
            <a:ext cx="82087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spectos Procedimentale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canismo de solución de diferenc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Transparenc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7" name="Group 4"/>
          <p:cNvGrpSpPr/>
          <p:nvPr/>
        </p:nvGrpSpPr>
        <p:grpSpPr>
          <a:xfrm>
            <a:off x="1042920" y="2060640"/>
            <a:ext cx="7632360" cy="1747440"/>
            <a:chOff x="1042920" y="2060640"/>
            <a:chExt cx="7632360" cy="1747440"/>
          </a:xfrm>
        </p:grpSpPr>
        <p:sp>
          <p:nvSpPr>
            <p:cNvPr id="1718" name="Text Box 5"/>
            <p:cNvSpPr/>
            <p:nvPr/>
          </p:nvSpPr>
          <p:spPr>
            <a:xfrm>
              <a:off x="1535040" y="2060640"/>
              <a:ext cx="714024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Publicación de normas comerciale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(Leyes, reglamentos, decisiones judiciales  y diposiciones administrativas de aplicación general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Oval 6"/>
            <p:cNvSpPr/>
            <p:nvPr/>
          </p:nvSpPr>
          <p:spPr>
            <a:xfrm>
              <a:off x="1042920" y="2136960"/>
              <a:ext cx="3283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Group 7"/>
          <p:cNvGrpSpPr/>
          <p:nvPr/>
        </p:nvGrpSpPr>
        <p:grpSpPr>
          <a:xfrm>
            <a:off x="1044720" y="3705120"/>
            <a:ext cx="7487640" cy="459720"/>
            <a:chOff x="1044720" y="3705120"/>
            <a:chExt cx="7487640" cy="459720"/>
          </a:xfrm>
        </p:grpSpPr>
        <p:sp>
          <p:nvSpPr>
            <p:cNvPr id="1721" name="Text Box 8"/>
            <p:cNvSpPr/>
            <p:nvPr/>
          </p:nvSpPr>
          <p:spPr>
            <a:xfrm>
              <a:off x="1527480" y="3705120"/>
              <a:ext cx="70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Obligaciones de notificació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Oval 9"/>
            <p:cNvSpPr/>
            <p:nvPr/>
          </p:nvSpPr>
          <p:spPr>
            <a:xfrm>
              <a:off x="1044720" y="3781440"/>
              <a:ext cx="321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Group 10"/>
          <p:cNvGrpSpPr/>
          <p:nvPr/>
        </p:nvGrpSpPr>
        <p:grpSpPr>
          <a:xfrm>
            <a:off x="1044720" y="4930920"/>
            <a:ext cx="7086600" cy="459720"/>
            <a:chOff x="1044720" y="4930920"/>
            <a:chExt cx="7086600" cy="459720"/>
          </a:xfrm>
        </p:grpSpPr>
        <p:sp>
          <p:nvSpPr>
            <p:cNvPr id="1724" name="Text Box 11"/>
            <p:cNvSpPr/>
            <p:nvPr/>
          </p:nvSpPr>
          <p:spPr>
            <a:xfrm>
              <a:off x="1501920" y="493092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Revisión jurídica independient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Oval 12"/>
            <p:cNvSpPr/>
            <p:nvPr/>
          </p:nvSpPr>
          <p:spPr>
            <a:xfrm>
              <a:off x="1044720" y="50072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6" name="Text Box 13"/>
          <p:cNvSpPr/>
          <p:nvPr/>
        </p:nvSpPr>
        <p:spPr>
          <a:xfrm>
            <a:off x="1476360" y="1100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rt. X GATT, Art. III AG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Group 14"/>
          <p:cNvGrpSpPr/>
          <p:nvPr/>
        </p:nvGrpSpPr>
        <p:grpSpPr>
          <a:xfrm>
            <a:off x="1044720" y="4309920"/>
            <a:ext cx="7487640" cy="459720"/>
            <a:chOff x="1044720" y="4309920"/>
            <a:chExt cx="7487640" cy="459720"/>
          </a:xfrm>
        </p:grpSpPr>
        <p:sp>
          <p:nvSpPr>
            <p:cNvPr id="1728" name="Text Box 15"/>
            <p:cNvSpPr/>
            <p:nvPr/>
          </p:nvSpPr>
          <p:spPr>
            <a:xfrm>
              <a:off x="1527480" y="4309920"/>
              <a:ext cx="70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Administración uniforme, imparcial y razonabl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Oval 16"/>
            <p:cNvSpPr/>
            <p:nvPr/>
          </p:nvSpPr>
          <p:spPr>
            <a:xfrm>
              <a:off x="1044720" y="4386240"/>
              <a:ext cx="321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Group 17"/>
          <p:cNvGrpSpPr/>
          <p:nvPr/>
        </p:nvGrpSpPr>
        <p:grpSpPr>
          <a:xfrm>
            <a:off x="1044720" y="5492880"/>
            <a:ext cx="7487640" cy="825480"/>
            <a:chOff x="1044720" y="5492880"/>
            <a:chExt cx="7487640" cy="825480"/>
          </a:xfrm>
        </p:grpSpPr>
        <p:sp>
          <p:nvSpPr>
            <p:cNvPr id="1731" name="Text Box 18"/>
            <p:cNvSpPr/>
            <p:nvPr/>
          </p:nvSpPr>
          <p:spPr>
            <a:xfrm>
              <a:off x="1527480" y="5492880"/>
              <a:ext cx="700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Mecanismo de examen de las políticas comerciale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Oval 19"/>
            <p:cNvSpPr/>
            <p:nvPr/>
          </p:nvSpPr>
          <p:spPr>
            <a:xfrm>
              <a:off x="1044720" y="5569200"/>
              <a:ext cx="321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 txBox="1"/>
          <p:nvPr/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unciones del sistema de solución de diferencias (Art. 3.2 ES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servar los derechos y obligaciones de los Miemb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 el marco de los acuerdos abarcados y...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clarar las disposiciones vigen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dichos acuerdos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e conformidad con las normas usuales de interpretació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l derecho internacional público. 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olución de Diferencias en la OM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200" spc="-1" strike="noStrike">
                <a:solidFill>
                  <a:srgbClr val="000000"/>
                </a:solidFill>
                <a:latin typeface="Times New Roman"/>
              </a:rPr>
              <a:t>dolopez@uchile.c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2743200" y="3171960"/>
            <a:ext cx="6400080" cy="1339560"/>
            <a:chOff x="2743200" y="3171960"/>
            <a:chExt cx="6400080" cy="1339560"/>
          </a:xfrm>
        </p:grpSpPr>
        <p:sp>
          <p:nvSpPr>
            <p:cNvPr id="1143" name="Text Box 3"/>
            <p:cNvSpPr/>
            <p:nvPr/>
          </p:nvSpPr>
          <p:spPr>
            <a:xfrm>
              <a:off x="2743200" y="3171960"/>
              <a:ext cx="63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8080"/>
                  </a:solidFill>
                  <a:latin typeface="Arial Narrow"/>
                </a:rPr>
                <a:t>REGLAS (Acuerdos Jurídicos) – Decisiones PPC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4" name="Group 4"/>
            <p:cNvGrpSpPr/>
            <p:nvPr/>
          </p:nvGrpSpPr>
          <p:grpSpPr>
            <a:xfrm>
              <a:off x="3563640" y="3462120"/>
              <a:ext cx="5579640" cy="368280"/>
              <a:chOff x="3563640" y="3462120"/>
              <a:chExt cx="5579640" cy="368280"/>
            </a:xfrm>
          </p:grpSpPr>
          <p:sp>
            <p:nvSpPr>
              <p:cNvPr id="1145" name="Text Box 5"/>
              <p:cNvSpPr/>
              <p:nvPr/>
            </p:nvSpPr>
            <p:spPr>
              <a:xfrm>
                <a:off x="3741480" y="346212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“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Cláusula de Habilitación”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Oval 6"/>
              <p:cNvSpPr/>
              <p:nvPr/>
            </p:nvSpPr>
            <p:spPr>
              <a:xfrm>
                <a:off x="3563640" y="360000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Group 7"/>
            <p:cNvGrpSpPr/>
            <p:nvPr/>
          </p:nvGrpSpPr>
          <p:grpSpPr>
            <a:xfrm>
              <a:off x="3563640" y="3701880"/>
              <a:ext cx="5579640" cy="368280"/>
              <a:chOff x="3563640" y="3701880"/>
              <a:chExt cx="5579640" cy="368280"/>
            </a:xfrm>
          </p:grpSpPr>
          <p:sp>
            <p:nvSpPr>
              <p:cNvPr id="1148" name="Text Box 8"/>
              <p:cNvSpPr/>
              <p:nvPr/>
            </p:nvSpPr>
            <p:spPr>
              <a:xfrm>
                <a:off x="3741480" y="370188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Declaración sobre medidas de BdP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 Narrow"/>
                  </a:rPr>
                  <a:t>(Art. XII, XVIII)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Oval 9"/>
              <p:cNvSpPr/>
              <p:nvPr/>
            </p:nvSpPr>
            <p:spPr>
              <a:xfrm>
                <a:off x="3563640" y="383976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Group 10"/>
            <p:cNvGrpSpPr/>
            <p:nvPr/>
          </p:nvGrpSpPr>
          <p:grpSpPr>
            <a:xfrm>
              <a:off x="3563640" y="3930480"/>
              <a:ext cx="5579640" cy="368280"/>
              <a:chOff x="3563640" y="3930480"/>
              <a:chExt cx="5579640" cy="368280"/>
            </a:xfrm>
          </p:grpSpPr>
          <p:sp>
            <p:nvSpPr>
              <p:cNvPr id="1151" name="Text Box 11"/>
              <p:cNvSpPr/>
              <p:nvPr/>
            </p:nvSpPr>
            <p:spPr>
              <a:xfrm>
                <a:off x="3741480" y="393048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Salvaguardias para objetivos de desarrollo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 Narrow"/>
                  </a:rPr>
                  <a:t>(XVIII)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Oval 12"/>
              <p:cNvSpPr/>
              <p:nvPr/>
            </p:nvSpPr>
            <p:spPr>
              <a:xfrm>
                <a:off x="3563640" y="406836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Group 13"/>
            <p:cNvGrpSpPr/>
            <p:nvPr/>
          </p:nvGrpSpPr>
          <p:grpSpPr>
            <a:xfrm>
              <a:off x="3563640" y="4143240"/>
              <a:ext cx="5579640" cy="368280"/>
              <a:chOff x="3563640" y="4143240"/>
              <a:chExt cx="5579640" cy="368280"/>
            </a:xfrm>
          </p:grpSpPr>
          <p:sp>
            <p:nvSpPr>
              <p:cNvPr id="1154" name="Text Box 14"/>
              <p:cNvSpPr/>
              <p:nvPr/>
            </p:nvSpPr>
            <p:spPr>
              <a:xfrm>
                <a:off x="3741480" y="414324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Memorandum sobre Solución de Diferencias (Art. XXII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Oval 15"/>
              <p:cNvSpPr/>
              <p:nvPr/>
            </p:nvSpPr>
            <p:spPr>
              <a:xfrm>
                <a:off x="3563640" y="428112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Group 16"/>
          <p:cNvGrpSpPr/>
          <p:nvPr/>
        </p:nvGrpSpPr>
        <p:grpSpPr>
          <a:xfrm>
            <a:off x="1752480" y="4815000"/>
            <a:ext cx="5867280" cy="1816200"/>
            <a:chOff x="1752480" y="4815000"/>
            <a:chExt cx="5867280" cy="1816200"/>
          </a:xfrm>
        </p:grpSpPr>
        <p:sp>
          <p:nvSpPr>
            <p:cNvPr id="1157" name="Text Box 17"/>
            <p:cNvSpPr/>
            <p:nvPr/>
          </p:nvSpPr>
          <p:spPr>
            <a:xfrm>
              <a:off x="1752480" y="4815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8080"/>
                  </a:solidFill>
                  <a:latin typeface="Arial Narrow"/>
                </a:rPr>
                <a:t>Acuerdos Plurilaterales (CODIGOS DE TOKIO)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Group 18"/>
            <p:cNvGrpSpPr/>
            <p:nvPr/>
          </p:nvGrpSpPr>
          <p:grpSpPr>
            <a:xfrm>
              <a:off x="1904760" y="5119920"/>
              <a:ext cx="5181480" cy="368280"/>
              <a:chOff x="1904760" y="5119920"/>
              <a:chExt cx="5181480" cy="368280"/>
            </a:xfrm>
          </p:grpSpPr>
          <p:sp>
            <p:nvSpPr>
              <p:cNvPr id="1159" name="Text Box 19"/>
              <p:cNvSpPr/>
              <p:nvPr/>
            </p:nvSpPr>
            <p:spPr>
              <a:xfrm>
                <a:off x="2070000" y="51199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Obstáculos Técnicos al Comercio (TBT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Oval 20"/>
              <p:cNvSpPr/>
              <p:nvPr/>
            </p:nvSpPr>
            <p:spPr>
              <a:xfrm>
                <a:off x="1904760" y="52578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Group 21"/>
            <p:cNvGrpSpPr/>
            <p:nvPr/>
          </p:nvGrpSpPr>
          <p:grpSpPr>
            <a:xfrm>
              <a:off x="1904760" y="5348520"/>
              <a:ext cx="5181480" cy="368280"/>
              <a:chOff x="1904760" y="5348520"/>
              <a:chExt cx="5181480" cy="368280"/>
            </a:xfrm>
          </p:grpSpPr>
          <p:sp>
            <p:nvSpPr>
              <p:cNvPr id="1162" name="Text Box 22"/>
              <p:cNvSpPr/>
              <p:nvPr/>
            </p:nvSpPr>
            <p:spPr>
              <a:xfrm>
                <a:off x="2070000" y="53485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Contratación Públic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Oval 23"/>
              <p:cNvSpPr/>
              <p:nvPr/>
            </p:nvSpPr>
            <p:spPr>
              <a:xfrm>
                <a:off x="1904760" y="54864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Group 24"/>
            <p:cNvGrpSpPr/>
            <p:nvPr/>
          </p:nvGrpSpPr>
          <p:grpSpPr>
            <a:xfrm>
              <a:off x="1904760" y="5577120"/>
              <a:ext cx="5181480" cy="368280"/>
              <a:chOff x="1904760" y="5577120"/>
              <a:chExt cx="5181480" cy="368280"/>
            </a:xfrm>
          </p:grpSpPr>
          <p:sp>
            <p:nvSpPr>
              <p:cNvPr id="1165" name="Text Box 25"/>
              <p:cNvSpPr/>
              <p:nvPr/>
            </p:nvSpPr>
            <p:spPr>
              <a:xfrm>
                <a:off x="2070000" y="55771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Subvenciones (Art. VI, XVI, XXII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Oval 26"/>
              <p:cNvSpPr/>
              <p:nvPr/>
            </p:nvSpPr>
            <p:spPr>
              <a:xfrm>
                <a:off x="1904760" y="57150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27"/>
            <p:cNvGrpSpPr/>
            <p:nvPr/>
          </p:nvGrpSpPr>
          <p:grpSpPr>
            <a:xfrm>
              <a:off x="1904760" y="5805720"/>
              <a:ext cx="5181480" cy="368280"/>
              <a:chOff x="1904760" y="5805720"/>
              <a:chExt cx="5181480" cy="368280"/>
            </a:xfrm>
          </p:grpSpPr>
          <p:sp>
            <p:nvSpPr>
              <p:cNvPr id="1168" name="Text Box 28"/>
              <p:cNvSpPr/>
              <p:nvPr/>
            </p:nvSpPr>
            <p:spPr>
              <a:xfrm>
                <a:off x="2070000" y="58057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Valoración en Aduana (Art. VI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Oval 29"/>
              <p:cNvSpPr/>
              <p:nvPr/>
            </p:nvSpPr>
            <p:spPr>
              <a:xfrm>
                <a:off x="1904760" y="59436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Group 30"/>
            <p:cNvGrpSpPr/>
            <p:nvPr/>
          </p:nvGrpSpPr>
          <p:grpSpPr>
            <a:xfrm>
              <a:off x="1904760" y="6034320"/>
              <a:ext cx="5181480" cy="368280"/>
              <a:chOff x="1904760" y="6034320"/>
              <a:chExt cx="5181480" cy="368280"/>
            </a:xfrm>
          </p:grpSpPr>
          <p:sp>
            <p:nvSpPr>
              <p:cNvPr id="1171" name="Text Box 31"/>
              <p:cNvSpPr/>
              <p:nvPr/>
            </p:nvSpPr>
            <p:spPr>
              <a:xfrm>
                <a:off x="2070000" y="60343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rámite de licencias de importación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Oval 32"/>
              <p:cNvSpPr/>
              <p:nvPr/>
            </p:nvSpPr>
            <p:spPr>
              <a:xfrm>
                <a:off x="1904760" y="61722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Group 33"/>
            <p:cNvGrpSpPr/>
            <p:nvPr/>
          </p:nvGrpSpPr>
          <p:grpSpPr>
            <a:xfrm>
              <a:off x="1904760" y="6262920"/>
              <a:ext cx="5181480" cy="368280"/>
              <a:chOff x="1904760" y="6262920"/>
              <a:chExt cx="5181480" cy="368280"/>
            </a:xfrm>
          </p:grpSpPr>
          <p:sp>
            <p:nvSpPr>
              <p:cNvPr id="1174" name="Text Box 34"/>
              <p:cNvSpPr/>
              <p:nvPr/>
            </p:nvSpPr>
            <p:spPr>
              <a:xfrm>
                <a:off x="2070000" y="62629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Antidumping (Art. V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Oval 35"/>
              <p:cNvSpPr/>
              <p:nvPr/>
            </p:nvSpPr>
            <p:spPr>
              <a:xfrm>
                <a:off x="1904760" y="64008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6" name="Group 36"/>
          <p:cNvGrpSpPr/>
          <p:nvPr/>
        </p:nvGrpSpPr>
        <p:grpSpPr>
          <a:xfrm>
            <a:off x="6012000" y="5184720"/>
            <a:ext cx="5867280" cy="1141200"/>
            <a:chOff x="6012000" y="5184720"/>
            <a:chExt cx="5867280" cy="1141200"/>
          </a:xfrm>
        </p:grpSpPr>
        <p:sp>
          <p:nvSpPr>
            <p:cNvPr id="1177" name="Text Box 37"/>
            <p:cNvSpPr/>
            <p:nvPr/>
          </p:nvSpPr>
          <p:spPr>
            <a:xfrm>
              <a:off x="6012000" y="518472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8080"/>
                  </a:solidFill>
                  <a:latin typeface="Arial Narrow"/>
                </a:rPr>
                <a:t>Acuerdos Sectoriales (pluril.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Group 38"/>
            <p:cNvGrpSpPr/>
            <p:nvPr/>
          </p:nvGrpSpPr>
          <p:grpSpPr>
            <a:xfrm>
              <a:off x="6164280" y="5500440"/>
              <a:ext cx="5180760" cy="368280"/>
              <a:chOff x="6164280" y="5500440"/>
              <a:chExt cx="5180760" cy="368280"/>
            </a:xfrm>
          </p:grpSpPr>
          <p:sp>
            <p:nvSpPr>
              <p:cNvPr id="1179" name="Text Box 39"/>
              <p:cNvSpPr/>
              <p:nvPr/>
            </p:nvSpPr>
            <p:spPr>
              <a:xfrm>
                <a:off x="6329520" y="5500440"/>
                <a:ext cx="501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Carne Bovin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Oval 40"/>
              <p:cNvSpPr/>
              <p:nvPr/>
            </p:nvSpPr>
            <p:spPr>
              <a:xfrm>
                <a:off x="6164280" y="563832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41"/>
            <p:cNvGrpSpPr/>
            <p:nvPr/>
          </p:nvGrpSpPr>
          <p:grpSpPr>
            <a:xfrm>
              <a:off x="6164280" y="5729040"/>
              <a:ext cx="5180760" cy="368280"/>
              <a:chOff x="6164280" y="5729040"/>
              <a:chExt cx="5180760" cy="368280"/>
            </a:xfrm>
          </p:grpSpPr>
          <p:sp>
            <p:nvSpPr>
              <p:cNvPr id="1182" name="Text Box 42"/>
              <p:cNvSpPr/>
              <p:nvPr/>
            </p:nvSpPr>
            <p:spPr>
              <a:xfrm>
                <a:off x="6329520" y="5729040"/>
                <a:ext cx="501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Productos Lácteo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Oval 43"/>
              <p:cNvSpPr/>
              <p:nvPr/>
            </p:nvSpPr>
            <p:spPr>
              <a:xfrm>
                <a:off x="6164280" y="586692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Group 44"/>
            <p:cNvGrpSpPr/>
            <p:nvPr/>
          </p:nvGrpSpPr>
          <p:grpSpPr>
            <a:xfrm>
              <a:off x="6164280" y="5957640"/>
              <a:ext cx="5180760" cy="368280"/>
              <a:chOff x="6164280" y="5957640"/>
              <a:chExt cx="5180760" cy="368280"/>
            </a:xfrm>
          </p:grpSpPr>
          <p:sp>
            <p:nvSpPr>
              <p:cNvPr id="1185" name="Text Box 45"/>
              <p:cNvSpPr/>
              <p:nvPr/>
            </p:nvSpPr>
            <p:spPr>
              <a:xfrm>
                <a:off x="6329520" y="5957640"/>
                <a:ext cx="501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Aeronaves civile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Oval 46"/>
              <p:cNvSpPr/>
              <p:nvPr/>
            </p:nvSpPr>
            <p:spPr>
              <a:xfrm>
                <a:off x="6164280" y="609552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Group 47"/>
          <p:cNvGrpSpPr/>
          <p:nvPr/>
        </p:nvGrpSpPr>
        <p:grpSpPr>
          <a:xfrm>
            <a:off x="76320" y="2449440"/>
            <a:ext cx="952560" cy="3962160"/>
            <a:chOff x="76320" y="2449440"/>
            <a:chExt cx="952560" cy="3962160"/>
          </a:xfrm>
        </p:grpSpPr>
        <p:grpSp>
          <p:nvGrpSpPr>
            <p:cNvPr id="1188" name="Group 48"/>
            <p:cNvGrpSpPr/>
            <p:nvPr/>
          </p:nvGrpSpPr>
          <p:grpSpPr>
            <a:xfrm>
              <a:off x="76320" y="2449440"/>
              <a:ext cx="952560" cy="3962160"/>
              <a:chOff x="76320" y="2449440"/>
              <a:chExt cx="952560" cy="3962160"/>
            </a:xfrm>
          </p:grpSpPr>
          <p:sp>
            <p:nvSpPr>
              <p:cNvPr id="1189" name="Freeform 49"/>
              <p:cNvSpPr/>
              <p:nvPr/>
            </p:nvSpPr>
            <p:spPr>
              <a:xfrm>
                <a:off x="152640" y="2678040"/>
                <a:ext cx="80460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90" name="Object 50"/>
              <p:cNvGraphicFramePr/>
              <p:nvPr/>
            </p:nvGraphicFramePr>
            <p:xfrm>
              <a:off x="76320" y="2449440"/>
              <a:ext cx="952560" cy="3962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91" name="Object 5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320" y="2449440"/>
                        <a:ext cx="95256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92" name="Text Box 51"/>
            <p:cNvSpPr/>
            <p:nvPr/>
          </p:nvSpPr>
          <p:spPr>
            <a:xfrm rot="16200000">
              <a:off x="-857160" y="450036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GATT 194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Group 52"/>
          <p:cNvGrpSpPr/>
          <p:nvPr/>
        </p:nvGrpSpPr>
        <p:grpSpPr>
          <a:xfrm>
            <a:off x="1295280" y="1157400"/>
            <a:ext cx="7848720" cy="398880"/>
            <a:chOff x="1295280" y="1157400"/>
            <a:chExt cx="7848720" cy="398880"/>
          </a:xfrm>
        </p:grpSpPr>
        <p:sp>
          <p:nvSpPr>
            <p:cNvPr id="1194" name="Text Box 53"/>
            <p:cNvSpPr/>
            <p:nvPr/>
          </p:nvSpPr>
          <p:spPr>
            <a:xfrm>
              <a:off x="3200400" y="115740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Annecy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Text Box 54"/>
            <p:cNvSpPr/>
            <p:nvPr/>
          </p:nvSpPr>
          <p:spPr>
            <a:xfrm>
              <a:off x="1295280" y="115740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4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Group 55"/>
          <p:cNvGrpSpPr/>
          <p:nvPr/>
        </p:nvGrpSpPr>
        <p:grpSpPr>
          <a:xfrm>
            <a:off x="1295280" y="1461960"/>
            <a:ext cx="7848720" cy="398880"/>
            <a:chOff x="1295280" y="1461960"/>
            <a:chExt cx="7848720" cy="398880"/>
          </a:xfrm>
        </p:grpSpPr>
        <p:sp>
          <p:nvSpPr>
            <p:cNvPr id="1197" name="Text Box 56"/>
            <p:cNvSpPr/>
            <p:nvPr/>
          </p:nvSpPr>
          <p:spPr>
            <a:xfrm>
              <a:off x="3200400" y="146196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Torquay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Text Box 57"/>
            <p:cNvSpPr/>
            <p:nvPr/>
          </p:nvSpPr>
          <p:spPr>
            <a:xfrm>
              <a:off x="1295280" y="146196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5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Group 58"/>
          <p:cNvGrpSpPr/>
          <p:nvPr/>
        </p:nvGrpSpPr>
        <p:grpSpPr>
          <a:xfrm>
            <a:off x="1295280" y="1785960"/>
            <a:ext cx="7848720" cy="398880"/>
            <a:chOff x="1295280" y="1785960"/>
            <a:chExt cx="7848720" cy="398880"/>
          </a:xfrm>
        </p:grpSpPr>
        <p:sp>
          <p:nvSpPr>
            <p:cNvPr id="1200" name="Text Box 59"/>
            <p:cNvSpPr/>
            <p:nvPr/>
          </p:nvSpPr>
          <p:spPr>
            <a:xfrm>
              <a:off x="3200400" y="178596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Ginebra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Text Box 60"/>
            <p:cNvSpPr/>
            <p:nvPr/>
          </p:nvSpPr>
          <p:spPr>
            <a:xfrm>
              <a:off x="1295280" y="178596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Group 61"/>
          <p:cNvGrpSpPr/>
          <p:nvPr/>
        </p:nvGrpSpPr>
        <p:grpSpPr>
          <a:xfrm>
            <a:off x="1295280" y="2090880"/>
            <a:ext cx="7848720" cy="401760"/>
            <a:chOff x="1295280" y="2090880"/>
            <a:chExt cx="7848720" cy="401760"/>
          </a:xfrm>
        </p:grpSpPr>
        <p:sp>
          <p:nvSpPr>
            <p:cNvPr id="1203" name="Text Box 62"/>
            <p:cNvSpPr/>
            <p:nvPr/>
          </p:nvSpPr>
          <p:spPr>
            <a:xfrm>
              <a:off x="3200400" y="212436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Dillon” - Gineb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Text Box 63"/>
            <p:cNvSpPr/>
            <p:nvPr/>
          </p:nvSpPr>
          <p:spPr>
            <a:xfrm>
              <a:off x="1295280" y="209088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60-6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Group 64"/>
          <p:cNvGrpSpPr/>
          <p:nvPr/>
        </p:nvGrpSpPr>
        <p:grpSpPr>
          <a:xfrm>
            <a:off x="1295280" y="2395440"/>
            <a:ext cx="7848720" cy="401760"/>
            <a:chOff x="1295280" y="2395440"/>
            <a:chExt cx="7848720" cy="401760"/>
          </a:xfrm>
        </p:grpSpPr>
        <p:sp>
          <p:nvSpPr>
            <p:cNvPr id="1206" name="Text Box 65"/>
            <p:cNvSpPr/>
            <p:nvPr/>
          </p:nvSpPr>
          <p:spPr>
            <a:xfrm>
              <a:off x="3200400" y="242892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Kennedy” - Gineb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66"/>
            <p:cNvSpPr/>
            <p:nvPr/>
          </p:nvSpPr>
          <p:spPr>
            <a:xfrm>
              <a:off x="1295280" y="239544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64-6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Text Box 67"/>
          <p:cNvSpPr/>
          <p:nvPr/>
        </p:nvSpPr>
        <p:spPr>
          <a:xfrm>
            <a:off x="3276720" y="77616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00000"/>
                </a:solidFill>
                <a:latin typeface="Arial Narrow"/>
              </a:rPr>
              <a:t>Entrada en vigor del GATT (aplicación provisiona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68"/>
          <p:cNvSpPr/>
          <p:nvPr/>
        </p:nvSpPr>
        <p:spPr>
          <a:xfrm>
            <a:off x="1295280" y="776160"/>
            <a:ext cx="1905120" cy="39888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1 Enero 194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69"/>
          <p:cNvSpPr/>
          <p:nvPr/>
        </p:nvSpPr>
        <p:spPr>
          <a:xfrm>
            <a:off x="7380360" y="1160640"/>
            <a:ext cx="16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70"/>
          <p:cNvSpPr/>
          <p:nvPr/>
        </p:nvSpPr>
        <p:spPr>
          <a:xfrm>
            <a:off x="7596360" y="149544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7596360" y="180036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72"/>
          <p:cNvSpPr/>
          <p:nvPr/>
        </p:nvSpPr>
        <p:spPr>
          <a:xfrm>
            <a:off x="7451640" y="209088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3"/>
          <p:cNvSpPr/>
          <p:nvPr/>
        </p:nvSpPr>
        <p:spPr>
          <a:xfrm>
            <a:off x="6804000" y="240984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MNAs - 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4"/>
          <p:cNvSpPr/>
          <p:nvPr/>
        </p:nvSpPr>
        <p:spPr>
          <a:xfrm>
            <a:off x="7020000" y="27147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MNAs - 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75"/>
          <p:cNvGrpSpPr/>
          <p:nvPr/>
        </p:nvGrpSpPr>
        <p:grpSpPr>
          <a:xfrm>
            <a:off x="1295280" y="2690640"/>
            <a:ext cx="7848720" cy="401760"/>
            <a:chOff x="1295280" y="2690640"/>
            <a:chExt cx="7848720" cy="401760"/>
          </a:xfrm>
        </p:grpSpPr>
        <p:sp>
          <p:nvSpPr>
            <p:cNvPr id="1217" name="Text Box 76"/>
            <p:cNvSpPr/>
            <p:nvPr/>
          </p:nvSpPr>
          <p:spPr>
            <a:xfrm>
              <a:off x="3200400" y="272412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de Tokio” - Gineb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Text Box 77"/>
            <p:cNvSpPr/>
            <p:nvPr/>
          </p:nvSpPr>
          <p:spPr>
            <a:xfrm>
              <a:off x="1295280" y="269064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73-7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2"/>
          <p:cNvSpPr/>
          <p:nvPr/>
        </p:nvSpPr>
        <p:spPr>
          <a:xfrm>
            <a:off x="12600" y="6324480"/>
            <a:ext cx="8458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3"/>
          <p:cNvGrpSpPr/>
          <p:nvPr/>
        </p:nvGrpSpPr>
        <p:grpSpPr>
          <a:xfrm>
            <a:off x="395280" y="1992240"/>
            <a:ext cx="8456400" cy="4357440"/>
            <a:chOff x="395280" y="1992240"/>
            <a:chExt cx="8456400" cy="4357440"/>
          </a:xfrm>
        </p:grpSpPr>
        <p:grpSp>
          <p:nvGrpSpPr>
            <p:cNvPr id="1221" name="Group 4"/>
            <p:cNvGrpSpPr/>
            <p:nvPr/>
          </p:nvGrpSpPr>
          <p:grpSpPr>
            <a:xfrm>
              <a:off x="395280" y="2453040"/>
              <a:ext cx="904680" cy="3762360"/>
              <a:chOff x="395280" y="2453040"/>
              <a:chExt cx="904680" cy="3762360"/>
            </a:xfrm>
          </p:grpSpPr>
          <p:grpSp>
            <p:nvGrpSpPr>
              <p:cNvPr id="1222" name="Group 5"/>
              <p:cNvGrpSpPr/>
              <p:nvPr/>
            </p:nvGrpSpPr>
            <p:grpSpPr>
              <a:xfrm>
                <a:off x="395280" y="2453040"/>
                <a:ext cx="904680" cy="3762360"/>
                <a:chOff x="395280" y="2453040"/>
                <a:chExt cx="904680" cy="3762360"/>
              </a:xfrm>
            </p:grpSpPr>
            <p:sp>
              <p:nvSpPr>
                <p:cNvPr id="1223" name="Freeform 6"/>
                <p:cNvSpPr/>
                <p:nvPr/>
              </p:nvSpPr>
              <p:spPr>
                <a:xfrm>
                  <a:off x="467640" y="2669760"/>
                  <a:ext cx="76392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24" name="Object 7"/>
                <p:cNvGraphicFramePr/>
                <p:nvPr/>
              </p:nvGraphicFramePr>
              <p:xfrm>
                <a:off x="395280" y="2453040"/>
                <a:ext cx="904680" cy="37623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25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95280" y="2453040"/>
                          <a:ext cx="904680" cy="37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226" name="Text Box 8"/>
              <p:cNvSpPr/>
              <p:nvPr/>
            </p:nvSpPr>
            <p:spPr>
              <a:xfrm rot="16200000">
                <a:off x="-479160" y="4365720"/>
                <a:ext cx="23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GATT 1947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Group 9"/>
            <p:cNvGrpSpPr/>
            <p:nvPr/>
          </p:nvGrpSpPr>
          <p:grpSpPr>
            <a:xfrm>
              <a:off x="889560" y="2586960"/>
              <a:ext cx="904680" cy="3762720"/>
              <a:chOff x="889560" y="2586960"/>
              <a:chExt cx="904680" cy="3762720"/>
            </a:xfrm>
          </p:grpSpPr>
          <p:grpSp>
            <p:nvGrpSpPr>
              <p:cNvPr id="1228" name="Group 10"/>
              <p:cNvGrpSpPr/>
              <p:nvPr/>
            </p:nvGrpSpPr>
            <p:grpSpPr>
              <a:xfrm>
                <a:off x="889560" y="2586960"/>
                <a:ext cx="904680" cy="3762720"/>
                <a:chOff x="889560" y="2586960"/>
                <a:chExt cx="904680" cy="3762720"/>
              </a:xfrm>
            </p:grpSpPr>
            <p:sp>
              <p:nvSpPr>
                <p:cNvPr id="1229" name="Freeform 11"/>
                <p:cNvSpPr/>
                <p:nvPr/>
              </p:nvSpPr>
              <p:spPr>
                <a:xfrm>
                  <a:off x="961920" y="2804040"/>
                  <a:ext cx="76392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30" name="Object 12"/>
                <p:cNvGraphicFramePr/>
                <p:nvPr/>
              </p:nvGraphicFramePr>
              <p:xfrm>
                <a:off x="889560" y="2586960"/>
                <a:ext cx="904680" cy="37627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31" name="Object 12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89560" y="2586960"/>
                          <a:ext cx="904680" cy="376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232" name="Text Box 13"/>
              <p:cNvSpPr/>
              <p:nvPr/>
            </p:nvSpPr>
            <p:spPr>
              <a:xfrm rot="16200000">
                <a:off x="18000" y="4520880"/>
                <a:ext cx="238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Protocolo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Group 14"/>
            <p:cNvGrpSpPr/>
            <p:nvPr/>
          </p:nvGrpSpPr>
          <p:grpSpPr>
            <a:xfrm>
              <a:off x="1565280" y="2453040"/>
              <a:ext cx="904680" cy="3762360"/>
              <a:chOff x="1565280" y="2453040"/>
              <a:chExt cx="904680" cy="3762360"/>
            </a:xfrm>
          </p:grpSpPr>
          <p:grpSp>
            <p:nvGrpSpPr>
              <p:cNvPr id="1234" name="Group 15"/>
              <p:cNvGrpSpPr/>
              <p:nvPr/>
            </p:nvGrpSpPr>
            <p:grpSpPr>
              <a:xfrm>
                <a:off x="1565280" y="2453040"/>
                <a:ext cx="904680" cy="3762360"/>
                <a:chOff x="1565280" y="2453040"/>
                <a:chExt cx="904680" cy="3762360"/>
              </a:xfrm>
            </p:grpSpPr>
            <p:sp>
              <p:nvSpPr>
                <p:cNvPr id="1235" name="Freeform 16"/>
                <p:cNvSpPr/>
                <p:nvPr/>
              </p:nvSpPr>
              <p:spPr>
                <a:xfrm>
                  <a:off x="1637640" y="2669760"/>
                  <a:ext cx="76392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36" name="Object 17"/>
                <p:cNvGraphicFramePr/>
                <p:nvPr/>
              </p:nvGraphicFramePr>
              <p:xfrm>
                <a:off x="1565280" y="2453040"/>
                <a:ext cx="904680" cy="3762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237" name="Object 17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565280" y="2453040"/>
                          <a:ext cx="904680" cy="37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238" name="Text Box 18"/>
              <p:cNvSpPr/>
              <p:nvPr/>
            </p:nvSpPr>
            <p:spPr>
              <a:xfrm rot="16200000">
                <a:off x="668160" y="4327920"/>
                <a:ext cx="2385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</a:rPr>
                  <a:t>Protocolos de Adhesión                        al GATT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Group 19"/>
            <p:cNvGrpSpPr/>
            <p:nvPr/>
          </p:nvGrpSpPr>
          <p:grpSpPr>
            <a:xfrm>
              <a:off x="2059920" y="2443680"/>
              <a:ext cx="904680" cy="3762720"/>
              <a:chOff x="2059920" y="2443680"/>
              <a:chExt cx="904680" cy="3762720"/>
            </a:xfrm>
          </p:grpSpPr>
          <p:grpSp>
            <p:nvGrpSpPr>
              <p:cNvPr id="1240" name="Group 20"/>
              <p:cNvGrpSpPr/>
              <p:nvPr/>
            </p:nvGrpSpPr>
            <p:grpSpPr>
              <a:xfrm>
                <a:off x="2059920" y="2443680"/>
                <a:ext cx="904680" cy="3762720"/>
                <a:chOff x="2059920" y="2443680"/>
                <a:chExt cx="904680" cy="3762720"/>
              </a:xfrm>
            </p:grpSpPr>
            <p:sp>
              <p:nvSpPr>
                <p:cNvPr id="1241" name="Freeform 21"/>
                <p:cNvSpPr/>
                <p:nvPr/>
              </p:nvSpPr>
              <p:spPr>
                <a:xfrm>
                  <a:off x="2132280" y="2660760"/>
                  <a:ext cx="76428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42" name="Object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59920" y="2443680"/>
                  <a:ext cx="904680" cy="376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3" name="Text Box 23"/>
              <p:cNvSpPr/>
              <p:nvPr/>
            </p:nvSpPr>
            <p:spPr>
              <a:xfrm rot="16200000">
                <a:off x="1152360" y="4303080"/>
                <a:ext cx="24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</a:rPr>
                  <a:t>Decisiones de PPCC del GATT</a:t>
                </a:r>
                <a:br>
                  <a:rPr sz="1200"/>
                </a:b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</a:rPr>
                  <a:t>(1947-1994)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24"/>
            <p:cNvGrpSpPr/>
            <p:nvPr/>
          </p:nvGrpSpPr>
          <p:grpSpPr>
            <a:xfrm>
              <a:off x="2538000" y="2659320"/>
              <a:ext cx="1031040" cy="3454920"/>
              <a:chOff x="2538000" y="2659320"/>
              <a:chExt cx="1031040" cy="3454920"/>
            </a:xfrm>
          </p:grpSpPr>
          <p:grpSp>
            <p:nvGrpSpPr>
              <p:cNvPr id="1245" name="Group 25"/>
              <p:cNvGrpSpPr/>
              <p:nvPr/>
            </p:nvGrpSpPr>
            <p:grpSpPr>
              <a:xfrm>
                <a:off x="2538000" y="2659320"/>
                <a:ext cx="1031040" cy="3454920"/>
                <a:chOff x="2538000" y="2659320"/>
                <a:chExt cx="1031040" cy="3454920"/>
              </a:xfrm>
            </p:grpSpPr>
            <p:grpSp>
              <p:nvGrpSpPr>
                <p:cNvPr id="1246" name="Group 26"/>
                <p:cNvGrpSpPr/>
                <p:nvPr/>
              </p:nvGrpSpPr>
              <p:grpSpPr>
                <a:xfrm>
                  <a:off x="2538000" y="2659320"/>
                  <a:ext cx="1031040" cy="3454920"/>
                  <a:chOff x="2538000" y="2659320"/>
                  <a:chExt cx="1031040" cy="3454920"/>
                </a:xfrm>
              </p:grpSpPr>
              <p:sp>
                <p:nvSpPr>
                  <p:cNvPr id="1247" name="Freeform 27"/>
                  <p:cNvSpPr/>
                  <p:nvPr/>
                </p:nvSpPr>
                <p:spPr>
                  <a:xfrm>
                    <a:off x="2685240" y="2794680"/>
                    <a:ext cx="60408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48" name="Object 28"/>
                  <p:cNvGraphicFramePr/>
                  <p:nvPr/>
                </p:nvGraphicFramePr>
                <p:xfrm>
                  <a:off x="2538000" y="2659320"/>
                  <a:ext cx="1031040" cy="345492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1249" name="Object 28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2538000" y="2659320"/>
                            <a:ext cx="103104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50" name="Text Box 29"/>
                <p:cNvSpPr/>
                <p:nvPr/>
              </p:nvSpPr>
              <p:spPr>
                <a:xfrm rot="16200000">
                  <a:off x="1747440" y="4417200"/>
                  <a:ext cx="22564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Text Box 30"/>
              <p:cNvSpPr/>
              <p:nvPr/>
            </p:nvSpPr>
            <p:spPr>
              <a:xfrm>
                <a:off x="2732400" y="3221280"/>
                <a:ext cx="287640" cy="3373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Group 31"/>
            <p:cNvGrpSpPr/>
            <p:nvPr/>
          </p:nvGrpSpPr>
          <p:grpSpPr>
            <a:xfrm>
              <a:off x="3014640" y="2659320"/>
              <a:ext cx="1031040" cy="3454920"/>
              <a:chOff x="3014640" y="2659320"/>
              <a:chExt cx="1031040" cy="3454920"/>
            </a:xfrm>
          </p:grpSpPr>
          <p:grpSp>
            <p:nvGrpSpPr>
              <p:cNvPr id="1253" name="Group 32"/>
              <p:cNvGrpSpPr/>
              <p:nvPr/>
            </p:nvGrpSpPr>
            <p:grpSpPr>
              <a:xfrm>
                <a:off x="3014640" y="2659320"/>
                <a:ext cx="1031040" cy="3454920"/>
                <a:chOff x="3014640" y="2659320"/>
                <a:chExt cx="1031040" cy="3454920"/>
              </a:xfrm>
            </p:grpSpPr>
            <p:grpSp>
              <p:nvGrpSpPr>
                <p:cNvPr id="1254" name="Group 33"/>
                <p:cNvGrpSpPr/>
                <p:nvPr/>
              </p:nvGrpSpPr>
              <p:grpSpPr>
                <a:xfrm>
                  <a:off x="3014640" y="2659320"/>
                  <a:ext cx="1031040" cy="3454920"/>
                  <a:chOff x="3014640" y="2659320"/>
                  <a:chExt cx="1031040" cy="3454920"/>
                </a:xfrm>
              </p:grpSpPr>
              <p:sp>
                <p:nvSpPr>
                  <p:cNvPr id="1255" name="Freeform 34"/>
                  <p:cNvSpPr/>
                  <p:nvPr/>
                </p:nvSpPr>
                <p:spPr>
                  <a:xfrm>
                    <a:off x="3161880" y="2794680"/>
                    <a:ext cx="60408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56" name="Object 35"/>
                  <p:cNvGraphicFramePr/>
                  <p:nvPr/>
                </p:nvGraphicFramePr>
                <p:xfrm>
                  <a:off x="3014640" y="2659320"/>
                  <a:ext cx="1031040" cy="3454920"/>
                </p:xfrm>
                <a:graphic>
                  <a:graphicData uri="http://schemas.openxmlformats.org/presentationml/2006/ole">
                    <p:oleObj r:id="rId10" spid="">
                      <p:embed/>
                      <p:pic>
                        <p:nvPicPr>
                          <p:cNvPr id="1257" name="Object 35" descr=""/>
                          <p:cNvPicPr/>
                          <p:nvPr/>
                        </p:nvPicPr>
                        <p:blipFill>
                          <a:blip r:embed="rId11"/>
                          <a:stretch/>
                        </p:blipFill>
                        <p:spPr>
                          <a:xfrm>
                            <a:off x="3014640" y="2659320"/>
                            <a:ext cx="103104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58" name="Text Box 36"/>
                <p:cNvSpPr/>
                <p:nvPr/>
              </p:nvSpPr>
              <p:spPr>
                <a:xfrm rot="16200000">
                  <a:off x="2222280" y="4416480"/>
                  <a:ext cx="22582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9" name="Text Box 37"/>
              <p:cNvSpPr/>
              <p:nvPr/>
            </p:nvSpPr>
            <p:spPr>
              <a:xfrm>
                <a:off x="3195360" y="3221280"/>
                <a:ext cx="28944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Group 38"/>
            <p:cNvGrpSpPr/>
            <p:nvPr/>
          </p:nvGrpSpPr>
          <p:grpSpPr>
            <a:xfrm>
              <a:off x="3479040" y="2659320"/>
              <a:ext cx="1032480" cy="3454920"/>
              <a:chOff x="3479040" y="2659320"/>
              <a:chExt cx="1032480" cy="3454920"/>
            </a:xfrm>
          </p:grpSpPr>
          <p:grpSp>
            <p:nvGrpSpPr>
              <p:cNvPr id="1261" name="Group 39"/>
              <p:cNvGrpSpPr/>
              <p:nvPr/>
            </p:nvGrpSpPr>
            <p:grpSpPr>
              <a:xfrm>
                <a:off x="3479040" y="2659320"/>
                <a:ext cx="1032480" cy="3454920"/>
                <a:chOff x="3479040" y="2659320"/>
                <a:chExt cx="1032480" cy="3454920"/>
              </a:xfrm>
            </p:grpSpPr>
            <p:grpSp>
              <p:nvGrpSpPr>
                <p:cNvPr id="1262" name="Group 40"/>
                <p:cNvGrpSpPr/>
                <p:nvPr/>
              </p:nvGrpSpPr>
              <p:grpSpPr>
                <a:xfrm>
                  <a:off x="3479040" y="2659320"/>
                  <a:ext cx="1032480" cy="3454920"/>
                  <a:chOff x="3479040" y="2659320"/>
                  <a:chExt cx="1032480" cy="3454920"/>
                </a:xfrm>
              </p:grpSpPr>
              <p:sp>
                <p:nvSpPr>
                  <p:cNvPr id="1263" name="Freeform 41"/>
                  <p:cNvSpPr/>
                  <p:nvPr/>
                </p:nvSpPr>
                <p:spPr>
                  <a:xfrm>
                    <a:off x="3626640" y="2794680"/>
                    <a:ext cx="60480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64" name="Object 42"/>
                  <p:cNvGraphicFramePr/>
                  <p:nvPr/>
                </p:nvGraphicFramePr>
                <p:xfrm>
                  <a:off x="3479040" y="2659320"/>
                  <a:ext cx="1032480" cy="345492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1265" name="Object 42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3479040" y="2659320"/>
                            <a:ext cx="103248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66" name="Text Box 43"/>
                <p:cNvSpPr/>
                <p:nvPr/>
              </p:nvSpPr>
              <p:spPr>
                <a:xfrm rot="16200000">
                  <a:off x="2698560" y="4441320"/>
                  <a:ext cx="2236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7" name="Text Box 44"/>
              <p:cNvSpPr/>
              <p:nvPr/>
            </p:nvSpPr>
            <p:spPr>
              <a:xfrm>
                <a:off x="3650760" y="3213720"/>
                <a:ext cx="289080" cy="33732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Group 45"/>
            <p:cNvGrpSpPr/>
            <p:nvPr/>
          </p:nvGrpSpPr>
          <p:grpSpPr>
            <a:xfrm>
              <a:off x="3946320" y="2659320"/>
              <a:ext cx="1032840" cy="3454920"/>
              <a:chOff x="3946320" y="2659320"/>
              <a:chExt cx="1032840" cy="3454920"/>
            </a:xfrm>
          </p:grpSpPr>
          <p:grpSp>
            <p:nvGrpSpPr>
              <p:cNvPr id="1269" name="Group 46"/>
              <p:cNvGrpSpPr/>
              <p:nvPr/>
            </p:nvGrpSpPr>
            <p:grpSpPr>
              <a:xfrm>
                <a:off x="3946320" y="2659320"/>
                <a:ext cx="1032840" cy="3454920"/>
                <a:chOff x="3946320" y="2659320"/>
                <a:chExt cx="1032840" cy="3454920"/>
              </a:xfrm>
            </p:grpSpPr>
            <p:grpSp>
              <p:nvGrpSpPr>
                <p:cNvPr id="1270" name="Group 47"/>
                <p:cNvGrpSpPr/>
                <p:nvPr/>
              </p:nvGrpSpPr>
              <p:grpSpPr>
                <a:xfrm>
                  <a:off x="3946320" y="2659320"/>
                  <a:ext cx="1032840" cy="3454920"/>
                  <a:chOff x="3946320" y="2659320"/>
                  <a:chExt cx="1032840" cy="3454920"/>
                </a:xfrm>
              </p:grpSpPr>
              <p:sp>
                <p:nvSpPr>
                  <p:cNvPr id="1271" name="Freeform 48"/>
                  <p:cNvSpPr/>
                  <p:nvPr/>
                </p:nvSpPr>
                <p:spPr>
                  <a:xfrm>
                    <a:off x="4093920" y="2794680"/>
                    <a:ext cx="60516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72" name="Object 49"/>
                  <p:cNvGraphicFramePr/>
                  <p:nvPr/>
                </p:nvGraphicFramePr>
                <p:xfrm>
                  <a:off x="3946320" y="2659320"/>
                  <a:ext cx="1032840" cy="345492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1273" name="Object 49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3946320" y="2659320"/>
                            <a:ext cx="103284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74" name="Text Box 50"/>
                <p:cNvSpPr/>
                <p:nvPr/>
              </p:nvSpPr>
              <p:spPr>
                <a:xfrm rot="16200000">
                  <a:off x="3174120" y="4413600"/>
                  <a:ext cx="2232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Text Box 51"/>
              <p:cNvSpPr/>
              <p:nvPr/>
            </p:nvSpPr>
            <p:spPr>
              <a:xfrm>
                <a:off x="4109040" y="3225960"/>
                <a:ext cx="289440" cy="3373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52"/>
            <p:cNvGrpSpPr/>
            <p:nvPr/>
          </p:nvGrpSpPr>
          <p:grpSpPr>
            <a:xfrm>
              <a:off x="4400280" y="2442240"/>
              <a:ext cx="904680" cy="3762360"/>
              <a:chOff x="4400280" y="2442240"/>
              <a:chExt cx="904680" cy="3762360"/>
            </a:xfrm>
          </p:grpSpPr>
          <p:sp>
            <p:nvSpPr>
              <p:cNvPr id="1277" name="Freeform 53"/>
              <p:cNvSpPr/>
              <p:nvPr/>
            </p:nvSpPr>
            <p:spPr>
              <a:xfrm>
                <a:off x="447228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78" name="Object 54"/>
              <p:cNvGraphicFramePr/>
              <p:nvPr/>
            </p:nvGraphicFramePr>
            <p:xfrm>
              <a:off x="4400280" y="2442240"/>
              <a:ext cx="904680" cy="376236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1279" name="Object 54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4400280" y="2442240"/>
                        <a:ext cx="90468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0" name="Text Box 55"/>
              <p:cNvSpPr/>
              <p:nvPr/>
            </p:nvSpPr>
            <p:spPr>
              <a:xfrm rot="16200000">
                <a:off x="3497760" y="4274280"/>
                <a:ext cx="2399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OTC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Group 56"/>
            <p:cNvGrpSpPr/>
            <p:nvPr/>
          </p:nvGrpSpPr>
          <p:grpSpPr>
            <a:xfrm>
              <a:off x="4906800" y="2442240"/>
              <a:ext cx="904680" cy="3762360"/>
              <a:chOff x="4906800" y="2442240"/>
              <a:chExt cx="904680" cy="3762360"/>
            </a:xfrm>
          </p:grpSpPr>
          <p:sp>
            <p:nvSpPr>
              <p:cNvPr id="1282" name="Freeform 57"/>
              <p:cNvSpPr/>
              <p:nvPr/>
            </p:nvSpPr>
            <p:spPr>
              <a:xfrm>
                <a:off x="497880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83" name="Object 58"/>
              <p:cNvGraphicFramePr/>
              <p:nvPr/>
            </p:nvGraphicFramePr>
            <p:xfrm>
              <a:off x="4906800" y="2442240"/>
              <a:ext cx="904680" cy="376236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1284" name="Object 58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4906800" y="2442240"/>
                        <a:ext cx="90468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5" name="Text Box 59"/>
              <p:cNvSpPr/>
              <p:nvPr/>
            </p:nvSpPr>
            <p:spPr>
              <a:xfrm rot="16200000">
                <a:off x="4098240" y="4230000"/>
                <a:ext cx="23875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Contratación Pública                                         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60"/>
            <p:cNvGrpSpPr/>
            <p:nvPr/>
          </p:nvGrpSpPr>
          <p:grpSpPr>
            <a:xfrm>
              <a:off x="5413680" y="2442240"/>
              <a:ext cx="904320" cy="3762360"/>
              <a:chOff x="5413680" y="2442240"/>
              <a:chExt cx="904320" cy="3762360"/>
            </a:xfrm>
          </p:grpSpPr>
          <p:sp>
            <p:nvSpPr>
              <p:cNvPr id="1287" name="Freeform 61"/>
              <p:cNvSpPr/>
              <p:nvPr/>
            </p:nvSpPr>
            <p:spPr>
              <a:xfrm>
                <a:off x="5485680" y="2658960"/>
                <a:ext cx="76392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88" name="Object 62"/>
              <p:cNvGraphicFramePr/>
              <p:nvPr/>
            </p:nvGraphicFramePr>
            <p:xfrm>
              <a:off x="5413680" y="2442240"/>
              <a:ext cx="904320" cy="37623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1289" name="Object 62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413680" y="2442240"/>
                        <a:ext cx="90432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0" name="Text Box 63"/>
              <p:cNvSpPr/>
              <p:nvPr/>
            </p:nvSpPr>
            <p:spPr>
              <a:xfrm rot="16200000">
                <a:off x="4514760" y="4323240"/>
                <a:ext cx="238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SMC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Group 64"/>
            <p:cNvGrpSpPr/>
            <p:nvPr/>
          </p:nvGrpSpPr>
          <p:grpSpPr>
            <a:xfrm>
              <a:off x="5920200" y="2442240"/>
              <a:ext cx="904680" cy="3762360"/>
              <a:chOff x="5920200" y="2442240"/>
              <a:chExt cx="904680" cy="3762360"/>
            </a:xfrm>
          </p:grpSpPr>
          <p:sp>
            <p:nvSpPr>
              <p:cNvPr id="1292" name="Freeform 65"/>
              <p:cNvSpPr/>
              <p:nvPr/>
            </p:nvSpPr>
            <p:spPr>
              <a:xfrm>
                <a:off x="599220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93" name="Object 66"/>
              <p:cNvGraphicFramePr/>
              <p:nvPr/>
            </p:nvGraphicFramePr>
            <p:xfrm>
              <a:off x="5920200" y="2442240"/>
              <a:ext cx="904680" cy="376236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1294" name="Object 66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5920200" y="2442240"/>
                        <a:ext cx="90468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5" name="Text Box 67"/>
              <p:cNvSpPr/>
              <p:nvPr/>
            </p:nvSpPr>
            <p:spPr>
              <a:xfrm rot="16200000">
                <a:off x="5021280" y="4323240"/>
                <a:ext cx="238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Antidumping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Group 68"/>
            <p:cNvGrpSpPr/>
            <p:nvPr/>
          </p:nvGrpSpPr>
          <p:grpSpPr>
            <a:xfrm>
              <a:off x="6427080" y="2442240"/>
              <a:ext cx="904680" cy="3762360"/>
              <a:chOff x="6427080" y="2442240"/>
              <a:chExt cx="904680" cy="3762360"/>
            </a:xfrm>
          </p:grpSpPr>
          <p:sp>
            <p:nvSpPr>
              <p:cNvPr id="1297" name="Freeform 69"/>
              <p:cNvSpPr/>
              <p:nvPr/>
            </p:nvSpPr>
            <p:spPr>
              <a:xfrm>
                <a:off x="649908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8" name="Object 70" descr=""/>
              <p:cNvPicPr/>
              <p:nvPr/>
            </p:nvPicPr>
            <p:blipFill>
              <a:blip r:embed="rId24"/>
              <a:stretch/>
            </p:blipFill>
            <p:spPr>
              <a:xfrm>
                <a:off x="6427080" y="2442240"/>
                <a:ext cx="9046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9" name="Text Box 71"/>
              <p:cNvSpPr/>
              <p:nvPr/>
            </p:nvSpPr>
            <p:spPr>
              <a:xfrm rot="16200000">
                <a:off x="5529600" y="4323240"/>
                <a:ext cx="238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Licencias de Importació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72"/>
            <p:cNvGrpSpPr/>
            <p:nvPr/>
          </p:nvGrpSpPr>
          <p:grpSpPr>
            <a:xfrm>
              <a:off x="6933960" y="2442240"/>
              <a:ext cx="904320" cy="3762360"/>
              <a:chOff x="6933960" y="2442240"/>
              <a:chExt cx="904320" cy="3762360"/>
            </a:xfrm>
          </p:grpSpPr>
          <p:sp>
            <p:nvSpPr>
              <p:cNvPr id="1301" name="Freeform 73"/>
              <p:cNvSpPr/>
              <p:nvPr/>
            </p:nvSpPr>
            <p:spPr>
              <a:xfrm>
                <a:off x="7005960" y="2658960"/>
                <a:ext cx="76392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02" name="Object 74"/>
              <p:cNvGraphicFramePr/>
              <p:nvPr/>
            </p:nvGraphicFramePr>
            <p:xfrm>
              <a:off x="6933960" y="2442240"/>
              <a:ext cx="904320" cy="37623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303" name="Object 74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6933960" y="2442240"/>
                        <a:ext cx="90432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04" name="Text Box 75"/>
              <p:cNvSpPr/>
              <p:nvPr/>
            </p:nvSpPr>
            <p:spPr>
              <a:xfrm rot="16200000">
                <a:off x="6021000" y="4266720"/>
                <a:ext cx="241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Aeronaves Civil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Group 76"/>
            <p:cNvGrpSpPr/>
            <p:nvPr/>
          </p:nvGrpSpPr>
          <p:grpSpPr>
            <a:xfrm>
              <a:off x="7440120" y="2442240"/>
              <a:ext cx="904680" cy="3762360"/>
              <a:chOff x="7440120" y="2442240"/>
              <a:chExt cx="904680" cy="3762360"/>
            </a:xfrm>
          </p:grpSpPr>
          <p:sp>
            <p:nvSpPr>
              <p:cNvPr id="1306" name="Freeform 77"/>
              <p:cNvSpPr/>
              <p:nvPr/>
            </p:nvSpPr>
            <p:spPr>
              <a:xfrm>
                <a:off x="751212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7" name="Object 78" descr=""/>
              <p:cNvPicPr/>
              <p:nvPr/>
            </p:nvPicPr>
            <p:blipFill>
              <a:blip r:embed="rId27"/>
              <a:stretch/>
            </p:blipFill>
            <p:spPr>
              <a:xfrm>
                <a:off x="7440120" y="2442240"/>
                <a:ext cx="9046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8" name="Text Box 79"/>
              <p:cNvSpPr/>
              <p:nvPr/>
            </p:nvSpPr>
            <p:spPr>
              <a:xfrm rot="16200000">
                <a:off x="6532200" y="4240440"/>
                <a:ext cx="2407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Productos Lácteo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Group 80"/>
            <p:cNvGrpSpPr/>
            <p:nvPr/>
          </p:nvGrpSpPr>
          <p:grpSpPr>
            <a:xfrm>
              <a:off x="7947000" y="2442240"/>
              <a:ext cx="904680" cy="3762360"/>
              <a:chOff x="7947000" y="2442240"/>
              <a:chExt cx="904680" cy="3762360"/>
            </a:xfrm>
          </p:grpSpPr>
          <p:sp>
            <p:nvSpPr>
              <p:cNvPr id="1310" name="Freeform 81"/>
              <p:cNvSpPr/>
              <p:nvPr/>
            </p:nvSpPr>
            <p:spPr>
              <a:xfrm>
                <a:off x="801900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11" name="Object 82" descr=""/>
              <p:cNvPicPr/>
              <p:nvPr/>
            </p:nvPicPr>
            <p:blipFill>
              <a:blip r:embed="rId28"/>
              <a:stretch/>
            </p:blipFill>
            <p:spPr>
              <a:xfrm>
                <a:off x="7947000" y="2442240"/>
                <a:ext cx="9046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Text Box 83"/>
              <p:cNvSpPr/>
              <p:nvPr/>
            </p:nvSpPr>
            <p:spPr>
              <a:xfrm rot="16200000">
                <a:off x="7050240" y="4230720"/>
                <a:ext cx="2387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Carne Bovin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Freeform 84"/>
            <p:cNvSpPr/>
            <p:nvPr/>
          </p:nvSpPr>
          <p:spPr>
            <a:xfrm>
              <a:off x="2337480" y="2104560"/>
              <a:ext cx="324000" cy="651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Freeform 85"/>
            <p:cNvSpPr/>
            <p:nvPr/>
          </p:nvSpPr>
          <p:spPr>
            <a:xfrm rot="476400">
              <a:off x="2573640" y="2006280"/>
              <a:ext cx="263880" cy="807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Text Box 86"/>
          <p:cNvSpPr/>
          <p:nvPr/>
        </p:nvSpPr>
        <p:spPr>
          <a:xfrm>
            <a:off x="2742480" y="114300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ego de la Ronda de Toki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1752480" y="2162160"/>
            <a:ext cx="7314840" cy="401400"/>
            <a:chOff x="1752480" y="2162160"/>
            <a:chExt cx="7314840" cy="401400"/>
          </a:xfrm>
        </p:grpSpPr>
        <p:sp>
          <p:nvSpPr>
            <p:cNvPr id="1317" name="Text Box 3"/>
            <p:cNvSpPr/>
            <p:nvPr/>
          </p:nvSpPr>
          <p:spPr>
            <a:xfrm>
              <a:off x="3528000" y="2195280"/>
              <a:ext cx="55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Uruguay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Text Box 4"/>
            <p:cNvSpPr/>
            <p:nvPr/>
          </p:nvSpPr>
          <p:spPr>
            <a:xfrm>
              <a:off x="1752480" y="2162160"/>
              <a:ext cx="17755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86-9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Group 5"/>
          <p:cNvGrpSpPr/>
          <p:nvPr/>
        </p:nvGrpSpPr>
        <p:grpSpPr>
          <a:xfrm>
            <a:off x="1752480" y="1628640"/>
            <a:ext cx="7314840" cy="398880"/>
            <a:chOff x="1752480" y="1628640"/>
            <a:chExt cx="7314840" cy="398880"/>
          </a:xfrm>
        </p:grpSpPr>
        <p:sp>
          <p:nvSpPr>
            <p:cNvPr id="1320" name="Text Box 6"/>
            <p:cNvSpPr/>
            <p:nvPr/>
          </p:nvSpPr>
          <p:spPr>
            <a:xfrm>
              <a:off x="3598920" y="162864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Primer intento de expandir el  GATT - Fallid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Text Box 7"/>
            <p:cNvSpPr/>
            <p:nvPr/>
          </p:nvSpPr>
          <p:spPr>
            <a:xfrm>
              <a:off x="1752480" y="162864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Nov. 198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Group 8"/>
          <p:cNvGrpSpPr/>
          <p:nvPr/>
        </p:nvGrpSpPr>
        <p:grpSpPr>
          <a:xfrm>
            <a:off x="1793880" y="2755800"/>
            <a:ext cx="7314840" cy="398880"/>
            <a:chOff x="1793880" y="2755800"/>
            <a:chExt cx="7314840" cy="398880"/>
          </a:xfrm>
        </p:grpSpPr>
        <p:sp>
          <p:nvSpPr>
            <p:cNvPr id="1323" name="Text Box 9"/>
            <p:cNvSpPr/>
            <p:nvPr/>
          </p:nvSpPr>
          <p:spPr>
            <a:xfrm>
              <a:off x="3640320" y="275580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Declaración de Punta del Este (Uruguay)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Text Box 10"/>
            <p:cNvSpPr/>
            <p:nvPr/>
          </p:nvSpPr>
          <p:spPr>
            <a:xfrm>
              <a:off x="1793880" y="275580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Sep. 198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Group 11"/>
          <p:cNvGrpSpPr/>
          <p:nvPr/>
        </p:nvGrpSpPr>
        <p:grpSpPr>
          <a:xfrm>
            <a:off x="1793880" y="3305160"/>
            <a:ext cx="7314840" cy="398880"/>
            <a:chOff x="1793880" y="3305160"/>
            <a:chExt cx="7314840" cy="398880"/>
          </a:xfrm>
        </p:grpSpPr>
        <p:sp>
          <p:nvSpPr>
            <p:cNvPr id="1326" name="Text Box 12"/>
            <p:cNvSpPr/>
            <p:nvPr/>
          </p:nvSpPr>
          <p:spPr>
            <a:xfrm>
              <a:off x="3640320" y="330516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Balance a mitad de período (Montreal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Text Box 13"/>
            <p:cNvSpPr/>
            <p:nvPr/>
          </p:nvSpPr>
          <p:spPr>
            <a:xfrm>
              <a:off x="1793880" y="330516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198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Group 14"/>
          <p:cNvGrpSpPr/>
          <p:nvPr/>
        </p:nvGrpSpPr>
        <p:grpSpPr>
          <a:xfrm>
            <a:off x="1793880" y="3838680"/>
            <a:ext cx="7314840" cy="398880"/>
            <a:chOff x="1793880" y="3838680"/>
            <a:chExt cx="7314840" cy="398880"/>
          </a:xfrm>
        </p:grpSpPr>
        <p:sp>
          <p:nvSpPr>
            <p:cNvPr id="1329" name="Text Box 15"/>
            <p:cNvSpPr/>
            <p:nvPr/>
          </p:nvSpPr>
          <p:spPr>
            <a:xfrm>
              <a:off x="3640320" y="383868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Conferencia de Brusela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Text Box 16"/>
            <p:cNvSpPr/>
            <p:nvPr/>
          </p:nvSpPr>
          <p:spPr>
            <a:xfrm>
              <a:off x="1793880" y="383868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Dic. 199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Group 17"/>
          <p:cNvGrpSpPr/>
          <p:nvPr/>
        </p:nvGrpSpPr>
        <p:grpSpPr>
          <a:xfrm>
            <a:off x="1793880" y="4371840"/>
            <a:ext cx="7314840" cy="398880"/>
            <a:chOff x="1793880" y="4371840"/>
            <a:chExt cx="7314840" cy="398880"/>
          </a:xfrm>
        </p:grpSpPr>
        <p:sp>
          <p:nvSpPr>
            <p:cNvPr id="1332" name="Text Box 18"/>
            <p:cNvSpPr/>
            <p:nvPr/>
          </p:nvSpPr>
          <p:spPr>
            <a:xfrm>
              <a:off x="3640320" y="437184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Conclusión de la Ronda (Adopción del ACTA FINAL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Text Box 19"/>
            <p:cNvSpPr/>
            <p:nvPr/>
          </p:nvSpPr>
          <p:spPr>
            <a:xfrm>
              <a:off x="1793880" y="437184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Dic. 199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Group 20"/>
          <p:cNvGrpSpPr/>
          <p:nvPr/>
        </p:nvGrpSpPr>
        <p:grpSpPr>
          <a:xfrm>
            <a:off x="1793880" y="4905360"/>
            <a:ext cx="7314840" cy="398880"/>
            <a:chOff x="1793880" y="4905360"/>
            <a:chExt cx="7314840" cy="398880"/>
          </a:xfrm>
        </p:grpSpPr>
        <p:sp>
          <p:nvSpPr>
            <p:cNvPr id="1335" name="Text Box 21"/>
            <p:cNvSpPr/>
            <p:nvPr/>
          </p:nvSpPr>
          <p:spPr>
            <a:xfrm>
              <a:off x="3640320" y="490536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Conferencia Ministerial de Marrake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Text Box 22"/>
            <p:cNvSpPr/>
            <p:nvPr/>
          </p:nvSpPr>
          <p:spPr>
            <a:xfrm>
              <a:off x="1793880" y="490536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Abr. 199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Group 23"/>
          <p:cNvGrpSpPr/>
          <p:nvPr/>
        </p:nvGrpSpPr>
        <p:grpSpPr>
          <a:xfrm>
            <a:off x="1752480" y="5438880"/>
            <a:ext cx="7314840" cy="398880"/>
            <a:chOff x="1752480" y="5438880"/>
            <a:chExt cx="7314840" cy="398880"/>
          </a:xfrm>
        </p:grpSpPr>
        <p:sp>
          <p:nvSpPr>
            <p:cNvPr id="1338" name="Text Box 24"/>
            <p:cNvSpPr/>
            <p:nvPr/>
          </p:nvSpPr>
          <p:spPr>
            <a:xfrm>
              <a:off x="3598920" y="543888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b00000"/>
                  </a:solidFill>
                  <a:latin typeface="Arial Narrow"/>
                </a:rPr>
                <a:t>Entrada en vigor del Acuerdo de Marrakech (OM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25"/>
            <p:cNvSpPr/>
            <p:nvPr/>
          </p:nvSpPr>
          <p:spPr>
            <a:xfrm>
              <a:off x="1752480" y="5438880"/>
              <a:ext cx="17755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 Ene. 199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Group 26"/>
          <p:cNvGrpSpPr/>
          <p:nvPr/>
        </p:nvGrpSpPr>
        <p:grpSpPr>
          <a:xfrm>
            <a:off x="1752480" y="5956200"/>
            <a:ext cx="7314840" cy="398880"/>
            <a:chOff x="1752480" y="5956200"/>
            <a:chExt cx="7314840" cy="398880"/>
          </a:xfrm>
        </p:grpSpPr>
        <p:sp>
          <p:nvSpPr>
            <p:cNvPr id="1341" name="Text Box 27"/>
            <p:cNvSpPr/>
            <p:nvPr/>
          </p:nvSpPr>
          <p:spPr>
            <a:xfrm>
              <a:off x="3598920" y="595620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b00000"/>
                  </a:solidFill>
                  <a:latin typeface="Arial Narrow"/>
                </a:rPr>
                <a:t>Fin del GATT de 1947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Text Box 28"/>
            <p:cNvSpPr/>
            <p:nvPr/>
          </p:nvSpPr>
          <p:spPr>
            <a:xfrm>
              <a:off x="1752480" y="5956200"/>
              <a:ext cx="17755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31 Dic. 199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Group 29"/>
          <p:cNvGrpSpPr/>
          <p:nvPr/>
        </p:nvGrpSpPr>
        <p:grpSpPr>
          <a:xfrm>
            <a:off x="343080" y="2000160"/>
            <a:ext cx="952200" cy="3962160"/>
            <a:chOff x="343080" y="2000160"/>
            <a:chExt cx="952200" cy="3962160"/>
          </a:xfrm>
        </p:grpSpPr>
        <p:grpSp>
          <p:nvGrpSpPr>
            <p:cNvPr id="1344" name="Group 30"/>
            <p:cNvGrpSpPr/>
            <p:nvPr/>
          </p:nvGrpSpPr>
          <p:grpSpPr>
            <a:xfrm>
              <a:off x="343080" y="2000160"/>
              <a:ext cx="952200" cy="3962160"/>
              <a:chOff x="343080" y="2000160"/>
              <a:chExt cx="952200" cy="3962160"/>
            </a:xfrm>
          </p:grpSpPr>
          <p:sp>
            <p:nvSpPr>
              <p:cNvPr id="1345" name="Freeform 31"/>
              <p:cNvSpPr/>
              <p:nvPr/>
            </p:nvSpPr>
            <p:spPr>
              <a:xfrm>
                <a:off x="419040" y="2228760"/>
                <a:ext cx="80424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46" name="Object 32"/>
              <p:cNvGraphicFramePr/>
              <p:nvPr/>
            </p:nvGraphicFramePr>
            <p:xfrm>
              <a:off x="343080" y="2000160"/>
              <a:ext cx="952200" cy="3962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47" name="Object 3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43080" y="2000160"/>
                        <a:ext cx="95220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48" name="Text Box 33"/>
            <p:cNvSpPr/>
            <p:nvPr/>
          </p:nvSpPr>
          <p:spPr>
            <a:xfrm rot="16200000">
              <a:off x="-589320" y="404964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GATT 194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Text Box 34"/>
          <p:cNvSpPr/>
          <p:nvPr/>
        </p:nvSpPr>
        <p:spPr>
          <a:xfrm>
            <a:off x="2743920" y="6922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a 8ª Ronda GAT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 Box 8"/>
          <p:cNvSpPr/>
          <p:nvPr/>
        </p:nvSpPr>
        <p:spPr>
          <a:xfrm>
            <a:off x="0" y="28584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ondas Multilaterales d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egociaciones Comerci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9"/>
          <p:cNvSpPr/>
          <p:nvPr/>
        </p:nvSpPr>
        <p:spPr>
          <a:xfrm>
            <a:off x="1143000" y="1428840"/>
            <a:ext cx="6624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7: Ginebra (23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49: Annecy (29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51: Torquay (32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56: Ginebra (33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0-61: Dillon (39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3-67: Kennedy (74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73-79: Tokio (99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86-94 Uruguay (128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2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6" name="Text Box 5"/>
          <p:cNvSpPr/>
          <p:nvPr/>
        </p:nvSpPr>
        <p:spPr>
          <a:xfrm>
            <a:off x="0" y="2349360"/>
            <a:ext cx="442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la OM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2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3"/>
          <p:cNvSpPr/>
          <p:nvPr/>
        </p:nvSpPr>
        <p:spPr>
          <a:xfrm>
            <a:off x="1143000" y="990720"/>
            <a:ext cx="3657600" cy="533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4"/>
          <p:cNvSpPr/>
          <p:nvPr/>
        </p:nvSpPr>
        <p:spPr>
          <a:xfrm>
            <a:off x="1523880" y="2057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5"/>
          <p:cNvSpPr/>
          <p:nvPr/>
        </p:nvSpPr>
        <p:spPr>
          <a:xfrm>
            <a:off x="152388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6"/>
          <p:cNvSpPr/>
          <p:nvPr/>
        </p:nvSpPr>
        <p:spPr>
          <a:xfrm>
            <a:off x="762120" y="990720"/>
            <a:ext cx="380880" cy="5333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7"/>
          <p:cNvSpPr/>
          <p:nvPr/>
        </p:nvSpPr>
        <p:spPr>
          <a:xfrm>
            <a:off x="9144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Oval 8"/>
          <p:cNvSpPr/>
          <p:nvPr/>
        </p:nvSpPr>
        <p:spPr>
          <a:xfrm>
            <a:off x="9144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9"/>
          <p:cNvSpPr/>
          <p:nvPr/>
        </p:nvSpPr>
        <p:spPr>
          <a:xfrm>
            <a:off x="1523880" y="2133720"/>
            <a:ext cx="2819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imes New Roman"/>
              </a:rPr>
              <a:t>Acuerdo de Marrakech por el que se establece la Organización Mundial del Comercio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" name="Group 10"/>
          <p:cNvGrpSpPr/>
          <p:nvPr/>
        </p:nvGrpSpPr>
        <p:grpSpPr>
          <a:xfrm>
            <a:off x="5029200" y="1523880"/>
            <a:ext cx="3809880" cy="825480"/>
            <a:chOff x="5029200" y="1523880"/>
            <a:chExt cx="3809880" cy="825480"/>
          </a:xfrm>
        </p:grpSpPr>
        <p:sp>
          <p:nvSpPr>
            <p:cNvPr id="1366" name="Text Box 11"/>
            <p:cNvSpPr/>
            <p:nvPr/>
          </p:nvSpPr>
          <p:spPr>
            <a:xfrm>
              <a:off x="5257800" y="152388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Firmado en Marrakech el 15 de Abril de 199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Oval 12"/>
            <p:cNvSpPr/>
            <p:nvPr/>
          </p:nvSpPr>
          <p:spPr>
            <a:xfrm>
              <a:off x="5029200" y="1676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Group 13"/>
          <p:cNvGrpSpPr/>
          <p:nvPr/>
        </p:nvGrpSpPr>
        <p:grpSpPr>
          <a:xfrm>
            <a:off x="5029200" y="2590920"/>
            <a:ext cx="3809880" cy="825480"/>
            <a:chOff x="5029200" y="2590920"/>
            <a:chExt cx="3809880" cy="825480"/>
          </a:xfrm>
        </p:grpSpPr>
        <p:sp>
          <p:nvSpPr>
            <p:cNvPr id="1369" name="Text Box 14"/>
            <p:cNvSpPr/>
            <p:nvPr/>
          </p:nvSpPr>
          <p:spPr>
            <a:xfrm>
              <a:off x="5257800" y="259092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Ratificado de acuerdo a los procedimientos nacionale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Oval 15"/>
            <p:cNvSpPr/>
            <p:nvPr/>
          </p:nvSpPr>
          <p:spPr>
            <a:xfrm>
              <a:off x="5029200" y="2743200"/>
              <a:ext cx="152280" cy="151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Group 16"/>
          <p:cNvGrpSpPr/>
          <p:nvPr/>
        </p:nvGrpSpPr>
        <p:grpSpPr>
          <a:xfrm>
            <a:off x="5029200" y="3581280"/>
            <a:ext cx="3809880" cy="2166120"/>
            <a:chOff x="5029200" y="3581280"/>
            <a:chExt cx="3809880" cy="2166120"/>
          </a:xfrm>
        </p:grpSpPr>
        <p:sp>
          <p:nvSpPr>
            <p:cNvPr id="1372" name="Text Box 17"/>
            <p:cNvSpPr/>
            <p:nvPr/>
          </p:nvSpPr>
          <p:spPr>
            <a:xfrm>
              <a:off x="5257800" y="3581280"/>
              <a:ext cx="358128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Entrada en vigor el 1º de Enero de 1995                     </a:t>
              </a:r>
              <a:r>
                <a:rPr b="1" lang="en-GB" sz="2200" spc="-1" strike="noStrike">
                  <a:solidFill>
                    <a:srgbClr val="000000"/>
                  </a:solidFill>
                  <a:latin typeface="Arial Narrow"/>
                </a:rPr>
                <a:t>(instrumento internacional vinculante, que compromete la responsabilidad de los Estados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Oval 18"/>
            <p:cNvSpPr/>
            <p:nvPr/>
          </p:nvSpPr>
          <p:spPr>
            <a:xfrm>
              <a:off x="5029200" y="3733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Text Box 19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b2b2b2"/>
                </a:solidFill>
                <a:latin typeface="Arial"/>
              </a:rPr>
              <a:t>OMC: un acuerdo internacion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20"/>
          <p:cNvSpPr/>
          <p:nvPr/>
        </p:nvSpPr>
        <p:spPr>
          <a:xfrm>
            <a:off x="8872200" y="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9T10:28:19Z</dcterms:created>
  <dc:creator>Rey</dc:creator>
  <dc:description/>
  <dc:language>en-US</dc:language>
  <cp:lastModifiedBy>Doris</cp:lastModifiedBy>
  <cp:lastPrinted>2000-01-19T08:15:03Z</cp:lastPrinted>
  <dcterms:modified xsi:type="dcterms:W3CDTF">2009-07-23T21:05:34Z</dcterms:modified>
  <cp:revision>309</cp:revision>
  <dc:subject/>
  <dc:title>No Slide Title</dc:title>
</cp:coreProperties>
</file>