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B89B-23CA-4287-A179-80690B51DA9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DEEC6633-6307-4240-983C-CFA5CB4AFB28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1803240"/>
                <a:tab algn="l" pos="2705040"/>
                <a:tab algn="l" pos="3606840"/>
                <a:tab algn="l" pos="4508640"/>
                <a:tab algn="l" pos="5410080"/>
                <a:tab algn="l" pos="6311880"/>
                <a:tab algn="l" pos="7213680"/>
                <a:tab algn="l" pos="8115480"/>
                <a:tab algn="l" pos="9016920"/>
                <a:tab algn="l" pos="9918720"/>
                <a:tab algn="l" pos="10820520"/>
              </a:tabLst>
            </a:pPr>
            <a:fld id="{EDEDDCA1-2761-4BA8-9536-DF33B7373810}" type="slidenum">
              <a:rPr b="0" lang="de-DE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4C88-ADCC-419E-8450-B53F067B5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28B2-BEC6-4008-A8BC-952C01DC1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DD2A-0D32-415C-9198-62DC8770CB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8755-6225-4037-96C0-CEB886537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7925-6228-4CCF-8AC4-CEDE4A23C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794C-3609-4078-849C-7920AD9EC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D1E-E251-4CE6-BFCE-3087AA26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E9D9-0654-408F-A29D-ED93E7873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1A48-B23E-4A8F-B842-E5DE08FB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0610-6F85-434C-97EC-75882D976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BADE-DAA1-43D2-BFC8-AD43A2D53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DB05-B71E-47CF-8CE2-5B653926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354C-A87D-4B88-99E8-D93478097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2340000" y="4653000"/>
            <a:ext cx="6400800" cy="175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ituto de Estudios Internacion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dad de Chi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85800" y="1483920"/>
            <a:ext cx="7772400" cy="252108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DIPLOMA</a:t>
            </a:r>
            <a:br>
              <a:rPr sz="4400"/>
            </a:b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Estrategia Internacional y Política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50920" y="404640"/>
            <a:ext cx="8641800" cy="2807280"/>
            <a:chOff x="250920" y="404640"/>
            <a:chExt cx="8641800" cy="2807280"/>
          </a:xfrm>
        </p:grpSpPr>
        <p:cxnSp>
          <p:nvCxnSpPr>
            <p:cNvPr id="97" name="_s220164"/>
            <p:cNvCxnSpPr>
              <a:stCxn id="98" idx="0"/>
              <a:endCxn id="99" idx="2"/>
            </p:cNvCxnSpPr>
            <p:nvPr/>
          </p:nvCxnSpPr>
          <p:spPr>
            <a:xfrm flipH="1" flipV="1" rot="5400000">
              <a:off x="3149280" y="736200"/>
              <a:ext cx="561600" cy="214344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220165"/>
            <p:cNvCxnSpPr>
              <a:stCxn id="101" idx="0"/>
              <a:endCxn id="99" idx="2"/>
            </p:cNvCxnSpPr>
            <p:nvPr/>
          </p:nvCxnSpPr>
          <p:spPr>
            <a:xfrm flipH="1" flipV="1" rot="5400000">
              <a:off x="3886920" y="1473840"/>
              <a:ext cx="561600" cy="66816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2" name="_s220166"/>
            <p:cNvCxnSpPr>
              <a:stCxn id="103" idx="0"/>
              <a:endCxn id="99" idx="2"/>
            </p:cNvCxnSpPr>
            <p:nvPr/>
          </p:nvCxnSpPr>
          <p:spPr>
            <a:xfrm flipV="1" rot="16200000">
              <a:off x="4624920" y="1403280"/>
              <a:ext cx="561600" cy="80856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220167"/>
            <p:cNvCxnSpPr>
              <a:stCxn id="105" idx="0"/>
              <a:endCxn id="99" idx="2"/>
            </p:cNvCxnSpPr>
            <p:nvPr/>
          </p:nvCxnSpPr>
          <p:spPr>
            <a:xfrm flipV="1" rot="16200000">
              <a:off x="6100200" y="-72000"/>
              <a:ext cx="561600" cy="375948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220168"/>
            <p:cNvCxnSpPr>
              <a:stCxn id="107" idx="0"/>
              <a:endCxn id="99" idx="2"/>
            </p:cNvCxnSpPr>
            <p:nvPr/>
          </p:nvCxnSpPr>
          <p:spPr>
            <a:xfrm flipV="1" rot="16200000">
              <a:off x="5362560" y="665640"/>
              <a:ext cx="561600" cy="228384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220169"/>
            <p:cNvCxnSpPr>
              <a:stCxn id="109" idx="0"/>
              <a:endCxn id="99" idx="2"/>
            </p:cNvCxnSpPr>
            <p:nvPr/>
          </p:nvCxnSpPr>
          <p:spPr>
            <a:xfrm flipH="1" flipV="1" rot="5400000">
              <a:off x="2411640" y="-360"/>
              <a:ext cx="561600" cy="3616200"/>
            </a:xfrm>
            <a:prstGeom prst="bentConnector3">
              <a:avLst>
                <a:gd name="adj1" fmla="val 20397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9" name="_s220170"/>
            <p:cNvSpPr/>
            <p:nvPr/>
          </p:nvSpPr>
          <p:spPr>
            <a:xfrm>
              <a:off x="3105000" y="404640"/>
              <a:ext cx="2791440" cy="1122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IMPOR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220171"/>
            <p:cNvSpPr/>
            <p:nvPr/>
          </p:nvSpPr>
          <p:spPr>
            <a:xfrm>
              <a:off x="25092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ONTINGEN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220172"/>
            <p:cNvSpPr/>
            <p:nvPr/>
          </p:nvSpPr>
          <p:spPr>
            <a:xfrm>
              <a:off x="615276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NORMAS</a:t>
              </a:r>
              <a:r>
                <a:rPr b="0" lang="es-ES_tradnl" sz="11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ECNIC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220173"/>
            <p:cNvSpPr/>
            <p:nvPr/>
          </p:nvSpPr>
          <p:spPr>
            <a:xfrm>
              <a:off x="762804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MONOPOL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220174"/>
            <p:cNvSpPr/>
            <p:nvPr/>
          </p:nvSpPr>
          <p:spPr>
            <a:xfrm>
              <a:off x="467712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ONTROL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ADMINISTR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IV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220175"/>
            <p:cNvSpPr/>
            <p:nvPr/>
          </p:nvSpPr>
          <p:spPr>
            <a:xfrm>
              <a:off x="320184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220176"/>
            <p:cNvSpPr/>
            <p:nvPr/>
          </p:nvSpPr>
          <p:spPr>
            <a:xfrm>
              <a:off x="1726200" y="2089080"/>
              <a:ext cx="1264680" cy="112284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I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DISCRIMIN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79280" y="3413160"/>
            <a:ext cx="8964360" cy="3440520"/>
            <a:chOff x="179280" y="3413160"/>
            <a:chExt cx="8964360" cy="3440520"/>
          </a:xfrm>
        </p:grpSpPr>
        <p:cxnSp>
          <p:nvCxnSpPr>
            <p:cNvPr id="111" name="_s220179"/>
            <p:cNvCxnSpPr>
              <a:stCxn id="112" idx="0"/>
              <a:endCxn id="113" idx="2"/>
            </p:cNvCxnSpPr>
            <p:nvPr/>
          </p:nvCxnSpPr>
          <p:spPr>
            <a:xfrm flipH="1" flipV="1" rot="5400000">
              <a:off x="3116160" y="4038120"/>
              <a:ext cx="688680" cy="219024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4" name="_s220180"/>
            <p:cNvCxnSpPr>
              <a:stCxn id="115" idx="0"/>
              <a:endCxn id="113" idx="2"/>
            </p:cNvCxnSpPr>
            <p:nvPr/>
          </p:nvCxnSpPr>
          <p:spPr>
            <a:xfrm flipH="1" flipV="1" rot="5400000">
              <a:off x="3882240" y="4804200"/>
              <a:ext cx="688680" cy="65772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6" name="_s220181"/>
            <p:cNvCxnSpPr>
              <a:stCxn id="117" idx="0"/>
              <a:endCxn id="113" idx="2"/>
            </p:cNvCxnSpPr>
            <p:nvPr/>
          </p:nvCxnSpPr>
          <p:spPr>
            <a:xfrm flipV="1" rot="16200000">
              <a:off x="4646160" y="4696920"/>
              <a:ext cx="688680" cy="87192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18" name="_s220182"/>
            <p:cNvCxnSpPr>
              <a:stCxn id="119" idx="0"/>
              <a:endCxn id="113" idx="2"/>
            </p:cNvCxnSpPr>
            <p:nvPr/>
          </p:nvCxnSpPr>
          <p:spPr>
            <a:xfrm flipV="1" rot="16200000">
              <a:off x="6176520" y="3166560"/>
              <a:ext cx="688680" cy="393300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0" name="_s220183"/>
            <p:cNvCxnSpPr>
              <a:stCxn id="121" idx="0"/>
              <a:endCxn id="113" idx="2"/>
            </p:cNvCxnSpPr>
            <p:nvPr/>
          </p:nvCxnSpPr>
          <p:spPr>
            <a:xfrm flipV="1" rot="16200000">
              <a:off x="5412240" y="3930840"/>
              <a:ext cx="688680" cy="240408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22" name="_s220184"/>
            <p:cNvCxnSpPr>
              <a:stCxn id="123" idx="0"/>
              <a:endCxn id="113" idx="2"/>
            </p:cNvCxnSpPr>
            <p:nvPr/>
          </p:nvCxnSpPr>
          <p:spPr>
            <a:xfrm flipH="1" flipV="1" rot="5400000">
              <a:off x="2351520" y="3273480"/>
              <a:ext cx="688680" cy="3719160"/>
            </a:xfrm>
            <a:prstGeom prst="bentConnector3">
              <a:avLst>
                <a:gd name="adj1" fmla="val 2196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13" name="_s220185"/>
            <p:cNvSpPr/>
            <p:nvPr/>
          </p:nvSpPr>
          <p:spPr>
            <a:xfrm>
              <a:off x="3108240" y="3413160"/>
              <a:ext cx="2895480" cy="13762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ffffff"/>
                  </a:solidFill>
                  <a:latin typeface="Times New Roman"/>
                </a:rPr>
                <a:t>EXPORTACION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_s220186"/>
            <p:cNvSpPr/>
            <p:nvPr/>
          </p:nvSpPr>
          <p:spPr>
            <a:xfrm>
              <a:off x="17928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RAMIT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_s220187"/>
            <p:cNvSpPr/>
            <p:nvPr/>
          </p:nvSpPr>
          <p:spPr>
            <a:xfrm>
              <a:off x="630144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SUBVEN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_s220188"/>
            <p:cNvSpPr/>
            <p:nvPr/>
          </p:nvSpPr>
          <p:spPr>
            <a:xfrm>
              <a:off x="783180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CREDI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_s220189"/>
            <p:cNvSpPr/>
            <p:nvPr/>
          </p:nvSpPr>
          <p:spPr>
            <a:xfrm>
              <a:off x="477072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PROMOC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NO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FINANCIER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_s220190"/>
            <p:cNvSpPr/>
            <p:nvPr/>
          </p:nvSpPr>
          <p:spPr>
            <a:xfrm>
              <a:off x="324036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LICENCI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_s220191"/>
            <p:cNvSpPr/>
            <p:nvPr/>
          </p:nvSpPr>
          <p:spPr>
            <a:xfrm>
              <a:off x="1709640" y="5477400"/>
              <a:ext cx="1311840" cy="1376280"/>
            </a:xfrm>
            <a:custGeom>
              <a:avLst/>
              <a:gdLst>
                <a:gd name="textAreaLeft" fmla="*/ 63720 w 1311840"/>
                <a:gd name="textAreaRight" fmla="*/ 1248120 w 1311840"/>
                <a:gd name="textAreaTop" fmla="*/ 63720 h 1376280"/>
                <a:gd name="textAreaBottom" fmla="*/ 1312560 h 1376280"/>
              </a:gdLst>
              <a:ahLst/>
              <a:rect l="textAreaLeft" t="textAreaTop" r="textAreaRight" b="textAreaBottom"/>
              <a:pathLst>
                <a:path w="21600" h="22661">
                  <a:moveTo>
                    <a:pt x="3600" y="0"/>
                  </a:moveTo>
                  <a:arcTo wR="3600" hR="3600" stAng="16200000" swAng="-5400000"/>
                  <a:lnTo>
                    <a:pt x="0" y="19061"/>
                  </a:lnTo>
                  <a:arcTo wR="3600" hR="3600" stAng="10800000" swAng="-5400000"/>
                  <a:lnTo>
                    <a:pt x="18000" y="2266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IMPUEST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DISCRIMINA-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ffffff"/>
                  </a:solidFill>
                  <a:latin typeface="Times New Roman"/>
                </a:rPr>
                <a:t>TORIO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RANKING OM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lenco de las diferentes políticas comerciales ordenado de acuerdo a la conveniencia de su aplicación (menor distorsión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1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Libre comer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2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3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quisitos de contenido loc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4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ntinge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5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quisitos de balanza de pa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6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stricciones voluntarias a la exportació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7)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bvenciones a la export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orma más antigua y más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uente de ingre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Fuente de proteccion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e aplican en forma diferenci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sto de monitoreo y administr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Sustitución por otras barre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érdid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Crestas y progresiv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ARANCE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900000" y="1628640"/>
          <a:ext cx="7210080" cy="4492440"/>
        </p:xfrm>
        <a:graphic>
          <a:graphicData uri="http://schemas.openxmlformats.org/drawingml/2006/table">
            <a:tbl>
              <a:tblPr/>
              <a:tblGrid>
                <a:gridCol w="3607920"/>
                <a:gridCol w="3602160"/>
              </a:tblGrid>
              <a:tr h="580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ipo de derech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8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Ejempl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Ad </a:t>
                      </a:r>
                      <a:r>
                        <a:rPr b="0" i="1" lang="es-CR" sz="28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valore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 </a:t>
                      </a: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Específic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$5 por Kg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Compues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% + $2 por K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Mixt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10% o $2 por Kg, el que sea más al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“</a:t>
                      </a:r>
                      <a:r>
                        <a:rPr b="0" lang="es-CR" sz="28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Técnico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400" spc="-1" strike="noStrike">
                          <a:solidFill>
                            <a:srgbClr val="808080"/>
                          </a:solidFill>
                          <a:latin typeface="Arial"/>
                        </a:rPr>
                        <a:t>8.3% + EA MAX 18.7% + AD S/Z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" name=""/>
          <p:cNvGraphicFramePr/>
          <p:nvPr/>
        </p:nvGraphicFramePr>
        <p:xfrm>
          <a:off x="0" y="-27000"/>
          <a:ext cx="9144000" cy="7593120"/>
        </p:xfrm>
        <a:graphic>
          <a:graphicData uri="http://schemas.openxmlformats.org/drawingml/2006/table">
            <a:tbl>
              <a:tblPr/>
              <a:tblGrid>
                <a:gridCol w="2287440"/>
                <a:gridCol w="2287800"/>
                <a:gridCol w="2281320"/>
                <a:gridCol w="2287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elected Tariffs in the US 200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TS Cod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MFN/NTR Ta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Special Tar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56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704.10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uliflower, Brocco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% (June 5-Oct 25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% (Other, not reduced in siz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4% (Cut or sliced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)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.5% (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,CA,CL,E, IL,J,JO,MX) 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2.2% (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5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283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6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5.40.8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frui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9¢/kg (Aug-Se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5¢/kg (Oct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 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5¢/kg (Nov-Jul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,SG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6¢/kg (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,SG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.1¢/kg (C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CA,D,E,IL, J,JO,MX)</a:t>
                      </a:r>
                      <a:br>
                        <a:rPr sz="1800"/>
                      </a:b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.2¢/kg (CL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3.3¢/k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2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4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806.10.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Grapes, fre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.13/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(Feb 15-Mar 31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pr 1-Jun 30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$1.80/m</a:t>
                      </a:r>
                      <a:r>
                        <a:rPr b="0" lang="es-ES" sz="1800" spc="-1" strike="noStrike" baseline="30000">
                          <a:solidFill>
                            <a:srgbClr val="ffffff"/>
                          </a:solidFill>
                          <a:latin typeface="Times New Roman"/>
                        </a:rPr>
                        <a:t>3 </a:t>
                      </a: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(any other time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ee (A+,CA,CL,D,E, IL,J,JO,MX,SG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on-MFN: $8.83/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SUBSIDIOS A LA EXPOR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16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jo o ad-valor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ubsidios permitidos y prohib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95280" y="256536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CUOTAS A LA IMPORT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2920" y="4076640"/>
            <a:ext cx="45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imitación a la cant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rogas cuota c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otas cantidad y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uotas arancela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stado no recibe ingr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229600" cy="18716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XIGENCIA CONTENIDO NACIONAL DE CONTENIDO 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ÉXICO Y E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8360" y="3500280"/>
            <a:ext cx="8207280" cy="581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ARRERAS NO ARANCELAR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 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cen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Industria n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recimiento y la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Los arancele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impuestos sobre los productos importad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Contingentes a la importación, cuotas, restricciones cuantitativ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 límite a la cantidad que puede ser impo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Barreras no arancelari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: incluye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procedimientos aduaneros complejos y costoso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(en definitiva, disuasorios); </a:t>
            </a:r>
            <a:r>
              <a:rPr b="1" lang="es-ES" sz="2000" spc="-1" strike="noStrike">
                <a:solidFill>
                  <a:srgbClr val="ffffff"/>
                </a:solidFill>
                <a:latin typeface="Times New Roman"/>
              </a:rPr>
              <a:t>normas de calidad y sanitarias muy estrictas</a:t>
            </a: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 para poder introducir un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547640" y="5805360"/>
            <a:ext cx="158436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5587920"/>
            <a:ext cx="158436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796000" y="5661000"/>
            <a:ext cx="2016000" cy="93672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MULTILATERALISM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981000"/>
            <a:ext cx="4321080" cy="5688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El único escenario para abordar temas sisté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os tres pilares agríco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ntidumping y otras disciplin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pacity buil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2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glas multilaterales favorecen a economías pequeñ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cuerdos multilaterales favorecen creación de comercio y reducen los costos de administración de acuer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MC, única instancia multilateral que ha conseguido desafiar y hasta modificar algunas políticas de las economías más gran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e prestigia su mecanismo de solución de controvers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893840" y="1601280"/>
            <a:ext cx="4249800" cy="5256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Lentitud en las negociaciones (10 a 12 añ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Plazos largos para abordar temas de interés ped, incluyendo desgravación en sensibles del N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Reducida cobertura y profundidad en temas que interesan a ped (agricultura, pesca, textiles, 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usencia de temas nuevos o compromisos limitados en aspectos que interesan a la competitivid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Beneficios no son exclusiv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Al operar por consenso, promedia hacia los menos aperturist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1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imes New Roman"/>
              </a:rPr>
              <a:t>DEBATE TL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78920" y="1789200"/>
            <a:ext cx="4038840" cy="5068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cen el bienestar, al desvíar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paghetti bowl effect y costos de transacción elevados, por disparidad de reg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educe compromiso con negociaciones multilater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OMC-plus en temas del norte, reduce el espacio en O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reduce autonomía en políticas de desarrol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 de politización del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43280" y="836280"/>
            <a:ext cx="4500720" cy="48862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anchor="t">
            <a:normAutofit/>
          </a:bodyPr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ajas tarifas NMF y red de acuerdos generan creación de comer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n apertura amplia, reglas tienden a ser similares o pueden regionalizar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ha sido el caso en la región; al contr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o es automático que lo acordado en TLc’s se apoye con entusiasmo en OM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iesgo existe y hay que saber administr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6 Marcador de número de diapositiva"/>
          <p:cNvSpPr/>
          <p:nvPr/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0D5A9-D962-437F-9077-8182D5954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5 Marcador de pie de página"/>
          <p:cNvSpPr/>
          <p:nvPr/>
        </p:nvSpPr>
        <p:spPr>
          <a:xfrm>
            <a:off x="45720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SVALDO ROSA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26920" y="260280"/>
            <a:ext cx="3889440" cy="360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MACROECONO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500720" y="260280"/>
            <a:ext cx="4248000" cy="381636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FIS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627280" y="2492280"/>
            <a:ext cx="4176720" cy="37450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OLI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OMERC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6920" y="6210360"/>
            <a:ext cx="7704360" cy="6476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916360" y="907920"/>
            <a:ext cx="2089080" cy="19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4000" y="1484280"/>
            <a:ext cx="1439640" cy="1152720"/>
          </a:xfrm>
          <a:prstGeom prst="rect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451640" y="1413000"/>
            <a:ext cx="1440000" cy="1152360"/>
          </a:xfrm>
          <a:prstGeom prst="rect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BIER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995640" y="836640"/>
            <a:ext cx="2089080" cy="1944720"/>
          </a:xfrm>
          <a:prstGeom prst="ellipse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284720" y="1484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1700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191628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84720" y="213192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908000" y="1989000"/>
            <a:ext cx="936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6227640" y="1989000"/>
            <a:ext cx="10065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11280" y="2852640"/>
            <a:ext cx="0" cy="1081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1547640" y="2781360"/>
            <a:ext cx="0" cy="100800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459640" y="2781000"/>
            <a:ext cx="0" cy="863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812000" y="2781360"/>
            <a:ext cx="0" cy="936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4005360"/>
            <a:ext cx="2881440" cy="1944720"/>
          </a:xfrm>
          <a:prstGeom prst="ellipse">
            <a:avLst/>
          </a:prstGeom>
          <a:solidFill>
            <a:srgbClr val="ff0000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722920" y="3860640"/>
            <a:ext cx="3457440" cy="1944720"/>
          </a:xfrm>
          <a:prstGeom prst="ellipse">
            <a:avLst/>
          </a:prstGeom>
          <a:solidFill>
            <a:srgbClr val="99cc00">
              <a:alpha val="48000"/>
            </a:srgbClr>
          </a:solidFill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 INT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141720"/>
            <a:ext cx="8820000" cy="0"/>
          </a:xfrm>
          <a:prstGeom prst="line">
            <a:avLst/>
          </a:prstGeom>
          <a:ln w="7632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81040" y="907920"/>
            <a:ext cx="260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JUNTO-GANA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52320" y="3830760"/>
            <a:ext cx="2111760" cy="94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246240"/>
            <a:ext cx="59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ENA INTERNA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RAZONES PARA NEGOCIA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156636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hile es una economía chica, mercado interno insufic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glas estables y permanentes. Estabilidad y previsibilidad juríd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ejorar las condiciones de acceso .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Apertura de mercados de bienes, servicios , inversiones y personas de nego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ransparencia de normas, leyes y reglamen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ello de calidad y abaratamiento recursos financie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ortalecer el desarrollo export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Facilitación del Comercio: Aduanas, Estándares, Movilidad de person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Rebaja de aranceles a bienes importados reduce costos en insumos y tecnolog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stimula el cambio tecnoló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Favorece a los consumidores con una oferta más vari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canismo claro y expedito para la solución de difer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Reforzar la reforma institu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Times New Roman"/>
              </a:rPr>
              <a:t>Comercio Intern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Consenso en la apertu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Times New Roman"/>
              </a:rPr>
              <a:t>TEO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eoría de la ventaja absoluta: cada país se especializa en todo aquello que obtiene o produce de una manera más eficiente que el resto del mundo: (A.Smi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Teoría de la ventaja relativa: cada país se especializará en aquello que produzca de manera más eficiente entre las distintas alternativas de producción que tenga. (D.Ricardo).(H-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Nuevas Teorías:  rendimientos constantes, economías a escala, competencia perfecta y dumping. Multinacionales,  la tecnología y la movilidad de factores. Comercio intraindustrial (Krugma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95280" y="691920"/>
            <a:ext cx="8229600" cy="432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POLITICA COMER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centivos estratég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Industria nac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recimiento y la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INSTRU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Los arancele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impuestos sobre los productos importad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Contingentes a la importación, cuotas, restricciones cuantitativ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 límite a la cantidad que puede ser impor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Barreras no arancelari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: incluye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procedimientos aduaneros complejos y costoso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(en definitiva, disuasorios); </a:t>
            </a:r>
            <a:r>
              <a:rPr b="1" lang="es-ES" sz="2000" spc="-1" strike="noStrike">
                <a:solidFill>
                  <a:srgbClr val="000000"/>
                </a:solidFill>
                <a:latin typeface="Times New Roman"/>
              </a:rPr>
              <a:t>normas de calidad y sanitarias muy estrictas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 para poder introducir un produc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CAMIN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47640" y="5805360"/>
            <a:ext cx="158436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08360" y="5587920"/>
            <a:ext cx="158436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796000" y="5661000"/>
            <a:ext cx="2016000" cy="936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ff"/>
                </a:solidFill>
                <a:latin typeface="Times New Roman"/>
              </a:rPr>
              <a:t>La nueva política comerci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445600" cy="51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Surgen nuevas temát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Trabajo; medio ambiente; seguridad; trazabilidad sanitaria; inocuidad alimentaria; trazabilidad del carbono; cambio climático; certificaciones; buenas prácticas; 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Objetivos múlti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ompetitividad-innovación-sustentabi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Internacionalización de empres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denas globales de va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Times New Roman"/>
              </a:rPr>
              <a:t>Cambio climát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nfoque integrado de políticas (desafío institucio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merc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mento productivo; Innovación y difusión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tracción de 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R.HH (educación y capacit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líticas ambi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ianza público-privada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OBSERVATORIO EMPRESARIAL PARA EL CAMBIO CLIMAT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419640" y="6165720"/>
            <a:ext cx="4752720" cy="692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imes New Roman"/>
              </a:rPr>
              <a:t>DIAPOSITIVA  DE  PROF. OSVALDO ROSA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4360" y="2420640"/>
            <a:ext cx="7772400" cy="146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La Política Comer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58104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424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quella que un gobierno instrumenta mediante la intervención y la regulación que va destinada a modificar la interacción estratégica que se produce en determinados sectores entre empresas nacionales y extranjeras en el ámbito interna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Times New Roman"/>
              </a:rPr>
              <a:t>OBJETIV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8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tricción de acceso de bienes y servicios al interior de un paí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ducción de la brecha entre  precios domésticos y los interna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quilibrio externo¿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Construcción de poder esta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Times New Roman"/>
              </a:rPr>
              <a:t>Razones de economía política inte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ímulo monetario (superávit comercial expande la oferta de dinero, ceteris parib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Times New Roman"/>
              </a:rPr>
              <a:t>Estímulo de demanda agreg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26920" y="5013360"/>
            <a:ext cx="605016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SARROL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Times New Roman"/>
              </a:rPr>
              <a:t>DEBATE ECONÓMI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50920" y="16398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TERVENCIO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arácter distorsionador de las polít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ercado se autoreg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211280" y="1599840"/>
            <a:ext cx="493236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NO INTERVENCION DEL GOBIER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Deseable como estabilizador de los desequilib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360" y="2205000"/>
            <a:ext cx="237672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SERVICIO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VERS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2131920"/>
            <a:ext cx="273672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IE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CESO A MERC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12000" y="1989000"/>
            <a:ext cx="2376360" cy="2160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ROPIE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INTELECTU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4076640"/>
            <a:ext cx="1441440" cy="115272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BARRE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92360" y="3860640"/>
            <a:ext cx="1584360" cy="1513080"/>
          </a:xfrm>
          <a:prstGeom prst="ellipse">
            <a:avLst/>
          </a:prstGeom>
          <a:solidFill>
            <a:srgbClr val="cc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ISCIPLIN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OMERCI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1268280"/>
            <a:ext cx="9144000" cy="4824720"/>
          </a:xfrm>
          <a:prstGeom prst="ellipse">
            <a:avLst/>
          </a:prstGeom>
          <a:noFill/>
          <a:ln w="7632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203640" y="620640"/>
            <a:ext cx="4032360" cy="936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ECANISMO SOLU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TROVERSI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87280" y="5805360"/>
            <a:ext cx="1729080" cy="10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BOR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659640" y="5661000"/>
            <a:ext cx="1728720" cy="105264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IGRATO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26920" y="119700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UN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263844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B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REG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116000" y="4149720"/>
            <a:ext cx="1727280" cy="129528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MULTILATER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419640" y="1484280"/>
            <a:ext cx="388908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7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419640" y="4437000"/>
            <a:ext cx="4465440" cy="4334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OM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76720" y="2421000"/>
            <a:ext cx="4824360" cy="1584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CE, TLC, ACUERDOS COOPERAC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CHILE 90, APERTURA CONCERT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APEC, MERCOSUR, CAN, UNAS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27280" y="170028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916360" y="2924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59280" y="4581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60280"/>
            <a:ext cx="9144000" cy="6408720"/>
          </a:xfrm>
          <a:prstGeom prst="ellipse">
            <a:avLst/>
          </a:prstGeom>
          <a:noFill/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333360"/>
            <a:ext cx="2016000" cy="57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NEGOCIACIO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77080" y="260280"/>
            <a:ext cx="2016000" cy="57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DOS NIVE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6093000"/>
            <a:ext cx="3887640" cy="93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SUSTITUC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Import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"/>
          <p:cNvGrpSpPr/>
          <p:nvPr/>
        </p:nvGrpSpPr>
        <p:grpSpPr>
          <a:xfrm>
            <a:off x="250920" y="0"/>
            <a:ext cx="8892000" cy="6667560"/>
            <a:chOff x="250920" y="0"/>
            <a:chExt cx="8892000" cy="6667560"/>
          </a:xfrm>
        </p:grpSpPr>
        <p:cxnSp>
          <p:nvCxnSpPr>
            <p:cNvPr id="86" name="_s218116"/>
            <p:cNvCxnSpPr>
              <a:stCxn id="87" idx="0"/>
              <a:endCxn id="88" idx="2"/>
            </p:cNvCxnSpPr>
            <p:nvPr/>
          </p:nvCxnSpPr>
          <p:spPr>
            <a:xfrm flipV="1">
              <a:off x="7090920" y="4166640"/>
              <a:ext cx="5760" cy="8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89" name="_s218117"/>
            <p:cNvCxnSpPr>
              <a:stCxn id="90" idx="0"/>
              <a:endCxn id="91" idx="2"/>
            </p:cNvCxnSpPr>
            <p:nvPr/>
          </p:nvCxnSpPr>
          <p:spPr>
            <a:xfrm flipV="1">
              <a:off x="2302920" y="4166640"/>
              <a:ext cx="5760" cy="834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2" name="_s218118"/>
            <p:cNvCxnSpPr>
              <a:stCxn id="88" idx="0"/>
              <a:endCxn id="93" idx="2"/>
            </p:cNvCxnSpPr>
            <p:nvPr/>
          </p:nvCxnSpPr>
          <p:spPr>
            <a:xfrm flipV="1" rot="16200000">
              <a:off x="5477040" y="885960"/>
              <a:ext cx="834120" cy="2394000"/>
            </a:xfrm>
            <a:prstGeom prst="bentConnector3">
              <a:avLst>
                <a:gd name="adj1" fmla="val 16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4" name="_s218119"/>
            <p:cNvCxnSpPr>
              <a:stCxn id="91" idx="0"/>
              <a:endCxn id="93" idx="2"/>
            </p:cNvCxnSpPr>
            <p:nvPr/>
          </p:nvCxnSpPr>
          <p:spPr>
            <a:xfrm flipH="1" flipV="1" rot="5400000">
              <a:off x="3082680" y="885960"/>
              <a:ext cx="834120" cy="2394720"/>
            </a:xfrm>
            <a:prstGeom prst="bentConnector3">
              <a:avLst>
                <a:gd name="adj1" fmla="val 1649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3" name="_s218120"/>
            <p:cNvSpPr/>
            <p:nvPr/>
          </p:nvSpPr>
          <p:spPr>
            <a:xfrm>
              <a:off x="2645280" y="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INSTRUMENT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Precio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Cantidad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Globales o sectorial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_s218121"/>
            <p:cNvSpPr/>
            <p:nvPr/>
          </p:nvSpPr>
          <p:spPr>
            <a:xfrm>
              <a:off x="250920" y="250020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fectar exportaciones 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importacion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_s218122"/>
            <p:cNvSpPr/>
            <p:nvPr/>
          </p:nvSpPr>
          <p:spPr>
            <a:xfrm>
              <a:off x="5038920" y="250020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AL INTERIOR DEL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 </a:t>
              </a:r>
              <a:r>
                <a:rPr b="0" lang="es-ES_tradnl" sz="2800" spc="-1" strike="noStrike">
                  <a:solidFill>
                    <a:srgbClr val="ffffff"/>
                  </a:solidFill>
                  <a:latin typeface="Times New Roman"/>
                </a:rPr>
                <a:t>PAI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_s218123"/>
            <p:cNvSpPr/>
            <p:nvPr/>
          </p:nvSpPr>
          <p:spPr>
            <a:xfrm>
              <a:off x="250920" y="500076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arreras arancel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Barreras no arancelari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_s218124"/>
            <p:cNvSpPr/>
            <p:nvPr/>
          </p:nvSpPr>
          <p:spPr>
            <a:xfrm>
              <a:off x="5038920" y="5000760"/>
              <a:ext cx="4104000" cy="1666800"/>
            </a:xfrm>
            <a:prstGeom prst="roundRect">
              <a:avLst>
                <a:gd name="adj" fmla="val 16667"/>
              </a:avLst>
            </a:prstGeom>
            <a:solidFill>
              <a:srgbClr val="0099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Subsidios producció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ffff"/>
                  </a:solidFill>
                  <a:latin typeface="Times New Roman"/>
                </a:rPr>
                <a:t>Impuestos al consum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977760" y="2565360"/>
            <a:ext cx="261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N FRONT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30T10:21:02Z</dcterms:created>
  <dc:creator>Doris</dc:creator>
  <dc:description/>
  <dc:language>en-US</dc:language>
  <cp:lastModifiedBy>Doris</cp:lastModifiedBy>
  <dcterms:modified xsi:type="dcterms:W3CDTF">2009-07-25T14:13:38Z</dcterms:modified>
  <cp:revision>12</cp:revision>
  <dc:subject/>
  <dc:title>NEGOCIACIONES ECONOMICAS INTERNACIONALES</dc:title>
</cp:coreProperties>
</file>