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B1C9-4C83-4F45-BF33-6B46C17908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B145741-613B-41B7-A39B-A0302633497C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60655FF-1B16-42B6-A201-B20E4BBCE003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DFE-5F97-42A0-8EA1-92677D6F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C26-E62E-424A-AD8F-634864A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51F-B877-4249-8B00-7AE509AF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3EA-3DA1-4188-AD22-99741111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20A-49A2-47F2-BEE9-9773F7C4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4E2-4848-491A-A8BE-F4B0D28F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A95-AB2D-4A4B-B940-BFBBDCF3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5A6-35DA-4D1B-91FF-BF20619F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210-48DE-4BED-A73D-83097C08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A72-177F-436D-A641-9A56DDAE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738-FF23-46A9-9088-F85C4D37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512-F33F-4579-9773-F1E9AE4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EB77-C16C-4C33-B9FF-DCEEBBC1F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ituto de Estudios 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2521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IPLOMA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strategia Internacional y Política Co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50920" y="404640"/>
            <a:ext cx="8641800" cy="2807280"/>
            <a:chOff x="250920" y="404640"/>
            <a:chExt cx="8641800" cy="2807280"/>
          </a:xfrm>
        </p:grpSpPr>
        <p:cxnSp>
          <p:nvCxnSpPr>
            <p:cNvPr id="97" name="_s220164"/>
            <p:cNvCxnSpPr>
              <a:stCxn id="98" idx="0"/>
              <a:endCxn id="99" idx="2"/>
            </p:cNvCxnSpPr>
            <p:nvPr/>
          </p:nvCxnSpPr>
          <p:spPr>
            <a:xfrm flipH="1" flipV="1" rot="5400000">
              <a:off x="3149280" y="736200"/>
              <a:ext cx="561600" cy="214344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220165"/>
            <p:cNvCxnSpPr>
              <a:stCxn id="101" idx="0"/>
              <a:endCxn id="99" idx="2"/>
            </p:cNvCxnSpPr>
            <p:nvPr/>
          </p:nvCxnSpPr>
          <p:spPr>
            <a:xfrm flipH="1" flipV="1" rot="5400000">
              <a:off x="3886920" y="1473840"/>
              <a:ext cx="561600" cy="66816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20166"/>
            <p:cNvCxnSpPr>
              <a:stCxn id="103" idx="0"/>
              <a:endCxn id="99" idx="2"/>
            </p:cNvCxnSpPr>
            <p:nvPr/>
          </p:nvCxnSpPr>
          <p:spPr>
            <a:xfrm flipV="1" rot="16200000">
              <a:off x="4624920" y="1403280"/>
              <a:ext cx="561600" cy="80856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220167"/>
            <p:cNvCxnSpPr>
              <a:stCxn id="105" idx="0"/>
              <a:endCxn id="99" idx="2"/>
            </p:cNvCxnSpPr>
            <p:nvPr/>
          </p:nvCxnSpPr>
          <p:spPr>
            <a:xfrm flipV="1" rot="16200000">
              <a:off x="6100200" y="-72000"/>
              <a:ext cx="561600" cy="375948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20168"/>
            <p:cNvCxnSpPr>
              <a:stCxn id="107" idx="0"/>
              <a:endCxn id="99" idx="2"/>
            </p:cNvCxnSpPr>
            <p:nvPr/>
          </p:nvCxnSpPr>
          <p:spPr>
            <a:xfrm flipV="1" rot="16200000">
              <a:off x="5362560" y="665640"/>
              <a:ext cx="561600" cy="228384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20169"/>
            <p:cNvCxnSpPr>
              <a:stCxn id="109" idx="0"/>
              <a:endCxn id="99" idx="2"/>
            </p:cNvCxnSpPr>
            <p:nvPr/>
          </p:nvCxnSpPr>
          <p:spPr>
            <a:xfrm flipH="1" flipV="1" rot="5400000">
              <a:off x="2411640" y="-360"/>
              <a:ext cx="561600" cy="361620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9" name="_s220170"/>
            <p:cNvSpPr/>
            <p:nvPr/>
          </p:nvSpPr>
          <p:spPr>
            <a:xfrm>
              <a:off x="3105000" y="404640"/>
              <a:ext cx="2791440" cy="11228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MPORT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20171"/>
            <p:cNvSpPr/>
            <p:nvPr/>
          </p:nvSpPr>
          <p:spPr>
            <a:xfrm>
              <a:off x="25092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CONTING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20172"/>
            <p:cNvSpPr/>
            <p:nvPr/>
          </p:nvSpPr>
          <p:spPr>
            <a:xfrm>
              <a:off x="615276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NORMAS</a:t>
              </a:r>
              <a:r>
                <a:rPr b="0" lang="es-ES_tradnl" sz="11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ECN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20173"/>
            <p:cNvSpPr/>
            <p:nvPr/>
          </p:nvSpPr>
          <p:spPr>
            <a:xfrm>
              <a:off x="762804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MONOPOL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20174"/>
            <p:cNvSpPr/>
            <p:nvPr/>
          </p:nvSpPr>
          <p:spPr>
            <a:xfrm>
              <a:off x="467712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CONTRO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DMINISTR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20175"/>
            <p:cNvSpPr/>
            <p:nvPr/>
          </p:nvSpPr>
          <p:spPr>
            <a:xfrm>
              <a:off x="320184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20176"/>
            <p:cNvSpPr/>
            <p:nvPr/>
          </p:nvSpPr>
          <p:spPr>
            <a:xfrm>
              <a:off x="172620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IM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DISCRIMIN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O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79280" y="3413160"/>
            <a:ext cx="8964360" cy="3440520"/>
            <a:chOff x="179280" y="3413160"/>
            <a:chExt cx="8964360" cy="3440520"/>
          </a:xfrm>
        </p:grpSpPr>
        <p:cxnSp>
          <p:nvCxnSpPr>
            <p:cNvPr id="111" name="_s220179"/>
            <p:cNvCxnSpPr>
              <a:stCxn id="112" idx="0"/>
              <a:endCxn id="113" idx="2"/>
            </p:cNvCxnSpPr>
            <p:nvPr/>
          </p:nvCxnSpPr>
          <p:spPr>
            <a:xfrm flipH="1" flipV="1" rot="5400000">
              <a:off x="3116160" y="4038120"/>
              <a:ext cx="688680" cy="219024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20180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3882240" y="4804200"/>
              <a:ext cx="688680" cy="65772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20181"/>
            <p:cNvCxnSpPr>
              <a:stCxn id="117" idx="0"/>
              <a:endCxn id="113" idx="2"/>
            </p:cNvCxnSpPr>
            <p:nvPr/>
          </p:nvCxnSpPr>
          <p:spPr>
            <a:xfrm flipV="1" rot="16200000">
              <a:off x="4646160" y="4696920"/>
              <a:ext cx="688680" cy="87192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20182"/>
            <p:cNvCxnSpPr>
              <a:stCxn id="119" idx="0"/>
              <a:endCxn id="113" idx="2"/>
            </p:cNvCxnSpPr>
            <p:nvPr/>
          </p:nvCxnSpPr>
          <p:spPr>
            <a:xfrm flipV="1" rot="16200000">
              <a:off x="6176520" y="3166560"/>
              <a:ext cx="688680" cy="393300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20183"/>
            <p:cNvCxnSpPr>
              <a:stCxn id="121" idx="0"/>
              <a:endCxn id="113" idx="2"/>
            </p:cNvCxnSpPr>
            <p:nvPr/>
          </p:nvCxnSpPr>
          <p:spPr>
            <a:xfrm flipV="1" rot="16200000">
              <a:off x="5412240" y="3930840"/>
              <a:ext cx="688680" cy="240408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20184"/>
            <p:cNvCxnSpPr>
              <a:stCxn id="123" idx="0"/>
              <a:endCxn id="113" idx="2"/>
            </p:cNvCxnSpPr>
            <p:nvPr/>
          </p:nvCxnSpPr>
          <p:spPr>
            <a:xfrm flipH="1" flipV="1" rot="5400000">
              <a:off x="2351520" y="3273480"/>
              <a:ext cx="688680" cy="371916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20185"/>
            <p:cNvSpPr/>
            <p:nvPr/>
          </p:nvSpPr>
          <p:spPr>
            <a:xfrm>
              <a:off x="3108240" y="3413160"/>
              <a:ext cx="2895480" cy="1376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XPORT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20186"/>
            <p:cNvSpPr/>
            <p:nvPr/>
          </p:nvSpPr>
          <p:spPr>
            <a:xfrm>
              <a:off x="17928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RAMI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20187"/>
            <p:cNvSpPr/>
            <p:nvPr/>
          </p:nvSpPr>
          <p:spPr>
            <a:xfrm>
              <a:off x="630144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SUBVEN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20188"/>
            <p:cNvSpPr/>
            <p:nvPr/>
          </p:nvSpPr>
          <p:spPr>
            <a:xfrm>
              <a:off x="783180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CREDI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20189"/>
            <p:cNvSpPr/>
            <p:nvPr/>
          </p:nvSpPr>
          <p:spPr>
            <a:xfrm>
              <a:off x="477072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PROMO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N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FINANCIE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20190"/>
            <p:cNvSpPr/>
            <p:nvPr/>
          </p:nvSpPr>
          <p:spPr>
            <a:xfrm>
              <a:off x="324036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20191"/>
            <p:cNvSpPr/>
            <p:nvPr/>
          </p:nvSpPr>
          <p:spPr>
            <a:xfrm>
              <a:off x="170964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IM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DISCRIMIN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O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RANKING O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nco de las diferentes políticas comerciales ordenado de acuerdo a la conveniencia de su aplicación (menor distorsió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bre comer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ranc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quisitos de contenido lo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in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quisitos de balanza de pa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tricciones voluntarias a la expor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bvenciones a la expor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ANCE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orma más antigua y más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uente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uente de proteccio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aplican en forma diferenc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de monitoreo y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stitución por otras barr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ér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restas y progres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ARANC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00000" y="1628640"/>
          <a:ext cx="7210080" cy="4492440"/>
        </p:xfrm>
        <a:graphic>
          <a:graphicData uri="http://schemas.openxmlformats.org/drawingml/2006/table">
            <a:tbl>
              <a:tblPr/>
              <a:tblGrid>
                <a:gridCol w="3607920"/>
                <a:gridCol w="3602160"/>
              </a:tblGrid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Tipo de dere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Ad </a:t>
                      </a:r>
                      <a:r>
                        <a:rPr b="0" i="1" lang="es-CR" sz="28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valo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Específ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 por K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ompue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% + $2 por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Mix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% o $2 por Kg, el que sea más al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“</a:t>
                      </a: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Técnico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.3% + EA MAX 18.7% + AD S/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-27000"/>
          <a:ext cx="9144000" cy="7593120"/>
        </p:xfrm>
        <a:graphic>
          <a:graphicData uri="http://schemas.openxmlformats.org/drawingml/2006/table">
            <a:tbl>
              <a:tblPr/>
              <a:tblGrid>
                <a:gridCol w="2287440"/>
                <a:gridCol w="2287800"/>
                <a:gridCol w="2281320"/>
                <a:gridCol w="228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lected Tariffs in the US 20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TS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FN/NTR Tar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cial Tar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04.10.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04.10.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04.10.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uliflower, Broc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% (June 5-Oct 2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% (Other, not reduced in siz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 (Cut or sliced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,CA,CL,E, IL,J,JO,MX,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,CA,CL,E, IL,J,JO,MX) 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5% (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,CA,CL,E, IL,J,JO,MX) 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2% (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MFN: 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5.40.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5.40.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5.40.8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pe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¢/kg (Aug-Se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¢/kg (Oc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¢/kg (Nov-Ju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CA,D,E,IL, J,JO,MX,SG)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6¢/kg (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CA,D,E,IL, J,JO,MX,SG)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¢/kg (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CA,D,E,IL, J,JO,MX)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2¢/kg (CL,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MFN: 3.3¢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6.10.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6.10.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6.10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pes, fr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.13/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Feb 15-Mar 3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pr 1-Jun 3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.80/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ny other tim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+,CA,CL,D,E, IL,J,JO,MX,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MFN: $8.83/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UBSIDIOS A LA EXPOR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jo o ad-val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idios permitidos y prohib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256536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UOTAS A LA IMPOR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407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mitación a la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rogas cuota c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otas cantidad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otas arancel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do no recib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29600" cy="18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IGENCIA CONTENIDO NACIONAL DE CONTENIDO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ÉXICO Y E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500280"/>
            <a:ext cx="820728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RRERAS NO ARANCEL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LITICA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ncentivos 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ndustria na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recimiento y la calidad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s arancele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impuestos sobre los productos importad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ontingentes a la importación, cuotas, restricciones cuantitativ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límite a la cantidad que puede ser impor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arreras no arancelari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 incluye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rocedimientos aduaneros complejos y costos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(en definitiva, disuasorios);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rmas de calidad y sanitarias muy estrict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para poder introducir un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5805360"/>
            <a:ext cx="1584360" cy="936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5587920"/>
            <a:ext cx="1584360" cy="936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5661000"/>
            <a:ext cx="2016000" cy="936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ULT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ULTILATERAL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4321080" cy="568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 único escenario para abordar temas sisté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os tres pilares agríc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ntidumping y otras discipl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glas multilaterales favorecen a economías pequeñ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cuerdos multilaterales favorecen creación de comercio y reducen los costos de administración de acuer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MC, única instancia multilateral que ha conseguido desafiar y hasta modificar algunas políticas de las economías más gra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 prestigia su mecanismo de solución de controvers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3840" y="1601280"/>
            <a:ext cx="4249800" cy="525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entitud en las negociaciones (10 a 12 a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lazos largos para abordar temas de interés ped, incluyendo desgravación en sensibles del N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ida cobertura y profundidad en temas que interesan a ped (agricultura, pesca, textiles, 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usencia de temas nuevos o compromisos limitados en aspectos que interesan a la competi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eneficios no son exclu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operar por consenso, promedia hacia los menos apertu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BATE TL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789200"/>
            <a:ext cx="4038840" cy="506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cen el bienestar, al desvíar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aghetti bowl effect y costos de transacción elevados, por disparidad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ce compromiso con negociaciones multilat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MC-plus en temas del norte, reduce el espacio en O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reduce autonomía en políticas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sgo de politización del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3280" y="836280"/>
            <a:ext cx="4500720" cy="4886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jas tarifas NMF y red de acuerdos generan creación de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 apertura amplia, reglas tienden a ser similares o pueden regionaliz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a sido el caso en la región; al contr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es automático que lo acordado en TLc’s se apoye con entusiasmo en O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sgo existe y hay que saber administr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6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2E98-1F8E-4868-9327-E6F3520C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Marcador de pie de página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VALDO RO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260280"/>
            <a:ext cx="3889440" cy="36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CROECON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260280"/>
            <a:ext cx="4248000" cy="381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2492280"/>
            <a:ext cx="4176720" cy="374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6210360"/>
            <a:ext cx="7704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916360" y="907920"/>
            <a:ext cx="2089080" cy="19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84280"/>
            <a:ext cx="1439640" cy="115272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1413000"/>
            <a:ext cx="1440000" cy="1152360"/>
          </a:xfrm>
          <a:prstGeom prst="rect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836640"/>
            <a:ext cx="2089080" cy="1944720"/>
          </a:xfrm>
          <a:prstGeom prst="ellipse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48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170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19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2131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198900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227640" y="1989000"/>
            <a:ext cx="1006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2852640"/>
            <a:ext cx="0" cy="1081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547640" y="2781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459640" y="278100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12000" y="278136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4005360"/>
            <a:ext cx="2881440" cy="19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T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2920" y="3860640"/>
            <a:ext cx="3457440" cy="1944720"/>
          </a:xfrm>
          <a:prstGeom prst="ellipse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T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141720"/>
            <a:ext cx="8820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81040" y="90792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TO-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320" y="3830760"/>
            <a:ext cx="21117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246240"/>
            <a:ext cx="597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A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ZONES PARA NEGOCI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hile es una economía chica, mercado interno insu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glas estables y permanentes. Estabilidad y previsibilidad jurí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jorar las condiciones de acceso 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pertura de mercados de bienes, servicios , inversiones y personas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parencia de normas, leyes y regl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llo de calidad y abaratamiento recurs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ortalecer el desarrollo expor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acilitación del Comercio: Aduanas, Estándares, Movilidad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baja de aranceles a bienes importados reduce costos en insumos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timula el cambio tecn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vorece a los consumidores con una oferta más var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canismo claro y expedito para la solución de di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forzar la reform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senso en la aper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eoría de la ventaja absoluta: cada país se especializa en todo aquello que obtiene o produce de una manera más eficiente que el resto del mundo: (A.Sm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eoría de la ventaja relativa: cada país se especializará en aquello que produzca de manera más eficiente entre las distintas alternativas de producción que tenga. (D.Ricardo).(H-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uevas Teorías:  rendimientos constantes, economías a escala, competencia perfecta y dumping. Multinacionales,  la tecnología y la movilidad de factores. Comercio intraindustrial (Krugm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432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LITICA COMER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centivos 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dustria na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recimiento y la calidad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os arance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impuestos sobre los productos importad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ntingentes a la importación, cuotas, restricciones cuantitativ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límite a la cantidad que puede ser impor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arreras no arancelari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incluy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cedimientos aduaneros complejos y costos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en definitiva, disuasorios)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ormas de calidad y sanitarias muy estrict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poder introducir un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5805360"/>
            <a:ext cx="1584360" cy="936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08360" y="5587920"/>
            <a:ext cx="1584360" cy="936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5661000"/>
            <a:ext cx="2016000" cy="936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ULT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La nueva política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4560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urgen nuevas 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bajo; medio ambiente; seguridad; trazabilidad sanitaria; inocuidad alimentaria; trazabilidad del carbono; cambio climático; certificaciones; buenas prácticas; 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bjetivos múlt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mpetitividad-innovación-sust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ternacionalización de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denas globales de 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mbio cl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foque integrado de políticas (desafío institu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mento productivo; Innovación y difusión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racción de 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R.HH (educación y capaci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íticas ambi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ianza público-privad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SERVATORIO EMPRESARIAL PARA EL CAMBIO CLIMA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6165720"/>
            <a:ext cx="4752720" cy="69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DIAPOSITIVA  DE  PROF. OSVALDO RO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La Política Co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581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quella que un gobierno instrumenta mediante la intervención y la regulación que va destinada a modificar la interacción estratégica que se produce en determinados sectores entre empresas nacionales y extranjeras en el ámbito inter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tricción de acceso de bienes y servicios al interior de un paí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ducción de la brecha entre  precios domésticos y l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quilibrio externo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nstrucción de poder est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Razones de economía polític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stímulo monetario (superávit comercial expande la oferta de dinero, ceteris parib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stímulo de demanda agreg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013360"/>
            <a:ext cx="60501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BATE ECONÓ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639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TERVENCION DEL GOB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ácter distorsionador de las po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rcado se autoreg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11280" y="1599840"/>
            <a:ext cx="4932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INTERVENCION DEL GOB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eable como estabilizador de los desequilib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92360" y="2205000"/>
            <a:ext cx="2376720" cy="21607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RVICIO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131920"/>
            <a:ext cx="2736720" cy="21607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1989000"/>
            <a:ext cx="2376360" cy="21607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P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4076640"/>
            <a:ext cx="1441440" cy="11527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860640"/>
            <a:ext cx="1584360" cy="151308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SCIP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68280"/>
            <a:ext cx="9144000" cy="4824720"/>
          </a:xfrm>
          <a:prstGeom prst="ellipse">
            <a:avLst/>
          </a:pr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620640"/>
            <a:ext cx="4032360" cy="936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SOL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VERS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805360"/>
            <a:ext cx="1729080" cy="1052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B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59640" y="5661000"/>
            <a:ext cx="1728720" cy="1052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GR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920" y="1197000"/>
            <a:ext cx="1727280" cy="1295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638440"/>
            <a:ext cx="1727280" cy="1295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4149720"/>
            <a:ext cx="1727280" cy="1295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ULT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1484280"/>
            <a:ext cx="388908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HILE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4437000"/>
            <a:ext cx="446544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HILE 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421000"/>
            <a:ext cx="4824360" cy="158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E, TLC, ACUERDOS COOPER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HILE 90, APERTURA CONCER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PEC, MERCOSUR, CAN, UNA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17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59280" y="458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60280"/>
            <a:ext cx="9144000" cy="64087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333360"/>
            <a:ext cx="201600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77080" y="260280"/>
            <a:ext cx="20160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OS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093000"/>
            <a:ext cx="388764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STITU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or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50920" y="0"/>
            <a:ext cx="8892000" cy="6667560"/>
            <a:chOff x="250920" y="0"/>
            <a:chExt cx="8892000" cy="6667560"/>
          </a:xfrm>
        </p:grpSpPr>
        <p:cxnSp>
          <p:nvCxnSpPr>
            <p:cNvPr id="86" name="_s218116"/>
            <p:cNvCxnSpPr>
              <a:stCxn id="87" idx="0"/>
              <a:endCxn id="88" idx="2"/>
            </p:cNvCxnSpPr>
            <p:nvPr/>
          </p:nvCxnSpPr>
          <p:spPr>
            <a:xfrm flipV="1">
              <a:off x="7090920" y="4166640"/>
              <a:ext cx="5760" cy="83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18117"/>
            <p:cNvCxnSpPr>
              <a:stCxn id="90" idx="0"/>
              <a:endCxn id="91" idx="2"/>
            </p:cNvCxnSpPr>
            <p:nvPr/>
          </p:nvCxnSpPr>
          <p:spPr>
            <a:xfrm flipV="1">
              <a:off x="2302920" y="4166640"/>
              <a:ext cx="5760" cy="83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18118"/>
            <p:cNvCxnSpPr>
              <a:stCxn id="88" idx="0"/>
              <a:endCxn id="93" idx="2"/>
            </p:cNvCxnSpPr>
            <p:nvPr/>
          </p:nvCxnSpPr>
          <p:spPr>
            <a:xfrm flipV="1" rot="16200000">
              <a:off x="5477040" y="885960"/>
              <a:ext cx="834120" cy="2394000"/>
            </a:xfrm>
            <a:prstGeom prst="bentConnector3">
              <a:avLst>
                <a:gd name="adj1" fmla="val 164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18119"/>
            <p:cNvCxnSpPr>
              <a:stCxn id="91" idx="0"/>
              <a:endCxn id="93" idx="2"/>
            </p:cNvCxnSpPr>
            <p:nvPr/>
          </p:nvCxnSpPr>
          <p:spPr>
            <a:xfrm flipH="1" flipV="1" rot="5400000">
              <a:off x="3082680" y="885960"/>
              <a:ext cx="834120" cy="2394720"/>
            </a:xfrm>
            <a:prstGeom prst="bentConnector3">
              <a:avLst>
                <a:gd name="adj1" fmla="val 164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218120"/>
            <p:cNvSpPr/>
            <p:nvPr/>
          </p:nvSpPr>
          <p:spPr>
            <a:xfrm>
              <a:off x="2645280" y="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INSTRUMEN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Prec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Cant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Globales o sectoria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18121"/>
            <p:cNvSpPr/>
            <p:nvPr/>
          </p:nvSpPr>
          <p:spPr>
            <a:xfrm>
              <a:off x="250920" y="250020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Afectar exportaciones 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importacio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18122"/>
            <p:cNvSpPr/>
            <p:nvPr/>
          </p:nvSpPr>
          <p:spPr>
            <a:xfrm>
              <a:off x="5038920" y="250020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AL INTERIOR D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PA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18123"/>
            <p:cNvSpPr/>
            <p:nvPr/>
          </p:nvSpPr>
          <p:spPr>
            <a:xfrm>
              <a:off x="250920" y="500076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Barreras arancela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Barreras no arancela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18124"/>
            <p:cNvSpPr/>
            <p:nvPr/>
          </p:nvSpPr>
          <p:spPr>
            <a:xfrm>
              <a:off x="5038920" y="500076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ubsidios 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Impuestos al consu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977760" y="256536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FRONT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0:21:02Z</dcterms:created>
  <dc:creator>Doris</dc:creator>
  <dc:description/>
  <dc:language>en-US</dc:language>
  <cp:lastModifiedBy>Doris</cp:lastModifiedBy>
  <dcterms:modified xsi:type="dcterms:W3CDTF">2009-07-25T14:13:38Z</dcterms:modified>
  <cp:revision>12</cp:revision>
  <dc:subject/>
  <dc:title>NEGOCIACIONES ECONOMICAS INTERNACIONALES</dc:title>
</cp:coreProperties>
</file>