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AF5-FB10-477D-8CEC-21BDB138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94E-9576-4AD5-9A1D-54C67E2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213-506B-4980-981F-F50E7A67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E47-3E3F-4EC2-9534-7EFD803B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C73C-96E4-41CE-AE54-97B3F385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189F-42DC-4CAE-BD3B-E2F4479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4C2-377D-4CFC-995F-68F93B86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18D-A342-4BBE-A3C3-D8E8044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08E5-EC73-416D-AF05-A89C72E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2D03-F650-492D-8656-B70B4AD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C16-E1D1-4749-B5F4-4027E3C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599-7939-4339-80C2-5AED0FB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4BE-1F2D-473C-88E7-ADDBF1E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26C-E33E-43E5-923C-B3E109D3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D23-0D95-4386-BA79-9D63C6B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84DF-4465-4E7D-A8AC-920C5BE2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A76-4BA8-46F1-A6BE-26F4DE1F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5C6E-FDD7-482B-ADC6-1246AD4B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18F2-9AB9-4F03-9DCD-7F78616F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B90A-0702-4AB2-8E4C-9B8550B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446F-82BF-4C42-9546-BD0C8AF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4FEC-9346-474E-BE58-32614F34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F40-E134-4A4E-BD0B-7DD74703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F84C-E5EF-44C5-A598-834E26DC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A64F-3595-46B0-A449-3FD3C5C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C3E8-B57E-46E6-8940-BB7DB48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FC60-17F6-471D-AAD6-2F3CFD6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03E2-1839-4D9F-96A8-B6FEFC3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FCF8-135B-4EF6-9D9E-41300A4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D7C5-EAD9-4A8C-BDCE-8403E6E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AF1C-70DC-4598-A315-5434A746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2F39-5B44-4497-B532-8E5E48E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1886-C041-4814-8480-1A265C9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8E3-098D-4A7B-930B-CC5CDBA4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DC72-3082-4DAD-AE87-1CE7AA9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5907-CEBE-48C3-9B1A-6DDB321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0DB0-39C6-4000-8638-136D951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1914-D025-4A6B-9144-14C6641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C4F8-F1CB-44CA-ADBC-86CC288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A9B7-9C52-4F25-A4DF-32D18F1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7CD6-4BED-47FF-9133-10FA623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331A-63C6-4F5C-9832-356D4285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AD5B-70A7-423A-A973-B97493A7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7279-49A8-4928-85A8-ED2405B5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F90-4183-4388-AD79-EABEACC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544C-CCA9-460A-B429-7ADE839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4A69-0C08-4AD2-BA32-C59E697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3045-5861-4DE5-B563-D038D06D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E9B9-21B9-47D2-9166-11EAB99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BF75-BD97-4E1E-9300-59E516F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498B-0410-4F24-96CA-65D1A80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8267-5155-4540-B37B-527D28B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EA21-E833-4CC1-929D-A954805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5BEE-D3EA-48CD-B37D-149EFC90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7DF1-471C-4322-8AED-29D506F8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2CF-9DE8-46CA-8525-A6A57A1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13E0-DF93-4932-AE96-50273067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353E-E562-406F-88B6-D59C42FE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9341-05F6-4AB9-A97D-EA1245F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7FB7-EA24-405F-AA2F-173545D3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2871-C06F-450F-84F7-658540B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5ABE-284B-46CD-8F43-2C4214A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8CE8-3E13-4AC1-92E5-CB1FB585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F570-7353-49E1-9A41-A46F01D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5E81-5CA7-41D2-B9C3-2E16B6C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485B-79B0-4073-831F-6B6FF1D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7DF-FAEE-4433-9353-1B8C32E5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240A4-A71F-4D96-B7B4-CD24024C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2B2C-95DF-4478-B555-2117B8B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E14D-A3C4-46C5-9A44-4762F9C8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E011-8D3B-4F18-8F80-07BCF009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0503-4E12-4058-A32D-2582606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C15B8-BC9A-4863-9A87-FFD358F6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10746-353D-458E-92A7-3356513D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D40B-9A3F-4A66-97C7-7F45820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784E-F8C5-4AB6-9622-CAD111F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5642-ADD8-4665-A797-C2651D6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D63-7CB7-413A-B176-ABB631F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6AC5-8EA8-4CEE-AF45-D580848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2AF4-BF37-44CC-A4C0-2808633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68821-D5EF-4500-9022-158090C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BE41-CADD-4F4D-852F-E9A7DC22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968D-A210-42DE-A74F-5115AF30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ED-DDB1-4E51-8259-AB1D5479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70CE-529E-48C4-8482-D2285918334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F5C-5D31-41B5-BEC4-8271F879641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CE39-2879-46BF-AEDB-16BCEEC2A1E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3A40-C2F6-4050-A26F-CD910433A9D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7C0-8857-4C58-BCA2-6BB0A600F1A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F8D-D6D9-4C6C-9E2B-AF7D412D058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418-5AA7-4BD1-A40E-90B9EDCA1CC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Competencias comunicación intercultural 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La emotividad, lo cognitivo, lo conductu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s de comunicación intercultur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nsiedad e Incertidu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daptación Trans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Tercera Cult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CC Org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849480" cy="5189400"/>
          </a:xfrm>
          <a:prstGeom prst="rect">
            <a:avLst/>
          </a:prstGeom>
          <a:ln w="0">
            <a:noFill/>
          </a:ln>
        </p:spPr>
      </p:pic>
      <p:sp>
        <p:nvSpPr>
          <p:cNvPr id="342" name="7 CuadroTexto"/>
          <p:cNvSpPr/>
          <p:nvPr/>
        </p:nvSpPr>
        <p:spPr>
          <a:xfrm>
            <a:off x="4932360" y="141300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Corresponde al Objetivo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El Objetivo Comunicacional se puede definir en función de un mejoramiento, aumento o incremento. (ej: reacción afectiva del público obje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Frente a los demás objetivos administrativos de la organización, la gestión comunicacional puede (y es conveniente que lo haga) colab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Las flechas indican las relaciones causales necesarias. En este caso, la información es la condición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a mejorar la disposición de los cl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Para qué?  Validar(se) para una mayor efica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lanificación o intervención en sí misma son acciones inter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ej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levancia de la acción: senti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herencia de la propuesta: sinerg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rtinencia de la Propuesta: maximización de result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coger la voz del otr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ticipación (Ej Integra: consultiva,  informativa, deliberativa y control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disciplinariedad. Ceder poder para ganar confian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 principales y específicos (posicionamiento y/o aportes a…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trategias: canales, recoger, prevenir, difundir y/o empoder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étodos: campaña tv, definir población,  información preven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ctividades: Ejecución y detalle del proyec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ductos:  spot, cartilla, afich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sultados: forma en que culminó activ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:  fotos, audios, document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dicadores:  síntesis, cantidad, tiempo, espa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onograma y Presupues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ill Sans MT"/>
              </a:rPr>
              <a:t>Todo debe estar asociado a obje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ra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lementos que debe tener el trabajo fin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blema Intercultural a abord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undación de la necesidad de abordar dicho proble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Objetivo principal y secundari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trategi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todologí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Gill Sans MT"/>
              </a:rPr>
              <a:t>Hasta acá ho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ntrega Trabajo Final.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ctividad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duct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sultad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onogra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esupues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echa de Entrega:  28 de may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lase: Aplicación de la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Modelos de Exclusión (Garretó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Planificación Comunicacional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Taller para ir preparando trabajo del cur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e da en 2 niveles al interior de una socieda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ujeto:  dos características o reconocimien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identidades cultura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multiplicidad de interpretaciones a un mismo acto comunicativo”: permiten  cambios culturales integradores en procesos de socialización particula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b)  Estado de Derecho favorece ética de igualdad en la instalación de culturas democráticas.  Plano normativo / estructural promueva espacios interculturales efectiv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 de Discrimin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.A. Garretón explica tres model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Clásico de discriminac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generó el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status de condición human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exclusión y expuls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ejemplo mujeres en profesiones tradicion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no reconocimiento a nuevos derechos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 Ejemplo Minorí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ncontramos Modelo desde la diferenci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rechos por identidad o adscri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Fenómenos que dificultan la Comunicación Intercultural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scriminación a través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igmatización: la relación entre identidad personal e identidad social de quien posee una seña o mar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ejuicio: son actitudes basadas en una idea generaliz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ereotipo:  es la construcción de un “modelo fuerza” para caracterizar a otro en la relación. Son atribucion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22640" cy="1228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Sujetos vulnerabl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022640" cy="11523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2314"/>
                </a:solidFill>
                <a:latin typeface="Gill Sans MT"/>
              </a:rPr>
              <a:t>Sujetos con condicion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9280" y="2204640"/>
            <a:ext cx="4023000" cy="3311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Infa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dultos May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16000" y="2133360"/>
            <a:ext cx="4023000" cy="33829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en situación de Pobr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con Discapac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ueblos Origi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viviendo con VIH/S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privadas de Libert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9 CuadroTexto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 no contempla institucionalidad para minorías sexuales ni religio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ideo chilen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86920" y="1447920"/>
            <a:ext cx="74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debe ser planificada c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ualquier plan, con: objetivos, acciones, plazos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 y evaluaciones, et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particular del plan de comunicaciones es qu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es transversal y se refiere a algo intang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or ello, los objetivos de la comunicación serán contribuir a la asistencia, al mejor clima laboral, a la organización, al reconocimiento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P.P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Algunas de las consideraciones que se deben considerar al momento de comunicar una política pública son las siguientes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1. Definir una imagen (entendida como la proyección visible de la política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2. Establecer una agenda de comunicación pública (qué transmitir, a quiénes, cómo y cuándo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3. Un mensaje que contenga congruencia, credibilidad, oportunidad, persistencia y cercaní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4. Además de fortalecer la capacidad analítica y operativa de quienes desarrollen el indispensable trabajo con los medios de comunicació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3 CuadroTexto"/>
          <p:cNvSpPr/>
          <p:nvPr/>
        </p:nvSpPr>
        <p:spPr>
          <a:xfrm>
            <a:off x="622764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Fuente: Lahera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2:53Z</dcterms:created>
  <dc:creator>Usuario</dc:creator>
  <dc:description/>
  <dc:language>en-US</dc:language>
  <cp:lastModifiedBy>Usuario</cp:lastModifiedBy>
  <dcterms:modified xsi:type="dcterms:W3CDTF">2012-05-14T01:14:42Z</dcterms:modified>
  <cp:revision>33</cp:revision>
  <dc:subject/>
  <dc:title>Diapositiva 1</dc:title>
</cp:coreProperties>
</file>