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2C096-2BD5-48B6-8A09-F35A54A0C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6E271-FE38-4DD5-A354-0FFA7B19A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50FFE-20E1-4BB1-AC62-6C6C7F737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31425-F092-4D50-837C-FB39F0594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D301E-999E-4189-8423-9501DEA83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E5951-69AE-4E30-8211-3C7188756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5A325-0141-4091-90F8-07D19B153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D120C-1988-4B7C-9E61-F448D9EE6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19700-4709-4BA2-A409-D8EC2EDA7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3BCC5-6D67-4C32-9664-0893561B2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BB234-754A-487C-86BC-20F6FE954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95C1C-69E3-4E62-BC57-64D7DB91D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8B2B8-B3A3-4995-B655-E56AACA3E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F2807-EED9-42FA-8D70-8856C6295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4330E-D05E-429D-8FF5-F49E9C64E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AB761-0015-40D1-BD4E-00BEF4C1E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E7018-E39E-402C-9C0E-E4F444ED2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91323C-0CE6-46DA-9110-B75C92AF9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A9DF0C-9176-468D-BBCD-EFC17F902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FF6540-CAE8-4B83-8F04-AC528EE5D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34D62D-4286-44F4-90B2-F4135F09F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648530-0CE8-4044-8921-60F4D1122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6CC3F-E933-4D7E-9948-C95CB15A5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30F9A4-0FCF-45C5-A834-D55D26B8E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C66900-1C50-43B9-AC0E-996ADC91F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B6F6EE-E7E8-43DC-897C-3C864E116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6FC9ED-DA78-4AFC-827C-C5FDA533F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552BCA-4043-484E-B058-56A8DC99E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3C7474-909F-4705-A8BB-238D3F39B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912C23-49A1-4606-8A81-1732B754C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01FE53-FE60-41A4-BA13-A6AE913D3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37D757-A718-4FF5-B2D2-3982BD3C7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8861B5-D09B-4601-8A94-96E8B8822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DD01B-AA8E-4D07-BABF-4B72FCDDF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ADBF90-EC79-4D80-B9ED-3F366EE1D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A05BAB-F85B-497F-90D2-C25CE97D4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0B9F70-AACE-4BBA-AEFD-4FB875230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6DA4FC-E7FF-4598-8854-4B9002BE5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2DFD64-4454-4235-A062-D778833DB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694B9B-3553-46D8-BE86-D17AA55CB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71C4C5-475C-4178-9FFE-68EA12252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6BC0BF-475B-466C-8D90-5CEC8675F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3D6EA6-5D1C-4CA9-B9EF-207E17424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FC9985-C9A3-4351-BECD-301C1D93D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74A0F-CDC1-4963-99C8-8292CA74D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A42ACD-C62D-4188-9136-93CD5649D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7BC94A-F43F-4232-B863-7AC388D70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D842DB-393A-4B64-B37A-3DAE9B36E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3C0723-60D7-4E7E-8EE1-D15D1593B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3BE2C3-F354-4B5E-AACC-90C0E90E6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FE5F0A-9D8C-4D27-A511-DD5D4E552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AC2F23-1B0D-4EF6-BA3F-4EF78A4EE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156557-EEEC-4F55-BF1A-2096A07EF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92CF5D-246B-4427-AC41-58B1E8E0A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B346E7-E7D9-4836-B640-49B89728E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46A92-9697-4E1F-92DF-36D98192D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F61711-1283-4737-AE5D-D6864B9BE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5AD356-7AB1-4E3E-86E4-7C8A2529D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903133-E8B6-4A6B-9285-252EAC58D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909C2E-B3B0-4FC0-B843-6C4014EFA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191A73-8327-4447-9730-6A86F60BC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951B87-2605-4220-8068-9CA395C0A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8340F9-2B26-4768-B21E-AE25E5A20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F7B06F-835D-4778-90A6-EEB407A6E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EE6229-EA92-4C0D-8412-5023B9AE7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24B5B7-CCE9-4FFE-AABC-0B4B46F53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6ED38-20B1-44DD-B776-67B507056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493840-7AEE-4BE3-9002-F82BEDE3F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46929B-5646-417A-AF21-FA1FB931C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A4AA49-51D7-4A6D-A721-FE7CC8FF3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D5CE5C-B481-4C7B-A090-984B02BE3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53A2F8-E502-4AA4-8C9D-71551C287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B5C4BF-47D3-487A-87C6-7C4CB31EA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270896-93A6-4AF8-9C31-D2813DA70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E39CDC-7E71-4267-973D-9C1A676CB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23C2A5-2F9A-4BFF-B727-844F9F63A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275C2B-E92F-4A59-BA12-84ED6FF40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1DF2F-116B-4093-8602-A5FF74F95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B3A7E6-0F24-4032-9DDB-5E8BBFE45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D2A881-CE33-4505-A407-5E69A5F3C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597928-AE5A-42B0-870F-3FF269F07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2F9A2A-2B2B-4906-97F1-D73CBA992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36172D-7AA6-429C-80AE-4B964E3C1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F0082-EEB7-477C-B91B-E68948532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Circular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7 Elipse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10 Anillo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10 Anillo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11 Rectángulo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014FA-BFD7-4DFD-807F-D280432EFCCB}" type="slidenum">
              <a:rPr b="0" lang="es-C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14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6 Circular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7 Elipse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10 Anillo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10 Anillo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11 Rectángulo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14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12 Elipse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12 Elipse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13 Elipse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F1F3B-B0EE-4314-820D-2DC4B113826D}" type="slidenum">
              <a:rPr b="0" lang="es-C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12 Rectángulo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13 Rectángulo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15 Elipse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15 Elipse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16 Elipse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CF9B1-8A55-4FB5-A107-87DED79FD420}" type="slidenum">
              <a:rPr b="0" lang="es-C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DE4E3-A0AB-400F-9C17-C2F9076BE1A9}" type="slidenum">
              <a:rPr b="0" lang="es-C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12 Rectángulo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13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94A01-973B-4C97-9CF0-DF8CB9E96634}" type="slidenum">
              <a:rPr b="0" lang="es-C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9DF70-8573-4991-AE1F-6808C528BD94}" type="slidenum">
              <a:rPr b="0" lang="es-C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12 Rectángulo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12 Rectángulo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13 Proceso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15 Proceso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89A8A-F5BF-4C06-94F8-064D32A525F4}" type="slidenum">
              <a:rPr b="0" lang="es-C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Repaso Clase Anterior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431720" y="1849320"/>
            <a:ext cx="7407000" cy="45324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320e04"/>
                </a:solidFill>
                <a:latin typeface="Gill Sans MT"/>
              </a:rPr>
              <a:t>Competencias comunicación intercultural en 3 aspectos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320e04"/>
                </a:solidFill>
                <a:latin typeface="Gill Sans MT"/>
              </a:rPr>
              <a:t>La emotividad, lo cognitivo, lo conductual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00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320e04"/>
                </a:solidFill>
                <a:latin typeface="Gill Sans MT"/>
              </a:rPr>
              <a:t>Teorías de comunicación intercultural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320e04"/>
                </a:solidFill>
                <a:latin typeface="Gill Sans MT"/>
              </a:rPr>
              <a:t>	</a:t>
            </a:r>
            <a:r>
              <a:rPr b="0" lang="es-CL" sz="2800" spc="-1" strike="noStrike">
                <a:solidFill>
                  <a:srgbClr val="320e04"/>
                </a:solidFill>
                <a:latin typeface="Gill Sans MT"/>
              </a:rPr>
              <a:t>Teoría de la Ansiedad e Incertidumbr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320e04"/>
                </a:solidFill>
                <a:latin typeface="Gill Sans MT"/>
              </a:rPr>
              <a:t>	</a:t>
            </a:r>
            <a:r>
              <a:rPr b="0" lang="es-CL" sz="2800" spc="-1" strike="noStrike">
                <a:solidFill>
                  <a:srgbClr val="320e04"/>
                </a:solidFill>
                <a:latin typeface="Gill Sans MT"/>
              </a:rPr>
              <a:t>Teoría de la Adaptación Transcultura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320e04"/>
                </a:solidFill>
                <a:latin typeface="Gill Sans MT"/>
              </a:rPr>
              <a:t>	</a:t>
            </a:r>
            <a:r>
              <a:rPr b="0" lang="es-CL" sz="2800" spc="-1" strike="noStrike">
                <a:solidFill>
                  <a:srgbClr val="320e04"/>
                </a:solidFill>
                <a:latin typeface="Gill Sans MT"/>
              </a:rPr>
              <a:t>Teoría de la Tercera Cultura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320e04"/>
                </a:solidFill>
                <a:latin typeface="Gill Sans MT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300" spc="-1" strike="noStrike">
                <a:solidFill>
                  <a:srgbClr val="572314"/>
                </a:solidFill>
                <a:latin typeface="Gill Sans MT"/>
              </a:rPr>
              <a:t>Plan Comunicacional (CC Org.)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41" name="Picture 4" descr=""/>
          <p:cNvPicPr/>
          <p:nvPr/>
        </p:nvPicPr>
        <p:blipFill>
          <a:blip r:embed="rId1"/>
          <a:stretch/>
        </p:blipFill>
        <p:spPr>
          <a:xfrm>
            <a:off x="971640" y="1413000"/>
            <a:ext cx="3849480" cy="5189400"/>
          </a:xfrm>
          <a:prstGeom prst="rect">
            <a:avLst/>
          </a:prstGeom>
          <a:ln w="0">
            <a:noFill/>
          </a:ln>
        </p:spPr>
      </p:pic>
      <p:sp>
        <p:nvSpPr>
          <p:cNvPr id="342" name="7 CuadroTexto"/>
          <p:cNvSpPr/>
          <p:nvPr/>
        </p:nvSpPr>
        <p:spPr>
          <a:xfrm>
            <a:off x="4932360" y="1413000"/>
            <a:ext cx="35272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1) Corresponde al Objetivo de Gestió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2) El Objetivo Comunicacional se puede definir en función de un mejoramiento, aumento o incremento. (ej: reacción afectiva del público objetivo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3) Frente a los demás objetivos administrativos de la organización, la gestión comunicacional puede (y es conveniente que lo haga) colabor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4) Las flechas indican las relaciones causales necesarias. En este caso, la información es la condición </a:t>
            </a:r>
            <a:r>
              <a:rPr b="0" i="1" lang="es-CL" sz="1800" spc="-1" strike="noStrike">
                <a:solidFill>
                  <a:srgbClr val="000000"/>
                </a:solidFill>
                <a:latin typeface="Arial"/>
              </a:rPr>
              <a:t>para mejorar la disposición de los client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900" spc="-1" strike="noStrike">
                <a:solidFill>
                  <a:srgbClr val="572314"/>
                </a:solidFill>
                <a:latin typeface="Gill Sans MT"/>
              </a:rPr>
              <a:t>Plan Comunicacional Intercultural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¿Para qué?  Validar(se) para una mayor eficacia.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Planificación o intervención en sí misma son acciones interculturales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3 ejes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Relevancia de la acción: sentido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Coherencia de la propuesta: sinergia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Pertinencia de la Propuesta: maximización de resultados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900" spc="-1" strike="noStrike">
                <a:solidFill>
                  <a:srgbClr val="572314"/>
                </a:solidFill>
                <a:latin typeface="Gill Sans MT"/>
              </a:rPr>
              <a:t>Elementos Plan Comunicacional Intercultural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Recoger la voz del otro.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Participación (Ej Integra: consultiva,  informativa, deliberativa y control)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Interdisciplinariedad. Ceder poder para ganar confianza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Objetivos principales y específicos (posicionamiento y/o aportes a…)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Estrategias: canales, recoger, prevenir, difundir y/o empoderar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900" spc="-1" strike="noStrike">
                <a:solidFill>
                  <a:srgbClr val="572314"/>
                </a:solidFill>
                <a:latin typeface="Gill Sans MT"/>
              </a:rPr>
              <a:t>Elementos Plan Comunicacional Intercultural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9480" indent="-2628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Métodos: campaña tv, definir población,  información prevención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Actividades: Ejecución y detalle del proyecto.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Productos:  spot, cartilla, afiche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Resultados: forma en que culminó actividad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Verificadores:  fotos, audios, documentos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Indicadores:  síntesis, cantidad, tiempo, espacio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Cronograma y Presupuesto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000000"/>
                </a:solidFill>
                <a:latin typeface="Gill Sans MT"/>
              </a:rPr>
              <a:t>Todo debe estar asociado a objetivo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300" spc="-1" strike="noStrike">
                <a:solidFill>
                  <a:srgbClr val="572314"/>
                </a:solidFill>
                <a:latin typeface="Gill Sans MT"/>
              </a:rPr>
              <a:t>Trabajo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ill Sans MT"/>
              </a:rPr>
              <a:t>Elementos que debe tener el trabajo final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ill Sans MT"/>
              </a:rPr>
              <a:t>Problema Intercultural a abordar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ill Sans MT"/>
              </a:rPr>
              <a:t>Fundación de la necesidad de abordar dicho problema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ill Sans MT"/>
              </a:rPr>
              <a:t>Objetivo principal y secundarios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ill Sans MT"/>
              </a:rPr>
              <a:t>Estrategias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ill Sans MT"/>
              </a:rPr>
              <a:t>Metodologías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000000"/>
                </a:solidFill>
                <a:latin typeface="Gill Sans MT"/>
              </a:rPr>
              <a:t>Hasta acá hoy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300" spc="-1" strike="noStrike">
                <a:solidFill>
                  <a:srgbClr val="572314"/>
                </a:solidFill>
                <a:latin typeface="Gill Sans MT"/>
              </a:rPr>
              <a:t>Entrega Trabajo Final. 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9480" indent="-26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ill Sans MT"/>
              </a:rPr>
              <a:t>Actividades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ill Sans MT"/>
              </a:rPr>
              <a:t>Productos (Indicadores y verificadores)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ill Sans MT"/>
              </a:rPr>
              <a:t>Resultados (Indicadores y verificadores)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ill Sans MT"/>
              </a:rPr>
              <a:t>Cronograma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ill Sans MT"/>
              </a:rPr>
              <a:t>Presupuesto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ill Sans MT"/>
              </a:rPr>
              <a:t>Fecha de Entrega:  28 de mayo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900" spc="-1" strike="noStrike">
                <a:solidFill>
                  <a:srgbClr val="572314"/>
                </a:solidFill>
                <a:latin typeface="Gill Sans MT"/>
              </a:rPr>
              <a:t>Clase: Aplicación de la Comunicación Intercultural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subTitle"/>
          </p:nvPr>
        </p:nvSpPr>
        <p:spPr>
          <a:xfrm>
            <a:off x="1431720" y="1849320"/>
            <a:ext cx="7407000" cy="45324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20e04"/>
                </a:solidFill>
                <a:latin typeface="Gill Sans MT"/>
              </a:rPr>
              <a:t>Modelos de Exclusión (Garretón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20e04"/>
                </a:solidFill>
                <a:latin typeface="Gill Sans MT"/>
              </a:rPr>
              <a:t>Planificación Comunicacional Intercultura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20e04"/>
                </a:solidFill>
                <a:latin typeface="Gill Sans MT"/>
              </a:rPr>
              <a:t>Taller para ir preparando trabajo del curso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Comunicación Intercultural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1431720" y="1849320"/>
            <a:ext cx="7407000" cy="45324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320e04"/>
                </a:solidFill>
                <a:latin typeface="Gill Sans MT"/>
              </a:rPr>
              <a:t>Se da en 2 niveles al interior de una sociedad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 algn="just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320e04"/>
                </a:solidFill>
                <a:latin typeface="Gill Sans MT"/>
              </a:rPr>
              <a:t>Sujeto:  dos características o reconocimiento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 algn="just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320e04"/>
                </a:solidFill>
                <a:latin typeface="Gill Sans MT"/>
              </a:rPr>
              <a:t>identidades culturales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 algn="just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320e04"/>
                </a:solidFill>
                <a:latin typeface="Gill Sans MT"/>
              </a:rPr>
              <a:t>“</a:t>
            </a:r>
            <a:r>
              <a:rPr b="0" lang="es-ES" sz="2600" spc="-1" strike="noStrike">
                <a:solidFill>
                  <a:srgbClr val="320e04"/>
                </a:solidFill>
                <a:latin typeface="Gill Sans MT"/>
              </a:rPr>
              <a:t>multiplicidad de interpretaciones a un mismo acto comunicativo”: permiten  cambios culturales integradores en procesos de socialización particulares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320e04"/>
                </a:solidFill>
                <a:latin typeface="Gill Sans MT"/>
              </a:rPr>
              <a:t>b)  Estado de Derecho favorece ética de igualdad en la instalación de culturas democráticas.  Plano normativo / estructural promueva espacios interculturales efectivos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300" spc="-1" strike="noStrike">
                <a:solidFill>
                  <a:srgbClr val="572314"/>
                </a:solidFill>
                <a:latin typeface="Gill Sans MT"/>
              </a:rPr>
              <a:t>Modelos de Discriminación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31920" indent="-2570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M.A. Garretón explica tres modelos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 algn="just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Modelo Clásico de discriminación</a:t>
            </a:r>
            <a:r>
              <a:rPr b="0" i="1" lang="es-ES" sz="2800" spc="-1" strike="noStrike">
                <a:solidFill>
                  <a:srgbClr val="000000"/>
                </a:solidFill>
                <a:latin typeface="Gill Sans MT"/>
              </a:rPr>
              <a:t>,</a:t>
            </a: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 que generó el </a:t>
            </a:r>
            <a:r>
              <a:rPr b="0" i="1" lang="es-ES" sz="2800" spc="-1" strike="noStrike">
                <a:solidFill>
                  <a:srgbClr val="000000"/>
                </a:solidFill>
                <a:latin typeface="Gill Sans MT"/>
              </a:rPr>
              <a:t>status de condición humana</a:t>
            </a: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 algn="just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Modelo de exclusión y expulsión</a:t>
            </a:r>
            <a:r>
              <a:rPr b="0" i="1" lang="es-ES" sz="2800" spc="-1" strike="noStrike">
                <a:solidFill>
                  <a:srgbClr val="000000"/>
                </a:solidFill>
                <a:latin typeface="Gill Sans MT"/>
              </a:rPr>
              <a:t>.</a:t>
            </a: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i="1" lang="es-ES" sz="2800" spc="-1" strike="noStrike">
                <a:solidFill>
                  <a:srgbClr val="000000"/>
                </a:solidFill>
                <a:latin typeface="Gill Sans MT"/>
              </a:rPr>
              <a:t>ejemplo mujeres en profesiones tradicionales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 algn="just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Modelo de no reconocimiento a nuevos derechos</a:t>
            </a:r>
            <a:r>
              <a:rPr b="0" i="1" lang="es-ES" sz="2800" spc="-1" strike="noStrike">
                <a:solidFill>
                  <a:srgbClr val="000000"/>
                </a:solidFill>
                <a:latin typeface="Gill Sans MT"/>
              </a:rPr>
              <a:t>. Ejemplo Minorías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También encontramos Modelo desde la diferencia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derechos por identidad o adscripción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900" spc="-1" strike="noStrike">
                <a:solidFill>
                  <a:srgbClr val="572314"/>
                </a:solidFill>
                <a:latin typeface="Gill Sans MT"/>
              </a:rPr>
              <a:t>Fenómenos que dificultan la Comunicación Intercultural 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Discriminación a través de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ill Sans MT"/>
              </a:rPr>
              <a:t>Estigmatización: la relación entre identidad personal e identidad social de quien posee una seña o marca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ill Sans MT"/>
              </a:rPr>
              <a:t>Prejuicio: son actitudes basadas en una idea generalizada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ill Sans MT"/>
              </a:rPr>
              <a:t>Estereotipo:  es la construcción de un “modelo fuerza” para caracterizar a otro en la relación. Son atribuciones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/>
          </p:nvPr>
        </p:nvSpPr>
        <p:spPr>
          <a:xfrm>
            <a:off x="468360" y="475920"/>
            <a:ext cx="4022640" cy="1228680"/>
          </a:xfrm>
          <a:prstGeom prst="rect">
            <a:avLst/>
          </a:prstGeom>
          <a:solidFill>
            <a:srgbClr val="ffffff"/>
          </a:solidFill>
          <a:ln w="10800">
            <a:solidFill>
              <a:srgbClr val="ffffff"/>
            </a:solidFill>
            <a:miter/>
          </a:ln>
        </p:spPr>
        <p:txBody>
          <a:bodyPr anchor="ctr">
            <a:normAutofit/>
          </a:bodyPr>
          <a:p>
            <a:pPr marL="6336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ill Sans MT"/>
              </a:rPr>
              <a:t>Sujetos vulnerables de discriminación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0" y="475920"/>
            <a:ext cx="4022640" cy="1152360"/>
          </a:xfrm>
          <a:prstGeom prst="rect">
            <a:avLst/>
          </a:prstGeom>
          <a:solidFill>
            <a:srgbClr val="ffffff"/>
          </a:solidFill>
          <a:ln w="10800">
            <a:solidFill>
              <a:srgbClr val="ffffff"/>
            </a:solidFill>
            <a:miter/>
          </a:ln>
        </p:spPr>
        <p:txBody>
          <a:bodyPr anchor="ctr">
            <a:normAutofit fontScale="91000"/>
          </a:bodyPr>
          <a:p>
            <a:pPr marL="5760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572314"/>
                </a:solidFill>
                <a:latin typeface="Gill Sans MT"/>
              </a:rPr>
              <a:t>Sujetos con condiciones de discriminación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539280" y="2204640"/>
            <a:ext cx="4023000" cy="3311640"/>
          </a:xfrm>
          <a:prstGeom prst="rect">
            <a:avLst/>
          </a:prstGeom>
          <a:noFill/>
          <a:ln w="10800">
            <a:solidFill>
              <a:srgbClr val="ffffff"/>
            </a:solidFill>
            <a:prstDash val="dash"/>
            <a:miter/>
          </a:ln>
        </p:spPr>
        <p:txBody>
          <a:bodyPr anchor="t">
            <a:normAutofit/>
          </a:bodyPr>
          <a:p>
            <a:pPr marL="392040" indent="-272880">
              <a:spcBef>
                <a:spcPts val="700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ill Sans MT"/>
              </a:rPr>
              <a:t>Mujer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92040" indent="-272880">
              <a:spcBef>
                <a:spcPts val="700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Gill Sans MT"/>
              </a:rPr>
              <a:t>Infancia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92040" indent="-272880">
              <a:spcBef>
                <a:spcPts val="700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Gill Sans MT"/>
              </a:rPr>
              <a:t>Adultos Mayor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92040" indent="-272880">
              <a:spcBef>
                <a:spcPts val="700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Gill Sans MT"/>
              </a:rPr>
              <a:t>Juventud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92040" indent="-272880">
              <a:spcBef>
                <a:spcPts val="700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4716000" y="2133360"/>
            <a:ext cx="4023000" cy="3382920"/>
          </a:xfrm>
          <a:prstGeom prst="rect">
            <a:avLst/>
          </a:prstGeom>
          <a:noFill/>
          <a:ln w="10800">
            <a:solidFill>
              <a:srgbClr val="ffffff"/>
            </a:solidFill>
            <a:prstDash val="dash"/>
            <a:miter/>
          </a:ln>
        </p:spPr>
        <p:txBody>
          <a:bodyPr anchor="t">
            <a:normAutofit fontScale="90000"/>
          </a:bodyPr>
          <a:p>
            <a:pPr marL="328320" indent="-254160">
              <a:spcBef>
                <a:spcPts val="700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ill Sans MT"/>
              </a:rPr>
              <a:t>Personas en situación de Pobrez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spcBef>
                <a:spcPts val="700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ill Sans MT"/>
              </a:rPr>
              <a:t>Personas con Discapacida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spcBef>
                <a:spcPts val="700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ill Sans MT"/>
              </a:rPr>
              <a:t>Pueblos Originario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spcBef>
                <a:spcPts val="700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ill Sans MT"/>
              </a:rPr>
              <a:t>Personas viviendo con VIH/SID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spcBef>
                <a:spcPts val="700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ill Sans MT"/>
              </a:rPr>
              <a:t>Personas privadas de Liberta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spcBef>
                <a:spcPts val="700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2" name="9 CuadroTexto"/>
          <p:cNvSpPr/>
          <p:nvPr/>
        </p:nvSpPr>
        <p:spPr>
          <a:xfrm>
            <a:off x="900000" y="5516640"/>
            <a:ext cx="73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stado no contempla institucionalidad para minorías sexuales ni religiosa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ill Sans MT"/>
              </a:rPr>
              <a:t>Video chileno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300" spc="-1" strike="noStrike">
                <a:solidFill>
                  <a:srgbClr val="572314"/>
                </a:solidFill>
                <a:latin typeface="Gill Sans MT"/>
              </a:rPr>
              <a:t>Plan Comunicacional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1186920" y="1447920"/>
            <a:ext cx="7488360" cy="50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21120" indent="-24840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La comunicación debe ser planificada como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1120" indent="-24840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cualquier plan, con: objetivos, acciones, plazos,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1120" indent="-24840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verificadores y evaluaciones, etc.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1120" indent="-248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1120" indent="-24840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Lo particular del plan de comunicaciones es que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1120" indent="-248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1120" indent="-24840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La comunicación es transversal y se refiere a algo intangible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1120" indent="-24840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Por ello, los objetivos de la comunicación serán contribuir a la asistencia, al mejor clima laboral, a la organización, al reconocimiento, etc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1120" indent="-248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21120" indent="-248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21120" indent="-2484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300" spc="-1" strike="noStrike">
                <a:solidFill>
                  <a:srgbClr val="572314"/>
                </a:solidFill>
                <a:latin typeface="Gill Sans MT"/>
              </a:rPr>
              <a:t>Plan Comunicacional (P.P.)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24720" indent="-25128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Gill Sans MT"/>
              </a:rPr>
              <a:t>Algunas de las consideraciones que se deben considerar al momento de comunicar una política pública son las siguientes: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24720" indent="-25128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Gill Sans MT"/>
              </a:rPr>
              <a:t>1. Definir una imagen (entendida como la proyección visible de la política). 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24720" indent="-25128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Gill Sans MT"/>
              </a:rPr>
              <a:t>2. Establecer una agenda de comunicación pública (qué transmitir, a quiénes, cómo y cuándo). 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24720" indent="-25128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Gill Sans MT"/>
              </a:rPr>
              <a:t>3. Un mensaje que contenga congruencia, credibilidad, oportunidad, persistencia y cercanía. 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24720" indent="-25128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Gill Sans MT"/>
              </a:rPr>
              <a:t>4. Además de fortalecer la capacidad analítica y operativa de quienes desarrollen el indispensable trabajo con los medios de comunicación. 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3 CuadroTexto"/>
          <p:cNvSpPr/>
          <p:nvPr/>
        </p:nvSpPr>
        <p:spPr>
          <a:xfrm>
            <a:off x="6227640" y="5877000"/>
            <a:ext cx="23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Gill Sans MT"/>
              </a:rPr>
              <a:t>Fuente: Lahera, 2004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1T02:02:53Z</dcterms:created>
  <dc:creator>Usuario</dc:creator>
  <dc:description/>
  <dc:language>en-US</dc:language>
  <cp:lastModifiedBy>Usuario</cp:lastModifiedBy>
  <dcterms:modified xsi:type="dcterms:W3CDTF">2012-05-14T01:14:42Z</dcterms:modified>
  <cp:revision>33</cp:revision>
  <dc:subject/>
  <dc:title>Diapositiva 1</dc:title>
</cp:coreProperties>
</file>