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E8F-C6C8-4D0F-A28A-86C8460B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B38-123E-42E0-A4CB-566DDD4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874-D141-44D1-B002-DE51497E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469-CA11-48ED-ABD5-16DCA6A7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A898-4EA4-4C02-98BF-A9E57FAE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2C5-D020-4A6C-AA85-F5668A03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D94-3BEB-472D-8289-9F715DB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AD6-C869-4332-894B-B6D31096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C4D5-30E0-4E48-BC54-628CE21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C8E-5695-45D1-BA9D-86D1A71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C0F-78C9-4083-A17D-9765776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FA2-F9AC-4009-AB3E-302EA14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F62-82DA-4606-8046-AD1F32D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C03-F5F2-46B1-998F-16DE301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ADE-00AE-4390-B51D-4151EAA9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4E04-6BDF-4E43-96D8-46667201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B675-A3EA-4D6C-92F1-C4E47BD1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E3B8-CDA6-48E3-B6A9-4A7AD267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A096-3E49-478E-AA05-6178B02A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DD5C-2402-43C4-BE59-23F4AB3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6483-B110-4535-966B-66E20CD3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BB87-ABF1-4AB6-9383-B778BAE8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872-7222-42FA-849C-C10E125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C783-E4BE-45D4-AC94-12A7058C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4095-C8B9-49B6-AE4B-B4A1F6D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0949-217A-45E9-955C-FF5B9E6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5B3C-05C1-40E3-A217-C9EE801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5A69-2311-432C-82B2-8A73394E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2890-8C01-4991-818E-06EB1E16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FE4D-731E-4BC0-A7D2-A828D8D6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186E-948D-4C2A-ACDC-84AD728C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CCBE-1481-4B0F-8CAF-B00BC07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BA9B-86F0-492A-8808-0A6A10B3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3B1-CECA-4ABC-9186-CEA5E5CA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FFA7-4910-44A8-8D6C-9FBBF8FF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2356-2BDF-4D90-95AF-4FE26CD0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CC75-EC7F-47B4-9F95-61D6D80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F932-070D-4C20-919F-15A4470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4897-446E-4F10-8DA2-70589BF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00CD-2547-4528-82BB-485DDB3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93A0-D7B1-4B5F-997A-D50CB371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DCC3-452F-4E55-AEB7-25988761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BC64-7AE8-4AA9-8DCA-9B0E821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4AF7-E892-45A6-A7A4-58E710A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FE1-3A8D-4C09-8285-3DB8586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B64B-8BD3-415C-A4FB-EFD05F2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9D09-A742-433C-BEE3-72CBF31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E98F-2381-4315-A89B-74EB623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F5CE-17EB-40B5-8954-A250E5B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D4AB-9F12-497F-A924-7724244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8245-FC38-4F4D-9A59-A74EAD9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B643-D9C2-40B6-8517-D85348C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D532-210F-4A05-8769-3FCF653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8634-9DC3-4C84-A8F3-D88F113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67A4-4B59-4A5C-93AB-D40261E4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6DA-6F5D-4B13-9632-1F7A6AC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146F-37ED-413D-82A8-B9AE220F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B02A-E214-48BC-B369-92FADA2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AAEBA-CDEB-4324-8FAE-887A41D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0096-FB30-4A9B-A4D3-06653B5E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7C3B-CF16-4711-B492-8080BCD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C8CA-C52C-44D3-B093-3EEC6D1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6D9D4-D0DD-45A7-B3D5-DCC87E8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8157-534D-42F4-8868-BEEC642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5BB3-E964-4D49-9092-A346889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C5DA-2011-41B6-BB3F-4DDE8D2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E9D-D131-4065-9CBC-C96A588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53E0-58C6-44AF-B187-5F0D2D3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F417-9639-49C5-BC2C-359F0F86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76E2-3E82-4AA0-A8E8-91FBF193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F7FB4-16B4-4238-89C7-CFBBEEB3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141E-B2A0-4AF2-9F8D-2D0572A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5709-C1EB-4DBB-9EE2-241552C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5F61-9DE6-42C5-BF97-DFAB971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BE37-27D4-438D-A9BF-6BD258A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829C5-DD0E-4F36-9807-A3FA5CA1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6218-D20E-4BC5-A9C3-3489962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E4A-1A98-401E-B723-20267CB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AA4E-E3EF-4EC4-B5C4-208B60D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4F476-3219-4D58-A674-43CEAFA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1785-D47B-4A90-BB42-91775149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8029-0095-457D-BA60-4B18364B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B794-090F-4F68-BF66-C7ACC4FB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AE6-A7E3-4159-A3B6-A5C99DA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06BF-D0A0-4906-9502-2BF79895A9B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456A-F302-4C16-B2BA-74C601D64167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B95-FA70-4F9A-8485-A0C1293F1C5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56B-1607-46E7-8C66-026F14A2FF4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28C-353A-4026-A3FD-DC8B586382D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2BA-9B0C-4EB1-AF2F-8EEA05BEEF4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EC9-30A0-4ECB-8C3A-5C731802300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Competencias comunicación intercultural 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La emotividad, lo cognitivo, lo conductu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s de comunicación intercultur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nsiedad e Incertidu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daptación Trans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Tercera Cult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CC Org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849480" cy="5189400"/>
          </a:xfrm>
          <a:prstGeom prst="rect">
            <a:avLst/>
          </a:prstGeom>
          <a:ln w="0">
            <a:noFill/>
          </a:ln>
        </p:spPr>
      </p:pic>
      <p:sp>
        <p:nvSpPr>
          <p:cNvPr id="342" name="7 CuadroTexto"/>
          <p:cNvSpPr/>
          <p:nvPr/>
        </p:nvSpPr>
        <p:spPr>
          <a:xfrm>
            <a:off x="4932360" y="141300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Corresponde al Objetivo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El Objetivo Comunicacional se puede definir en función de un mejoramiento, aumento o incremento. (ej: reacción afectiva del público obje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Frente a los demás objetivos administrativos de la organización, la gestión comunicacional puede (y es conveniente que lo haga) colab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Las flechas indican las relaciones causales necesarias. En este caso, la información es la condición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a mejorar la disposición de los cl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Para qué?  Validar(se) para una mayor efica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lanificación o intervención en sí misma son acciones inter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ej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levancia de la acción: senti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herencia de la propuesta: sinerg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rtinencia de la Propuesta: maximización de result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coger la voz del otr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ticipación (Ej Integra: consultiva,  informativa, deliberativa y control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disciplinariedad. Ceder poder para ganar confian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 principales y específicos (posicionamiento y/o aportes a…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trategias: canales, recoger, prevenir, difundir y/o empoder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étodos: campaña tv, definir población,  información preven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ctividades: Ejecución y detalle del proyec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ductos:  spot, cartilla, afich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sultados: forma en que culminó activ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:  fotos, audios, document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dicadores:  síntesis, cantidad, tiempo, espa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onograma y Presupues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ill Sans MT"/>
              </a:rPr>
              <a:t>Todo debe estar asociado a obje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ra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lementos que debe tener el trabajo fin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blema Intercultural a abord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undación de la necesidad de abordar dicho proble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Objetivo principal y secundari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trategi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todologí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Gill Sans MT"/>
              </a:rPr>
              <a:t>Hasta acá ho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ntrega Trabajo Final.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ctividad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duct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sultad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onogra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esupues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echa de Entrega:  28 de may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lase: Aplicación de la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Modelos de Exclusión (Garretó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Planificación Comunicacional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Taller para ir preparando trabajo del cur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e da en 2 niveles al interior de una socieda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ujeto:  dos características o reconocimien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identidades cultura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multiplicidad de interpretaciones a un mismo acto comunicativo”: permiten  cambios culturales integradores en procesos de socialización particula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b)  Estado de Derecho favorece ética de igualdad en la instalación de culturas democráticas.  Plano normativo / estructural promueva espacios interculturales efectiv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 de Discrimin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.A. Garretón explica tres model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Clásico de discriminac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generó el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status de condición human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exclusión y expuls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ejemplo mujeres en profesiones tradicion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no reconocimiento a nuevos derechos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 Ejemplo Minorí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ncontramos Modelo desde la diferenci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rechos por identidad o adscri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Fenómenos que dificultan la Comunicación Intercultural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scriminación a través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igmatización: la relación entre identidad personal e identidad social de quien posee una seña o mar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ejuicio: son actitudes basadas en una idea generaliz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ereotipo:  es la construcción de un “modelo fuerza” para caracterizar a otro en la relación. Son atribucion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22640" cy="1228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Sujetos vulnerabl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022640" cy="11523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2314"/>
                </a:solidFill>
                <a:latin typeface="Gill Sans MT"/>
              </a:rPr>
              <a:t>Sujetos con condicion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9280" y="2204640"/>
            <a:ext cx="4023000" cy="3311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Infa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dultos May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16000" y="2133360"/>
            <a:ext cx="4023000" cy="33829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en situación de Pobr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con Discapac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ueblos Origi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viviendo con VIH/S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privadas de Libert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9 CuadroTexto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 no contempla institucionalidad para minorías sexuales ni religio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ideo chilen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86920" y="1447920"/>
            <a:ext cx="74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debe ser planificada c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ualquier plan, con: objetivos, acciones, plazos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 y evaluaciones, et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particular del plan de comunicaciones es qu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es transversal y se refiere a algo intang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or ello, los objetivos de la comunicación serán contribuir a la asistencia, al mejor clima laboral, a la organización, al reconocimiento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P.P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Algunas de las consideraciones que se deben considerar al momento de comunicar una política pública son las siguientes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1. Definir una imagen (entendida como la proyección visible de la política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2. Establecer una agenda de comunicación pública (qué transmitir, a quiénes, cómo y cuándo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3. Un mensaje que contenga congruencia, credibilidad, oportunidad, persistencia y cercaní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4. Además de fortalecer la capacidad analítica y operativa de quienes desarrollen el indispensable trabajo con los medios de comunicació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3 CuadroTexto"/>
          <p:cNvSpPr/>
          <p:nvPr/>
        </p:nvSpPr>
        <p:spPr>
          <a:xfrm>
            <a:off x="622764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Fuente: Lahera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2:53Z</dcterms:created>
  <dc:creator>Usuario</dc:creator>
  <dc:description/>
  <dc:language>en-US</dc:language>
  <cp:lastModifiedBy>Usuario</cp:lastModifiedBy>
  <dcterms:modified xsi:type="dcterms:W3CDTF">2012-05-14T01:14:42Z</dcterms:modified>
  <cp:revision>33</cp:revision>
  <dc:subject/>
  <dc:title>Diapositiva 1</dc:title>
</cp:coreProperties>
</file>