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A5D-2339-43DD-84C1-CAE4BC9E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9D1-C870-4702-85BC-AB0F9534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4B2-2C27-4539-A0F8-23FA4504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0E8-1247-4EC9-BE3E-7F8DFA3C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E759-C511-4CFC-8042-9AE9F0F4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4F5F-AD2E-464D-B34C-1555F009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C45F-0FD9-4A1E-9E4F-E81C6DEC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04E9-463E-4C3B-9D81-E6192860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5338-BC62-4233-9388-C6F80F46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A24F-5598-492E-81EC-54BB3F64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3230-8126-4905-817C-189C452E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F229-02F6-4611-BFB5-D653D363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2E22-D1A9-4FF0-BBCD-5F5625E6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89E3-77B2-4B33-9FD4-438FBB87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7C42-780B-4414-BC0E-B7616ECA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98C9-3582-4263-B5E5-E18A563F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19D9-A591-423D-8F08-EBA9BE4F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AA004-45FF-4F82-9FA7-C8C6DE31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435EC-7B9B-46CD-8732-5E830CC4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6DF99-2E96-48FD-9DF9-68C0CD7E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7002F-B358-4B21-AED1-3A400725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6AB12-A255-4FE2-814C-0AED47E7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043-CB81-42CB-8750-86C7FE91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96008-6CF7-4D07-8599-8EA6A48D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C36A8-BFEF-4BDF-82FC-C31B3AB6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DCF63-5210-4746-9741-640D4D16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58521-F80C-4D05-B77C-FB20E7E4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E4C94-3606-4202-B8E4-14A98A9D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8CF58-1D89-4163-9BC8-C10F50EF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1BC28-B182-4037-AFF3-DB21C35E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3F61F-2788-46E9-B1E4-BAF297BB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1E9EE-A772-4215-AF07-74C419A4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13023-0BA4-4EB8-943B-9E53BFFB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DE4-FEEB-4D38-AEB8-38D9263F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DBB46-CEE7-4107-A761-47211FA8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3878D-E4AD-44DE-B89D-D5E1F67D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B04BA-2A12-4756-9502-E04CEBB1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F3A3C-E52E-43B1-9BE9-70B40235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72FBA-9C8F-42CF-A802-E27B33F0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BA3F5-6F56-4215-9A54-6953692B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79F66-2E7B-4A83-BB0A-A9DBE5BA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AB323-896C-4DC5-BD8B-3CA3E50A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38AC0-C980-4DA2-B96E-78AB630C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3A829-A779-4D40-86FA-B1FB7AA8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A35-0373-4468-B80F-5B3E3461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211E2-2283-4084-8531-E0CAFFEA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09E43-88C7-4C28-8296-5BFAE0DE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6BD28-7A00-4C93-8CA8-9D0A7486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076C3-8B0C-41D5-8897-2CF54BB7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986B3-7ECB-421B-BEC6-26CAADE8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F9B98-DFB0-4E31-8B24-E37EC060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16FB5-526C-413D-A618-E8C02B3C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00B6A-8AD4-44FA-BBBE-BA79CE6D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14CC8-532D-4DC7-8ED8-7295BF83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8E5C8-6155-43CD-9641-DF0FF114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9AA-986C-478A-AA1A-764CDD37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4D278-AF49-4285-A4FD-22E8338D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11288-3EB4-4CCE-BBE7-7CE0019E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87194-B361-48A5-A84D-30786E58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88439-3128-4E7D-A70B-1477D39F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D1793-FE6C-48A2-84E2-B6B15CDF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CF88F-70DC-4C9D-BB09-E79CF4AD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90A41-4B57-4030-BFCA-3EF7E2E9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91A0A-49EC-4776-A2E3-195A5280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EAC54-2E33-472B-937C-8E1A6225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A22EC-E3A4-4CE2-B1CD-15F4F351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008-F4C6-418E-ABCC-C2A1AE30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2B690-9CD4-4D3E-8135-D6E85F70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6D360-B3C6-4541-8DB5-6E1F7A3D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3C14F-6322-402B-985D-934DD932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6AA3D-983F-4C0D-A18D-F96B1428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CB364-0D22-436F-8985-30FEE4C3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489FF-5440-4A96-9D62-DE01EFE7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4CCDB-5F88-4017-AFB1-123A1993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469D9-4E87-4DFC-871B-2D6688E5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BD67B-B76E-4190-B4CB-861BD878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A40BA-73A7-4AD6-A51B-7C87D1AA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FAE-CAB2-4C38-A729-BECF2FCD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9EA96-89D7-40EC-972C-373A8A06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4E9E1-9541-4CAA-BBEB-72F3D9E1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056C6-AED2-47D2-9485-F0ECB17F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747F7-2DF2-4260-AA52-A38B7DFA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E782A-0579-44CB-8232-B3F03F7C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3C9-F46B-4561-9967-BAF85B58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8630-2620-4D0C-A7B0-D1C59D0594C4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8C40-9BDA-4CE5-8AE6-45D23547573D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3C87-483E-47C0-BBBE-A2063AE6F071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2D6B-E673-4B65-A178-2E3F456B15CA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4D45-BAC2-4279-873E-266C4B1111C9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5772-1918-4A32-8405-446C5CC469F0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BD02-537D-482D-8746-77F1AD5D8B42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paso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532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Competencias comunicación intercultural en 3 aspecto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La emotividad, lo cognitivo, lo conductu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s de comunicación intercultur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 de la Ansiedad e Incertidumb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 de la Adaptación Trans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 de la Tercera Cultur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lan Comunicacional (CC Org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849480" cy="5189400"/>
          </a:xfrm>
          <a:prstGeom prst="rect">
            <a:avLst/>
          </a:prstGeom>
          <a:ln w="0">
            <a:noFill/>
          </a:ln>
        </p:spPr>
      </p:pic>
      <p:sp>
        <p:nvSpPr>
          <p:cNvPr id="342" name="7 CuadroTexto"/>
          <p:cNvSpPr/>
          <p:nvPr/>
        </p:nvSpPr>
        <p:spPr>
          <a:xfrm>
            <a:off x="4932360" y="1413000"/>
            <a:ext cx="352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) Corresponde al Objetivo de Gest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) El Objetivo Comunicacional se puede definir en función de un mejoramiento, aumento o incremento. (ej: reacción afectiva del público objetiv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) Frente a los demás objetivos administrativos de la organización, la gestión comunicacional puede (y es conveniente que lo haga) colabor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) Las flechas indican las relaciones causales necesarias. En este caso, la información es la condición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a mejorar la disposición de los cli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lan Comunicacional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¿Para qué?  Validar(se) para una mayor eficaci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lanificación o intervención en sí misma son acciones intercultura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3 ej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Relevancia de la acción: sentid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herencia de la propuesta: sinerg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ertinencia de la Propuesta: maximización de resultad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Elementos Plan Comunicacional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Recoger la voz del otr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articipación (Ej Integra: consultiva,  informativa, deliberativa y control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terdisciplinariedad. Ceder poder para ganar confianz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Objetivos principales y específicos (posicionamiento y/o aportes a…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trategias: canales, recoger, prevenir, difundir y/o empoder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Elementos Plan Comunicacional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Métodos: campaña tv, definir población,  información preven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ctividades: Ejecución y detalle del proyect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ductos:  spot, cartilla, afich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Resultados: forma en que culminó activi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Verificadores:  fotos, audios, document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dicadores:  síntesis, cantidad, tiempo, espaci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ronograma y Presupuest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Gill Sans MT"/>
              </a:rPr>
              <a:t>Todo debe estar asociado a objetiv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Trabaj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lementos que debe tener el trabajo fina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blema Intercultural a aborda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undación de la necesidad de abordar dicho problem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Objetivo principal y secundari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strategi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todologí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Gill Sans MT"/>
              </a:rPr>
              <a:t>Hasta acá ho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Entrega Trabajo Final.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Actividad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ductos (Indicadores y verificadores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Resultados (Indicadores y verificadores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ronogram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esupuest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echa de Entrega:  28 de may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Clase: Aplicación de la Comunicación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532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Modelos de Exclusión (Garretó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Planificación Comunicacional Inter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Taller para ir preparando trabajo del curs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532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Se da en 2 niveles al interior de una socieda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Sujeto:  dos características o reconocimient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identidades cultural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“</a:t>
            </a: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multiplicidad de interpretaciones a un mismo acto comunicativo”: permiten  cambios culturales integradores en procesos de socialización particular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b)  Estado de Derecho favorece ética de igualdad en la instalación de culturas democráticas.  Plano normativo / estructural promueva espacios interculturales efectiv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 de Discrimin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.A. Garretón explica tres modelo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 Clásico de discriminación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que generó el 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status de condición human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 de exclusión y expulsión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ejemplo mujeres en profesiones tradiciona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 de no reconocimiento a nuevos derechos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. Ejemplo Minorí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ambién encontramos Modelo desde la diferenci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rechos por identidad o adscrip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Fenómenos que dificultan la Comunicación Intercultural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iscriminación a través d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Estigmatización: la relación entre identidad personal e identidad social de quien posee una seña o marc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rejuicio: son actitudes basadas en una idea generaliza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Estereotipo:  es la construcción de un “modelo fuerza” para caracterizar a otro en la relación. Son atribucion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4022640" cy="122868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Sujetos vulnerables de discrimina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0" y="475920"/>
            <a:ext cx="4022640" cy="115236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91000"/>
          </a:bodyPr>
          <a:p>
            <a:pPr marL="576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72314"/>
                </a:solidFill>
                <a:latin typeface="Gill Sans MT"/>
              </a:rPr>
              <a:t>Sujetos con condiciones de discrimina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39280" y="2204640"/>
            <a:ext cx="4023000" cy="331164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Muje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Infanc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Adultos Mayo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Juventu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716000" y="2133360"/>
            <a:ext cx="4023000" cy="338292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en situación de Pobrez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con Discapacid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ueblos Originari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viviendo con VIH/SID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privadas de Libert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9 CuadroTexto"/>
          <p:cNvSpPr/>
          <p:nvPr/>
        </p:nvSpPr>
        <p:spPr>
          <a:xfrm>
            <a:off x="900000" y="551664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 no contempla institucionalidad para minorías sexuales ni religio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Video chilen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lan Comunicacion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86920" y="1447920"/>
            <a:ext cx="74883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a comunicación debe ser planificada com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ualquier plan, con: objetivos, acciones, plazos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verificadores y evaluaciones, etc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o particular del plan de comunicaciones es qu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a comunicación es transversal y se refiere a algo intangibl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or ello, los objetivos de la comunicación serán contribuir a la asistencia, al mejor clima laboral, a la organización, al reconocimiento, et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lan Comunicacional (P.P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Algunas de las consideraciones que se deben considerar al momento de comunicar una política pública son las siguientes: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1. Definir una imagen (entendida como la proyección visible de la política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2. Establecer una agenda de comunicación pública (qué transmitir, a quiénes, cómo y cuándo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3. Un mensaje que contenga congruencia, credibilidad, oportunidad, persistencia y cercanía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4. Además de fortalecer la capacidad analítica y operativa de quienes desarrollen el indispensable trabajo con los medios de comunicación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3 CuadroTexto"/>
          <p:cNvSpPr/>
          <p:nvPr/>
        </p:nvSpPr>
        <p:spPr>
          <a:xfrm>
            <a:off x="6227640" y="5877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ill Sans MT"/>
              </a:rPr>
              <a:t>Fuente: Lahera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2:02:53Z</dcterms:created>
  <dc:creator>Usuario</dc:creator>
  <dc:description/>
  <dc:language>en-US</dc:language>
  <cp:lastModifiedBy>Usuario</cp:lastModifiedBy>
  <dcterms:modified xsi:type="dcterms:W3CDTF">2012-05-14T01:14:42Z</dcterms:modified>
  <cp:revision>33</cp:revision>
  <dc:subject/>
  <dc:title>Diapositiva 1</dc:title>
</cp:coreProperties>
</file>