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341-5DDE-43E0-86DE-0114A5A1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98C-EEE4-4FE7-B257-660DB762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1F8-E24B-470A-8F89-E9419C6C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59C-9B3B-4951-BD40-82CA2318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0D31-2815-4234-8084-69A8099B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52AE-27C4-42A9-B15F-80E01842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7A37-C697-4063-9B13-DC501495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3D19-F299-45C8-9A34-EF79E0DF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3BE3-A870-4857-B8D7-988A6EF1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CD2C-1953-41FA-ACF1-8E0C14F2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F21-4BA5-4664-9457-3E692143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FCE-8B5D-4D4B-AD00-73F9750E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6CBE-FF02-4387-8FBC-F0A39509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67CC-5A5C-42C6-98D0-4286929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FE27-24AB-4B32-BBD1-69C6B63E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80E-939D-4EE8-9726-F53C2037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B26F-3B02-4D28-B4FB-EECF41F8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4DB1C-2E72-499D-8832-83D66902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0EB61-CF61-449B-A636-27B3F01E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13D47-41DC-4068-A623-3B0F2B27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D43C-CE6E-481E-826A-280C52A0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5390-8554-457A-86B5-DB7D5523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143-9596-49F0-BD7C-582116C3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3C3C3-F239-40BC-9B0C-680D6B54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36FD-4E98-44F5-8EB5-F98CAE6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DA53-F0F7-4282-912F-F1E0D18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83C9-CD67-4039-AD14-4C11D669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DBAA7-7761-4588-AD0E-83563319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884ED-87E0-4AAB-9601-9F016029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FB78-E05D-4456-BC97-E3053660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31F0B-E67D-4B4C-9F73-F53C37B7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F008-454B-4F76-B36F-2629D6B3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0A67-9C84-41BD-84D6-A1E3D782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BDD-8DDE-4C87-8269-FA909412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724FD-FFFD-4730-90DE-3AB0CEB7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1CC9-60B1-40C4-814A-AD095C8D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8E9BE-0E0C-46E1-8492-009A626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345A0-959F-4DAB-8324-959D97C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787AB-9B5D-4BF8-AA9F-F9C7278B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45B2D-4755-48C7-BF35-FEF0DEC4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FC6C-9650-471A-9530-798E090C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5AC95-FCCF-416E-AB76-561D35F4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ABF4-D609-497C-913E-69B07BF9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6685-E575-44E3-A9D2-CAD3BC8E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4CD-8DA8-424B-ABE9-DB54E120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D4A7B-3E65-4629-A000-AF3D1294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98428-14E4-4BD3-BBE2-43A5BEE8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788F8-B867-464A-B629-AD3BD372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F2A65-A716-43D4-9C77-CD69FF3F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63D7C-D342-4043-B6E3-870280D0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A77D1-1306-449A-90AB-E0E3A284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2423-B542-467B-971F-524F3C82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0F6D4-EF5D-40F9-BF67-9261EE6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ACB3-15A3-461F-ADB1-B41AD927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5D607-EB02-4F7D-9021-2D64F22D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6DE-2237-491C-BF79-2EA5ACE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4FF7-BD33-4613-8732-7C5F2787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3A3A-2FF0-47FE-A02D-7DD0FB20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BD34F-BBC8-4058-8AB5-901FFED9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3F1F8-87CE-4555-99D8-9E5153C2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3FB50-58B2-4A6D-8B98-126DECD4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F737-7886-4C1D-999E-C50B60F1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90231-8E54-48DB-ABCC-79B74326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71B25-1609-458A-BDBA-AC58824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DD44D-6176-47D7-AEDE-CF74693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55240-DD00-4411-BAB4-571CC15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E2F-CF7B-430A-8319-9579BE06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F2B9A-99C2-4590-98F7-D269FE76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FDBB8-4846-4565-82C7-76C6A63C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7B41B-5CAB-4164-B190-AB9966FD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336C-FAAA-40E2-A550-E34A518D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B287-A7BC-4781-A210-71B8B311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C482-EC92-40E9-8779-330A6777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E929F-6FA2-40ED-A78E-57977A83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E4CF3-0BED-4404-867B-3A00FCF1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65A7-BEF1-455A-BCDC-79F345C5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A9C75-5AA7-44B5-8705-0CC7CF75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FC3-E7B6-4475-A920-E270FCBA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52D7-EDBE-41C5-BA3E-DEB7DF03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E2DF4-3F47-4014-AE97-C9DC5D6C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7CD6A-111D-4924-9369-D9E3032D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979F-962D-4779-BA2E-202D582B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A767F-F749-4058-9298-6ABC53E2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B1B-3E1F-4E60-8B58-33B4610A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18EB-9D70-41A0-9592-98C451D9EF6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8941-C128-47EC-BFBD-D937A7A6594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807A-C6FB-472D-8C35-FF9644EE749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7F27-0B0C-477F-9FF7-55E117A9304E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186B-F563-4222-9F01-8DD6FFA82C03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211B-7775-46B4-B759-F6490C04F7D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23FD-81CB-449A-9207-C6E298A28EE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Competencias comunicación intercultural 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La emotividad, lo cognitivo, lo conductu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s de comunicación intercultur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nsiedad e Incertidumb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daptación Trans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Tercera Cultu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CC Org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849480" cy="5189400"/>
          </a:xfrm>
          <a:prstGeom prst="rect">
            <a:avLst/>
          </a:prstGeom>
          <a:ln w="0">
            <a:noFill/>
          </a:ln>
        </p:spPr>
      </p:pic>
      <p:sp>
        <p:nvSpPr>
          <p:cNvPr id="342" name="7 CuadroTexto"/>
          <p:cNvSpPr/>
          <p:nvPr/>
        </p:nvSpPr>
        <p:spPr>
          <a:xfrm>
            <a:off x="4932360" y="141300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Corresponde al Objetivo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El Objetivo Comunicacional se puede definir en función de un mejoramiento, aumento o incremento. (ej: reacción afectiva del público obje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Frente a los demás objetivos administrativos de la organización, la gestión comunicacional puede (y es conveniente que lo haga) colabo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Las flechas indican las relaciones causales necesarias. En este caso, la información es la condición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a mejorar la disposición de los cl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Para qué?  Validar(se) para una mayor efica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lanificación o intervención en sí misma son acciones inter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ej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levancia de la acción: sentid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herencia de la propuesta: sinerg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rtinencia de la Propuesta: maximización de result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coger la voz del otr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ticipación (Ej Integra: consultiva,  informativa, deliberativa y control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disciplinariedad. Ceder poder para ganar confian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 principales y específicos (posicionamiento y/o aportes a…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trategias: canales, recoger, prevenir, difundir y/o empoder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étodos: campaña tv, definir población,  información preven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ctividades: Ejecución y detalle del proyec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ductos:  spot, cartilla, afich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sultados: forma en que culminó activ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:  fotos, audios, document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dicadores:  síntesis, cantidad, tiempo, espac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onograma y Presupues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ill Sans MT"/>
              </a:rPr>
              <a:t>Todo debe estar asociado a objetiv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ra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lementos que debe tener el trabajo fin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blema Intercultural a abord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undación de la necesidad de abordar dicho proble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Objetivo principal y secundari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strategi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todologí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Gill Sans MT"/>
              </a:rPr>
              <a:t>Hasta acá ho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ntrega Trabajo Final.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ctividad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duct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sultad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onogra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esupues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echa de Entrega:  28 de may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lase: Aplicación de la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Modelos de Exclusión (Garretó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Planificación Comunicacional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Taller para ir preparando trabajo del curs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e da en 2 niveles al interior de una socieda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ujeto:  dos características o reconocimien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identidades cultural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multiplicidad de interpretaciones a un mismo acto comunicativo”: permiten  cambios culturales integradores en procesos de socialización particula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b)  Estado de Derecho favorece ética de igualdad en la instalación de culturas democráticas.  Plano normativo / estructural promueva espacios interculturales efectiv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 de Discrimin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.A. Garretón explica tres model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Clásico de discriminac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generó el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status de condición human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exclusión y expuls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ejemplo mujeres en profesiones tradicion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no reconocimiento a nuevos derechos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 Ejemplo Minorí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ncontramos Modelo desde la diferenci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rechos por identidad o adscri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Fenómenos que dificultan la Comunicación Intercultural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scriminación a través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igmatización: la relación entre identidad personal e identidad social de quien posee una seña o mar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ejuicio: son actitudes basadas en una idea generaliz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ereotipo:  es la construcción de un “modelo fuerza” para caracterizar a otro en la relación. Son atribucion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22640" cy="12286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Sujetos vulnerabl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022640" cy="11523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2314"/>
                </a:solidFill>
                <a:latin typeface="Gill Sans MT"/>
              </a:rPr>
              <a:t>Sujetos con condicion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39280" y="2204640"/>
            <a:ext cx="4023000" cy="33116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Infa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Adultos May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16000" y="2133360"/>
            <a:ext cx="4023000" cy="33829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en situación de Pobrez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con Discapac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ueblos Origi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viviendo con VIH/SI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privadas de Libert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9 CuadroTexto"/>
          <p:cNvSpPr/>
          <p:nvPr/>
        </p:nvSpPr>
        <p:spPr>
          <a:xfrm>
            <a:off x="900000" y="551664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 no contempla institucionalidad para minorías sexuales ni religio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ideo chilen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86920" y="1447920"/>
            <a:ext cx="7488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debe ser planificada co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ualquier plan, con: objetivos, acciones, plazos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 y evaluaciones, et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particular del plan de comunicaciones es qu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es transversal y se refiere a algo intangi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or ello, los objetivos de la comunicación serán contribuir a la asistencia, al mejor clima laboral, a la organización, al reconocimiento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P.P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Algunas de las consideraciones que se deben considerar al momento de comunicar una política pública son las siguientes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1. Definir una imagen (entendida como la proyección visible de la política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2. Establecer una agenda de comunicación pública (qué transmitir, a quiénes, cómo y cuándo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3. Un mensaje que contenga congruencia, credibilidad, oportunidad, persistencia y cercanía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4. Además de fortalecer la capacidad analítica y operativa de quienes desarrollen el indispensable trabajo con los medios de comunicación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3 CuadroTexto"/>
          <p:cNvSpPr/>
          <p:nvPr/>
        </p:nvSpPr>
        <p:spPr>
          <a:xfrm>
            <a:off x="622764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Fuente: Lahera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2:53Z</dcterms:created>
  <dc:creator>Usuario</dc:creator>
  <dc:description/>
  <dc:language>en-US</dc:language>
  <cp:lastModifiedBy>Usuario</cp:lastModifiedBy>
  <dcterms:modified xsi:type="dcterms:W3CDTF">2012-05-14T01:14:42Z</dcterms:modified>
  <cp:revision>33</cp:revision>
  <dc:subject/>
  <dc:title>Diapositiva 1</dc:title>
</cp:coreProperties>
</file>