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335F-B2EB-4A9B-8B3A-F8ECF8398D0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F86E-C057-47A9-B8F4-A2ABB0D8A19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87AC-5CEA-4484-906E-2FC713F10E8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C454-A4D9-45FC-B6C6-227E8DE0A01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878B-7B13-446E-A61F-ADDBB40CBA1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F978-6C73-49F5-8127-47DD6E8EBFD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B623-A142-49B3-A10F-4497A2E59D6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4B2B-B41B-466C-9A14-6BB6577DD15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B246-B6DF-4153-B0F8-B99E5F32DEE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9387-7709-4F68-B9D1-5339F0D6722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FBFC-ED65-479B-B606-77EF3D794BC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FE79-EA06-4717-94D5-22160C590AA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E0E4-05DB-4239-8DE1-F056B652263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73E9-D4FF-47BC-A7DA-03107A6CC67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63AA-E471-4774-AF2A-C3C929F8F58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BDC2-8B53-494D-818E-EAE061A038E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A616-4537-4BA2-889E-4F82434F1C5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39F9-EAFE-47D9-8C49-1BB3661E51F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20EA-509F-44FB-8D19-750791DBACB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4A46-B97D-4BDE-95E9-1C0EE48530F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62C0-3DC8-4A0F-A869-20CA07F041D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B0BB-B2C4-4DD2-AEE8-57C9FD19343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A19B-4DD1-4281-97AF-A13F3922AA7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7961-83FF-4608-8EEE-EB2299AAEC2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4A4F-89D5-4E0C-991B-8D1EEBAE368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91C0-3FB6-4A49-B484-854296AC9B7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BD69-4D9C-467F-B5A1-15EF7BD8ED1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F977-3453-4A8A-9161-53249EBAC1E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301B-734F-4CEC-91FE-C359BF6CBB1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594A-E96A-4554-B355-6177FB70426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211-DA2D-4362-A425-188BC1E5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36EF-F662-4839-B12E-FFA519F8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D0C6C-7FB8-4A37-8E4E-827A9DD3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CB17A-5FE5-465A-9C76-07C5D1EE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D336B-3F40-4FE6-AF9E-AAAB43F8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197BE-9BFD-4371-8C9D-64F2F555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64F86-C561-4102-AAE7-67EFCA8A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6D38E-7848-4926-AC7D-FE0072EA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A2644-A63E-4E31-8D8F-7433001F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51D96-7F6F-40C9-BC3F-9FD14849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BE586-01CF-4F1E-AB8D-D039F5F6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20334-4713-4396-9334-B383E735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98E-0D64-430E-8309-3DAF058D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AF407-32E1-4223-8FC7-A1B93B5A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D4523-C527-4CEC-ACE6-B8CC4364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9D171-DB8B-4C46-A990-A6127221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AFE26-365D-4777-B7A0-E16BE347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B9CFC-8DFE-4D8F-9A49-C22EF715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1428B-952B-4A63-A715-DEE68492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ECCDF-F885-4A51-B51C-6BC39ADD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BB9E6-4117-4A4F-A4D1-3A2D2FE6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70AD7-0A1F-4C21-B71E-B32BACCA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33069-5478-4D4C-B0B7-DEC37590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C12-53F6-45E6-8D5A-1AFE65F9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31E82-B475-4045-84B3-0188DF0F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7F9A6-1095-422E-ABCC-0FBD7DD6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2CA83-C8AF-491C-A012-E457F1A5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A2D78-7565-4CA9-9C7D-3C26CDB2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376F3-30E4-4719-AE94-21448FD8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BD3CB-F615-4D9D-B203-8E09246E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310F3-92C6-4103-A153-4203885D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CC254-15DA-4AE9-B760-9062CFA3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A3D5E-2D57-4DE4-8AF2-242C4802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CDB76-9CBA-46F5-BD48-23110E54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0FB1-F721-42DC-8089-A429E957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DDD1B-AD85-43B9-A29E-E49CD039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71C35-B2F8-43DC-9128-014041FF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1C84C-071D-4CE7-BDF4-9409818A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C64F6-29C1-4ADE-83FB-9B7046F6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3DB76-E9FF-4709-BC79-4CDFB726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08AAE-DB92-4458-81C8-9D0B0D48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FD6DE-9A47-4900-93BC-960FA9D3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4F4AA-3DC7-4071-9293-C4215F55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05B2C-C233-4EFF-951F-20343251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E637B-2222-4002-87D5-7E7E1F02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D03C-A66F-4722-B91B-A4B519D7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40325-A5EC-4806-A6C7-E336B51B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3C0A4-6C1A-4675-9147-36FA4308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F28BB-362D-4179-85A9-934152C4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6A665-CBBA-4CCB-BC2F-651DA681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46C47-55A1-416F-9DFA-B167B127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98DB2-A2BF-4DF7-BDFF-64DA3582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D1850-FCA6-4AFC-8BAC-D6278DD3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37C10-381E-4846-99C5-97F83041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761A7-7C51-496F-976F-26507475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9D9B6-4B85-48D5-BA5D-5C83B914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359F-7540-4DFB-940F-604C3797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2227B-321B-4E1A-974D-0D41CF5B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87389-188C-4D8A-A9F1-AA4009BC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22844-A5C1-451A-AE63-20187048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A9EE0-336D-4126-A291-43ADC1BA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E464F-23F8-4171-BA8A-67DD406D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20684-4ADF-45C0-9237-8107D5F7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064F9-E3F9-498A-878B-11271548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BC96D4-7F63-43EE-AFAF-8947A6BC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37FDE-3A8F-4A6D-AFF1-531AB536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A1DE9-E210-4B2D-AC08-32B8AF2D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87C2-98D1-473E-8167-CB9F999D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D5BE8-B41C-4132-A184-559BBEBE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57D25F-DE9F-4E35-9F81-EE169D3C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F043B4-2060-4F33-929F-5147C66C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9DAB41-D228-4229-98A3-86E85F13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51D5BB-0B89-4D5C-B4BE-57860565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5F37B-5A93-4FED-80E5-E829FED7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61C7ED-9405-49DB-9D57-433ACB36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833C91-AFBD-48C3-9A32-554CACC2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927A37-7DDE-43CE-B6D4-EDC0F733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83DB-C370-4D85-BF55-8945A08A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6A62-AF5B-4DD0-BB68-60B18622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CBF5-75F9-4CD6-A509-E94FECBC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775-D2E3-4624-977E-AB1D7024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8385-1CDD-4158-BD2B-0868059B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12F8-AFEB-4EE7-B59A-DB2B55DD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20EE-BD19-448E-B33D-5113062E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3781-FEEC-40F0-86EB-EC4AB0F6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DB0F-810E-425E-A647-D004B72C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39A98-6548-4F8C-B873-F68FC7A4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9E0D4-A925-4DB1-9F4A-A33F3414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09F8D-4A12-440E-9EC2-BB1AEFE7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8C180-E13C-4647-A7AB-0E001F84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C29C9-F1AD-4C55-9E58-254CBA17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346-3FAA-4064-80D2-A5C0B9AB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3A8A1-8C66-431C-8ECE-B06F0D83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21A75-4DE8-4123-9303-03B0A9E5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BEDC4-F2F8-43ED-BC1F-2B934A59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97ED2-66D0-4224-A1CA-A91914DF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344CA-09AE-421E-9A47-0F4FEB3F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1717A-C9A0-4C4B-9A22-13B9477A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8BCFA-6492-4A20-8F3D-22CABFA7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F4088-B23F-4F8E-8B31-52709ED7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52F36-B4CE-4A7D-96E6-4506F1C2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3EA2F-E9AF-44F6-A692-79EC2496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342-9962-46EE-9D9F-7F56256D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3B67A-7C7A-442D-A1A2-764FD294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02E0F-4591-44C9-895D-EBD3AD5E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BF924-4189-4260-831C-8C9F249F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5D44F-A6CE-43B0-A78D-6CC9A994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04C1F-3C23-4C34-B6CB-72A2EAFC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56606-DA1D-4D9B-8517-F2FD8239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39845-2576-4A44-9928-EF6DDE3D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C8138-9DFA-409C-847F-126771CB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AAB1D-2020-4B88-B4BA-016BBB6E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74F9A-7013-4DE3-9C00-DC709A5A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A6F-64A0-42D4-A23B-D0581C22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5649B-95B3-47B0-B82F-D386F15D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927FE-91C9-42BB-95C7-648C5BF6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F329F-CDA7-4765-B9F6-B3A4F80C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4FC98-D1CA-4F03-A3C7-55BBF1BA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2ECFA-8D1E-4771-951D-10B489FE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D02F4-CCDB-40E1-B3DB-F05BC49F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D09A2-244B-467D-8E0A-28F09E8C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B1133-48DF-4A0E-9EE1-5469B2F4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CB76A-97B3-45A4-85CA-C2B0F2B5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19D01-0B88-4C78-B232-E96E8701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975-840C-4BE3-B617-BA90DC19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40714-5343-4B5B-B36F-A2009A75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D532A-8678-4D12-A22F-B4054119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3FD4F-FAE7-49C3-9FE7-E3424CBE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701DC-D773-417D-BB41-5C68F6C3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A589E-5E53-474E-B864-6651819F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C5ADD-BC9D-4F68-B0CE-D48114B5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775D2-8AB6-4916-BAC8-DCF09F08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F6ED2-9E10-409F-B603-7D9B3B68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AF20C-B01A-470B-9469-C62A1340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13DF7-EA7B-436C-903F-9FD395BB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CF7-2331-4897-B078-2B2FA1CC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6D370-0CD4-4DDA-AEC6-428B9A1F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E9763-ADFC-49A1-B565-3A92C253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C0721-D4BD-4477-A502-2A96FE39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F0600-57F1-45C9-B6C3-255B5120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6E9F7-2B39-4E13-B4EC-58F8801C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63256-9055-441C-8A8B-F3849B6A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09D9D-C0B2-424E-9D11-F38434DC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CBA77-02C2-4E9C-BC1F-5810A30F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00F6F-F0D0-4BDD-A959-C39E90BF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82095-807F-4590-83BB-984A6764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7C1-EEC8-4A96-9F86-E8E5605E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A5092-1D55-4D38-85BB-1A8494C8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5A219-36D1-4DB1-9C81-741CF7BA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7B1FE-736F-4E15-9F46-22F52635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2B1EC-259C-45DF-806E-181A8F8C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6F2E3-C216-4386-80E1-B789BBB8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CAED3-AA52-4A49-AFF2-1BB875AD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532E6-D75D-4AAB-A8BD-1AD6E48E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7F0C5-0541-4924-9BA9-D0958359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FF189-3E7E-47EA-8DC0-89C5BF70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67F5E-963E-4283-B733-FA97FAE2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652-C5B5-436D-94C1-DDCBA68F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98A94-B6A6-41F1-84B1-0E1E304A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3E391-6539-421E-9055-6A55D0C8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77807-FBA4-4839-BDE0-DB34F429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C16B5-E95F-403C-A410-FD044BA9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51AFA-C33E-42DB-8DC4-B922ED24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B271A-8C67-4D15-8782-07EC28B3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F8598-53A2-4846-85C8-E3634C5F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376B3-3CEA-48D9-95DC-D8DB932D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61EE0-360F-49D4-8AA0-6D20DA87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F467F-8067-441C-9071-BF3270FE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B6C0-6835-4FDB-96B6-9659159B7F48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42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FB17-6A37-470C-88A4-008B72CB4009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415B-97E7-4BDE-9BD0-05D11A486190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7D25-1A70-4B8D-9ACC-EAE7CBB8F4E5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1785-0A4F-43F0-898B-AFD5D8F50083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591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B570-AF55-47C2-A9C0-1A3CD12E1F09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5E62-85B8-4F2B-9BA8-242D58C05F5A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9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04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81DA-3E51-49C6-A935-06A20FBAD5EE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15B0-394D-406A-98BE-3BC1EDF5CD10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8C32-3C9D-482D-92C8-BF6F17609CB1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BF80-E3E1-4D2C-8115-900349894F26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F9FE-4FFA-4BE8-BE08-1E6F7C61F680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21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D6D4-1ACC-4447-9AEB-D48DD97CA010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374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D93B-2CC1-4E98-B0B3-E55E7DDEA40B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Repaso clase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476360" y="1483920"/>
            <a:ext cx="7407360" cy="4388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Perspectiva monocultural: es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Perspectiva multicultural: construcció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Concepto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nivel epistemológico: Monocultural vs Multicultura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Nivel social: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Pluricultural: sociedad compuesta por fragment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Multicultural: ejemplo Guethos en EE.U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Intercultural: relación (sentido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Jacques Ellul presenta cinco condiciones básicas para que la comunicación sea efectiva entre culturas que coexisten en un conjunto social mayo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iferenciación entre los grup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omprensibili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conocimiento recípro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cept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 monopolización de los medios de comunic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 importancia del contexto y la percepció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ontext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torno físico o de situación, ya sea político, histórico, cultural o de cualquier otra índole, en el cual se considera un hech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uchos textos o manifestaciones son incomprensibles si no conocemos el context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Percepción: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omprensión del entorno basándose en los sentidos. Es un proceso activo, interpretativo y continu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572314"/>
                </a:solidFill>
                <a:latin typeface="Gill Sans MT"/>
              </a:rPr>
              <a:t>Culturas de contexto alto y bajo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644480" y="1412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omunicación de alto context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, la información esencial se encuentra en el contexto físico o está interiorizada en la persona, poca información esta en la parte codificada o explícita del mensaje. (mucho context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omunicación de bajo context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, es lo contrario; la mayoría de la información se expresa explícitamente. (poco context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4572000" y="6021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. T.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300" spc="-1" strike="noStrike">
                <a:solidFill>
                  <a:srgbClr val="572314"/>
                </a:solidFill>
                <a:latin typeface="Gill Sans MT"/>
              </a:rPr>
              <a:t>Culturas de contexto alto y baj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681" name="Group 4"/>
          <p:cNvGrpSpPr/>
          <p:nvPr/>
        </p:nvGrpSpPr>
        <p:grpSpPr>
          <a:xfrm>
            <a:off x="1434960" y="1700280"/>
            <a:ext cx="7313760" cy="4548240"/>
            <a:chOff x="1434960" y="1700280"/>
            <a:chExt cx="7313760" cy="4548240"/>
          </a:xfrm>
        </p:grpSpPr>
        <p:grpSp>
          <p:nvGrpSpPr>
            <p:cNvPr id="682" name="Group 5"/>
            <p:cNvGrpSpPr/>
            <p:nvPr/>
          </p:nvGrpSpPr>
          <p:grpSpPr>
            <a:xfrm>
              <a:off x="1434960" y="1700280"/>
              <a:ext cx="7313760" cy="4548240"/>
              <a:chOff x="1434960" y="1700280"/>
              <a:chExt cx="7313760" cy="4548240"/>
            </a:xfrm>
          </p:grpSpPr>
          <p:sp>
            <p:nvSpPr>
              <p:cNvPr id="683" name="AutoShape 6"/>
              <p:cNvSpPr/>
              <p:nvPr/>
            </p:nvSpPr>
            <p:spPr>
              <a:xfrm>
                <a:off x="1434960" y="1700280"/>
                <a:ext cx="7313760" cy="454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7"/>
              <p:cNvSpPr/>
              <p:nvPr/>
            </p:nvSpPr>
            <p:spPr>
              <a:xfrm>
                <a:off x="1527120" y="5258880"/>
                <a:ext cx="165960" cy="170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180" h="140">
                    <a:moveTo>
                      <a:pt x="0" y="140"/>
                    </a:moveTo>
                    <a:lnTo>
                      <a:pt x="100" y="0"/>
                    </a:lnTo>
                    <a:lnTo>
                      <a:pt x="180" y="10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8"/>
              <p:cNvSpPr/>
              <p:nvPr/>
            </p:nvSpPr>
            <p:spPr>
              <a:xfrm>
                <a:off x="5340240" y="1919160"/>
                <a:ext cx="165960" cy="170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180" h="140">
                    <a:moveTo>
                      <a:pt x="180" y="0"/>
                    </a:moveTo>
                    <a:lnTo>
                      <a:pt x="80" y="140"/>
                    </a:lnTo>
                    <a:lnTo>
                      <a:pt x="0" y="40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9"/>
              <p:cNvSpPr/>
              <p:nvPr/>
            </p:nvSpPr>
            <p:spPr>
              <a:xfrm flipV="1">
                <a:off x="1637640" y="2016000"/>
                <a:ext cx="3757680" cy="331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10"/>
              <p:cNvSpPr/>
              <p:nvPr/>
            </p:nvSpPr>
            <p:spPr>
              <a:xfrm>
                <a:off x="6003720" y="1896120"/>
                <a:ext cx="9594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Japones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11"/>
              <p:cNvSpPr/>
              <p:nvPr/>
            </p:nvSpPr>
            <p:spPr>
              <a:xfrm>
                <a:off x="5524560" y="2382840"/>
                <a:ext cx="75024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Aráb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2"/>
              <p:cNvSpPr/>
              <p:nvPr/>
            </p:nvSpPr>
            <p:spPr>
              <a:xfrm>
                <a:off x="5229720" y="2797920"/>
                <a:ext cx="169776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Latinoameric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13"/>
              <p:cNvSpPr/>
              <p:nvPr/>
            </p:nvSpPr>
            <p:spPr>
              <a:xfrm>
                <a:off x="4861800" y="3138480"/>
                <a:ext cx="71352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Italian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14"/>
              <p:cNvSpPr/>
              <p:nvPr/>
            </p:nvSpPr>
            <p:spPr>
              <a:xfrm>
                <a:off x="4566600" y="3479400"/>
                <a:ext cx="713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Ingle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15"/>
              <p:cNvSpPr/>
              <p:nvPr/>
            </p:nvSpPr>
            <p:spPr>
              <a:xfrm>
                <a:off x="4197960" y="3943080"/>
                <a:ext cx="922680" cy="3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France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16"/>
              <p:cNvSpPr/>
              <p:nvPr/>
            </p:nvSpPr>
            <p:spPr>
              <a:xfrm>
                <a:off x="3718800" y="4357080"/>
                <a:ext cx="1574280" cy="3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Norteameric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17"/>
              <p:cNvSpPr/>
              <p:nvPr/>
            </p:nvSpPr>
            <p:spPr>
              <a:xfrm>
                <a:off x="3387960" y="4723560"/>
                <a:ext cx="3394440" cy="44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Escandinava (excepto Finlandesa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18"/>
              <p:cNvSpPr/>
              <p:nvPr/>
            </p:nvSpPr>
            <p:spPr>
              <a:xfrm>
                <a:off x="2908440" y="5137200"/>
                <a:ext cx="873720" cy="4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Alem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19"/>
              <p:cNvSpPr/>
              <p:nvPr/>
            </p:nvSpPr>
            <p:spPr>
              <a:xfrm>
                <a:off x="2075400" y="5575320"/>
                <a:ext cx="37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Suiz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20"/>
              <p:cNvSpPr/>
              <p:nvPr/>
            </p:nvSpPr>
            <p:spPr>
              <a:xfrm>
                <a:off x="7293240" y="1993320"/>
                <a:ext cx="1281240" cy="76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000000"/>
                    </a:solidFill>
                    <a:latin typeface="Geneva"/>
                  </a:rPr>
                  <a:t>Información implíci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21"/>
              <p:cNvSpPr/>
              <p:nvPr/>
            </p:nvSpPr>
            <p:spPr>
              <a:xfrm>
                <a:off x="7292520" y="240588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000000"/>
                    </a:solidFill>
                    <a:latin typeface="Geneva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22"/>
              <p:cNvSpPr/>
              <p:nvPr/>
            </p:nvSpPr>
            <p:spPr>
              <a:xfrm>
                <a:off x="2338200" y="1884960"/>
                <a:ext cx="1520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000" spc="-1" strike="noStrike">
                    <a:solidFill>
                      <a:srgbClr val="000000"/>
                    </a:solidFill>
                    <a:latin typeface="Geneva"/>
                  </a:rPr>
                  <a:t>Culturas de contexto al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23"/>
              <p:cNvSpPr/>
              <p:nvPr/>
            </p:nvSpPr>
            <p:spPr>
              <a:xfrm>
                <a:off x="1440360" y="3856680"/>
                <a:ext cx="1203480" cy="79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000" spc="-1" strike="noStrike">
                    <a:solidFill>
                      <a:srgbClr val="000000"/>
                    </a:solidFill>
                    <a:latin typeface="Geneva"/>
                  </a:rPr>
                  <a:t>Culturas de contexto baj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Rectangle 24"/>
            <p:cNvSpPr/>
            <p:nvPr/>
          </p:nvSpPr>
          <p:spPr>
            <a:xfrm>
              <a:off x="6744960" y="5206320"/>
              <a:ext cx="1325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Geneva"/>
                </a:rPr>
                <a:t>Información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i="1" lang="es-ES" sz="1200" spc="-1" strike="noStrike">
                  <a:solidFill>
                    <a:srgbClr val="000000"/>
                  </a:solidFill>
                  <a:latin typeface="Geneva"/>
                </a:rPr>
                <a:t>explícita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243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20e04"/>
                </a:solidFill>
                <a:latin typeface="Gill Sans MT"/>
              </a:rPr>
              <a:t>Criterios generales para una comunicación más eficaz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20e04"/>
                </a:solidFill>
                <a:latin typeface="Gill Sans MT"/>
              </a:rPr>
              <a:t>A. Una cierta competencia comunicat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20e04"/>
                </a:solidFill>
                <a:latin typeface="Gill Sans MT"/>
              </a:rPr>
              <a:t>B. Un cierto conocimiento de la otra cultu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etencia Comunicativa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243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“</a:t>
            </a: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la habilidad para negociar los significados culturales y ejecutar las conductas comunicativas apropiadamente eficaces que reconocen las múltiples identidades de los interactuantes en un contexto específico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Se reconocen 3 aspecto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A. la emotividad: proyectar y recibi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B. lo cognitivo: conciencia y autoconcienci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C. la conducta: destrezas de actuar ante un objetivo inter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07" name="3 Marcador de contenido" descr="gudykunst1.jpg"/>
          <p:cNvPicPr/>
          <p:nvPr/>
        </p:nvPicPr>
        <p:blipFill>
          <a:blip r:embed="rId1"/>
          <a:stretch/>
        </p:blipFill>
        <p:spPr>
          <a:xfrm>
            <a:off x="6483240" y="836640"/>
            <a:ext cx="2318040" cy="2736720"/>
          </a:xfrm>
          <a:prstGeom prst="rect">
            <a:avLst/>
          </a:prstGeom>
          <a:ln w="0">
            <a:noFill/>
          </a:ln>
        </p:spPr>
      </p:pic>
      <p:pic>
        <p:nvPicPr>
          <p:cNvPr id="708" name="4 Imagen" descr="untitled-2.jpg"/>
          <p:cNvPicPr/>
          <p:nvPr/>
        </p:nvPicPr>
        <p:blipFill>
          <a:blip r:embed="rId2"/>
          <a:stretch/>
        </p:blipFill>
        <p:spPr>
          <a:xfrm>
            <a:off x="1403280" y="2924280"/>
            <a:ext cx="3981600" cy="1609560"/>
          </a:xfrm>
          <a:prstGeom prst="rect">
            <a:avLst/>
          </a:prstGeom>
          <a:ln w="0">
            <a:noFill/>
          </a:ln>
        </p:spPr>
      </p:pic>
      <p:pic>
        <p:nvPicPr>
          <p:cNvPr id="709" name="5 Imagen" descr="untitled-21.jpg"/>
          <p:cNvPicPr/>
          <p:nvPr/>
        </p:nvPicPr>
        <p:blipFill>
          <a:blip r:embed="rId3"/>
          <a:stretch/>
        </p:blipFill>
        <p:spPr>
          <a:xfrm>
            <a:off x="1187280" y="4292640"/>
            <a:ext cx="4457880" cy="1200240"/>
          </a:xfrm>
          <a:prstGeom prst="rect">
            <a:avLst/>
          </a:prstGeom>
          <a:ln w="0">
            <a:noFill/>
          </a:ln>
        </p:spPr>
      </p:pic>
      <p:pic>
        <p:nvPicPr>
          <p:cNvPr id="710" name="6 Imagen" descr="untitled.jpg"/>
          <p:cNvPicPr/>
          <p:nvPr/>
        </p:nvPicPr>
        <p:blipFill>
          <a:blip r:embed="rId4"/>
          <a:stretch/>
        </p:blipFill>
        <p:spPr>
          <a:xfrm>
            <a:off x="1763640" y="1341360"/>
            <a:ext cx="3981600" cy="1609920"/>
          </a:xfrm>
          <a:prstGeom prst="rect">
            <a:avLst/>
          </a:prstGeom>
          <a:ln w="0">
            <a:noFill/>
          </a:ln>
        </p:spPr>
      </p:pic>
      <p:pic>
        <p:nvPicPr>
          <p:cNvPr id="711" name="7 Imagen" descr="untitled-22.jpg"/>
          <p:cNvPicPr/>
          <p:nvPr/>
        </p:nvPicPr>
        <p:blipFill>
          <a:blip r:embed="rId5"/>
          <a:stretch/>
        </p:blipFill>
        <p:spPr>
          <a:xfrm>
            <a:off x="3780000" y="5373720"/>
            <a:ext cx="4457520" cy="1200240"/>
          </a:xfrm>
          <a:prstGeom prst="rect">
            <a:avLst/>
          </a:prstGeom>
          <a:ln w="0">
            <a:noFill/>
          </a:ln>
        </p:spPr>
      </p:pic>
      <p:sp>
        <p:nvSpPr>
          <p:cNvPr id="712" name="8 Rectángulo"/>
          <p:cNvSpPr/>
          <p:nvPr/>
        </p:nvSpPr>
        <p:spPr>
          <a:xfrm>
            <a:off x="6456240" y="378936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illiam Gudyku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434960" y="1447920"/>
            <a:ext cx="7499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sde 1985 con modificaciones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eoría compleja, con más de 100 axiomas (24 la primera versión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je central puesto en la dificultad de la comunicación intercultural (malentendid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Gill Sans MT"/>
              </a:rPr>
              <a:t>Axioma 1:</a:t>
            </a:r>
            <a:r>
              <a:rPr b="0" lang="es-CL" sz="1800" spc="-1" strike="noStrike">
                <a:solidFill>
                  <a:srgbClr val="000000"/>
                </a:solidFill>
                <a:latin typeface="Gill Sans MT"/>
              </a:rPr>
              <a:t> Un aumento en el grado en que nuestras identidades sociales guian nuestras interacciones con los extranjeros se producirá una disminución en la ansiedad y un aumento de nuestra confianza en la predicción de su comportamiento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ill Sans MT"/>
              </a:rPr>
              <a:t>Este axioma es válido sólo cuando estamos seguros en nuestra vida social, no somos conscientes, si los extranjeros son percibidos por los miembros del exogrupo como típicos, y cuando nuestra ansiedad y la incertidumbre son entre nuestros umbreles mínima y máximos. (Gudykunst, 2005, p. 294)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Foraster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lación dual cerca/lejos Caracterización desde lo ajeno, exterior, extraño. Calidad dada a partir de los grados de inclusión / exclusión dados en el encuentro. Todos los sujetos son potenciales forasteros, dado el contexto de la interac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Incertidumbre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n toda relación humana hay un cierto grado de incertidumbre (predictiva y explicativa). Adecuación la indeterminación e impredictibilidad. El justo medio, sería una comunicación eficaz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Ansiedad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mponente afectivo. Mientras más alta, mayor cantidad de estereotipos sobre el “forastero”. Si la ansiedad es baja hay desmotiva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Comunicación Eficaz: 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ceso de interpretación y construcción de sentido que reduce la divergencia entre las dos o más intencionalidades comunicativas puestas en juego en la rela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conocer la problematización implícita, la categorización que se realiza y finalmente, la reducción del problem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A mayor conciencia, mayor categorización, mayor reducción del problem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lase 2 Comunicación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331640" y="16282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mpetencias comunicación inter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3 teorías de comunicación inter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ara ampliar categorías de pensamiento sobre las formas de conocer y generar encuentros entre distintas cultur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6 Rectángulo"/>
          <p:cNvSpPr/>
          <p:nvPr/>
        </p:nvSpPr>
        <p:spPr>
          <a:xfrm>
            <a:off x="3635280" y="4581360"/>
            <a:ext cx="1800360" cy="648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7 CuadroTexto"/>
          <p:cNvSpPr/>
          <p:nvPr/>
        </p:nvSpPr>
        <p:spPr>
          <a:xfrm>
            <a:off x="3564000" y="4724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NS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8 Rectángulo"/>
          <p:cNvSpPr/>
          <p:nvPr/>
        </p:nvSpPr>
        <p:spPr>
          <a:xfrm>
            <a:off x="3564000" y="5589720"/>
            <a:ext cx="2016000" cy="6476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INCERTIDU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11 Elipse"/>
          <p:cNvSpPr/>
          <p:nvPr/>
        </p:nvSpPr>
        <p:spPr>
          <a:xfrm>
            <a:off x="5940360" y="4292640"/>
            <a:ext cx="2519280" cy="2305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12 Triángulo isósceles"/>
          <p:cNvSpPr/>
          <p:nvPr/>
        </p:nvSpPr>
        <p:spPr>
          <a:xfrm>
            <a:off x="971640" y="4437000"/>
            <a:ext cx="2232000" cy="194472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Foras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15 CuadroTexto"/>
          <p:cNvSpPr/>
          <p:nvPr/>
        </p:nvSpPr>
        <p:spPr>
          <a:xfrm>
            <a:off x="6084720" y="4797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AP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16 Triángulo isósceles"/>
          <p:cNvSpPr/>
          <p:nvPr/>
        </p:nvSpPr>
        <p:spPr>
          <a:xfrm>
            <a:off x="6804000" y="5157720"/>
            <a:ext cx="1944720" cy="129564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Tercera 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Énfasis en sus axiomas en la toma de conciencia del acto comunicativo intercultur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Gudykunst plantea tres componentes centrales en la construcción de competencias comunicativas: motivación, conocimiento y destrez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 asociada a necesidades d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ntirnos segur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edecir el deveni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ertenencia a un grup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vitar la ansie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n sentido común univers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 gratificaciones (materiales o simbólica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 sostener nuestras identidad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onocimiento: Reconocimiento de que una misma conducta puede ser significada de manera divers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 gracia de la comunicación intercultural es que apela a las interpretaciones alternativas, en cada uno de sus ámbitos reflexivos: la descripción, su interpretación y la evaluación (juicio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 mayor complejidad cognitiva del sujeto participante, mayor eficacia de la comunicación inter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Teorías de la 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26" name="Picture 3" descr="perros"/>
          <p:cNvPicPr/>
          <p:nvPr/>
        </p:nvPicPr>
        <p:blipFill>
          <a:blip r:embed="rId1"/>
          <a:stretch/>
        </p:blipFill>
        <p:spPr>
          <a:xfrm>
            <a:off x="1476360" y="1341360"/>
            <a:ext cx="3789360" cy="501516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 txBox="1"/>
          <p:nvPr/>
        </p:nvSpPr>
        <p:spPr>
          <a:xfrm>
            <a:off x="5435280" y="1523880"/>
            <a:ext cx="349884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mberto Eco habla de decodificación aberrante.  El código determina el mensaj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Una cosa es lo que se dice, otra cosa es lo que el receptor entien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strezas:  habilidades: capacidades o disposición. (conductas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Habilidad de crear nuevas categorí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olerancia a la ambigüed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apacidad de empatiz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apacidad de adaptación de la comunica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so de la información apropiad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ritic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mplejo y difícil sintetizar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tegorías y se encuadra en uno de los 3 niveles (emotivo, cognitivo y conductist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No tienen en cuenta comunicación de mas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rabajo con inmigrantes, por lo tanto su teoría se basa en contacto de grupos que han tenido una socialización primera en una cultura y después pasan a convivir con otra por un periodo prolongad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imilación,  Aculturación e Integr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35" name="3 Imagen" descr="Young%20Kim.jpg"/>
          <p:cNvPicPr/>
          <p:nvPr/>
        </p:nvPicPr>
        <p:blipFill>
          <a:blip r:embed="rId1"/>
          <a:stretch/>
        </p:blipFill>
        <p:spPr>
          <a:xfrm>
            <a:off x="6732720" y="1341360"/>
            <a:ext cx="1828800" cy="2438640"/>
          </a:xfrm>
          <a:prstGeom prst="rect">
            <a:avLst/>
          </a:prstGeom>
          <a:ln w="0">
            <a:noFill/>
          </a:ln>
        </p:spPr>
      </p:pic>
      <p:sp>
        <p:nvSpPr>
          <p:cNvPr id="736" name="4 Rectángulo"/>
          <p:cNvSpPr/>
          <p:nvPr/>
        </p:nvSpPr>
        <p:spPr>
          <a:xfrm>
            <a:off x="6940440" y="38606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oung Yun K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Proceso de cambio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 lo largo del tiempo que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se produce en individuos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que han completado su proceso de socialización primaria en una cultura y luego tienen un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contacto de primera mano 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ntinuo y prolongado con una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cultura nueva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y desconocida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ara Kim, el eje de la adaptación es la comunicación, complejo y dinám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Hace foco en la interculturalidad desde lo que le sucede al forastero.  Es intraperson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Asimilación: 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ceptación de los principales elementos culturales de la cultura receptora, por parte del “forastero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Aculturación: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 cambio, es la adquisición de algunos elementos de la cultura recepto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Imitación y ajustamiento, para Kim, son procesos conductuales individuales, mientras que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integración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ría la dimensión de participación social del grupo o persona “forastera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Cómo entiende a los forastero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 aquel que proviene de otra socialización y se desplaza a una cultura o subcultura diferen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on sujetos dependientes de la cultura receptor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xperimentan relaciones comunicativas directas con el entorn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Estudio 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88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2 formas de analizar comunicación intercultural es en qué nivel se da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Interpersonal:  cómo se da el contac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Mediático: uso y gratificaciones de los medi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Interrelación entre dos ámbit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Nivel intermedio: grupos multiculturales en empresas (comunicación organizacional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¿Qué ocurre con el o la forastero(a)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roceso de socialización secundario desaprendizaje o deculturación de algunos hábito de la antigua cultu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coste de la nueva adquisición es a la vez pérdida de algo de lo antigu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hoque cultural: ruptura de los puntos de vista sociales de nueva socie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Se busca homeostasis (cambio y estabilidad): equilibrio organism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ceso central de la socialización secundaria: asimilación / acomod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ambio: transformación intercultural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 Aumento de su acomodación funcion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2. “salud psicológica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. Surgimiento de una identidad inter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o cognitivo y emotivo es el nucleo de la teorí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La estructura de la adaptación transcultur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Competencia comunicativa Autóctona: capacidad del forastero para recibir información y procesarla, proveniente de la sociedad receptor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Esto tiene directa relación con el grado de participación del sujeto en la “nueva” cultura que lo aloj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 ese contexto, surge la comunicación interpersonal autóctona y la comunicación mediática autócton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e ultima puede facilitar la adaptación, al entregar un aprendizaje de las relaciones “para – sociales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ero por otro lado están los circuitos comunicacionales “étnicos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o, para Kim, facilita  el proceso de adaptación y por otro lado, preserva la identidad cultural de orig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 obstante la posición de la sociedad receptora influye en la adaptación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. Receptivid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2. Presión social para la adapt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. Poder del grupo de origen en la sociedad recepto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ritic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Teorías asimilacionis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No se produce negociación sino adaptación cultural a cultura hegemónic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ociedad receptora es vista como  uniform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No plantea aportes de foraster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e oculta efecto de mestizaj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56" name="7 Marcador de contenido" descr="fred casmir2.jpg"/>
          <p:cNvPicPr/>
          <p:nvPr/>
        </p:nvPicPr>
        <p:blipFill>
          <a:blip r:embed="rId1"/>
          <a:stretch/>
        </p:blipFill>
        <p:spPr>
          <a:xfrm>
            <a:off x="5499000" y="1484280"/>
            <a:ext cx="3645000" cy="457200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 txBox="1"/>
          <p:nvPr/>
        </p:nvSpPr>
        <p:spPr>
          <a:xfrm>
            <a:off x="1258560" y="1412640"/>
            <a:ext cx="410508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ecesidad de establecer un aproximación desde modelos cooperat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Orientado hacia la preparación en un mundo “mundializado” y “localizado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8" name="8 Rectángulo"/>
          <p:cNvSpPr/>
          <p:nvPr/>
        </p:nvSpPr>
        <p:spPr>
          <a:xfrm>
            <a:off x="6669000" y="609300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ed Casm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fluencias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cuela Palo Alto e Interaccionismo Simból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Toda comunicación tiene un aspecto de contenido y un aspecto relacional, tales que el segundo clasifica al primero y es, por ende, metacomunicación, contenido viene determinado por interacción que se establece entre los interactuante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Todos los intercambios comunicacionales son simétricos (igualdad) o complementarios, según estén basados en la igualdad o diferenc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fluencias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cuela Palo Alto e Interaccionismo Simból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Toda comunicación tiene un aspecto de contenido y un aspecto relacional, tales que el segundo clasifica al primer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Todos los intercambios comunicacionales son simétricos (igualdad) o complementarios, según estén basados en la igualdad o diferenci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fluencias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cuela Palo Alto e Interaccionismo Simból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enguaje verbal y no verbal permiten comunicarse a las personas entres sí y es mediante la comunicación cómo se establece la socieda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or ello, una sociedad que vive su mestizaje plenamente solo es posible si se produce una comunicación intercultural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 Conducta son construcciones subjetivas sobre uno mismo, sobre los otros y sobre las exigencias que se producen en las situaciones de la vida cotidiana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Todo acto comunicativo podría definirse como intercultural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 importante constatar que en la vida cotidiana existen “grados de diferenciación cultural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xistirían distancias y proximidades entre las distintas comunidades de vi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ás proximidad menor interculturalid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4 Flecha abajo"/>
          <p:cNvSpPr/>
          <p:nvPr/>
        </p:nvSpPr>
        <p:spPr>
          <a:xfrm>
            <a:off x="4356000" y="3357720"/>
            <a:ext cx="7923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5 Flecha abajo"/>
          <p:cNvSpPr/>
          <p:nvPr/>
        </p:nvSpPr>
        <p:spPr>
          <a:xfrm>
            <a:off x="4356000" y="4869000"/>
            <a:ext cx="72072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Antecedentes de Casmi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. Valoración de la diversidad 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B. Expectativa del Mutuo Desarrollo donde la coerción o la persuasión es inadecua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. Interacción trasformado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na tercera cultura es una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subcultur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que se produce en una situación determinada donde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temporalmente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se pueden producir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ambios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 la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por la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interacción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 personas que buscan conseguir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acuerdos mutuos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obre determinados objetivos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 ámbitos de estudio: individual, organizacional y el mediado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Individual.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eta: logro de una identidad multi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Organizacional.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eta: apertura a nuevas membresías en las familias y las empres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Mediad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denuncia: imperialismo cultural, ilusión de relación, escasas posibilidades de construcción de una tercera cultu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asmir propone con-vencer, como buen modelo cooperativo donde “todos ganan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s de la tercera cultur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imer modelo: ciclo de actuación en la construcción individual de la tercera cultura: Experiencia /Necesidades/ Comunicación/ Interdependencia/ Experienci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gundo Modelo: Construcción de la Tercera Cultura. Individuo en relación con otro, buscan el beneficio mutuo y construyen una nueva estructura, influidos por agentes externos (outsiders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ercer Modelo. Actuación individual y construcción de la tercera cultura. Mirada transaccional. Sujeto A con necesidades y experiencias se comunica con un B. Con el tiempo se genera interdependencia, pero aquella está dada por las modificaciones de ambas cultur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476360" y="1412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ara Casmir, estos procesos pueden ser facilitados tanto por las familias como por las estructuras del Estado, como el gobierno y desde él, las políticas públic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ritic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Excluye la discusión del poder tanto en qu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ideal donde contrapartes están en situación de igualda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uáles son los principios innegociables de los interactuan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rabajo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 ha escogido un tema de interés para un plan o intervención intercultur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ara trabajarlo la última sesión se deben traer antecedentes sobre el tema y el destinatario principal del plan o intervención intercultur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1258560" y="1483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mpetencia intercultural interpersonal: “habilidad para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negociar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 los significados culturales y ejecutar las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conducta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 comunicativa apropiadas para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reconocer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 las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múltiples identidades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de los interactúantes en un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entorno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pecífico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3 CuadroTexto"/>
          <p:cNvSpPr/>
          <p:nvPr/>
        </p:nvSpPr>
        <p:spPr>
          <a:xfrm>
            <a:off x="5940360" y="5877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Chen y Starosta, 199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oda relación es diferente por lo que no se pueden dar recetas para comunicar interculturalmen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Qué hacemos entonc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Generamos criterios generales para una comunicación más eficaz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476360" y="1483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. Una cierta competencia comunicativ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B. Un cierto conocimiento de la otra cultu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Qué sucede entonces cuándo en el lenguaje común hablamos de choque cultural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7" name="3 Imagen" descr="295_card_tells_bush2050081722-9210.jpg"/>
          <p:cNvPicPr/>
          <p:nvPr/>
        </p:nvPicPr>
        <p:blipFill>
          <a:blip r:embed="rId1"/>
          <a:stretch/>
        </p:blipFill>
        <p:spPr>
          <a:xfrm>
            <a:off x="5148360" y="4581360"/>
            <a:ext cx="1871640" cy="1852920"/>
          </a:xfrm>
          <a:prstGeom prst="rect">
            <a:avLst/>
          </a:prstGeom>
          <a:ln w="0">
            <a:noFill/>
          </a:ln>
        </p:spPr>
      </p:pic>
      <p:pic>
        <p:nvPicPr>
          <p:cNvPr id="668" name="4 Imagen" descr="osama-bin-laden-773756.jpg"/>
          <p:cNvPicPr/>
          <p:nvPr/>
        </p:nvPicPr>
        <p:blipFill>
          <a:blip r:embed="rId2"/>
          <a:stretch/>
        </p:blipFill>
        <p:spPr>
          <a:xfrm>
            <a:off x="3348000" y="4437000"/>
            <a:ext cx="15112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sde una visión comunicativa estaríamos hablando de una incomprensión de la relación establecida y del comportamiento del otr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 diferencia de comunicación en una misma cultura en la comunicación intercultural el malentendido es la norma y no la excep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 cualquier encuentro entre culturas es un encuentro inter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iene que existir un cierto grado de reconocimiento de la existencia y validez de la (s) otra(s) cultura(s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tonces, al darse comunicativamente este reconocimiento, la sociedad de quien observa se asume como  pluri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5T22:51:08Z</dcterms:created>
  <dc:creator>Usuario</dc:creator>
  <dc:description/>
  <dc:language>en-US</dc:language>
  <cp:lastModifiedBy>Usuario</cp:lastModifiedBy>
  <dcterms:modified xsi:type="dcterms:W3CDTF">2012-05-07T05:08:28Z</dcterms:modified>
  <cp:revision>43</cp:revision>
  <dc:subject/>
  <dc:title>Diapositiva 1</dc:title>
</cp:coreProperties>
</file>