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  <p:sldId id="298" r:id="rId59"/>
    <p:sldId id="299" r:id="rId60"/>
    <p:sldId id="300" r:id="rId61"/>
    <p:sldId id="301" r:id="rId62"/>
    <p:sldId id="302" r:id="rId63"/>
    <p:sldId id="303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slide" Target="slides/slide43.xml"/><Relationship Id="rId60" Type="http://schemas.openxmlformats.org/officeDocument/2006/relationships/slide" Target="slides/slide44.xml"/><Relationship Id="rId61" Type="http://schemas.openxmlformats.org/officeDocument/2006/relationships/slide" Target="slides/slide45.xml"/><Relationship Id="rId62" Type="http://schemas.openxmlformats.org/officeDocument/2006/relationships/slide" Target="slides/slide46.xml"/><Relationship Id="rId63" Type="http://schemas.openxmlformats.org/officeDocument/2006/relationships/slide" Target="slides/slide47.xml"/><Relationship Id="rId64" Type="http://schemas.openxmlformats.org/officeDocument/2006/relationships/slide" Target="slides/slide48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CAA01-FD9F-4541-B823-97990B95944C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8F94A-D083-468B-BA78-AD13FD1C3F1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84D66-348D-44E2-9D72-7507671ACA1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802EA-84B4-44B3-BF90-D8D6C51BDF6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9086E-F462-43DA-A390-F8B4A08F056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29C9B-9727-4F99-8226-716D0B2D38E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32A18-EEDA-4DAB-8803-2A9C3B695ED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57ABE-5422-42A6-A62E-DA338A90C21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C205E-CB5E-4998-B787-7C6F41D2764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229AB-576D-4CD1-A7AE-1D8DC0EF6244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5ED42-0E19-420D-9129-8D3AD29A257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5DCB8-8534-452A-8BBF-8FA0F61494D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D0F72-E528-4000-804F-C96A28278DE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9182-1494-4683-8C48-0EE0922D2146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BA3CE-8E2C-4653-9ED8-FF6869A2B42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7486C-872B-4BCE-A2FF-AF4F461F551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DB834-63FB-4B37-AFCC-7B4DAFB0232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37A6-4519-46FD-B796-6C7E38C073C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E719D-CCCB-40D0-9EEA-59B3F4A193C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8BAB3-8745-42A5-89D7-2C2ABC74310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60E93-4352-4327-A85F-00E0D8BF6D3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B60E2-D08C-49C8-9632-A41489CBAFB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EADC8-9E3C-4760-9BB1-278D2D066CB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E59BA-39BB-438B-BD9D-462EEBBD73C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E2234-5F9D-47C8-85D5-2B3AAB411A4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90112-D88B-4EC6-8141-AF932813237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6E2FE-7EB9-46C2-BC6B-DA15FFD7618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032EF-A253-4974-89F4-DB2216133A81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50F60-40A9-4CA8-923B-D91C8AAC931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89F42-399C-40CD-BB50-95CC7552986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2139-1821-4150-8039-21BB1A512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2818-C10B-4CDA-9721-16B86E92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EAFB14-F430-484A-B9A7-D24EFE92F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A24F44-4C4E-4E2A-B35A-570909CF4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BA52BD-5492-4136-9472-EB40BD093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8C62B1-7696-44E9-BC92-2B8C6C73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71F06B-FD24-4743-A289-5EF34018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EC6952-F063-4646-8B1F-FCB5DC99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2D2199-0EC5-403D-8787-466DA51CA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4129ED-AE6B-4FF7-AD13-BCF290768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07D0DF-1FFE-4C47-8292-BC9652BA6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A0CF07-6209-4F14-BB19-4F1117AE1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B24E-2319-4A1A-B345-34F2C243B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C5A58A-25CD-4D4A-A1B9-F2D0181F4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F12309-87D1-47D1-9D13-76FD91B5E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BE7D7C-FB2F-4F49-BE8D-7CDDC448C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256967-E704-4ECC-9DC9-C93AB5A0F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91556E-3A79-43F5-A744-3596B9FC8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DAC38B-5176-4026-8E5D-913E9A48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38F80D-BF09-49BA-AE1B-D552C444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0B3210-F998-481E-AEFA-BC7D7612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E0A557-4C2C-42DC-A122-CFCD9D23D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7B7633-5B28-490D-8BEE-B39F8338B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9B36-8ABE-43C3-AC3E-1FC4200AE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BF43C8-4A61-42DE-B05E-59696855A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A27A7A-A5C7-4596-AF75-F19C6D892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4BEA57-CDC1-41CA-93E1-7AF902BDD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4C7E45-1EDD-4169-8757-A6C0304B6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FD325F-1F06-473F-BC6B-4B175D44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A41759-02AF-450C-AC24-5795C68C7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384A29-7B75-4C0F-A2D7-E9B59F97F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87A995-54BB-42EE-A224-5CA865EE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469E02-8070-4F89-A5F6-4E1A841D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1E194B-A476-4A78-8FFD-B42046EB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00A08-2D27-4DAE-A3F0-44055ABC3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C49DEB-D16A-4CD0-A966-585D88F4D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96D231-D991-4988-8E07-29A4616C1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69B5F2-7513-4882-82FF-246D0F116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14787D-E4A2-4F82-9B3A-EAAF8ABFB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7ECD25-0046-4593-B8F1-FF6836A4D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65629C-447D-4B24-BBE9-36AA3DF7D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647FF9-05F0-4DAE-82E3-BFC21D793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9EE299-4CBA-4E7A-8FB2-373E31749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B8A83D-3D5E-4B75-8408-6EB7F0E84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8D58E7-FA1B-4CC7-97B6-006F0E12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CA68F-972B-407C-B65A-B4CBA15EF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494F25-E0E5-4D6E-A958-DAB3D092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96816C-59A9-4672-89B6-17875144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0FEB93-6334-4519-A81B-B3A25C1B9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EEE528-F936-4CE5-B73A-68429D0D9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4B9C92-3164-430C-8D98-CCD6ABE75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11B201-1859-4F97-8B09-7F885BDC9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7CF734-8CD5-4021-89D2-A2B7FA52C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5259CD-6563-4981-AE62-A981B964A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842D1A-8453-442F-A1DE-6D7523C07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45C184-D65D-486B-BDAE-FD8CFDD11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9E6DD-98B0-4402-8520-8AB97D72B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644865-491F-4528-A19B-28A1BB29B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F12E92-BEE8-49EF-A666-37951F37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F7A69F-4255-4356-8F24-BA520558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9E60D2-FFCC-4BD1-8370-D28BD368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ED9149-B93D-473D-95A7-FC85133AB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CE8A49-8B09-4A0E-99DB-BC12852E9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9542C9-0D5C-438A-B5A7-ADFB23888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44D8B6-698A-4A2C-BF5F-4CF93A4FE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E16F37-144E-4AA4-A87C-7CBA80A78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33CAE3-0FB5-4506-B11E-EE9E4BA02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CAE5B-CCDF-435F-85B7-B2F171E19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4B49A7-18B7-4E32-B5EA-935985C2F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3553B9-E9A1-4C3E-9501-BE1047E4C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73F94C-859E-40FA-B420-08E47C5C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EA9DBA-8380-499A-911F-05712C07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A2DAB4-0832-44EE-B18E-78B67BAB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82178A-1275-4F93-A5E8-8352BAC2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E51A8B-6624-44C9-8372-0312049DF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9A139A-7AE5-4CD8-A25F-F12AD9A99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0FCB56-F0A3-4404-93E8-F892325D2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FA31A-73DB-4984-9760-CCFA2E350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09BA9-67D8-4E38-96AE-4EBC95659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324DB-A563-462C-87B9-44FE9D24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E1D7-3FE2-41D9-A700-2E4621667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2E5ED-0525-481C-8E09-19224FF0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12DE8-5681-4E5E-A9DD-68705F7C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9C424-C2C5-4B4C-9634-90A60A822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AEAC1-275A-4CAD-87B2-2F1A2A9B1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E6A08-C290-4B7E-A7D0-946B7E931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B0E39-DC4A-42F2-B182-222000AC4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CB10E-6D71-4E67-9303-3931D096B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64FA0-6959-430E-8F9D-3A5304128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551A7-F695-48F4-8DBC-FBE6D8CBC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A98C3-5927-4DEB-9323-4D22CBE70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89D8-C2AF-441A-9D70-1E7C55EBB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5988C-47EC-4A1D-8EE4-67CB62AE4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3B115-C42B-44DD-BF38-10F25418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E33CC-CE9E-4FAC-A07B-14376CA9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2CE90-7BAA-4A49-975F-57BC03BF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B0A59-6ECB-455B-BD5C-5E71C3AC3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01C89-7FE8-411A-8A04-27D1EBFFD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00652-CC33-4D12-9D9F-BF53BD19D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66BC6-86CD-4035-BFEF-DE6012D9A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28FD6-077E-4B6F-B2C9-F8ACECF1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E8020-AF0F-4FAD-A62E-969204D69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8092-C855-401F-93B5-5FD6D41BE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24C50-C50E-4AD4-B173-3BA703803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88938-E10A-4646-95BC-1208D058D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43175-12D3-4C3F-9A73-7EB95AC7B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EC3E0-8E86-49CA-B16C-6BD78165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A0369-BC15-4069-83DA-510BF737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6D88C-A8CB-4C47-8587-941BE78E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49344-C653-4811-8E6B-49B044826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25189-DA4E-4DAD-A870-FF4C56EEF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07591-AF29-48C6-B832-3B26CCB82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EB8D9-C32B-4FE6-B25E-499EFA3C9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D06D-9E1A-4765-8B98-3FAD7C2EF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19231-8335-4BB3-BC82-AEF48FA1A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718D3-0D4F-4348-B386-1D55580EB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D7002-BAE1-44A9-B2DF-B54F514C5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047B2-2B91-472D-A98D-80B032164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5E5D5-A919-4148-BECB-47463A23E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EC344-247A-45F2-BA6C-F6D25F78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B8B2B-E676-46EE-95BA-32F1797D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2538B-9945-4F0F-A1FD-CF7C372E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796A9-6762-45B0-9B69-8F418ED7B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FC261-C34B-47C3-A96B-67EB65926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BB60-3880-496E-9F97-6BEA54D76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F4974-04BF-412A-B742-B0DC5FD19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61DDC-128E-4448-BA31-A39DD4C15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2900B-2A8F-4116-A031-F92B8A077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24790-8DA7-4E40-8EC4-AD0A3C5D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0BD56-0558-4B44-BBB1-2AC9B4DCA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95140-A51C-4375-96C7-6ED2CC71C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3A01F-CEED-4B5B-84CD-E6604792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8D70F-7557-4C31-8479-01EF601F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3AA73-1548-40B9-AD61-07230EC4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9EECC-860A-4B00-80F8-C6362030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F767-1B6C-4DE1-A9EE-1F58529A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70B6E-6258-4BE7-99E5-70FF52D89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582C5-7159-4CFB-A1C1-1E869562C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A6AB7-6B15-487C-995B-366AD26B9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8504E-DC9A-495E-B585-1B6E899F6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6AFE87-7400-4EA0-ACBF-F4E5AA84A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37D66-479D-4011-8C0E-8047F029A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21FD5-4FC5-4A23-82EA-B0EBC6A8E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97BF8-71C6-401D-A0F1-1AE549B21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CB8D00-6A7A-48EB-B3DE-58AD876B6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80F6E5-2ECC-41E6-AAAD-0BB1A3B8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843B-E52F-4F44-8250-3A6990D2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8D462A-4FD4-4F4F-B826-968CDEAF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50D6E-EB2D-4C2E-AF0A-84EF09B6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A5074A-04E2-412E-8D86-E27A6AA76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13EA06-2B63-481C-84CC-5C7640B30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057D0-EE8B-4DB5-B2CB-BF4F2F6D3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F78D4C-9D78-4471-91E9-3C010E575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9DBEFF-E7A3-4062-B207-FDB69BCE4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2C4CC1-DFB3-45BF-8F35-84FC7713B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BD21FE-A3E0-4654-AB2B-80447F7B4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DD820E-CEAE-457C-AB57-EF04DC2D1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E751-2BB2-4882-BB46-CE0D9A4C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377546-E7D0-47F8-9B6A-4EBF963E3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184397-C352-4A15-82C9-B88B440A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0EF0D5-40AC-41C8-94AC-5D37F9C8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8581E8-974E-4C71-9A00-4CF44A7A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6BB139-8C2E-447A-B440-ED4C17DA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D0615-DC98-485C-97E1-9C3C01171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1780EC-244F-49A1-A6CA-DCC51EF6E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9352A0-FA59-45DD-B0F1-540D6A397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5E818E-275B-47CC-8AD2-45C595010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CC0752-4064-4510-AB31-63A4EC768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9622E-1AEE-466F-84E9-72F35A57C214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421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3F3D0-562E-4E27-AB0C-278F74A15BD0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4758E-03DE-4C32-925A-DCDCAE6C5C79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B74D9-2DA1-4E48-AF56-97F85C7EEE5F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3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3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3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17D7D-3114-4990-9466-7C2E62390510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0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591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dt" idx="4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ftr" idx="4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 type="sldNum" idx="4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77144-6BDD-4329-857A-970C85820826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37537-C4CA-4415-88BD-5C1FDE842DC8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99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104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3D791-B3B9-46A7-9120-146A74A87872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51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0BBF3-2B8A-4AD5-8E16-171EC7DF6AC9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07BD-9509-4EFE-A33C-1E68F5547800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A8AD3-74B1-4C8A-8761-A14061A87456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DEBEC-54A8-4C07-BA9E-31ED49389B6C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321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06191-DDCC-4125-A83C-D42BB4E77C71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69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374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CFEE7-1BB4-4E93-8B90-3E7A6CF4A960}" type="slidenum">
              <a:rPr b="0" lang="es-CL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Repaso clase anterio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ubTitle"/>
          </p:nvPr>
        </p:nvSpPr>
        <p:spPr>
          <a:xfrm>
            <a:off x="1476360" y="1483920"/>
            <a:ext cx="7407360" cy="43880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320e04"/>
                </a:solidFill>
                <a:latin typeface="Gill Sans MT"/>
              </a:rPr>
              <a:t>Perspectiva monocultural: esenci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320e04"/>
                </a:solidFill>
                <a:latin typeface="Gill Sans MT"/>
              </a:rPr>
              <a:t>Perspectiva multicultural: construcció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320e04"/>
                </a:solidFill>
                <a:latin typeface="Gill Sans MT"/>
              </a:rPr>
              <a:t>Conceptos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320e04"/>
                </a:solidFill>
                <a:latin typeface="Gill Sans MT"/>
              </a:rPr>
              <a:t>nivel epistemológico: Monocultural vs Multicultural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320e04"/>
                </a:solidFill>
                <a:latin typeface="Gill Sans MT"/>
              </a:rPr>
              <a:t>Nivel social: 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320e04"/>
                </a:solidFill>
                <a:latin typeface="Gill Sans MT"/>
              </a:rPr>
              <a:t>Pluricultural: sociedad compuesta por fragmento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320e04"/>
                </a:solidFill>
                <a:latin typeface="Gill Sans MT"/>
              </a:rPr>
              <a:t>Multicultural: ejemplo Guethos en EE.UU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320e04"/>
                </a:solidFill>
                <a:latin typeface="Gill Sans MT"/>
              </a:rPr>
              <a:t>Intercultural: relación (sentido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Comunicación Intercultural Interperson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Jacques Ellul presenta cinco condiciones básicas para que la comunicación sea efectiva entre culturas que coexisten en un conjunto social mayor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Diferenciación entre los grupo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Comprensibilidad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Reconocimiento recíproc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Aceptació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No monopolización de los medios de comunicació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Comunicación Intercultural Interperson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La importancia del contexto y la percepción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 MT"/>
              </a:rPr>
              <a:t>Contexto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: 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ntorno físico o de situación, ya sea político, histórico, cultural o de cualquier otra índole, en el cual se considera un hech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Muchos textos o manifestaciones son incomprensibles si no conocemos el contexto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 MT"/>
              </a:rPr>
              <a:t>Percepción: 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Comprensión del entorno basándose en los sentidos. Es un proceso activo, interpretativo y continuo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900" spc="-1" strike="noStrike">
                <a:solidFill>
                  <a:srgbClr val="572314"/>
                </a:solidFill>
                <a:latin typeface="Gill Sans MT"/>
              </a:rPr>
              <a:t>Culturas de contexto alto y bajo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1644480" y="141264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 MT"/>
              </a:rPr>
              <a:t>Comunicación de alto contexto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, la información esencial se encuentra en el contexto físico o está interiorizada en la persona, poca información esta en la parte codificada o explícita del mensaje. (mucho contexto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 MT"/>
              </a:rPr>
              <a:t>Comunicación de bajo contexto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, es lo contrario; la mayoría de la información se expresa explícitamente. (poco contexto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9" name="Text Box 6"/>
          <p:cNvSpPr/>
          <p:nvPr/>
        </p:nvSpPr>
        <p:spPr>
          <a:xfrm>
            <a:off x="4572000" y="602136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. T. H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300" spc="-1" strike="noStrike">
                <a:solidFill>
                  <a:srgbClr val="572314"/>
                </a:solidFill>
                <a:latin typeface="Gill Sans MT"/>
              </a:rPr>
              <a:t>Culturas de contexto alto y baj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pSp>
        <p:nvGrpSpPr>
          <p:cNvPr id="681" name="Group 4"/>
          <p:cNvGrpSpPr/>
          <p:nvPr/>
        </p:nvGrpSpPr>
        <p:grpSpPr>
          <a:xfrm>
            <a:off x="1434960" y="1700280"/>
            <a:ext cx="7313760" cy="4548240"/>
            <a:chOff x="1434960" y="1700280"/>
            <a:chExt cx="7313760" cy="4548240"/>
          </a:xfrm>
        </p:grpSpPr>
        <p:grpSp>
          <p:nvGrpSpPr>
            <p:cNvPr id="682" name="Group 5"/>
            <p:cNvGrpSpPr/>
            <p:nvPr/>
          </p:nvGrpSpPr>
          <p:grpSpPr>
            <a:xfrm>
              <a:off x="1434960" y="1700280"/>
              <a:ext cx="7313760" cy="4548240"/>
              <a:chOff x="1434960" y="1700280"/>
              <a:chExt cx="7313760" cy="4548240"/>
            </a:xfrm>
          </p:grpSpPr>
          <p:sp>
            <p:nvSpPr>
              <p:cNvPr id="683" name="AutoShape 6"/>
              <p:cNvSpPr/>
              <p:nvPr/>
            </p:nvSpPr>
            <p:spPr>
              <a:xfrm>
                <a:off x="1434960" y="1700280"/>
                <a:ext cx="7313760" cy="454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7"/>
              <p:cNvSpPr/>
              <p:nvPr/>
            </p:nvSpPr>
            <p:spPr>
              <a:xfrm>
                <a:off x="1527120" y="5258880"/>
                <a:ext cx="165960" cy="170280"/>
              </a:xfrm>
              <a:custGeom>
                <a:avLst/>
                <a:gdLst>
                  <a:gd name="textAreaLeft" fmla="*/ 0 w 165960"/>
                  <a:gd name="textAreaRight" fmla="*/ 166320 w 165960"/>
                  <a:gd name="textAreaTop" fmla="*/ 0 h 170280"/>
                  <a:gd name="textAreaBottom" fmla="*/ 170640 h 170280"/>
                </a:gdLst>
                <a:ahLst/>
                <a:rect l="textAreaLeft" t="textAreaTop" r="textAreaRight" b="textAreaBottom"/>
                <a:pathLst>
                  <a:path w="180" h="140">
                    <a:moveTo>
                      <a:pt x="0" y="140"/>
                    </a:moveTo>
                    <a:lnTo>
                      <a:pt x="100" y="0"/>
                    </a:lnTo>
                    <a:lnTo>
                      <a:pt x="180" y="100"/>
                    </a:lnTo>
                    <a:lnTo>
                      <a:pt x="0" y="14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8"/>
              <p:cNvSpPr/>
              <p:nvPr/>
            </p:nvSpPr>
            <p:spPr>
              <a:xfrm>
                <a:off x="5340240" y="1919160"/>
                <a:ext cx="165960" cy="170280"/>
              </a:xfrm>
              <a:custGeom>
                <a:avLst/>
                <a:gdLst>
                  <a:gd name="textAreaLeft" fmla="*/ 0 w 165960"/>
                  <a:gd name="textAreaRight" fmla="*/ 166320 w 165960"/>
                  <a:gd name="textAreaTop" fmla="*/ 0 h 170280"/>
                  <a:gd name="textAreaBottom" fmla="*/ 170640 h 170280"/>
                </a:gdLst>
                <a:ahLst/>
                <a:rect l="textAreaLeft" t="textAreaTop" r="textAreaRight" b="textAreaBottom"/>
                <a:pathLst>
                  <a:path w="180" h="140">
                    <a:moveTo>
                      <a:pt x="180" y="0"/>
                    </a:moveTo>
                    <a:lnTo>
                      <a:pt x="80" y="140"/>
                    </a:lnTo>
                    <a:lnTo>
                      <a:pt x="0" y="40"/>
                    </a:lnTo>
                    <a:lnTo>
                      <a:pt x="180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Line 9"/>
              <p:cNvSpPr/>
              <p:nvPr/>
            </p:nvSpPr>
            <p:spPr>
              <a:xfrm flipV="1">
                <a:off x="1637640" y="2016000"/>
                <a:ext cx="3757680" cy="3315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Rectangle 10"/>
              <p:cNvSpPr/>
              <p:nvPr/>
            </p:nvSpPr>
            <p:spPr>
              <a:xfrm>
                <a:off x="6003720" y="1896120"/>
                <a:ext cx="95940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Geneva"/>
                  </a:rPr>
                  <a:t>Japonesa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Rectangle 11"/>
              <p:cNvSpPr/>
              <p:nvPr/>
            </p:nvSpPr>
            <p:spPr>
              <a:xfrm>
                <a:off x="5524560" y="2382840"/>
                <a:ext cx="750240" cy="37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Geneva"/>
                  </a:rPr>
                  <a:t>Arábic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Rectangle 12"/>
              <p:cNvSpPr/>
              <p:nvPr/>
            </p:nvSpPr>
            <p:spPr>
              <a:xfrm>
                <a:off x="5229720" y="2797920"/>
                <a:ext cx="1697760" cy="4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Geneva"/>
                  </a:rPr>
                  <a:t>Latinoamerican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Rectangle 13"/>
              <p:cNvSpPr/>
              <p:nvPr/>
            </p:nvSpPr>
            <p:spPr>
              <a:xfrm>
                <a:off x="4861800" y="3138480"/>
                <a:ext cx="713520" cy="27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Geneva"/>
                  </a:rPr>
                  <a:t>Italiana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Rectangle 14"/>
              <p:cNvSpPr/>
              <p:nvPr/>
            </p:nvSpPr>
            <p:spPr>
              <a:xfrm>
                <a:off x="4566600" y="3479400"/>
                <a:ext cx="71316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Geneva"/>
                  </a:rPr>
                  <a:t>Ingles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Rectangle 15"/>
              <p:cNvSpPr/>
              <p:nvPr/>
            </p:nvSpPr>
            <p:spPr>
              <a:xfrm>
                <a:off x="4197960" y="3943080"/>
                <a:ext cx="922680" cy="35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Geneva"/>
                  </a:rPr>
                  <a:t>Frances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Rectangle 16"/>
              <p:cNvSpPr/>
              <p:nvPr/>
            </p:nvSpPr>
            <p:spPr>
              <a:xfrm>
                <a:off x="3718800" y="4357080"/>
                <a:ext cx="1574280" cy="37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Geneva"/>
                  </a:rPr>
                  <a:t>Norteamerican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Rectangle 17"/>
              <p:cNvSpPr/>
              <p:nvPr/>
            </p:nvSpPr>
            <p:spPr>
              <a:xfrm>
                <a:off x="3387960" y="4723560"/>
                <a:ext cx="3394440" cy="44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Geneva"/>
                  </a:rPr>
                  <a:t>Escandinava (excepto Finlandesa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Rectangle 18"/>
              <p:cNvSpPr/>
              <p:nvPr/>
            </p:nvSpPr>
            <p:spPr>
              <a:xfrm>
                <a:off x="2908440" y="5137200"/>
                <a:ext cx="873720" cy="47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Geneva"/>
                  </a:rPr>
                  <a:t>Aleman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Rectangle 19"/>
              <p:cNvSpPr/>
              <p:nvPr/>
            </p:nvSpPr>
            <p:spPr>
              <a:xfrm>
                <a:off x="2075400" y="5575320"/>
                <a:ext cx="375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Geneva"/>
                  </a:rPr>
                  <a:t>Suiz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Rectangle 20"/>
              <p:cNvSpPr/>
              <p:nvPr/>
            </p:nvSpPr>
            <p:spPr>
              <a:xfrm>
                <a:off x="7293240" y="1993320"/>
                <a:ext cx="1281240" cy="76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1200" spc="-1" strike="noStrike">
                    <a:solidFill>
                      <a:srgbClr val="000000"/>
                    </a:solidFill>
                    <a:latin typeface="Geneva"/>
                  </a:rPr>
                  <a:t>Información implícita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Rectangle 21"/>
              <p:cNvSpPr/>
              <p:nvPr/>
            </p:nvSpPr>
            <p:spPr>
              <a:xfrm>
                <a:off x="7292520" y="2405880"/>
                <a:ext cx="40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1200" spc="-1" strike="noStrike">
                    <a:solidFill>
                      <a:srgbClr val="000000"/>
                    </a:solidFill>
                    <a:latin typeface="Geneva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Rectangle 22"/>
              <p:cNvSpPr/>
              <p:nvPr/>
            </p:nvSpPr>
            <p:spPr>
              <a:xfrm>
                <a:off x="2338200" y="1884960"/>
                <a:ext cx="1520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000" spc="-1" strike="noStrike">
                    <a:solidFill>
                      <a:srgbClr val="000000"/>
                    </a:solidFill>
                    <a:latin typeface="Geneva"/>
                  </a:rPr>
                  <a:t>Culturas de contexto alt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Rectangle 23"/>
              <p:cNvSpPr/>
              <p:nvPr/>
            </p:nvSpPr>
            <p:spPr>
              <a:xfrm>
                <a:off x="1440360" y="3856680"/>
                <a:ext cx="1203480" cy="79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000" spc="-1" strike="noStrike">
                    <a:solidFill>
                      <a:srgbClr val="000000"/>
                    </a:solidFill>
                    <a:latin typeface="Geneva"/>
                  </a:rPr>
                  <a:t>Culturas de contexto baj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Rectangle 24"/>
            <p:cNvSpPr/>
            <p:nvPr/>
          </p:nvSpPr>
          <p:spPr>
            <a:xfrm>
              <a:off x="6744960" y="5206320"/>
              <a:ext cx="13255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200" spc="-1" strike="noStrike">
                  <a:solidFill>
                    <a:srgbClr val="000000"/>
                  </a:solidFill>
                  <a:latin typeface="Geneva"/>
                </a:rPr>
                <a:t>Información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r>
                <a:rPr b="0" i="1" lang="es-ES" sz="1200" spc="-1" strike="noStrike">
                  <a:solidFill>
                    <a:srgbClr val="000000"/>
                  </a:solidFill>
                  <a:latin typeface="Geneva"/>
                </a:rPr>
                <a:t>explícita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omunicación intercultural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1431720" y="1849320"/>
            <a:ext cx="7407000" cy="42436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20e04"/>
                </a:solidFill>
                <a:latin typeface="Gill Sans MT"/>
              </a:rPr>
              <a:t>Criterios generales para una comunicación más eficaz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20e04"/>
                </a:solidFill>
                <a:latin typeface="Gill Sans MT"/>
              </a:rPr>
              <a:t>A. Una cierta competencia comunicativ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20e04"/>
                </a:solidFill>
                <a:latin typeface="Gill Sans MT"/>
              </a:rPr>
              <a:t>B. Un cierto conocimiento de la otra cultur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ompetencia Comunicativa intercultural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1431720" y="1849320"/>
            <a:ext cx="7407000" cy="42436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20e04"/>
                </a:solidFill>
                <a:latin typeface="Gill Sans MT"/>
              </a:rPr>
              <a:t>“</a:t>
            </a:r>
            <a:r>
              <a:rPr b="0" lang="es-ES" sz="2800" spc="-1" strike="noStrike">
                <a:solidFill>
                  <a:srgbClr val="320e04"/>
                </a:solidFill>
                <a:latin typeface="Gill Sans MT"/>
              </a:rPr>
              <a:t>la habilidad para negociar los significados culturales y ejecutar las conductas comunicativas apropiadamente eficaces que reconocen las múltiples identidades de los interactuantes en un contexto específico”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20e04"/>
                </a:solidFill>
                <a:latin typeface="Gill Sans MT"/>
              </a:rPr>
              <a:t>Se reconocen 3 aspecto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20e04"/>
                </a:solidFill>
                <a:latin typeface="Gill Sans MT"/>
              </a:rPr>
              <a:t>A. la emotividad: proyectar y recibir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20e04"/>
                </a:solidFill>
                <a:latin typeface="Gill Sans MT"/>
              </a:rPr>
              <a:t>B. lo cognitivo: conciencia y autoconcienci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20e04"/>
                </a:solidFill>
                <a:latin typeface="Gill Sans MT"/>
              </a:rPr>
              <a:t>C. la conducta: destrezas de actuar ante un objetivo intercultura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572314"/>
                </a:solidFill>
                <a:latin typeface="Gill Sans MT"/>
              </a:rPr>
              <a:t>Teorías de la </a:t>
            </a:r>
            <a:r>
              <a:rPr b="0" lang="es-ES" sz="3600" spc="-1" strike="noStrike">
                <a:solidFill>
                  <a:srgbClr val="572314"/>
                </a:solidFill>
                <a:latin typeface="Gill Sans MT"/>
              </a:rPr>
              <a:t>ansiedad e incertidumbre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707" name="3 Marcador de contenido" descr="gudykunst1.jpg"/>
          <p:cNvPicPr/>
          <p:nvPr/>
        </p:nvPicPr>
        <p:blipFill>
          <a:blip r:embed="rId1"/>
          <a:stretch/>
        </p:blipFill>
        <p:spPr>
          <a:xfrm>
            <a:off x="6483240" y="836640"/>
            <a:ext cx="2318040" cy="2736720"/>
          </a:xfrm>
          <a:prstGeom prst="rect">
            <a:avLst/>
          </a:prstGeom>
          <a:ln w="0">
            <a:noFill/>
          </a:ln>
        </p:spPr>
      </p:pic>
      <p:pic>
        <p:nvPicPr>
          <p:cNvPr id="708" name="4 Imagen" descr="untitled-2.jpg"/>
          <p:cNvPicPr/>
          <p:nvPr/>
        </p:nvPicPr>
        <p:blipFill>
          <a:blip r:embed="rId2"/>
          <a:stretch/>
        </p:blipFill>
        <p:spPr>
          <a:xfrm>
            <a:off x="1403280" y="2924280"/>
            <a:ext cx="3981600" cy="1609560"/>
          </a:xfrm>
          <a:prstGeom prst="rect">
            <a:avLst/>
          </a:prstGeom>
          <a:ln w="0">
            <a:noFill/>
          </a:ln>
        </p:spPr>
      </p:pic>
      <p:pic>
        <p:nvPicPr>
          <p:cNvPr id="709" name="5 Imagen" descr="untitled-21.jpg"/>
          <p:cNvPicPr/>
          <p:nvPr/>
        </p:nvPicPr>
        <p:blipFill>
          <a:blip r:embed="rId3"/>
          <a:stretch/>
        </p:blipFill>
        <p:spPr>
          <a:xfrm>
            <a:off x="1187280" y="4292640"/>
            <a:ext cx="4457880" cy="1200240"/>
          </a:xfrm>
          <a:prstGeom prst="rect">
            <a:avLst/>
          </a:prstGeom>
          <a:ln w="0">
            <a:noFill/>
          </a:ln>
        </p:spPr>
      </p:pic>
      <p:pic>
        <p:nvPicPr>
          <p:cNvPr id="710" name="6 Imagen" descr="untitled.jpg"/>
          <p:cNvPicPr/>
          <p:nvPr/>
        </p:nvPicPr>
        <p:blipFill>
          <a:blip r:embed="rId4"/>
          <a:stretch/>
        </p:blipFill>
        <p:spPr>
          <a:xfrm>
            <a:off x="1763640" y="1341360"/>
            <a:ext cx="3981600" cy="1609920"/>
          </a:xfrm>
          <a:prstGeom prst="rect">
            <a:avLst/>
          </a:prstGeom>
          <a:ln w="0">
            <a:noFill/>
          </a:ln>
        </p:spPr>
      </p:pic>
      <p:pic>
        <p:nvPicPr>
          <p:cNvPr id="711" name="7 Imagen" descr="untitled-22.jpg"/>
          <p:cNvPicPr/>
          <p:nvPr/>
        </p:nvPicPr>
        <p:blipFill>
          <a:blip r:embed="rId5"/>
          <a:stretch/>
        </p:blipFill>
        <p:spPr>
          <a:xfrm>
            <a:off x="3780000" y="5373720"/>
            <a:ext cx="4457520" cy="1200240"/>
          </a:xfrm>
          <a:prstGeom prst="rect">
            <a:avLst/>
          </a:prstGeom>
          <a:ln w="0">
            <a:noFill/>
          </a:ln>
        </p:spPr>
      </p:pic>
      <p:sp>
        <p:nvSpPr>
          <p:cNvPr id="712" name="8 Rectángulo"/>
          <p:cNvSpPr/>
          <p:nvPr/>
        </p:nvSpPr>
        <p:spPr>
          <a:xfrm>
            <a:off x="6456240" y="378936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William Gudykun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eorías de la </a:t>
            </a:r>
            <a:r>
              <a:rPr b="0" lang="es-ES" sz="4000" spc="-1" strike="noStrike">
                <a:solidFill>
                  <a:srgbClr val="572314"/>
                </a:solidFill>
                <a:latin typeface="Gill Sans MT"/>
              </a:rPr>
              <a:t>ansiedad e incertidumbre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1434960" y="1447920"/>
            <a:ext cx="749952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Desde 1985 con modificaciones…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Teoría compleja, con más de 100 axiomas (24 la primera versión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Eje central puesto en la dificultad de la comunicación intercultural (malentendido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Gill Sans MT"/>
              </a:rPr>
              <a:t>Axioma 1:</a:t>
            </a:r>
            <a:r>
              <a:rPr b="0" lang="es-CL" sz="1800" spc="-1" strike="noStrike">
                <a:solidFill>
                  <a:srgbClr val="000000"/>
                </a:solidFill>
                <a:latin typeface="Gill Sans MT"/>
              </a:rPr>
              <a:t> Un aumento en el grado en que nuestras identidades sociales guian nuestras interacciones con los extranjeros se producirá una disminución en la ansiedad y un aumento de nuestra confianza en la predicción de su comportamiento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Gill Sans MT"/>
              </a:rPr>
              <a:t>Este axioma es válido sólo cuando estamos seguros en nuestra vida social, no somos conscientes, si los extranjeros son percibidos por los miembros del exogrupo como típicos, y cuando nuestra ansiedad y la incertidumbre son entre nuestros umbreles mínima y máximos. (Gudykunst, 2005, p. 294).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eorías de la </a:t>
            </a:r>
            <a:r>
              <a:rPr b="0" lang="es-ES" sz="4000" spc="-1" strike="noStrike">
                <a:solidFill>
                  <a:srgbClr val="572314"/>
                </a:solidFill>
                <a:latin typeface="Gill Sans MT"/>
              </a:rPr>
              <a:t>ansiedad e incertidumbre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 MT"/>
              </a:rPr>
              <a:t>Forastero: 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relación dual cerca/lejos Caracterización desde lo ajeno, exterior, extraño. Calidad dada a partir de los grados de inclusión / exclusión dados en el encuentro. Todos los sujetos son potenciales forasteros, dado el contexto de la interacció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 MT"/>
              </a:rPr>
              <a:t>Incertidumbre: 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en toda relación humana hay un cierto grado de incertidumbre (predictiva y explicativa). Adecuación la indeterminación e impredictibilidad. El justo medio, sería una comunicación eficaz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 MT"/>
              </a:rPr>
              <a:t>Ansiedad: 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componente afectivo. Mientras más alta, mayor cantidad de estereotipos sobre el “forastero”. Si la ansiedad es baja hay desmotivació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572314"/>
                </a:solidFill>
                <a:latin typeface="Gill Sans MT"/>
              </a:rPr>
              <a:t>Teorías de la </a:t>
            </a:r>
            <a:r>
              <a:rPr b="0" lang="es-ES" sz="3600" spc="-1" strike="noStrike">
                <a:solidFill>
                  <a:srgbClr val="572314"/>
                </a:solidFill>
                <a:latin typeface="Gill Sans MT"/>
              </a:rPr>
              <a:t>ansiedad e incertidumbre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Gill Sans MT"/>
              </a:rPr>
              <a:t>Comunicación Eficaz:  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proceso de interpretación y construcción de sentido que reduce la divergencia entre las dos o más intencionalidades comunicativas puestas en juego en la relació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Reconocer la problematización implícita, la categorización que se realiza y finalmente, la reducción del problem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A mayor conciencia, mayor categorización, mayor reducción del problema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Clase 2 Comunicación Intercultur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1331640" y="162828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Competencias comunicación intercultura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3 teorías de comunicación intercultura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Para ampliar categorías de pensamiento sobre las formas de conocer y generar encuentros entre distintas cultura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7" name="6 Rectángulo"/>
          <p:cNvSpPr/>
          <p:nvPr/>
        </p:nvSpPr>
        <p:spPr>
          <a:xfrm>
            <a:off x="3635280" y="4581360"/>
            <a:ext cx="1800360" cy="64800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7 CuadroTexto"/>
          <p:cNvSpPr/>
          <p:nvPr/>
        </p:nvSpPr>
        <p:spPr>
          <a:xfrm>
            <a:off x="3564000" y="4724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ANSIE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8 Rectángulo"/>
          <p:cNvSpPr/>
          <p:nvPr/>
        </p:nvSpPr>
        <p:spPr>
          <a:xfrm>
            <a:off x="3564000" y="5589720"/>
            <a:ext cx="2016000" cy="647640"/>
          </a:xfrm>
          <a:prstGeom prst="rect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ill Sans MT"/>
              </a:rPr>
              <a:t>INCERTIDUM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11 Elipse"/>
          <p:cNvSpPr/>
          <p:nvPr/>
        </p:nvSpPr>
        <p:spPr>
          <a:xfrm>
            <a:off x="5940360" y="4292640"/>
            <a:ext cx="2519280" cy="2305080"/>
          </a:xfrm>
          <a:prstGeom prst="ellipse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12 Triángulo isósceles"/>
          <p:cNvSpPr/>
          <p:nvPr/>
        </p:nvSpPr>
        <p:spPr>
          <a:xfrm>
            <a:off x="971640" y="4437000"/>
            <a:ext cx="2232000" cy="1944720"/>
          </a:xfrm>
          <a:prstGeom prst="triangle">
            <a:avLst>
              <a:gd name="adj" fmla="val 5000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ill Sans MT"/>
              </a:rPr>
              <a:t>Forast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15 CuadroTexto"/>
          <p:cNvSpPr/>
          <p:nvPr/>
        </p:nvSpPr>
        <p:spPr>
          <a:xfrm>
            <a:off x="6084720" y="479736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AP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16 Triángulo isósceles"/>
          <p:cNvSpPr/>
          <p:nvPr/>
        </p:nvSpPr>
        <p:spPr>
          <a:xfrm>
            <a:off x="6804000" y="5157720"/>
            <a:ext cx="1944720" cy="1295640"/>
          </a:xfrm>
          <a:prstGeom prst="triangle">
            <a:avLst>
              <a:gd name="adj" fmla="val 5000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ill Sans MT"/>
              </a:rPr>
              <a:t>Tercera Cul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eorías de la </a:t>
            </a:r>
            <a:r>
              <a:rPr b="0" lang="es-ES" sz="4000" spc="-1" strike="noStrike">
                <a:solidFill>
                  <a:srgbClr val="572314"/>
                </a:solidFill>
                <a:latin typeface="Gill Sans MT"/>
              </a:rPr>
              <a:t>ansiedad e incertidumbre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Énfasis en sus axiomas en la toma de conciencia del acto comunicativo intercultural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Gudykunst plantea tres componentes centrales en la construcción de competencias comunicativas: motivación, conocimiento y destrez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572314"/>
                </a:solidFill>
                <a:latin typeface="Gill Sans MT"/>
              </a:rPr>
              <a:t>Teorías de la </a:t>
            </a:r>
            <a:r>
              <a:rPr b="0" lang="es-ES" sz="3600" spc="-1" strike="noStrike">
                <a:solidFill>
                  <a:srgbClr val="572314"/>
                </a:solidFill>
                <a:latin typeface="Gill Sans MT"/>
              </a:rPr>
              <a:t>ansiedad e incertidumbre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Motivación asociada a necesidades de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sentirnos seguro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predecir el devenir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pertenencia a un grup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vitar la ansiedad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un sentido común universa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de gratificaciones (materiales o simbólica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de sostener nuestras identidade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eorías de la </a:t>
            </a:r>
            <a:r>
              <a:rPr b="0" lang="es-ES" sz="4000" spc="-1" strike="noStrike">
                <a:solidFill>
                  <a:srgbClr val="572314"/>
                </a:solidFill>
                <a:latin typeface="Gill Sans MT"/>
              </a:rPr>
              <a:t>ansiedad e incertidumbre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Conocimiento: Reconocimiento de que una misma conducta puede ser significada de manera divers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La gracia de la comunicación intercultural es que apela a las interpretaciones alternativas, en cada uno de sus ámbitos reflexivos: la descripción, su interpretación y la evaluación (juicio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A mayor complejidad cognitiva del sujeto participante, mayor eficacia de la comunicación intercultura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572314"/>
                </a:solidFill>
                <a:latin typeface="Gill Sans MT"/>
              </a:rPr>
              <a:t>Teorías de la ansiedad e incertidumbre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726" name="Picture 3" descr="perros"/>
          <p:cNvPicPr/>
          <p:nvPr/>
        </p:nvPicPr>
        <p:blipFill>
          <a:blip r:embed="rId1"/>
          <a:stretch/>
        </p:blipFill>
        <p:spPr>
          <a:xfrm>
            <a:off x="1476360" y="1341360"/>
            <a:ext cx="3789360" cy="5015160"/>
          </a:xfrm>
          <a:prstGeom prst="rect">
            <a:avLst/>
          </a:prstGeom>
          <a:ln w="0">
            <a:noFill/>
          </a:ln>
        </p:spPr>
      </p:pic>
      <p:sp>
        <p:nvSpPr>
          <p:cNvPr id="727" name=""/>
          <p:cNvSpPr txBox="1"/>
          <p:nvPr/>
        </p:nvSpPr>
        <p:spPr>
          <a:xfrm>
            <a:off x="5435280" y="1523880"/>
            <a:ext cx="349884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Umberto Eco habla de decodificación aberrante.  El código determina el mensaj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ill Sans MT"/>
              </a:rPr>
              <a:t>Una cosa es lo que se dice, otra cosa es lo que el receptor entiend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eorías de la </a:t>
            </a:r>
            <a:r>
              <a:rPr b="0" lang="es-ES" sz="4000" spc="-1" strike="noStrike">
                <a:solidFill>
                  <a:srgbClr val="572314"/>
                </a:solidFill>
                <a:latin typeface="Gill Sans MT"/>
              </a:rPr>
              <a:t>ansiedad e incertidumbre</a:t>
            </a:r>
            <a:endParaRPr b="0" lang="en-US" sz="4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Destrezas:  habilidades: capacidades o disposición. (conductas)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Habilidad de crear nuevas categoría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Tolerancia a la ambigüeda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Capacidad de empatizar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Capacidad de adaptación de la comunicació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Uso de la información apropiad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572314"/>
                </a:solidFill>
                <a:latin typeface="Gill Sans MT"/>
              </a:rPr>
              <a:t>Teorías de la </a:t>
            </a:r>
            <a:r>
              <a:rPr b="0" lang="es-ES" sz="3600" spc="-1" strike="noStrike">
                <a:solidFill>
                  <a:srgbClr val="572314"/>
                </a:solidFill>
                <a:latin typeface="Gill Sans MT"/>
              </a:rPr>
              <a:t>ansiedad e incertidumbre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Critica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Complejo y difícil sintetizar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Categorías y se encuadra en uno de los 3 niveles (emotivo, cognitivo y conductista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No tienen en cuenta comunicación de masa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eorías de la </a:t>
            </a: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adaptación transcultur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Trabajo con inmigrantes, por lo tanto su teoría se basa en contacto de grupos que han tenido una socialización primera en una cultura y después pasan a convivir con otra por un periodo prolongado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Asimilación,  Aculturación e Integració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35" name="3 Imagen" descr="Young%20Kim.jpg"/>
          <p:cNvPicPr/>
          <p:nvPr/>
        </p:nvPicPr>
        <p:blipFill>
          <a:blip r:embed="rId1"/>
          <a:stretch/>
        </p:blipFill>
        <p:spPr>
          <a:xfrm>
            <a:off x="6732720" y="1341360"/>
            <a:ext cx="1828800" cy="2438640"/>
          </a:xfrm>
          <a:prstGeom prst="rect">
            <a:avLst/>
          </a:prstGeom>
          <a:ln w="0">
            <a:noFill/>
          </a:ln>
        </p:spPr>
      </p:pic>
      <p:sp>
        <p:nvSpPr>
          <p:cNvPr id="736" name="4 Rectángulo"/>
          <p:cNvSpPr/>
          <p:nvPr/>
        </p:nvSpPr>
        <p:spPr>
          <a:xfrm>
            <a:off x="6940440" y="386064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oung Yun K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eorías de la </a:t>
            </a: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adaptación transcultur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s-CL" sz="2800" spc="-1" strike="noStrike">
                <a:solidFill>
                  <a:srgbClr val="000000"/>
                </a:solidFill>
                <a:latin typeface="Gill Sans MT"/>
              </a:rPr>
              <a:t>Proceso de cambio 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a lo largo del tiempo que </a:t>
            </a:r>
            <a:r>
              <a:rPr b="1" lang="es-CL" sz="2800" spc="-1" strike="noStrike">
                <a:solidFill>
                  <a:srgbClr val="000000"/>
                </a:solidFill>
                <a:latin typeface="Gill Sans MT"/>
              </a:rPr>
              <a:t>se produce en individuos 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que han completado su proceso de socialización primaria en una cultura y luego tienen un </a:t>
            </a:r>
            <a:r>
              <a:rPr b="1" lang="es-CL" sz="2800" spc="-1" strike="noStrike">
                <a:solidFill>
                  <a:srgbClr val="000000"/>
                </a:solidFill>
                <a:latin typeface="Gill Sans MT"/>
              </a:rPr>
              <a:t>contacto de primera mano  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continuo y prolongado con una </a:t>
            </a:r>
            <a:r>
              <a:rPr b="1" lang="es-CL" sz="2800" spc="-1" strike="noStrike">
                <a:solidFill>
                  <a:srgbClr val="000000"/>
                </a:solidFill>
                <a:latin typeface="Gill Sans MT"/>
              </a:rPr>
              <a:t>cultura nueva 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y desconocida”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Para Kim, el eje de la adaptación es la comunicación, complejo y dinámic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Hace foco en la interculturalidad desde lo que le sucede al forastero.  Es intrapersona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eorías de la </a:t>
            </a: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adaptación transcultur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 MT"/>
              </a:rPr>
              <a:t>Asimilación:  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aceptación de los principales elementos culturales de la cultura receptora, por parte del “forastero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 MT"/>
              </a:rPr>
              <a:t>Aculturación: 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n cambio, es la adquisición de algunos elementos de la cultura receptor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Imitación y ajustamiento, para Kim, son procesos conductuales individuales, mientras que </a:t>
            </a:r>
            <a:r>
              <a:rPr b="1" lang="es-ES" sz="2800" spc="-1" strike="noStrike">
                <a:solidFill>
                  <a:srgbClr val="000000"/>
                </a:solidFill>
                <a:latin typeface="Gill Sans MT"/>
              </a:rPr>
              <a:t>integración 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sería la dimensión de participación social del grupo o persona “forastera”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eorías de la </a:t>
            </a: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adaptación transcultur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¿Cómo entiende a los forastero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s aquel que proviene de otra socialización y se desplaza a una cultura o subcultura diferent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Son sujetos dependientes de la cultura receptor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xperimentan relaciones comunicativas directas con el entorn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Estudio Comunicación Intercultural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43880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320e04"/>
                </a:solidFill>
                <a:latin typeface="Gill Sans MT"/>
              </a:rPr>
              <a:t>2 formas de analizar comunicación intercultural es en qué nivel se da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320e04"/>
                </a:solidFill>
                <a:latin typeface="Gill Sans MT"/>
              </a:rPr>
              <a:t>Interpersonal:  cómo se da el contact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320e04"/>
                </a:solidFill>
                <a:latin typeface="Gill Sans MT"/>
              </a:rPr>
              <a:t>Mediático: uso y gratificaciones de los medio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320e04"/>
                </a:solidFill>
                <a:latin typeface="Gill Sans MT"/>
              </a:rPr>
              <a:t>Interrelación entre dos ámbito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320e04"/>
                </a:solidFill>
                <a:latin typeface="Gill Sans MT"/>
              </a:rPr>
              <a:t>Nivel intermedio: grupos multiculturales en empresas (comunicación organizacional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eorías de la </a:t>
            </a: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adaptación transcultur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¿Qué ocurre con el o la forastero(a)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Proceso de socialización secundario desaprendizaje o deculturación de algunos hábito de la antigua cultur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l coste de la nueva adquisición es a la vez pérdida de algo de lo antigu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Choque cultural: ruptura de los puntos de vista sociales de nueva sociedad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Se busca homeostasis (cambio y estabilidad): equilibrio organism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eorías de la </a:t>
            </a: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adaptación transcultur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Proceso central de la socialización secundaria: asimilación / acomodació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Cambio: transformación intercultural..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1 Aumento de su acomodación funcional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2. “salud psicológica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3. Surgimiento de una identidad intercultura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Lo cognitivo y emotivo es el nucleo de la teorí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1920" indent="-257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eorías de la </a:t>
            </a: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adaptación transcultur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20e04"/>
                </a:solidFill>
                <a:latin typeface="Gill Sans MT"/>
              </a:rPr>
              <a:t>La estructura de la adaptación transcultural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algn="just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20e04"/>
                </a:solidFill>
                <a:latin typeface="Gill Sans MT"/>
              </a:rPr>
              <a:t>Competencia comunicativa Autóctona: capacidad del forastero para recibir información y procesarla, proveniente de la sociedad receptora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algn="just"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320e04"/>
                </a:solidFill>
                <a:latin typeface="Gill Sans MT"/>
              </a:rPr>
              <a:t>Esto tiene directa relación con el grado de participación del sujeto en la “nueva” cultura que lo aloja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eorías de la </a:t>
            </a: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adaptación transcultur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n ese contexto, surge la comunicación interpersonal autóctona y la comunicación mediática autócton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ste ultima puede facilitar la adaptación, al entregar un aprendizaje de las relaciones “para – sociales”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Pero por otro lado están los circuitos comunicacionales “étnicos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sto, para Kim, facilita  el proceso de adaptación y por otro lado, preserva la identidad cultural de orige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eorías de la </a:t>
            </a: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adaptación transcultur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No obstante la posición de la sociedad receptora influye en la adaptación..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1. Receptivida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2. Presión social para la adaptació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3. Poder del grupo de origen en la sociedad receptor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eorías de la </a:t>
            </a: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adaptación transcultur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Critica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Teorías asimilacionist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No se produce negociación sino adaptación cultural a cultura hegemónica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Sociedad receptora es vista como  uniform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No plantea aportes de forastero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Se oculta efecto de mestizaje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7480" indent="-276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Teoría  de la construcción de una Tercera Cultur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756" name="7 Marcador de contenido" descr="fred casmir2.jpg"/>
          <p:cNvPicPr/>
          <p:nvPr/>
        </p:nvPicPr>
        <p:blipFill>
          <a:blip r:embed="rId1"/>
          <a:stretch/>
        </p:blipFill>
        <p:spPr>
          <a:xfrm>
            <a:off x="5499000" y="1484280"/>
            <a:ext cx="3645000" cy="4572000"/>
          </a:xfrm>
          <a:prstGeom prst="rect">
            <a:avLst/>
          </a:prstGeom>
          <a:ln w="0">
            <a:noFill/>
          </a:ln>
        </p:spPr>
      </p:pic>
      <p:sp>
        <p:nvSpPr>
          <p:cNvPr id="757" name=""/>
          <p:cNvSpPr txBox="1"/>
          <p:nvPr/>
        </p:nvSpPr>
        <p:spPr>
          <a:xfrm>
            <a:off x="1258560" y="1412640"/>
            <a:ext cx="4105080" cy="46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Necesidad de establecer un aproximación desde modelos cooperativo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Orientado hacia la preparación en un mundo “mundializado” y “localizado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8" name="8 Rectángulo"/>
          <p:cNvSpPr/>
          <p:nvPr/>
        </p:nvSpPr>
        <p:spPr>
          <a:xfrm>
            <a:off x="6669000" y="609300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red Casmi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Teoría  de la construcción de una Tercera Cultur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4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Influencias: 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scuela Palo Alto e Interaccionismo Simbólic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Toda comunicación tiene un aspecto de contenido y un aspecto relacional, tales que el segundo clasifica al primero y es, por ende, metacomunicación, contenido viene determinado por interacción que se establece entre los interactuantes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Todos los intercambios comunicacionales son simétricos (igualdad) o complementarios, según estén basados en la igualdad o diferenci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Teoría  de la construcción de una Tercera Cultur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Influencias: 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scuela Palo Alto e Interaccionismo Simbólic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Toda comunicación tiene un aspecto de contenido y un aspecto relacional, tales que el segundo clasifica al primer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Todos los intercambios comunicacionales son simétricos (igualdad) o complementarios, según estén basados en la igualdad o diferenci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Teoría  de la construcción de una Tercera Cultur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Influencias: 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scuela Palo Alto e Interaccionismo Simbólic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lenguaje verbal y no verbal permiten comunicarse a las personas entres sí y es mediante la comunicación cómo se establece la sociedad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Por ello, una sociedad que vive su mestizaje plenamente solo es posible si se produce una comunicación intercultural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La Conducta son construcciones subjetivas sobre uno mismo, sobre los otros y sobre las exigencias que se producen en las situaciones de la vida cotidiana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Comunicación Intercultural Interperson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¿Todo acto comunicativo podría definirse como intercultural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s importante constatar que en la vida cotidiana existen “grados de diferenciación cultural”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xistirían distancias y proximidades entre las distintas comunidades de vid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Más proximidad menor interculturalida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8" name="4 Flecha abajo"/>
          <p:cNvSpPr/>
          <p:nvPr/>
        </p:nvSpPr>
        <p:spPr>
          <a:xfrm>
            <a:off x="4356000" y="3357720"/>
            <a:ext cx="792360" cy="431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5 Flecha abajo"/>
          <p:cNvSpPr/>
          <p:nvPr/>
        </p:nvSpPr>
        <p:spPr>
          <a:xfrm>
            <a:off x="4356000" y="4869000"/>
            <a:ext cx="720720" cy="647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Teoría  de la construcción de una Tercera Cultur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Antecedentes de Casmir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A. Valoración de la diversidad cultura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B. Expectativa del Mutuo Desarrollo donde la coerción o la persuasión es inadecuad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C. Interacción trasformador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Teoría  de la construcción de una Tercera Cultur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Una tercera cultura es una </a:t>
            </a:r>
            <a:r>
              <a:rPr b="1" lang="es-ES" sz="2800" spc="-1" strike="noStrike">
                <a:solidFill>
                  <a:srgbClr val="000000"/>
                </a:solidFill>
                <a:latin typeface="Gill Sans MT"/>
              </a:rPr>
              <a:t>subcultura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 que se produce en una situación determinada donde </a:t>
            </a:r>
            <a:r>
              <a:rPr b="1" lang="es-ES" sz="2800" spc="-1" strike="noStrike">
                <a:solidFill>
                  <a:srgbClr val="000000"/>
                </a:solidFill>
                <a:latin typeface="Gill Sans MT"/>
              </a:rPr>
              <a:t>temporalmente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 se pueden producir </a:t>
            </a:r>
            <a:r>
              <a:rPr b="1" lang="es-ES" sz="2800" spc="-1" strike="noStrike">
                <a:solidFill>
                  <a:srgbClr val="000000"/>
                </a:solidFill>
                <a:latin typeface="Gill Sans MT"/>
              </a:rPr>
              <a:t>cambios 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n la </a:t>
            </a:r>
            <a:r>
              <a:rPr b="1" lang="es-ES" sz="2800" spc="-1" strike="noStrike">
                <a:solidFill>
                  <a:srgbClr val="000000"/>
                </a:solidFill>
                <a:latin typeface="Gill Sans MT"/>
              </a:rPr>
              <a:t>conducta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 por la </a:t>
            </a:r>
            <a:r>
              <a:rPr b="1" lang="es-ES" sz="2800" spc="-1" strike="noStrike">
                <a:solidFill>
                  <a:srgbClr val="000000"/>
                </a:solidFill>
                <a:latin typeface="Gill Sans MT"/>
              </a:rPr>
              <a:t>interacción 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de personas que buscan conseguir </a:t>
            </a:r>
            <a:r>
              <a:rPr b="1" lang="es-ES" sz="2800" spc="-1" strike="noStrike">
                <a:solidFill>
                  <a:srgbClr val="000000"/>
                </a:solidFill>
                <a:latin typeface="Gill Sans MT"/>
              </a:rPr>
              <a:t>acuerdos mutuos 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sobre determinados objetivos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Teoría  de la construcción de una Tercera Cultur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3 ámbitos de estudio: individual, organizacional y el mediado.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 MT"/>
              </a:rPr>
              <a:t>Individual. 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Meta: logro de una identidad multicultura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 MT"/>
              </a:rPr>
              <a:t>Organizacional. 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Meta: apertura a nuevas membresías en las familias y las empresa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Gill Sans MT"/>
              </a:rPr>
              <a:t>Mediado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: denuncia: imperialismo cultural, ilusión de relación, escasas posibilidades de construcción de una tercera cultur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Teoría  de la construcción de una Tercera Cultur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Casmir propone con-vencer, como buen modelo cooperativo donde “todos ganan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Modelos de la tercera cultura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Primer modelo: ciclo de actuación en la construcción individual de la tercera cultura: Experiencia /Necesidades/ Comunicación/ Interdependencia/ Experienci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Teoría  de la construcción de una Tercera Cultur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Segundo Modelo: Construcción de la Tercera Cultura. Individuo en relación con otro, buscan el beneficio mutuo y construyen una nueva estructura, influidos por agentes externos (outsiders)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Tercer Modelo. Actuación individual y construcción de la tercera cultura. Mirada transaccional. Sujeto A con necesidades y experiencias se comunica con un B. Con el tiempo se genera interdependencia, pero aquella está dada por las modificaciones de ambas cultura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Teoría  de la construcción de una Tercera Cultur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1476360" y="141264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Para Casmir, estos procesos pueden ser facilitados tanto por las familias como por las estructuras del Estado, como el gobierno y desde él, las políticas pública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572314"/>
                </a:solidFill>
                <a:latin typeface="Gill Sans MT"/>
              </a:rPr>
              <a:t>Teoría  de la construcción de una Tercera Cultura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Critica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Excluye la discusión del poder tanto en que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Modelo ideal donde contrapartes están en situación de igualdad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Cuáles son los principios innegociables de los interactuant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Trabajo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Se ha escogido un tema de interés para un plan o intervención intercultural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Para trabajarlo la última sesión se deben traer antecedentes sobre el tema y el destinatario principal del plan o intervención intercultural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2" name=""/>
          <p:cNvSpPr txBox="1"/>
          <p:nvPr/>
        </p:nvSpPr>
        <p:spPr>
          <a:xfrm>
            <a:off x="1258560" y="148392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FI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Comunicación Intercultural Interperson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Competencia intercultural interpersonal: “habilidad para </a:t>
            </a:r>
            <a:r>
              <a:rPr b="1" lang="es-CL" sz="2800" spc="-1" strike="noStrike">
                <a:solidFill>
                  <a:srgbClr val="000000"/>
                </a:solidFill>
                <a:latin typeface="Gill Sans MT"/>
              </a:rPr>
              <a:t>negociar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 los significados culturales y ejecutar las </a:t>
            </a:r>
            <a:r>
              <a:rPr b="1" lang="es-CL" sz="2800" spc="-1" strike="noStrike">
                <a:solidFill>
                  <a:srgbClr val="000000"/>
                </a:solidFill>
                <a:latin typeface="Gill Sans MT"/>
              </a:rPr>
              <a:t>conductas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 comunicativa apropiadas para </a:t>
            </a:r>
            <a:r>
              <a:rPr b="1" lang="es-CL" sz="2800" spc="-1" strike="noStrike">
                <a:solidFill>
                  <a:srgbClr val="000000"/>
                </a:solidFill>
                <a:latin typeface="Gill Sans MT"/>
              </a:rPr>
              <a:t>reconocer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 las </a:t>
            </a:r>
            <a:r>
              <a:rPr b="1" lang="es-CL" sz="2800" spc="-1" strike="noStrike">
                <a:solidFill>
                  <a:srgbClr val="000000"/>
                </a:solidFill>
                <a:latin typeface="Gill Sans MT"/>
              </a:rPr>
              <a:t>múltiples identidades 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de los interactúantes en un </a:t>
            </a:r>
            <a:r>
              <a:rPr b="1" lang="es-CL" sz="2800" spc="-1" strike="noStrike">
                <a:solidFill>
                  <a:srgbClr val="000000"/>
                </a:solidFill>
                <a:latin typeface="Gill Sans MT"/>
              </a:rPr>
              <a:t>entorno 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specífico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2" name="3 CuadroTexto"/>
          <p:cNvSpPr/>
          <p:nvPr/>
        </p:nvSpPr>
        <p:spPr>
          <a:xfrm>
            <a:off x="5940360" y="587700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Chen y Starosta, 1996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Comunicación Intercultural Interperson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Toda relación es diferente por lo que no se pueden dar recetas para comunicar interculturalment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¿Qué hacemos entonce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Generamos criterios generales para una comunicación más eficaz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Comunicación Intercultural Interperson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1476360" y="148392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A. Una cierta competencia comunicativ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B. Un cierto conocimiento de la otra cultur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¿Qué sucede entonces cuándo en el lenguaje común hablamos de choque cultural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67" name="3 Imagen" descr="295_card_tells_bush2050081722-9210.jpg"/>
          <p:cNvPicPr/>
          <p:nvPr/>
        </p:nvPicPr>
        <p:blipFill>
          <a:blip r:embed="rId1"/>
          <a:stretch/>
        </p:blipFill>
        <p:spPr>
          <a:xfrm>
            <a:off x="5148360" y="4581360"/>
            <a:ext cx="1871640" cy="1852920"/>
          </a:xfrm>
          <a:prstGeom prst="rect">
            <a:avLst/>
          </a:prstGeom>
          <a:ln w="0">
            <a:noFill/>
          </a:ln>
        </p:spPr>
      </p:pic>
      <p:pic>
        <p:nvPicPr>
          <p:cNvPr id="668" name="4 Imagen" descr="osama-bin-laden-773756.jpg"/>
          <p:cNvPicPr/>
          <p:nvPr/>
        </p:nvPicPr>
        <p:blipFill>
          <a:blip r:embed="rId2"/>
          <a:stretch/>
        </p:blipFill>
        <p:spPr>
          <a:xfrm>
            <a:off x="3348000" y="4437000"/>
            <a:ext cx="151128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Comunicación Intercultural Interperson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Desde una visión comunicativa estaríamos hablando de una incomprensión de la relación establecida y del comportamiento del otro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A diferencia de comunicación en una misma cultura en la comunicación intercultural el malentendido es la norma y no la excepció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Comunicación Intercultural Interpersonal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No cualquier encuentro entre culturas es un encuentro intercultura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Tiene que existir un cierto grado de reconocimiento de la existencia y validez de la (s) otra(s) cultura(s)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Entonces, al darse comunicativamente este reconocimiento, la sociedad de quien observa se asume como  pluricultura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5T22:51:08Z</dcterms:created>
  <dc:creator>Usuario</dc:creator>
  <dc:description/>
  <dc:language>en-US</dc:language>
  <cp:lastModifiedBy>Usuario</cp:lastModifiedBy>
  <dcterms:modified xsi:type="dcterms:W3CDTF">2012-05-07T05:08:28Z</dcterms:modified>
  <cp:revision>43</cp:revision>
  <dc:subject/>
  <dc:title>Diapositiva 1</dc:title>
</cp:coreProperties>
</file>