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6B6F-E8D9-4B96-981F-9385EE00E5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2652-E588-4B7C-B700-F4131DC911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F8DE-E0DA-44BC-89C2-549F41F39F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3F59-BDF1-4661-AB51-8F43C74E5B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EC54-584F-42BE-A238-513A8CA3B5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BA14-1A10-4E73-A34E-9DE73BAB858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797-0483-45F1-8013-07D4F274263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B804-3151-4BCD-9973-4741300B22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63EE-116B-44DB-ABD2-73A8C649DA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C229-D9D0-404D-AE64-FE9E402954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C06-D99C-4582-996A-3BD50D0402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5D2D-AD88-482A-B147-1AD2A91CCB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BEDF-BE02-444C-96F2-6E6EE25274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ABF0-ACD1-41F3-B712-C351E18229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4F1A-7769-4274-B183-730F9BFF61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7F5A-B909-4DC9-AF71-FA5D765724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D54-78A8-4649-BF31-94BD5A2706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61B2-3F3A-4689-96FA-3A5E3238A44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C067-152A-4011-9C50-10D24DEBDB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778C-1474-43E3-88CD-1D32307676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873B-145A-4791-9A55-2748F0A124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12A-B3D0-4322-897E-305E77896C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3D2A-549F-44DF-9C53-1EA16F7802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443-0C7B-429B-AF85-91AA53EC8C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8F96-FF8D-4B2C-A28D-97BE103E8C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D0AC-71F9-40D6-979A-87696A41DA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B795-6E7F-4A4A-B5C7-B4F9BE17826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954C-52F4-4150-B46E-268D564554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B8E-5BBB-4545-B09F-DCEB159E48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AC79-E348-48CB-BD1E-71840D76CC5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C2E-A811-42BA-847D-E366388B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3EF-F884-48DF-A991-C43108FC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00385-D8FE-4C71-8668-7E1A0E4D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AD30B-F64C-4174-AAC2-04EC46AA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B5631-77F4-47CF-8ED0-E7BA2E96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EEF8B-DD2D-40E4-8287-9BF0645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71BA6-94F7-4521-B99F-E4ED987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06CD-95D8-48FD-AAFA-2857227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FE701-91F0-45E5-84C4-E1ED89D2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C766C-6237-4EDB-8B3C-00D83146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16C32-E9E4-4D37-9D2D-094E8BC3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5D36-F3DC-4582-B41D-9D13C25D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44E-51B5-4AD7-93C3-CA6D9114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E792A-B3AF-48BA-80FE-DF112527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18150-9DC9-435B-BA6A-BE00680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10A01-8CD7-4CB2-A38E-A95A742A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B85C8-D6F3-4834-99D2-881C68F5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EFBC8-F378-47A4-A41A-6FF1C15C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6A68A-13B4-448F-A4C5-F6228AF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B7E90-8B59-42E9-808A-1B4D19F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F38B-2E00-4B8C-8C5F-5B95F72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D7AE4-7006-4D30-8A3F-F431B56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75D4D-223D-4E41-9FC3-82449D63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F4F-0EC3-43C1-AA10-E6A193EC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FA942-9916-46FB-960C-FB1ED199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85561-E9DE-41AB-9B96-EB49D94D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E2AB-EE60-4A4A-8A9D-6226053C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6CB5B-72D7-4DD6-BF14-DF5258E6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AD69A-3B6C-46C0-A92D-66024A24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85440-82DF-47C6-A082-53DCCB4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02D98-0599-404D-9F88-DD76F853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BF9D-8FF2-4D2D-8207-363BAFB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93B2-8460-415C-A98C-5B4D219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4F460-47D3-4D44-AF73-99FAD64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9DA0-E758-46A3-A07A-0DAC2CF0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96780-9AB0-42BF-BF37-E5379B48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38A41-4CFF-4445-BF6A-44C6ED2C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D90E9-2B10-44BF-88A5-510E63FD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79E48-0AD0-4532-84A1-A7634965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C60DA-8257-4643-BDAF-B57C3C0C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F419C-3812-4719-B91F-B7EB32BC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6C9D8-EC46-4A1B-AC2B-3682639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489C8-DD4D-4C53-BD3F-C30430B0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08D2C-5329-4233-8120-CF70295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CB474-EF56-4CFF-8DB5-49AFB7B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CAC5-D79B-4D02-9721-D48957FE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F0A77-09D2-4F82-B427-E54E204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18C1A-E9FA-44F3-AD3B-1233F55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56CC1-2058-441F-AB5E-40919A6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9AB7B-AA72-4E2E-8D4B-71FB9FF2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1A44B-160C-4093-8260-AC485C41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C9543-03C6-48B4-BF2E-39F9B563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FDE23-0260-4493-B3A9-42CEC403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56E11-AD86-49A9-99D7-8B50CD4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9268B-E5AA-423E-90E1-3B984BAD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DCEF8-F4AE-4D76-8764-AE6EBAB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D8AD-5E31-456A-B4B7-1E967B5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B4ED6-E033-4F39-A319-6299D2B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92CAC-5D50-48D4-8C2E-E85712A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26A85-BD56-4087-A19B-14622908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372FC-8E82-4A69-AA93-45D56C7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E46A1-2E05-4115-9815-EB019BBB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6F475-C329-4376-B9AD-EFEC251E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D86A9-71D5-4333-8250-7DB4D12E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526D0-3AD1-4112-87E2-8CB63198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F3A94-725F-458E-B031-B46F84F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7664F-DEEF-4196-8514-61C7C0FE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D2A9-B678-42D4-B779-CB8C1F02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87116-7956-4EB7-AADE-EF2AAFE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50F1B-347B-4174-9049-B871F487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08FEA-14FB-4462-A146-9812BB7C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64561-B66B-4191-A974-DA03FBC5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DC0FB-A732-4155-8008-4714318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42D07-7779-4CB4-B569-2FCB65F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5D190-D323-486C-BFED-E02A2B5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8E598-41D7-4070-94B5-942A6FE6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607D5-8C71-4B2F-AB32-7733B1A3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356F-DF31-4D93-A510-DC194A38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BE6F-58FA-4FAB-822B-D1581014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D56-A0A2-4B8C-80EA-27DC4984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8DE-8D0D-46EA-9DF7-7AFC8291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D59-8B6A-4F8F-89D9-261EBF0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A219-0E07-4084-9744-1CC42C23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3B09-F670-48E8-A00B-09341626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61F3-D1D9-43C1-88DC-04350562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E30A-9586-4A3B-A2FF-3C455662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3B65-EF38-4810-9294-B30AE7A4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6592-F321-4632-9D1E-4E42A8F5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4FB7-C9DA-43E0-8DE8-D97EEB06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72BA-C332-4EC0-A92E-B00326B0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35D0-DFE6-40D0-B797-D954B8B8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54F-737E-4926-B365-00DD3DEE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9E1D-5CC4-4701-AD4B-BBC9BB39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CE34-6086-4E1E-B4F7-53A810D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74CA-C95B-4B73-A65D-13A2EB57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1E82-2DBE-46CE-8E89-F2021A54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1AE3-AE6F-4155-9FA7-711809FD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92E4-4D61-4BC0-B0BA-B7412BBA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8625-357E-4839-BD18-CF9E4795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0D8A-EB08-44A8-9D78-67BC3EC3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6CB9-4FB0-4821-BB0D-8B1D396A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1CF50-EAE9-4C3E-BEE8-56137CD7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9D7-F2A7-4AD9-B341-A6997317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B786-068F-4F5A-8F67-9E3AE38A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E542-73C2-46E2-B205-7AA5E61F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18D5-5A7C-4CD4-B80F-66849808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C883-98BD-421E-8630-1F11E78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468E-90F7-4B13-ABCD-AD51CE2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A137-0531-41FC-AC5B-6F086143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9C03-2295-498B-AB78-A0403E7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2185D-5765-476B-9AED-54DEEB53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C5D5A-B875-42B1-88AD-7FA2518F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104F-2165-4DD2-A412-EE271DB4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6ED-D33A-4C75-985C-2D3728B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BB84-E216-4E11-85DE-FFCE8349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00E0-E372-44C5-A3EA-5C4392DC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9BB2D-3EFB-4BB1-B7CD-3BDA615D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B57C9-338D-4598-8189-49904A22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46EF2-2599-4891-BDCF-F71D8B6B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A8B1-359A-437C-98B5-1AE496B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7E82-761F-4349-9D63-38787D2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E7354-41AF-443B-8D63-EF248C2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7F116-5F5B-4D5C-B71B-D7F7EA45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AD6C6-2CDC-464F-AB78-CD7E91DC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442-614C-4326-8ADA-C997836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8DEFA-8316-4BA3-A245-C2E6EB86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A4AF-FE63-4BA0-B6EB-22CDE156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4284F-08F0-4B1D-AB43-B49F98B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A5A8-6C65-4736-BCD4-3FE1FA8A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577C8-E395-4058-8E01-F2C1EDE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340B-6F6A-4479-915F-E8BDBB8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C6B1-2EA6-4513-8982-3FD6122C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2DFB-419C-46CE-9100-E4A609D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360F-D8E6-4D76-A5F6-75A08C6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3FB1-1508-44BE-BA8E-92D39AA0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C55-2095-4C12-9D4E-B3B363B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EFA2F-067B-4C6E-B195-F1618FBD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524F-03D9-4CDD-BEA7-298D6059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CB917-1D9A-49A0-96B2-542290A3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CE91A-B2EA-4379-9B55-F475633B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D8B2-EF0C-4809-AACE-FD2CFF2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9DBE4-77D5-4D98-98ED-7DBD21B4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71B9-8D19-4196-9836-FF2BF715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A402B-322B-43F6-8D8B-B8E3B5A5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5D8CD-FF88-4F1E-8583-7A267FE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83F2E-3D20-448B-A5F4-AC3B6AF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58F-E0A3-4D79-8405-1051A33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6EF6D-2335-4FCC-BD1C-DAF8EC44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1281C-ACE3-4712-9EDB-23A80BC4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3409-F4D6-4BA3-AF17-F12AD0C6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B864-0A50-489B-A505-7FF8A4C3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8745-9D2B-459C-A637-99B4FD2B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5DDE-71B8-4E6A-8000-E910B0EE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CAED1-58CF-4D09-86EC-3C057F0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CEE5E-3414-4473-AFC6-E7BC49E8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B19E-08EB-4867-AE0F-5A2ED3A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D09B-AB95-433E-A69D-CCE9521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29F-ABC5-4157-954B-941F9B9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0C329-319E-4726-9DEC-5614EB02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637D-9158-489B-9790-6DEFA41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3450-31AB-421E-9D5F-B91F2CC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10EEA-DB64-4C41-AEBF-6A9346E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5812E-2C8E-4756-9E59-93D18F2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D5038-9BB9-4894-AD8A-60DDC10A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1338-8475-4093-9DBB-3F4F796D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8D463-5BF5-4A6F-A12E-FD240159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B4EAB-57DB-4597-A21C-233502A2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95E50-2FC2-41EA-B250-406BC147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6E49-E1F8-48E8-99D0-C1AA39C03988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2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B4B4-8DC5-4417-9053-9DAD90982BDB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FB65-E904-4A25-9CF2-489694F0B19F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5951-18BF-4ABC-82C0-C2C370BEA6F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97CC-F8E7-4483-9D10-DBF76EB8EEFF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9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D511-0BC6-4B95-98AF-193FC19B859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A2A-1444-4B72-8138-8BD49C651D3D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0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0D97-3BCB-4990-9492-9C5F3E541E6B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4F53-AFFF-4323-90BE-F39052B2637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0411-20D8-44C3-9FC9-F32CA183F36A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A4DB-4864-4AC6-955B-0D1A193230EA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919-7987-4331-B468-823EEDEE446B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7D3F-1B29-430E-899C-4ABD4EB81DA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37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AB2B-7E28-45AA-B0C0-0C73C4DAC528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76360" y="1483920"/>
            <a:ext cx="740736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onocultural: es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ulticultural: construc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Concepto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epistemológico: Monocultural vs Multicultur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social: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luricultural: sociedad compuesta por fragmen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ulticultural: ejemplo Guethos en EE.U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cultural: relación (sentid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Jacques Ellul presenta cinco condiciones básicas para que la comunicación sea efectiva entre culturas que coexisten en un conjunto social may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ferenciación entre los grup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bi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conocimiento recípro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monopolización de los medios de comunic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importancia del contexto y la percep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torno físico o de situación, ya sea político, histórico, cultural o de cualquier otra índole, en el cual se considera un hech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uchos textos o manifestaciones son incomprensibles si no conocemos el contex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Percep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ón del entorno basándose en los sentidos. Es un proceso activo, interpretativo y conti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64448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alt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la información esencial se encuentra en el contexto físico o está interiorizada en la persona, poca información esta en la parte codificada o explícita del mensaje. (much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baj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es lo contrario; la mayoría de la información se expresa explícitamente. (poc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4572000" y="602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. T.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3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1434960" y="1700280"/>
            <a:ext cx="7313760" cy="4548240"/>
            <a:chOff x="1434960" y="1700280"/>
            <a:chExt cx="7313760" cy="4548240"/>
          </a:xfrm>
        </p:grpSpPr>
        <p:grpSp>
          <p:nvGrpSpPr>
            <p:cNvPr id="682" name="Group 5"/>
            <p:cNvGrpSpPr/>
            <p:nvPr/>
          </p:nvGrpSpPr>
          <p:grpSpPr>
            <a:xfrm>
              <a:off x="1434960" y="1700280"/>
              <a:ext cx="7313760" cy="4548240"/>
              <a:chOff x="1434960" y="1700280"/>
              <a:chExt cx="7313760" cy="4548240"/>
            </a:xfrm>
          </p:grpSpPr>
          <p:sp>
            <p:nvSpPr>
              <p:cNvPr id="683" name="AutoShape 6"/>
              <p:cNvSpPr/>
              <p:nvPr/>
            </p:nvSpPr>
            <p:spPr>
              <a:xfrm>
                <a:off x="1434960" y="1700280"/>
                <a:ext cx="7313760" cy="45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"/>
              <p:cNvSpPr/>
              <p:nvPr/>
            </p:nvSpPr>
            <p:spPr>
              <a:xfrm>
                <a:off x="1527120" y="525888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0" y="140"/>
                    </a:moveTo>
                    <a:lnTo>
                      <a:pt x="100" y="0"/>
                    </a:lnTo>
                    <a:lnTo>
                      <a:pt x="180" y="10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"/>
              <p:cNvSpPr/>
              <p:nvPr/>
            </p:nvSpPr>
            <p:spPr>
              <a:xfrm>
                <a:off x="5340240" y="191916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180" y="0"/>
                    </a:moveTo>
                    <a:lnTo>
                      <a:pt x="80" y="140"/>
                    </a:lnTo>
                    <a:lnTo>
                      <a:pt x="0" y="4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9"/>
              <p:cNvSpPr/>
              <p:nvPr/>
            </p:nvSpPr>
            <p:spPr>
              <a:xfrm flipV="1">
                <a:off x="1637640" y="2016000"/>
                <a:ext cx="3757680" cy="331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0"/>
              <p:cNvSpPr/>
              <p:nvPr/>
            </p:nvSpPr>
            <p:spPr>
              <a:xfrm>
                <a:off x="6003720" y="1896120"/>
                <a:ext cx="9594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Japone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1"/>
              <p:cNvSpPr/>
              <p:nvPr/>
            </p:nvSpPr>
            <p:spPr>
              <a:xfrm>
                <a:off x="5524560" y="2382840"/>
                <a:ext cx="7502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ráb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2"/>
              <p:cNvSpPr/>
              <p:nvPr/>
            </p:nvSpPr>
            <p:spPr>
              <a:xfrm>
                <a:off x="5229720" y="2797920"/>
                <a:ext cx="169776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Latino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3"/>
              <p:cNvSpPr/>
              <p:nvPr/>
            </p:nvSpPr>
            <p:spPr>
              <a:xfrm>
                <a:off x="4861800" y="3138480"/>
                <a:ext cx="7135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talian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4"/>
              <p:cNvSpPr/>
              <p:nvPr/>
            </p:nvSpPr>
            <p:spPr>
              <a:xfrm>
                <a:off x="4566600" y="3479400"/>
                <a:ext cx="713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ngl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5"/>
              <p:cNvSpPr/>
              <p:nvPr/>
            </p:nvSpPr>
            <p:spPr>
              <a:xfrm>
                <a:off x="4197960" y="3943080"/>
                <a:ext cx="922680" cy="3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Franc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6"/>
              <p:cNvSpPr/>
              <p:nvPr/>
            </p:nvSpPr>
            <p:spPr>
              <a:xfrm>
                <a:off x="3718800" y="4357080"/>
                <a:ext cx="157428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Norte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7"/>
              <p:cNvSpPr/>
              <p:nvPr/>
            </p:nvSpPr>
            <p:spPr>
              <a:xfrm>
                <a:off x="3387960" y="4723560"/>
                <a:ext cx="33944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Escandinava (excepto Finlandesa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8"/>
              <p:cNvSpPr/>
              <p:nvPr/>
            </p:nvSpPr>
            <p:spPr>
              <a:xfrm>
                <a:off x="2908440" y="5137200"/>
                <a:ext cx="873720" cy="4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lem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9"/>
              <p:cNvSpPr/>
              <p:nvPr/>
            </p:nvSpPr>
            <p:spPr>
              <a:xfrm>
                <a:off x="2075400" y="5575320"/>
                <a:ext cx="37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Suiz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0"/>
              <p:cNvSpPr/>
              <p:nvPr/>
            </p:nvSpPr>
            <p:spPr>
              <a:xfrm>
                <a:off x="7293240" y="1993320"/>
                <a:ext cx="128124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Información implíc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1"/>
              <p:cNvSpPr/>
              <p:nvPr/>
            </p:nvSpPr>
            <p:spPr>
              <a:xfrm>
                <a:off x="7292520" y="24058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2"/>
              <p:cNvSpPr/>
              <p:nvPr/>
            </p:nvSpPr>
            <p:spPr>
              <a:xfrm>
                <a:off x="2338200" y="1884960"/>
                <a:ext cx="1520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al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3"/>
              <p:cNvSpPr/>
              <p:nvPr/>
            </p:nvSpPr>
            <p:spPr>
              <a:xfrm>
                <a:off x="1440360" y="3856680"/>
                <a:ext cx="120348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Rectangle 24"/>
            <p:cNvSpPr/>
            <p:nvPr/>
          </p:nvSpPr>
          <p:spPr>
            <a:xfrm>
              <a:off x="6744960" y="5206320"/>
              <a:ext cx="1325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Informació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explícita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Criterios generales para una comunicación más efica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A. Una cierta competencia comunicat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B. Un cierto conocimiento de la otra cul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etencia Comunicativa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la habilidad para negociar los significados culturales y ejecutar las conductas comunicativas apropiadamente eficaces que reconocen las múltiples identidades de los interactuantes en un contexto específico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Se reconoc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A. la emotividad: proyectar y recibi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B. lo cognitivo: conciencia y autoconc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C. la conducta: destrezas de actuar ante un objetiv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7" name="3 Marcador de contenido" descr="gudykunst1.jpg"/>
          <p:cNvPicPr/>
          <p:nvPr/>
        </p:nvPicPr>
        <p:blipFill>
          <a:blip r:embed="rId1"/>
          <a:stretch/>
        </p:blipFill>
        <p:spPr>
          <a:xfrm>
            <a:off x="6483240" y="836640"/>
            <a:ext cx="2318040" cy="2736720"/>
          </a:xfrm>
          <a:prstGeom prst="rect">
            <a:avLst/>
          </a:prstGeom>
          <a:ln w="0">
            <a:noFill/>
          </a:ln>
        </p:spPr>
      </p:pic>
      <p:pic>
        <p:nvPicPr>
          <p:cNvPr id="708" name="4 Imagen" descr="untitled-2.jpg"/>
          <p:cNvPicPr/>
          <p:nvPr/>
        </p:nvPicPr>
        <p:blipFill>
          <a:blip r:embed="rId2"/>
          <a:stretch/>
        </p:blipFill>
        <p:spPr>
          <a:xfrm>
            <a:off x="1403280" y="2924280"/>
            <a:ext cx="3981600" cy="1609560"/>
          </a:xfrm>
          <a:prstGeom prst="rect">
            <a:avLst/>
          </a:prstGeom>
          <a:ln w="0">
            <a:noFill/>
          </a:ln>
        </p:spPr>
      </p:pic>
      <p:pic>
        <p:nvPicPr>
          <p:cNvPr id="709" name="5 Imagen" descr="untitled-21.jpg"/>
          <p:cNvPicPr/>
          <p:nvPr/>
        </p:nvPicPr>
        <p:blipFill>
          <a:blip r:embed="rId3"/>
          <a:stretch/>
        </p:blipFill>
        <p:spPr>
          <a:xfrm>
            <a:off x="1187280" y="4292640"/>
            <a:ext cx="4457880" cy="1200240"/>
          </a:xfrm>
          <a:prstGeom prst="rect">
            <a:avLst/>
          </a:prstGeom>
          <a:ln w="0">
            <a:noFill/>
          </a:ln>
        </p:spPr>
      </p:pic>
      <p:pic>
        <p:nvPicPr>
          <p:cNvPr id="710" name="6 Imagen" descr="untitled.jpg"/>
          <p:cNvPicPr/>
          <p:nvPr/>
        </p:nvPicPr>
        <p:blipFill>
          <a:blip r:embed="rId4"/>
          <a:stretch/>
        </p:blipFill>
        <p:spPr>
          <a:xfrm>
            <a:off x="1763640" y="1341360"/>
            <a:ext cx="3981600" cy="1609920"/>
          </a:xfrm>
          <a:prstGeom prst="rect">
            <a:avLst/>
          </a:prstGeom>
          <a:ln w="0">
            <a:noFill/>
          </a:ln>
        </p:spPr>
      </p:pic>
      <p:pic>
        <p:nvPicPr>
          <p:cNvPr id="711" name="7 Imagen" descr="untitled-22.jpg"/>
          <p:cNvPicPr/>
          <p:nvPr/>
        </p:nvPicPr>
        <p:blipFill>
          <a:blip r:embed="rId5"/>
          <a:stretch/>
        </p:blipFill>
        <p:spPr>
          <a:xfrm>
            <a:off x="3780000" y="5373720"/>
            <a:ext cx="4457520" cy="1200240"/>
          </a:xfrm>
          <a:prstGeom prst="rect">
            <a:avLst/>
          </a:prstGeom>
          <a:ln w="0">
            <a:noFill/>
          </a:ln>
        </p:spPr>
      </p:pic>
      <p:sp>
        <p:nvSpPr>
          <p:cNvPr id="712" name="8 Rectángulo"/>
          <p:cNvSpPr/>
          <p:nvPr/>
        </p:nvSpPr>
        <p:spPr>
          <a:xfrm>
            <a:off x="6456240" y="378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lliam Gudy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sde 1985 con modificacione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eoría compleja, con más de 100 axiomas (24 la primera versión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 central puesto en la dificultad de la comunicación intercultural (malentendid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ill Sans MT"/>
              </a:rPr>
              <a:t>Axioma 1:</a:t>
            </a: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 Un aumento en el grado en que nuestras identidades sociales guian nuestras interacciones con los extranjeros se producirá una disminución en la ansiedad y un aumento de nuestra confianza en la predicción de su comportamien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Este axioma es válido sólo cuando estamos seguros en nuestra vida social, no somos conscientes, si los extranjeros son percibidos por los miembros del exogrupo como típicos, y cuando nuestra ansiedad y la incertidumbre son entre nuestros umbreles mínima y máximos. (Gudykunst, 2005, p. 294)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Foraster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lación dual cerca/lejos Caracterización desde lo ajeno, exterior, extraño. Calidad dada a partir de los grados de inclusión / exclusión dados en el encuentro. Todos los sujetos son potenciales forasteros, dado el contexto de la intera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certidumbre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toda relación humana hay un cierto grado de incertidumbre (predictiva y explicativa). Adecuación la indeterminación e impredictibilidad. El justo medio, sería una comunicación eficaz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Ansiedad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onente afectivo. Mientras más alta, mayor cantidad de estereotipos sobre el “forastero”. Si la ansiedad es baja hay desmotiv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municación Eficaz: 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ceso de interpretación y construcción de sentido que reduce la divergencia entre las dos o más intencionalidades comunicativas puestas en juego en la rel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onocer la problematización implícita, la categorización que se realiza y finalmente, la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 mayor conciencia, mayor categorización, mayor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lase 2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331640" y="16282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s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teorías de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a ampliar categorías de pensamiento sobre las formas de conocer y generar encuentros entre distint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Rectángulo"/>
          <p:cNvSpPr/>
          <p:nvPr/>
        </p:nvSpPr>
        <p:spPr>
          <a:xfrm>
            <a:off x="3635280" y="4581360"/>
            <a:ext cx="1800360" cy="648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7 CuadroTexto"/>
          <p:cNvSpPr/>
          <p:nvPr/>
        </p:nvSpPr>
        <p:spPr>
          <a:xfrm>
            <a:off x="3564000" y="472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NS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8 Rectángulo"/>
          <p:cNvSpPr/>
          <p:nvPr/>
        </p:nvSpPr>
        <p:spPr>
          <a:xfrm>
            <a:off x="3564000" y="5589720"/>
            <a:ext cx="2016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INCERTIDU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11 Elipse"/>
          <p:cNvSpPr/>
          <p:nvPr/>
        </p:nvSpPr>
        <p:spPr>
          <a:xfrm>
            <a:off x="5940360" y="4292640"/>
            <a:ext cx="2519280" cy="2305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2 Triángulo isósceles"/>
          <p:cNvSpPr/>
          <p:nvPr/>
        </p:nvSpPr>
        <p:spPr>
          <a:xfrm>
            <a:off x="971640" y="4437000"/>
            <a:ext cx="2232000" cy="19447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Fora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5 CuadroTexto"/>
          <p:cNvSpPr/>
          <p:nvPr/>
        </p:nvSpPr>
        <p:spPr>
          <a:xfrm>
            <a:off x="6084720" y="479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16 Triángulo isósceles"/>
          <p:cNvSpPr/>
          <p:nvPr/>
        </p:nvSpPr>
        <p:spPr>
          <a:xfrm>
            <a:off x="6804000" y="5157720"/>
            <a:ext cx="1944720" cy="129564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Tercer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Énfasis en sus axiomas en la toma de conciencia del acto comunicativo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udykunst plantea tres componentes centrales en la construcción de competencias comunicativas: motivación, conocimiento y dest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 asociada a necesidades d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ntirnos segur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edecir el deven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tenencia a un grup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vitar la ans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 sentido común univers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gratificaciones (materiales o simbólica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sostener nuestras identidad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: Reconocimiento de que una misma conducta puede ser significada de manera divers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gracia de la comunicación intercultural es que apela a las interpretaciones alternativas, en cada uno de sus ámbitos reflexivos: la descripción, su interpretación y la evaluación (juici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mayor complejidad cognitiva del sujeto participante, mayor eficacia de la comunicación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Teorías de la 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26" name="Picture 3" descr="perros"/>
          <p:cNvPicPr/>
          <p:nvPr/>
        </p:nvPicPr>
        <p:blipFill>
          <a:blip r:embed="rId1"/>
          <a:stretch/>
        </p:blipFill>
        <p:spPr>
          <a:xfrm>
            <a:off x="1476360" y="1341360"/>
            <a:ext cx="3789360" cy="50151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5435280" y="1523880"/>
            <a:ext cx="34988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mberto Eco habla de decodificación aberrante.  El código determina el mens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a cosa es lo que se dice, otra cosa es lo que el receptor entien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trezas:  habilidades: capacidades o disposición. (conducta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bilidad de crear nuevas categorí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lerancia a la ambigüe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empatiz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adaptación de la comunic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so de la información apropi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lejo y difícil sintetiza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tegorías y se encuadra en uno de los 3 niveles (emotivo, cognitivo y conductist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o tienen en cuenta comunicación de ma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bajo con inmigrantes, por lo tanto su teoría se basa en contacto de grupos que han tenido una socialización primera en una cultura y después pasan a convivir con otra por un periodo prolong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imilación,  Aculturación e Integr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5" name="3 Imagen" descr="Young%20Kim.jpg"/>
          <p:cNvPicPr/>
          <p:nvPr/>
        </p:nvPicPr>
        <p:blipFill>
          <a:blip r:embed="rId1"/>
          <a:stretch/>
        </p:blipFill>
        <p:spPr>
          <a:xfrm>
            <a:off x="6732720" y="1341360"/>
            <a:ext cx="1828800" cy="2438640"/>
          </a:xfrm>
          <a:prstGeom prst="rect">
            <a:avLst/>
          </a:prstGeom>
          <a:ln w="0">
            <a:noFill/>
          </a:ln>
        </p:spPr>
      </p:pic>
      <p:sp>
        <p:nvSpPr>
          <p:cNvPr id="736" name="4 Rectángulo"/>
          <p:cNvSpPr/>
          <p:nvPr/>
        </p:nvSpPr>
        <p:spPr>
          <a:xfrm>
            <a:off x="6940440" y="3860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 Yun 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Proceso de cambi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lo largo del tiempo que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se produce en individuo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que han completado su proceso de socialización primaria en una cultura y luego tien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tacto de primera mano 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ntinuo y prolongado con un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ultura nueva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y desconocid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Kim, el eje de la adaptación es la comunicación, complejo y dinám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ce foco en la interculturalidad desde lo que le sucede al forastero.  Es intrapers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similación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 de los principales elementos culturales de la cultura receptora, por parte del “foraster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ltura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cambio, es la adquisición de algunos elementos de la cultura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Imitación y ajustamiento, para Kim, son procesos conductuales individuales, mientras qu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gra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ría la dimensión de participación social del grupo o persona “foraster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Cómo entiende a los forastero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aquel que proviene de otra socialización y se desplaza a una cultura o subcultura difer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n sujetos dependientes de la cultura recept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perimentan relaciones comunicativas directas con el ento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studio 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2 formas de analizar comunicación intercultural es en qué nivel se da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personal:  cómo se da el contac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ediático: uso y gratificaciones de los medi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relación entre dos ámbi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intermedio: grupos multiculturales en empresas (comunicación organizaciona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Qué ocurre con el o la forastero(a)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ceso de socialización secundario desaprendizaje o deculturación de algunos hábito de la antigu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coste de la nueva adquisición es a la vez pérdida de algo de lo antigu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hoque cultural: ruptura de los puntos de vista sociales de nueva soc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Se busca homeostasis (cambio y estabilidad): equilibrio organis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ceso central de la socialización secundaria: asimilación / acomod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mbio: transformación intercultural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Aumento de su acomodación funcio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“salud psicológica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Surgimiento de una identidad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cognitivo y emotivo es el nucleo de la teor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La estructura de la adaptación transcultur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Competencia comunicativa Autóctona: capacidad del forastero para recibir información y procesarla, proveniente de la sociedad receptor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Esto tiene directa relación con el grado de participación del sujeto en la “nueva” cultura que lo aloj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ese contexto, surge la comunicación interpersonal autóctona y la comunicación mediática autócto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e ultima puede facilitar la adaptación, al entregar un aprendizaje de las relaciones “para – sociales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o por otro lado están los circuitos comunicacionales “étnic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o, para Kim, facilita  el proceso de adaptación y por otro lado, preserva la identidad cultural de orig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obstante la posición de la sociedad receptora influye en la adaptación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Receptiv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Presión social para la ada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Poder del grupo de origen en la sociedad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orías asimilacion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se produce negociación sino adaptación cultural a cultura hegemó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ociedad receptora es vista como  unifor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plantea aportes de foraste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e oculta efecto de mestizaj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56" name="7 Marcador de contenido" descr="fred casmir2.jpg"/>
          <p:cNvPicPr/>
          <p:nvPr/>
        </p:nvPicPr>
        <p:blipFill>
          <a:blip r:embed="rId1"/>
          <a:stretch/>
        </p:blipFill>
        <p:spPr>
          <a:xfrm>
            <a:off x="5499000" y="1484280"/>
            <a:ext cx="3645000" cy="45720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1258560" y="1412640"/>
            <a:ext cx="410508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ecesidad de establecer un aproximación desde modelos cooper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Orientado hacia la preparación en un mundo “mundializado” y “localizad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8 Rectángulo"/>
          <p:cNvSpPr/>
          <p:nvPr/>
        </p:nvSpPr>
        <p:spPr>
          <a:xfrm>
            <a:off x="6669000" y="6093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d Casm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 y es, por ende, metacomunicación, contenido viene determinado por interacción que se establece entre los interactuant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enguaje verbal y no verbal permiten comunicarse a las personas entres sí y es mediante la comunicación cómo se establece la socieda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or ello, una sociedad que vive su mestizaje plenamente solo es posible si se produce una comunicación intercultur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 Conducta son construcciones subjetivas sobre uno mismo, sobre los otros y sobre las exigencias que se producen en las situaciones de la vida cotidia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Todo acto comunicativo podría definirse como inter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importante constatar que en la vida cotidiana existen “grados de diferenciación cultural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istirían distancias y proximidades entre las distintas comunidades de vi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ás proximidad menor intercultural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4 Flecha abajo"/>
          <p:cNvSpPr/>
          <p:nvPr/>
        </p:nvSpPr>
        <p:spPr>
          <a:xfrm>
            <a:off x="4356000" y="3357720"/>
            <a:ext cx="792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5 Flecha abajo"/>
          <p:cNvSpPr/>
          <p:nvPr/>
        </p:nvSpPr>
        <p:spPr>
          <a:xfrm>
            <a:off x="4356000" y="4869000"/>
            <a:ext cx="72072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ntecedentes de Casmi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Valoración de la diversidad 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Expectativa del Mutuo Desarrollo donde la coerción o la persuasión es inadecu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. Interacción trasformad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a tercera cultura es un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subcul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se produce en una situación determinada dond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temporalmente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se pueden produc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ambi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por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rac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personas que buscan consegu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erdos mutu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bre determinados objetiv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 ámbitos de estudio: individual, organizacional y el mediado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dividu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logro de una identidad mult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Organizacion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apertura a nuevas membresías en las familias y las empre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Mediad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denuncia: imperialismo cultural, ilusión de relación, escasas posibilidades de construcción de una terce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smir propone con-vencer, como buen modelo cooperativo donde “todos gana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 de la tercera cultur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imer modelo: ciclo de actuación en la construcción individual de la tercera cultura: Experiencia /Necesidades/ Comunicación/ Interdependencia/ Exper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gundo Modelo: Construcción de la Tercera Cultura. Individuo en relación con otro, buscan el beneficio mutuo y construyen una nueva estructura, influidos por agentes externos (outsider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ercer Modelo. Actuación individual y construcción de la tercera cultura. Mirada transaccional. Sujeto A con necesidades y experiencias se comunica con un B. Con el tiempo se genera interdependencia, pero aquella está dada por las modificaciones de amb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7636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Casmir, estos procesos pueden ser facilitados tanto por las familias como por las estructuras del Estado, como el gobierno y desde él, las políticas públic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xcluye la discusión del poder tanto en qu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ideal donde contrapartes están en situación de iguald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uáles son los principios innegociables de los interactuan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bajo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ha escogido un tema de interés para un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trabajarlo la última sesión se deben traer antecedentes sobre el tema y el destinatario principal del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25856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 intercultural interpersonal: “habilidad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negocia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os significados culturales y ejecutar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ducta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comunicativa apropiadas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reconoce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múltiples identidade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de los interactúantes 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entorn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3 CuadroTexto"/>
          <p:cNvSpPr/>
          <p:nvPr/>
        </p:nvSpPr>
        <p:spPr>
          <a:xfrm>
            <a:off x="5940360" y="5877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Chen y Starosta, 19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da relación es diferente por lo que no se pueden dar recetas para comunicar interculturalm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hacemos entonc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eneramos criterios generales para una comunicación más eficaz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7636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Una cierta competencia comunica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Un cierto conocimiento de la ot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sucede entonces cuándo en el lenguaje común hablamos de choque 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3 Imagen" descr="295_card_tells_bush2050081722-9210.jpg"/>
          <p:cNvPicPr/>
          <p:nvPr/>
        </p:nvPicPr>
        <p:blipFill>
          <a:blip r:embed="rId1"/>
          <a:stretch/>
        </p:blipFill>
        <p:spPr>
          <a:xfrm>
            <a:off x="5148360" y="4581360"/>
            <a:ext cx="1871640" cy="1852920"/>
          </a:xfrm>
          <a:prstGeom prst="rect">
            <a:avLst/>
          </a:prstGeom>
          <a:ln w="0">
            <a:noFill/>
          </a:ln>
        </p:spPr>
      </p:pic>
      <p:pic>
        <p:nvPicPr>
          <p:cNvPr id="668" name="4 Imagen" descr="osama-bin-laden-773756.jpg"/>
          <p:cNvPicPr/>
          <p:nvPr/>
        </p:nvPicPr>
        <p:blipFill>
          <a:blip r:embed="rId2"/>
          <a:stretch/>
        </p:blipFill>
        <p:spPr>
          <a:xfrm>
            <a:off x="3348000" y="4437000"/>
            <a:ext cx="15112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de una visión comunicativa estaríamos hablando de una incomprensión de la relación establecida y del comportamiento del ot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diferencia de comunicación en una misma cultura en la comunicación intercultural el malentendido es la norma y no la exce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cualquier encuentro entre culturas es un encuentr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iene que existir un cierto grado de reconocimiento de la existencia y validez de la (s) otra(s) cultura(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tonces, al darse comunicativamente este reconocimiento, la sociedad de quien observa se asume como  plur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22:51:08Z</dcterms:created>
  <dc:creator>Usuario</dc:creator>
  <dc:description/>
  <dc:language>en-US</dc:language>
  <cp:lastModifiedBy>Usuario</cp:lastModifiedBy>
  <dcterms:modified xsi:type="dcterms:W3CDTF">2012-05-07T05:08:28Z</dcterms:modified>
  <cp:revision>43</cp:revision>
  <dc:subject/>
  <dc:title>Diapositiva 1</dc:title>
</cp:coreProperties>
</file>