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BE72-34AA-4D8F-AFAE-1E2FE2F1ED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3834-CF0D-43B4-803C-ED20760A95D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953B-704C-41A1-94DC-B710DFA6A2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A414-076B-4C67-B972-1E70C3420F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7F5-4435-46F0-9D2A-D8FE292C918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39B-8C2B-4FC6-B321-16FB78D9A9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6A5-7555-44B9-908B-93AD86ECE79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9B14-9777-445A-9FEF-F9235CCEB60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B8BE-A342-4257-BB63-84039E2031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580-BE38-4A33-89C6-A42B4189169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01D-75EC-4296-8501-B366C1F520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120-FC18-4E9B-9C58-49E6679D888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AB8-257D-4F25-A18F-DF53C974F04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663-F7BE-43B4-BA53-FBB73AD278A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234-D356-4BC6-AD21-A6E14AAE6B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56C-37AE-41A0-9974-EC4D7755063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F75-16E3-4AD4-BF50-BC22EDCF79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4817-19FA-4FCE-8A9D-92B1DBFE5B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7A2-5ED9-4218-ABC2-6C5D4F8141A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527F-01C2-4E76-AFCE-4E22C27FB7F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23D-354B-4E31-8F4E-C8798F0BE1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D070-18A2-4125-ABE5-A4D35275D95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BA16-1AB8-40A6-BC1B-A2E1355F69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3C8A-C0AB-4249-BCAB-7CA4682AEC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DEFC-6813-450A-B1FB-79E0530636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078E-0504-410C-B472-20A20CDAADD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250D-FDA2-47FD-A1A9-4AC56D89E64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D157-CA21-4F6F-8C43-5118B0343A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A1AB-6E0D-458F-A5EA-55287779F9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1DC4-B4FA-4B07-B731-ED25254CD91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8EB-E6EE-4355-8204-3B1D8C67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8F9-A94C-4710-A9EC-2976678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7C473-CEAE-475B-BCBB-13F9983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3586A-5BF2-465D-BA91-3273E74B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26003-2A5F-4FB1-B0BF-C3F11012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EAB42-3C0D-43A2-A9CF-2091FE6A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4C7C9-26E9-4784-B59F-E689FDD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4B885-8110-42C4-B420-360BC492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65955-4DFE-46CE-BA7A-37548DE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5A88C-8BD0-4DAB-A0C1-AEA97CEA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52029-9037-444C-B2F7-930BEFE3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FFDA6-9691-4D16-A10B-CC5DB82D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EB9-32DA-426A-9A06-DB55A01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CC2E8-F75B-4D99-B0E1-3F23A43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D6AD6-A5C8-45D5-B628-023E25D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AC522-0C1B-49E3-810C-430C250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879BA-7718-4174-B5B2-AA4EE453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A0498-251D-47F4-BEC9-5FD851A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C07CD-4BC1-4FE7-B5DD-B69FBCA7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9F37F-5217-47AF-BA44-6A1D0B4B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3B0948-5619-424B-8E67-B96F25F1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793E2-2701-497F-AC45-8175B133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1032D-102D-4BE8-AFE9-FA057AC0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45FB-95FD-4550-9CF3-BE43F8EF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714A1-9E1E-4E0B-A457-CC007B2D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8012F-5AA1-4888-BE1B-970DE28D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06910-C76A-4DF1-BA19-E748F3E7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57B9A-625E-44C6-B138-2385AE04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F5988-44A4-4F45-B23B-188FB871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C2924-5884-42E9-BF6A-B20D5094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7DA68-BF90-4EF7-97B7-37E5190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A8A35-C5AE-43B6-A075-0525CBE4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1B7D3-1018-4EC1-BF65-CD02F6B8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BCB35-AF5C-4219-A4EF-0EA5AA7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4EF4-AD4D-4E9A-A605-9828D3CF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3ED7F-6152-42C1-AD23-DDB4E05E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97696-33E3-42B4-9572-036D2353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D6EF-CF14-44AA-9719-604C15BB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A423B-8972-4398-B63A-61A3ED97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8D628-7D59-46AB-8EAF-BC3725CF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C2117-C27D-4905-9019-A0E6132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17D2E-480E-4B32-BE7B-3A5AD440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347F4-6173-4556-8F06-C3D126B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AB75C-961F-4FE0-88B9-A93F8B9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50A95-552B-49AF-A58E-637D28A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5716-A9E4-4028-85FC-BFC5DD9E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6B551-397A-48D3-9394-7B75D6F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633ED-579C-4A01-9884-B1C47B4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52EE3-8BE6-4356-AC17-73A6BDC1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75079-D7BE-42C3-8CA1-AA2C2961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FABA6-F8C3-4312-9FDD-196BF92F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62DD2-6DFF-41D8-8CF7-7FB4FB1E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B7008A-79B0-4C36-81C3-87A831F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66EE98-E192-48FF-BADB-EBCC9DF1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DD353-1F14-42BB-A1BA-83E718E4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3CC3E-A2DC-478A-8134-25DF29BC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87A-84A9-47ED-8DDB-9CD3015F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D309D-D4FC-46E5-84B4-C4D50DA1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DAF1A-0412-4CC2-89D0-9654591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E1458-9097-47FB-848E-FD2C629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66A47-F7C8-4972-92F6-A7170B8A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96A99-CD78-431E-9B9E-59B585C5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4B65B-AC4F-40D9-8EEB-C69BA7A6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20B01-9C74-41B8-9153-D01F485E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0EB2B-663D-4367-AE58-F0435FD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712E53-6A76-4913-852A-871B1652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8E8B9-B645-48F3-82AE-029C8EC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B59-9689-46EF-AE16-3F41B67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BDB70-7280-49D4-8541-9539BCE6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41417-DB5E-416F-8F32-912E77B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4D0535-E464-4D3B-97B6-E06784ED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8EC381-8D79-4A42-B796-CE88C12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FDDE74-91CA-4022-BCE6-0C9D0A7E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D6283-90FD-4BD7-911D-4653EA87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8E471-3C3B-4AED-9058-E6989A7F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902B25-E9B9-4C5F-9033-57C35FC5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D4CD5-57BC-4C92-A18B-BFA8D0C6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EF46-060C-417C-B715-43571E5F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76E6-BBD6-4DAD-AF52-41A18BD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06B4-813D-4147-AED5-05772D2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C0F8-499C-425A-AEA6-039399BD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7DE8-BDE3-4A1B-9B0B-18F84D80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08ED-2A32-4447-812F-37C4F4F7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96B7-76C0-460B-8698-9249125E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9B6D-DD13-4327-AA03-B63B9D5A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B7C7-C25C-47A6-8B9D-A4ECD1FE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F4B1-C649-4B6D-8D10-D5A6FC08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AB4A-5271-4CFA-AB30-A21F0E1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18C2C-839E-4DFD-AB8E-47758A7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DBEB-0977-439C-9BEB-A65FE3C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632D-C58D-47BC-BB9E-71564D25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781-2C3E-4F1D-B414-6AF5F576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181E-A024-48D6-878D-394308D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B05CC-0134-4C4B-9659-750B001A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28CE-1567-485A-84C8-706B9AD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74AD-2A97-4C03-BD09-F249583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7E5C-F0B1-4D0A-8D42-DC09F40D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B4D46-E758-46BA-BA8C-751FC411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B4E6-64F9-4AA6-AC91-61BFA551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9D42B-C228-4B3F-8220-67D0CD7C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C163-DEAC-4D17-8AE3-FDC272FA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1E96C-E575-413A-89CF-285D9849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BDD-2311-45E8-87E3-BFC304CF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5828-5555-4105-9290-534046A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50DB-E565-42C9-AD3B-77812F6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249A9-12BE-4D6A-92C6-CA6185B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65F7-2CA9-40FA-948A-AD29C95D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DDFF7-E7A7-4433-8424-F002E447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27BCD-61C7-49A5-94D4-F74D8E47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785CA-828E-4FB9-BD57-E63AD09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CAC2-61B3-42C5-83C3-552D88BF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A824-D53E-46B1-8003-9811A9D3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8146E-2E0D-4FA5-A9B3-E2531F20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EC4-F0FF-40B5-A932-9387D26F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E542-D2D2-402B-9E7D-8E650FE4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87E0-D34E-4A21-9C53-D43D213F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E3F8D-CC86-4616-A21A-3C68D4C4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6330-9486-4160-87E1-12047997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98CD-FAA6-4A0A-90AA-FB9D8A6C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12112-29A6-46B0-8831-EB03FF0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3E5FC-95B9-4CA9-8245-97661958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3273E-4903-4F60-A615-98D7466E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8B1D4-29C8-4555-9B28-274C693C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8C0B1-B2F1-4183-A0A4-7A34D2BDA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F66-45B1-4F75-AE27-D076E6AA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5AB2A-53A7-43EC-8DD4-B7B9D96E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3D456-4F34-43FC-92DF-50098EF9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EF708-38AD-4997-9120-856287F3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61AD6-BF40-45C3-9493-8FD6078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5094-AC24-43CE-80E2-7D37458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DADF7-185E-426E-8748-91D0768B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3BE5E-3897-48B6-B411-E32CAC95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7103A-AE94-4062-907B-E7B2709C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B7F14-9E5A-47FD-AD55-48B23CB3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BFCA1-8912-4B45-B143-D8F16E8A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B39-F1D8-4388-AEE1-2BF4B685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187D3-F8F4-4B0F-B116-FBB1ACA8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AF077-4D35-42C7-A73E-BF005231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5E8F-5E9F-499C-BB07-B12D20E0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3B2D8-ECCF-4514-9DAE-388F8EC3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A0459-195E-4325-8F94-CCFA95F2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3C716-EB25-4CFA-9425-0868220E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E97BA-3336-4F05-A5FC-2AD0486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09BD1-7D6E-4EA4-9658-FC9EC958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EE6DA-7AF9-4C61-978F-EB52100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76951-8898-480E-8BB6-1941D84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215-28EE-45A0-A380-58F38D28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ADFEA-12F4-40CB-9BF7-F48E386C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C340-A599-4592-8B7D-C480C28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CE18A-6941-46D1-932E-B1D79B9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0CB2-23D2-48C3-A174-57E35CEB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882C-2928-40B5-8880-B30B6017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22271-228E-4F1C-8CF8-E1D9795D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3747-CD2F-43AB-AC0F-22B124B7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8515-984B-449D-B2AC-5270478F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AD40-FE33-4E85-97E6-7236970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D74B-4CF2-47D3-BE27-0453C5AD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E8C-4281-4E4F-A06D-4DA90A5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4C0F-479E-4268-B5C3-00EEC825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C47E8-43F4-4EBC-908B-D402860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9A9B-0FA8-4220-B537-AD0DCD9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B0374-AC2E-404F-9F98-4C4FA1B5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C1F86-5E84-4471-9471-74FABA9C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6C675-BAB8-43E7-8BDD-74C27F47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348E8-E7D6-4688-A5FA-1A62386F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A9019-C6DD-4400-BD0A-2E378B34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4A918-8EF1-4144-A613-8E8B7628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69CDA-3FF9-40D0-BBC1-6B7070B4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0DC-F561-4815-8E5F-B55ECC2824F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2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1EFD-7050-438D-BC12-13E71410F26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2498-C747-42A1-8D0D-C4F4A446F65D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D564-B302-422B-987C-CA8263A49B3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A2F0-D717-492E-83E9-EDD7A560C797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9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C38F-7661-4324-94F2-6E38570E343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ACD-63B0-4B4F-A360-8B1FDB9C9F2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B32-5F4E-445A-8A60-282EF92F00D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D06A-870E-4A86-8922-C38D5BC0A80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982A-BAA1-485A-A6E6-56CDA2FA39F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2332-DE59-4AB4-84BE-47D7EB6B8325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DB62-073F-4837-8C11-9784C4EDB85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7CC-C2E4-4EEA-AD63-7BB05A72069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7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F70-7F96-4AE6-BBC3-D268CB1F24CA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76360" y="1483920"/>
            <a:ext cx="740736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onocultural: es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ulticultural: construc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Concepto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epistemológico: Monocultural vs Multicultur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social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luricultural: sociedad compuesta por fragmen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ulticultural: ejemplo Guethos en EE.U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cultural: relación (sentid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Jacques Ellul presenta cinco condiciones básicas para que la comunicación sea efectiva entre culturas que coexisten en un conjunto social may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ferenciación entre los grup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bi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nocimiento recípro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monopolización de los medios de comuni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importancia del contexto y la percep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torno físico o de situación, ya sea político, histórico, cultural o de cualquier otra índole, en el cual se considera un hech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uchos textos o manifestaciones son incomprensibles si no conocemos el contex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Percep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ón del entorno basándose en los sentidos. Es un proceso activo, interpretativo y conti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4448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alt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la información esencial se encuentra en el contexto físico o está interiorizada en la persona, poca información esta en la parte codificada o explícita del mensaje. (much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baj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es lo contrario; la mayoría de la información se expresa explícitamente. (poc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572000" y="602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 T.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3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1434960" y="1700280"/>
            <a:ext cx="7313760" cy="4548240"/>
            <a:chOff x="1434960" y="1700280"/>
            <a:chExt cx="7313760" cy="4548240"/>
          </a:xfrm>
        </p:grpSpPr>
        <p:grpSp>
          <p:nvGrpSpPr>
            <p:cNvPr id="682" name="Group 5"/>
            <p:cNvGrpSpPr/>
            <p:nvPr/>
          </p:nvGrpSpPr>
          <p:grpSpPr>
            <a:xfrm>
              <a:off x="1434960" y="1700280"/>
              <a:ext cx="7313760" cy="4548240"/>
              <a:chOff x="1434960" y="1700280"/>
              <a:chExt cx="7313760" cy="4548240"/>
            </a:xfrm>
          </p:grpSpPr>
          <p:sp>
            <p:nvSpPr>
              <p:cNvPr id="683" name="AutoShape 6"/>
              <p:cNvSpPr/>
              <p:nvPr/>
            </p:nvSpPr>
            <p:spPr>
              <a:xfrm>
                <a:off x="1434960" y="1700280"/>
                <a:ext cx="7313760" cy="45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1527120" y="525888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0" y="140"/>
                    </a:moveTo>
                    <a:lnTo>
                      <a:pt x="100" y="0"/>
                    </a:lnTo>
                    <a:lnTo>
                      <a:pt x="180" y="10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5340240" y="191916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180" y="0"/>
                    </a:moveTo>
                    <a:lnTo>
                      <a:pt x="80" y="140"/>
                    </a:lnTo>
                    <a:lnTo>
                      <a:pt x="0" y="4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 flipV="1">
                <a:off x="1637640" y="2016000"/>
                <a:ext cx="3757680" cy="331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0"/>
              <p:cNvSpPr/>
              <p:nvPr/>
            </p:nvSpPr>
            <p:spPr>
              <a:xfrm>
                <a:off x="6003720" y="1896120"/>
                <a:ext cx="9594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Japone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1"/>
              <p:cNvSpPr/>
              <p:nvPr/>
            </p:nvSpPr>
            <p:spPr>
              <a:xfrm>
                <a:off x="5524560" y="2382840"/>
                <a:ext cx="7502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ráb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"/>
              <p:cNvSpPr/>
              <p:nvPr/>
            </p:nvSpPr>
            <p:spPr>
              <a:xfrm>
                <a:off x="5229720" y="2797920"/>
                <a:ext cx="169776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Latino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"/>
              <p:cNvSpPr/>
              <p:nvPr/>
            </p:nvSpPr>
            <p:spPr>
              <a:xfrm>
                <a:off x="4861800" y="3138480"/>
                <a:ext cx="7135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talian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4566600" y="3479400"/>
                <a:ext cx="713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ngl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5"/>
              <p:cNvSpPr/>
              <p:nvPr/>
            </p:nvSpPr>
            <p:spPr>
              <a:xfrm>
                <a:off x="4197960" y="3943080"/>
                <a:ext cx="922680" cy="3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Franc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6"/>
              <p:cNvSpPr/>
              <p:nvPr/>
            </p:nvSpPr>
            <p:spPr>
              <a:xfrm>
                <a:off x="3718800" y="4357080"/>
                <a:ext cx="157428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Norte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7"/>
              <p:cNvSpPr/>
              <p:nvPr/>
            </p:nvSpPr>
            <p:spPr>
              <a:xfrm>
                <a:off x="3387960" y="4723560"/>
                <a:ext cx="33944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Escandinava (excepto Finlandesa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8"/>
              <p:cNvSpPr/>
              <p:nvPr/>
            </p:nvSpPr>
            <p:spPr>
              <a:xfrm>
                <a:off x="2908440" y="5137200"/>
                <a:ext cx="873720" cy="4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lem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9"/>
              <p:cNvSpPr/>
              <p:nvPr/>
            </p:nvSpPr>
            <p:spPr>
              <a:xfrm>
                <a:off x="2075400" y="5575320"/>
                <a:ext cx="37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Suiz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0"/>
              <p:cNvSpPr/>
              <p:nvPr/>
            </p:nvSpPr>
            <p:spPr>
              <a:xfrm>
                <a:off x="7293240" y="1993320"/>
                <a:ext cx="128124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Información implíc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"/>
              <p:cNvSpPr/>
              <p:nvPr/>
            </p:nvSpPr>
            <p:spPr>
              <a:xfrm>
                <a:off x="7292520" y="24058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2"/>
              <p:cNvSpPr/>
              <p:nvPr/>
            </p:nvSpPr>
            <p:spPr>
              <a:xfrm>
                <a:off x="2338200" y="1884960"/>
                <a:ext cx="152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al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3"/>
              <p:cNvSpPr/>
              <p:nvPr/>
            </p:nvSpPr>
            <p:spPr>
              <a:xfrm>
                <a:off x="1440360" y="3856680"/>
                <a:ext cx="120348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24"/>
            <p:cNvSpPr/>
            <p:nvPr/>
          </p:nvSpPr>
          <p:spPr>
            <a:xfrm>
              <a:off x="6744960" y="5206320"/>
              <a:ext cx="132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Informació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explícit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Criterios generales para una comunicación más efica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A. Una cierta competencia comunicat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B. Un cierto conocimiento de la otra cul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etencia Comunicativa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la habilidad para negociar los significados culturales y ejecutar las conductas comunicativas apropiadamente eficaces que reconocen las múltiples identidades de los interactuantes en un contexto específico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Se reconoc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A. la emotividad: proyectar y recib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B. lo cognitivo: conciencia y autoconc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C. la conducta: destrezas de actuar ante un objetiv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7" name="3 Marcador de contenido" descr="gudykunst1.jpg"/>
          <p:cNvPicPr/>
          <p:nvPr/>
        </p:nvPicPr>
        <p:blipFill>
          <a:blip r:embed="rId1"/>
          <a:stretch/>
        </p:blipFill>
        <p:spPr>
          <a:xfrm>
            <a:off x="6483240" y="836640"/>
            <a:ext cx="231804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4 Imagen" descr="untitled-2.jpg"/>
          <p:cNvPicPr/>
          <p:nvPr/>
        </p:nvPicPr>
        <p:blipFill>
          <a:blip r:embed="rId2"/>
          <a:stretch/>
        </p:blipFill>
        <p:spPr>
          <a:xfrm>
            <a:off x="1403280" y="2924280"/>
            <a:ext cx="3981600" cy="1609560"/>
          </a:xfrm>
          <a:prstGeom prst="rect">
            <a:avLst/>
          </a:prstGeom>
          <a:ln w="0">
            <a:noFill/>
          </a:ln>
        </p:spPr>
      </p:pic>
      <p:pic>
        <p:nvPicPr>
          <p:cNvPr id="709" name="5 Imagen" descr="untitled-21.jpg"/>
          <p:cNvPicPr/>
          <p:nvPr/>
        </p:nvPicPr>
        <p:blipFill>
          <a:blip r:embed="rId3"/>
          <a:stretch/>
        </p:blipFill>
        <p:spPr>
          <a:xfrm>
            <a:off x="1187280" y="4292640"/>
            <a:ext cx="4457880" cy="1200240"/>
          </a:xfrm>
          <a:prstGeom prst="rect">
            <a:avLst/>
          </a:prstGeom>
          <a:ln w="0">
            <a:noFill/>
          </a:ln>
        </p:spPr>
      </p:pic>
      <p:pic>
        <p:nvPicPr>
          <p:cNvPr id="710" name="6 Imagen" descr="untitled.jpg"/>
          <p:cNvPicPr/>
          <p:nvPr/>
        </p:nvPicPr>
        <p:blipFill>
          <a:blip r:embed="rId4"/>
          <a:stretch/>
        </p:blipFill>
        <p:spPr>
          <a:xfrm>
            <a:off x="1763640" y="1341360"/>
            <a:ext cx="3981600" cy="1609920"/>
          </a:xfrm>
          <a:prstGeom prst="rect">
            <a:avLst/>
          </a:prstGeom>
          <a:ln w="0">
            <a:noFill/>
          </a:ln>
        </p:spPr>
      </p:pic>
      <p:pic>
        <p:nvPicPr>
          <p:cNvPr id="711" name="7 Imagen" descr="untitled-22.jpg"/>
          <p:cNvPicPr/>
          <p:nvPr/>
        </p:nvPicPr>
        <p:blipFill>
          <a:blip r:embed="rId5"/>
          <a:stretch/>
        </p:blipFill>
        <p:spPr>
          <a:xfrm>
            <a:off x="3780000" y="5373720"/>
            <a:ext cx="4457520" cy="1200240"/>
          </a:xfrm>
          <a:prstGeom prst="rect">
            <a:avLst/>
          </a:prstGeom>
          <a:ln w="0">
            <a:noFill/>
          </a:ln>
        </p:spPr>
      </p:pic>
      <p:sp>
        <p:nvSpPr>
          <p:cNvPr id="712" name="8 Rectángulo"/>
          <p:cNvSpPr/>
          <p:nvPr/>
        </p:nvSpPr>
        <p:spPr>
          <a:xfrm>
            <a:off x="6456240" y="378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lliam Gudy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sde 1985 con modificacione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eoría compleja, con más de 100 axiomas (24 la primera versió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 central puesto en la dificultad de la comunicación intercultural (malentendid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ill Sans MT"/>
              </a:rPr>
              <a:t>Axioma 1:</a:t>
            </a: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 Un aumento en el grado en que nuestras identidades sociales guian nuestras interacciones con los extranjeros se producirá una disminución en la ansiedad y un aumento de nuestra confianza en la predicción de su comportam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Este axioma es válido sólo cuando estamos seguros en nuestra vida social, no somos conscientes, si los extranjeros son percibidos por los miembros del exogrupo como típicos, y cuando nuestra ansiedad y la incertidumbre son entre nuestros umbreles mínima y máximos. (Gudykunst, 2005, p. 294)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Foraster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lación dual cerca/lejos Caracterización desde lo ajeno, exterior, extraño. Calidad dada a partir de los grados de inclusión / exclusión dados en el encuentro. Todos los sujetos son potenciales forasteros, dado el contexto de la intera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certidumbre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toda relación humana hay un cierto grado de incertidumbre (predictiva y explicativa). Adecuación la indeterminación e impredictibilidad. El justo medio, sería una comunicación eficaz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Ansiedad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onente afectivo. Mientras más alta, mayor cantidad de estereotipos sobre el “forastero”. Si la ansiedad es baja hay desmotiv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municación Eficaz: 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ceso de interpretación y construcción de sentido que reduce la divergencia entre las dos o más intencionalidades comunicativas puestas en juego en la rel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onocer la problematización implícita, la categorización que se realiza y finalmente, la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 mayor conciencia, mayor categorización, mayor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lase 2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331640" y="16282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s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teorías de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a ampliar categorías de pensamiento sobre las formas de conocer y generar encuentros entre distint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Rectángulo"/>
          <p:cNvSpPr/>
          <p:nvPr/>
        </p:nvSpPr>
        <p:spPr>
          <a:xfrm>
            <a:off x="3635280" y="4581360"/>
            <a:ext cx="1800360" cy="648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7 CuadroTexto"/>
          <p:cNvSpPr/>
          <p:nvPr/>
        </p:nvSpPr>
        <p:spPr>
          <a:xfrm>
            <a:off x="3564000" y="47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8 Rectángulo"/>
          <p:cNvSpPr/>
          <p:nvPr/>
        </p:nvSpPr>
        <p:spPr>
          <a:xfrm>
            <a:off x="3564000" y="5589720"/>
            <a:ext cx="2016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INCERTIDU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Elipse"/>
          <p:cNvSpPr/>
          <p:nvPr/>
        </p:nvSpPr>
        <p:spPr>
          <a:xfrm>
            <a:off x="5940360" y="4292640"/>
            <a:ext cx="2519280" cy="2305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Triángulo isósceles"/>
          <p:cNvSpPr/>
          <p:nvPr/>
        </p:nvSpPr>
        <p:spPr>
          <a:xfrm>
            <a:off x="971640" y="4437000"/>
            <a:ext cx="2232000" cy="19447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Fora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5 CuadroTexto"/>
          <p:cNvSpPr/>
          <p:nvPr/>
        </p:nvSpPr>
        <p:spPr>
          <a:xfrm>
            <a:off x="608472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16 Triángulo isósceles"/>
          <p:cNvSpPr/>
          <p:nvPr/>
        </p:nvSpPr>
        <p:spPr>
          <a:xfrm>
            <a:off x="6804000" y="5157720"/>
            <a:ext cx="1944720" cy="12956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Tercer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Énfasis en sus axiomas en la toma de conciencia del acto comunicativo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udykunst plantea tres componentes centrales en la construcción de competencias comunicativas: motivación, conocimiento y dest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 asociada a necesidades 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ntirnos segur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edecir el deven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tenencia a un grup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itar la ans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 sentido común univers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gratificaciones (materiales o simbólic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sostener nuestras identidad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: Reconocimiento de que una misma conducta puede ser significada de manera diver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gracia de la comunicación intercultural es que apela a las interpretaciones alternativas, en cada uno de sus ámbitos reflexivos: la descripción, su interpretación y la evaluación (juici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mayor complejidad cognitiva del sujeto participante, mayor eficacia de la comunicación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Teorías de la 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26" name="Picture 3" descr="perros"/>
          <p:cNvPicPr/>
          <p:nvPr/>
        </p:nvPicPr>
        <p:blipFill>
          <a:blip r:embed="rId1"/>
          <a:stretch/>
        </p:blipFill>
        <p:spPr>
          <a:xfrm>
            <a:off x="1476360" y="1341360"/>
            <a:ext cx="3789360" cy="50151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5435280" y="1523880"/>
            <a:ext cx="34988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mberto Eco habla de decodificación aberrante.  El código determina el men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a cosa es lo que se dice, otra cosa es lo que el receptor entien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trezas:  habilidades: capacidades o disposición. (conducta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bilidad de crear nuevas categorí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lerancia a la ambigüe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empatiz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adaptación de la comunic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so de la información apropi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lejo y difícil sintetiza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tegorías y se encuadra en uno de los 3 niveles (emotivo, cognitivo y conductis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o tienen en cuenta comunicación de ma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bajo con inmigrantes, por lo tanto su teoría se basa en contacto de grupos que han tenido una socialización primera en una cultura y después pasan a convivir con otra por un periodo prolon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imilación,  Aculturación e Integr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3 Imagen" descr="Young%20Kim.jpg"/>
          <p:cNvPicPr/>
          <p:nvPr/>
        </p:nvPicPr>
        <p:blipFill>
          <a:blip r:embed="rId1"/>
          <a:stretch/>
        </p:blipFill>
        <p:spPr>
          <a:xfrm>
            <a:off x="6732720" y="134136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736" name="4 Rectángulo"/>
          <p:cNvSpPr/>
          <p:nvPr/>
        </p:nvSpPr>
        <p:spPr>
          <a:xfrm>
            <a:off x="6940440" y="3860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 Yun 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Proceso de cambi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lo largo del tiempo que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se produce en individuo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que han completado su proceso de socialización primaria en una cultura y luego tien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tacto de primera mano 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ntinuo y prolongado con un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ultura nueva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y desconocid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Kim, el eje de la adaptación es la comunicación, complejo y dinám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ce foco en la interculturalidad desde lo que le sucede al forastero.  Es intrapers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similación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 de los principales elementos culturales de la cultura receptora, por parte del “foraster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ltura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cambio, es la adquisición de algunos elementos de la cultura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itación y ajustamiento, para Kim, son procesos conductuales individuales, mientras qu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gra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ría la dimensión de participación social del grupo o persona “foraster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Cómo entiende a los foraster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aquel que proviene de otra socialización y se desplaza a una cultura o subcultura difer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n sujetos dependientes de la cultura recep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mentan relaciones comunicativas directas con el ento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studio 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2 formas de analizar comunicación intercultural es en qué nivel se d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personal:  cómo se da el contac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ediático: uso y gratificaciones de los medi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relación entre dos ámbi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intermedio: grupos multiculturales en empresas (comunicación organizacion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Qué ocurre con el o la forastero(a)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ceso de socialización secundario desaprendizaje o deculturación de algunos hábito de la antigu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coste de la nueva adquisición es a la vez pérdida de algo de lo antigu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hoque cultural: ruptura de los puntos de vista sociales de nueva soc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e busca homeostasis (cambio y estabilidad): equilibrio organ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ceso central de la socialización secundaria: asimilación / acomod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mbio: transformación intercultura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Aumento de su acomodación fun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“salud psicológica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Surgimiento de una identidad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cognitivo y emotivo es el nucleo de la teor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La estructura de la adaptación transcultur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Competencia comunicativa Autóctona: capacidad del forastero para recibir información y procesarla, proveniente de la sociedad receptor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Esto tiene directa relación con el grado de participación del sujeto en la “nueva” cultura que lo aloj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ese contexto, surge la comunicación interpersonal autóctona y la comunicación mediática autócto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ultima puede facilitar la adaptación, al entregar un aprendizaje de las relaciones “para – sociales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o por otro lado están los circuitos comunicacionales “étnic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o, para Kim, facilita  el proceso de adaptación y por otro lado, preserva la identidad cultural de orig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obstante la posición de la sociedad receptora influye en la adaptación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Receptiv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Presión social para la ada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Poder del grupo de origen en la sociedad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orías asimilacion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se produce negociación sino adaptación cultural a cultura hegemó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ociedad receptora es vista como  unifor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plantea aportes de forast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e oculta efecto de mestiza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56" name="7 Marcador de contenido" descr="fred casmir2.jpg"/>
          <p:cNvPicPr/>
          <p:nvPr/>
        </p:nvPicPr>
        <p:blipFill>
          <a:blip r:embed="rId1"/>
          <a:stretch/>
        </p:blipFill>
        <p:spPr>
          <a:xfrm>
            <a:off x="5499000" y="148428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258560" y="1412640"/>
            <a:ext cx="410508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ecesidad de establecer un aproximación desde modelos cooper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rientado hacia la preparación en un mundo “mundializado” y “localizad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8 Rectángulo"/>
          <p:cNvSpPr/>
          <p:nvPr/>
        </p:nvSpPr>
        <p:spPr>
          <a:xfrm>
            <a:off x="6669000" y="6093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d Casm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 y es, por ende, metacomunicación, contenido viene determinado por interacción que se establece entre los interactuant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enguaje verbal y no verbal permiten comunicarse a las personas entres sí y es mediante la comunicación cómo se establece la socied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or ello, una sociedad que vive su mestizaje plenamente solo es posible si se produce una comunicación intercultur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 Conducta son construcciones subjetivas sobre uno mismo, sobre los otros y sobre las exigencias que se producen en las situaciones de la vida cotidia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Todo acto comunicativo podría definirse como inter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importante constatar que en la vida cotidiana existen “grados de diferenciación cultural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istirían distancias y proximidades entre las distintas comunidades de vi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ás proximidad menor intercultura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4 Flecha abajo"/>
          <p:cNvSpPr/>
          <p:nvPr/>
        </p:nvSpPr>
        <p:spPr>
          <a:xfrm>
            <a:off x="4356000" y="3357720"/>
            <a:ext cx="792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 Flecha abajo"/>
          <p:cNvSpPr/>
          <p:nvPr/>
        </p:nvSpPr>
        <p:spPr>
          <a:xfrm>
            <a:off x="4356000" y="4869000"/>
            <a:ext cx="72072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ntecedentes de Casmi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Valoración de la diversidad 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Expectativa del Mutuo Desarrollo donde la coerción o la persuasión es inadecu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. Interacción trasformad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a tercera cultura es un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bcul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se produce en una situación determinada dond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temporalmente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se pueden produc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ambi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por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rac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personas que buscan consegu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erdos mutu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bre determinados objetiv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 ámbitos de estudio: individual, organizacional y el mediado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dividu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logro de una identidad mult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Organizacion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apertura a nuevas membresías en las familias y las empre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Mediad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denuncia: imperialismo cultural, ilusión de relación, escasas posibilidades de construcción de una terce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smir propone con-vencer, como buen modelo cooperativo donde “todos gana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 de la tercera cultur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imer modelo: ciclo de actuación en la construcción individual de la tercera cultura: Experiencia /Necesidades/ Comunicación/ Interdependencia/ Exper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gundo Modelo: Construcción de la Tercera Cultura. Individuo en relación con otro, buscan el beneficio mutuo y construyen una nueva estructura, influidos por agentes externos (outsider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ercer Modelo. Actuación individual y construcción de la tercera cultura. Mirada transaccional. Sujeto A con necesidades y experiencias se comunica con un B. Con el tiempo se genera interdependencia, pero aquella está dada por las modificaciones de amb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7636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Casmir, estos procesos pueden ser facilitados tanto por las familias como por las estructuras del Estado, como el gobierno y desde él, las políticas públic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xcluye la discusión del poder tanto en qu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ideal donde contrapartes están en situación de iguald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uáles son los principios innegociables de los interactuan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baj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ha escogido un tema de interés para un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trabajarlo la última sesión se deben traer antecedentes sobre el tema y el destinatario principal del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5856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 intercultural interpersonal: “habilidad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negocia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os significados culturales y ejecutar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ducta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comunicativa apropiadas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reconoce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múltiples identidade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de los interactúantes 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entorn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3 CuadroTexto"/>
          <p:cNvSpPr/>
          <p:nvPr/>
        </p:nvSpPr>
        <p:spPr>
          <a:xfrm>
            <a:off x="5940360" y="587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Chen y Starosta, 19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da relación es diferente por lo que no se pueden dar recetas para comunicar intercultural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hacemos ento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eneramos criterios generales para una comunicación más eficaz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Una cierta competencia comunic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Un cierto conocimiento de la ot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ucede entonces cuándo en el lenguaje común hablamos de choque 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3 Imagen" descr="295_card_tells_bush2050081722-9210.jpg"/>
          <p:cNvPicPr/>
          <p:nvPr/>
        </p:nvPicPr>
        <p:blipFill>
          <a:blip r:embed="rId1"/>
          <a:stretch/>
        </p:blipFill>
        <p:spPr>
          <a:xfrm>
            <a:off x="5148360" y="4581360"/>
            <a:ext cx="1871640" cy="1852920"/>
          </a:xfrm>
          <a:prstGeom prst="rect">
            <a:avLst/>
          </a:prstGeom>
          <a:ln w="0">
            <a:noFill/>
          </a:ln>
        </p:spPr>
      </p:pic>
      <p:pic>
        <p:nvPicPr>
          <p:cNvPr id="668" name="4 Imagen" descr="osama-bin-laden-773756.jpg"/>
          <p:cNvPicPr/>
          <p:nvPr/>
        </p:nvPicPr>
        <p:blipFill>
          <a:blip r:embed="rId2"/>
          <a:stretch/>
        </p:blipFill>
        <p:spPr>
          <a:xfrm>
            <a:off x="3348000" y="4437000"/>
            <a:ext cx="1511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de una visión comunicativa estaríamos hablando de una incomprensión de la relación establecida y del comportamiento del ot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diferencia de comunicación en una misma cultura en la comunicación intercultural el malentendido es la norma y no la exce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cualquier encuentro entre culturas es un encuentr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iene que existir un cierto grado de reconocimiento de la existencia y validez de la (s) otra(s) cultura(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tonces, al darse comunicativamente este reconocimiento, la sociedad de quien observa se asume como  plur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22:51:08Z</dcterms:created>
  <dc:creator>Usuario</dc:creator>
  <dc:description/>
  <dc:language>en-US</dc:language>
  <cp:lastModifiedBy>Usuario</cp:lastModifiedBy>
  <dcterms:modified xsi:type="dcterms:W3CDTF">2012-05-07T05:08:28Z</dcterms:modified>
  <cp:revision>43</cp:revision>
  <dc:subject/>
  <dc:title>Diapositiva 1</dc:title>
</cp:coreProperties>
</file>