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0BC4-E34A-4435-9646-DECB0C518ED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0AF5-D122-4D89-B6E6-18B2CC8B7D4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E7CC-F987-4E86-8407-6928A90787D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066-EA55-4425-BAB7-89379582CB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E100-3B11-4C66-A6E9-711717425E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4429-CE35-4F25-A8EF-F8A807E2FD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A084-51D8-4E9F-8F83-195C828235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FAB8-30A3-4B8B-BC41-94363B5181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5DE5-CF22-488B-95D9-3FC2D4590E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33A5-BEEA-41B6-A304-B29A6DC53A3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3635-96C4-4E09-B281-B2BF3A4427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0F60-14B1-44BE-B740-F27735D2F2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CC1F-6BBF-4444-9316-A6C30C4825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8406-6E1A-49C3-BA18-6EE6C1B014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3FA4-0665-4B94-B582-1789743BD2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2EC6-B845-4F7D-96FE-A30CF1E994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663E-292F-482F-8A89-6A6710C084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DAD9-D27C-4798-94E6-C2C6BBCFDA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BFE1-9B85-4C6D-BBAD-917C81AAA3D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2510-CF4B-4D82-BB79-B59B96FE65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E97E-6A1B-4563-9BF1-485C8E0E98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1210-A960-46C2-A0C3-D530AA0A53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FEE3-12B7-464A-A811-0DA1EB8CDA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E1D7-C8FD-4E91-9A5C-24F66CFB5C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6E2F-799E-4FB0-8EDA-B0679A4F58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9ECF-A36C-43F7-A162-59D10A3CD7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D11-D965-48EA-A577-EC759634EB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D301-4F47-429F-ADF4-C85B4FB723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4A9C-C3EF-45D4-B049-3DDE6B2CE0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48CF-6172-4A88-A161-79B25B41D7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0CE-E2B8-4709-A589-FE47647C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6EF-3421-44ED-987F-838BCB71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DED7C-C8F6-4FB0-BDA7-66A35909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C7BCB-3247-4434-8164-DBCD5F64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AC697-3893-46DC-BA72-976DCB0D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14F2E-51D8-4BF4-A5CE-B46D971D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AF3B0-4648-4642-9B58-FE7351D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834FB-993D-40D8-AC9A-0E01B60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D3F26-F823-456F-972A-D4E8CE7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6FC4F-7766-4832-BAC0-507B0E1D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5664F-5E49-4181-9E31-5A69EB2A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161EF-892C-46C3-982A-1745C5BB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0BF-97C7-4697-B650-7C895428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CC0BE-0DF8-467D-94AD-38171FAD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20D67-96F5-43AC-9446-66F2581C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89EFB-CB7F-4A4F-A708-D757423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33D81-ED86-48AB-9EBF-1C451384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CFBAB-99C0-4471-B9A9-E22680BA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2D8E8-E8D3-439C-98F7-20E0766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992D8-20D0-443C-9264-FEA26B67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581FF-8985-4244-8929-CFD8D57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3917B-3F87-4CB8-937D-5DB877D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2F54E-2269-4B9D-A5E8-BBFC4EC8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2B9-A18C-429A-960A-1D9082EF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4A814-69D8-4102-AAAD-7311A282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93491-B419-48E2-BDE2-73509881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00E76-0913-44A3-8B5B-8ADB863F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7D8A4-BE8A-4560-BE0F-B6F31213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1BE8C-2FF1-4ABB-B58A-B27A4621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04CAE-7B09-4C39-ACFB-2CDDCDE9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6B116-729E-4C17-AD5C-CC25107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6BCB0-BF16-4C0E-85D9-12A8CCB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03E66-0252-4DC7-92C8-7D512D4F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836A4-27C6-4701-9BA9-853AC572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29B2-01E1-4FCA-A796-4575BE59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97EDF-058F-482D-85CE-1AC23FAB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AD251-0E3F-45AB-845B-F116EC17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1AB72-4DC9-4466-A26C-C6A6CF79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B08A9-641C-4CC7-8678-CF12D0D6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547DD-8B14-4A07-B0E6-BF75EBA2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604D0-6903-4C90-969B-08BD3B4D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455B1-2512-4C12-AFB3-3B9E3B7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72CA8-88A6-4800-8116-C17D4AC9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BF604-B638-4100-A508-0EF40CF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42B69-93D0-46CC-80D3-11843DF7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4C60-CD98-4271-8DA1-9C4993A3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99C67-2B9E-4F08-BAF1-FF5CBD05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44B24-07B4-4900-B45B-4E378831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CE1C1-2FE4-4225-A6C2-E5E78DA3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BF86A-D398-4553-AD1D-0AF7AB23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8BE14-CD6B-4D15-8663-D2F67807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CFC6D-EB0A-4C62-A7D7-DC9C457E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0C285-17DE-47C0-BE13-8D47380D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5F2FF-DD91-49CD-9D88-A4971B2E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8C736-CED7-452D-82B6-A870CA07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97FDE-B7B5-4657-948F-85A892B1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3693-85ED-43C2-95DD-60B95373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F73CB-FDFE-4885-9407-66F6FC34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4099B-A496-4A34-8909-7CD361F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CDB49-8474-4A5F-B0BE-4335E2C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43CDC-6A52-403C-89CE-52F6B3F8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79EF3-2777-49A0-A95A-82A60D41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9C15B-DA60-4E0E-B268-732DFAB3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0F49D-A385-4DC2-91CC-3456ED0E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C0493-6FF7-4623-8053-56A2F022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C0CB3-5E29-4D1E-9630-C940EF5B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09447-D4DB-4FC7-9C8A-0813E0A4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3207-C7D5-47C6-9A6F-A64346D9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38FF6-0568-49F0-8CAD-28AA7242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DF5FB-443D-4E78-A897-AF3A88DA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4DFAE-3BFE-4F18-A246-CC546446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4CDFC-AF2B-4B52-A6CB-04BC9DC6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F948D-581E-441A-A0CF-69D7CE0E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B7F01-3907-4F85-B349-781F5CD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DB796-C947-462C-BA2B-CFC13B32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8DC41-84ED-461A-94EC-682B931A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02376-9C9A-45E9-B22C-09002CA1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E873-524E-42DB-BC42-25326B4E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405F-E423-4367-BC5C-4D67896F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9854-1AF3-4F91-97CA-7E3E693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6D4-B46F-4B67-90BB-954245A8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0E01-C83D-4A4B-999E-52A2216A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FE2C-DE39-462B-A8F5-7E6DE9A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F725-4D90-4D3E-A424-51CC099A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9EE1-EAC4-49C0-9D07-05235392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CE3B-7586-4CAC-A54D-DF77412D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776E4-446F-43ED-8BE5-58D6B640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28A7-7E65-4064-888B-64D697EA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570A-CA4A-4AD6-B16A-46E848FC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291D9-C949-435C-AE03-029B678A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3DFF-CC44-475A-87E1-4C47F3FF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D43-C08E-4FE4-B3B3-E3189295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13A6-0DAB-4C3B-961D-BD05CAF1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CBF1-2CF9-4425-8451-FE94B8B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845E-0021-49AB-9287-F3A9BBCE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6067-84F7-408F-975F-69204050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FF7B-DCD9-446A-8DF5-742A2E6F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0CAE-E1DE-4F76-BCBC-0CD0F63B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17BC-D397-4A9E-85A5-2E1D9F39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75A8-3221-42A7-97D7-688079F6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50AB4-15C2-4109-A7AE-E8A69216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44064-CC19-4A71-A66A-112A4FC0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A75-808E-44D4-A7A0-A61B3D15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6D4C-D9DD-4E16-9F5F-9209FD16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4F6B-0802-40C0-99A5-1BE58E2A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536F-562D-407B-AFC7-AF16BE4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0472F-A9AC-4815-A805-FC05F0C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8C82-0CA7-4068-B5E6-BA60604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44E2-633B-46C5-A117-AA5AD6AC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3822-2D64-4C7C-BA4F-1472C1CA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726D-8414-4FB4-AF43-D404466A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D45A-2AC2-4F7D-8F3E-D621ADB4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56112-9678-475F-A405-FD318EFC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C01-8DC8-4902-9F81-A09D550C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30EA-06A6-4DBE-8B39-BDADB6C5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A8C23-6E3C-4A1E-9860-9F5EEE85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07C02-F089-40BF-89AD-B8F2AF5E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7BD71-EDE3-41DA-8735-BF120379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9DD61-922E-4F6F-B66D-97450E5D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27A3-2478-4770-BCF7-1736ED4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9625-3ACD-4DF5-9D93-3109798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26061-5D05-415C-B17C-4E2EB594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70E88-1305-492D-994B-D129278C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E8C08-C918-41C3-9068-3A2A03D5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11B-4F7E-4EA7-BB3C-B44ED07F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81941-C09A-4393-8B3F-B3DF6C0A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5F2AA-E62C-462D-86E8-A0AFB3A5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22CEA-8984-4CA1-B473-2B8F4579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23EC6-ED17-4141-BCB7-2596704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6BD3A-D53F-4189-9C60-52A8F3E6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3448-5EB7-4A7A-B9C7-C831C911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338CB-4BF9-4490-951B-A228D19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CE11C-00AE-4582-A657-ACBACFD6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79445-17CB-4838-A7ED-1BD3ABCA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CFD8F-3370-42A5-B8CC-063D352D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C52-343A-4661-AD4E-EA93D301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8EFD4-6969-40FC-B264-05A8D35A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D0DCF-7392-4483-AC93-75ECD256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987B-E045-4808-B6BB-D2FA21B9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4C9C-8682-4996-ABD7-B21C2652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A978F-D4FF-42DC-B3F4-3274609B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8DFB3-86E8-463B-8E18-0C85BF59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E2307-FA71-469B-9A57-9D0834A3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9396-6C70-4ECD-81EC-DC9CD917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3E411-E0AF-4BB3-B1A3-143403B9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EDD78-D213-4553-865E-0FDC2D4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D11-181D-4171-B61C-7EA57FD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358B7-076A-4C98-A0B9-BBDD061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F4006-3C74-4C12-9D4C-AD4709D0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0CEE-5772-498B-B65B-7AF63201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E18BC-469D-423B-986B-DFFDB22C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AB83A-B9E3-4BD0-9389-906B80E5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668F5-AB3A-4403-BC5E-FD539BDE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7325F-E86F-411F-ABE4-BBD071F0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F844A-3CF8-42C6-A3D6-35F0C062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4EBA-3039-4830-8D46-C555DBD9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BB239-1D17-417D-8203-65F0D376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D88-97CA-4031-B369-4E9C45BD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1E891-86D9-4820-9449-0C4CCE28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1529C-91A9-4031-BD7B-3FB60748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1E3D5-0579-40E6-A374-CB60C158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85A63-2C00-4ED6-A199-F804EC3F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D1A6D-124B-48C6-92F2-96DE7B59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DFDF9-1E9F-4E21-A821-B573EE72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75143-ACFD-404D-9183-2D3CE41C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2ABD6-C0E4-43E7-97C8-CF41C059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51921-81CA-464B-9B44-A749F442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F77A7-E240-4B5E-82F6-E7B5472D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3D01-6342-4F4C-9F76-A3C438966E1E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2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1797-C9F7-460B-AB7F-E57CB5AC91C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BDA7-D7F1-4337-8997-381E66EB866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E541-05AB-46C3-BD7C-3E925CF04E0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BAE-E647-42E8-BE99-02C3AD560C1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9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AA5E-A369-4852-A3DE-317198BC5034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BEDF-0819-4FF8-8122-7D05D4789E9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0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D340-77AD-4BA2-BB13-E4AD2B1B6F4A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CC36-77E2-479B-B2D2-0877A7E7C6E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D2FD-D268-40A0-9FA1-6825AA4AC8A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0EB0-BA69-433A-9BEE-EC6D437AC0A5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02D1-3EE8-430A-B5A1-D2317B5C722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34B2-A203-422F-BECC-B0744BFDAA0E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37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C3E-C359-43F7-92C3-3049BE05D423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76360" y="1483920"/>
            <a:ext cx="740736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onocultural: es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ulticultural: construc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Concepto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epistemológico: Monocultural vs Multicultura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social: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luricultural: sociedad compuesta por fragmen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ulticultural: ejemplo Guethos en EE.U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cultural: relación (sentid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Jacques Ellul presenta cinco condiciones básicas para que la comunicación sea efectiva entre culturas que coexisten en un conjunto social may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ferenciación entre los grup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bil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conocimiento recípro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monopolización de los medios de comunic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importancia del contexto y la percep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torno físico o de situación, ya sea político, histórico, cultural o de cualquier otra índole, en el cual se considera un hech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uchos textos o manifestaciones son incomprensibles si no conocemos el contex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Percep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ón del entorno basándose en los sentidos. Es un proceso activo, interpretativo y continu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64448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alt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la información esencial se encuentra en el contexto físico o está interiorizada en la persona, poca información esta en la parte codificada o explícita del mensaje. (much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baj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es lo contrario; la mayoría de la información se expresa explícitamente. (poc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4572000" y="602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. T.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3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1434960" y="1700280"/>
            <a:ext cx="7313760" cy="4548240"/>
            <a:chOff x="1434960" y="1700280"/>
            <a:chExt cx="7313760" cy="4548240"/>
          </a:xfrm>
        </p:grpSpPr>
        <p:grpSp>
          <p:nvGrpSpPr>
            <p:cNvPr id="682" name="Group 5"/>
            <p:cNvGrpSpPr/>
            <p:nvPr/>
          </p:nvGrpSpPr>
          <p:grpSpPr>
            <a:xfrm>
              <a:off x="1434960" y="1700280"/>
              <a:ext cx="7313760" cy="4548240"/>
              <a:chOff x="1434960" y="1700280"/>
              <a:chExt cx="7313760" cy="4548240"/>
            </a:xfrm>
          </p:grpSpPr>
          <p:sp>
            <p:nvSpPr>
              <p:cNvPr id="683" name="AutoShape 6"/>
              <p:cNvSpPr/>
              <p:nvPr/>
            </p:nvSpPr>
            <p:spPr>
              <a:xfrm>
                <a:off x="1434960" y="1700280"/>
                <a:ext cx="7313760" cy="45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7"/>
              <p:cNvSpPr/>
              <p:nvPr/>
            </p:nvSpPr>
            <p:spPr>
              <a:xfrm>
                <a:off x="1527120" y="525888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0" y="140"/>
                    </a:moveTo>
                    <a:lnTo>
                      <a:pt x="100" y="0"/>
                    </a:lnTo>
                    <a:lnTo>
                      <a:pt x="180" y="10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"/>
              <p:cNvSpPr/>
              <p:nvPr/>
            </p:nvSpPr>
            <p:spPr>
              <a:xfrm>
                <a:off x="5340240" y="191916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180" y="0"/>
                    </a:moveTo>
                    <a:lnTo>
                      <a:pt x="80" y="140"/>
                    </a:lnTo>
                    <a:lnTo>
                      <a:pt x="0" y="4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9"/>
              <p:cNvSpPr/>
              <p:nvPr/>
            </p:nvSpPr>
            <p:spPr>
              <a:xfrm flipV="1">
                <a:off x="1637640" y="2016000"/>
                <a:ext cx="3757680" cy="331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10"/>
              <p:cNvSpPr/>
              <p:nvPr/>
            </p:nvSpPr>
            <p:spPr>
              <a:xfrm>
                <a:off x="6003720" y="1896120"/>
                <a:ext cx="9594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Japone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1"/>
              <p:cNvSpPr/>
              <p:nvPr/>
            </p:nvSpPr>
            <p:spPr>
              <a:xfrm>
                <a:off x="5524560" y="2382840"/>
                <a:ext cx="7502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ráb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2"/>
              <p:cNvSpPr/>
              <p:nvPr/>
            </p:nvSpPr>
            <p:spPr>
              <a:xfrm>
                <a:off x="5229720" y="2797920"/>
                <a:ext cx="169776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Latino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13"/>
              <p:cNvSpPr/>
              <p:nvPr/>
            </p:nvSpPr>
            <p:spPr>
              <a:xfrm>
                <a:off x="4861800" y="3138480"/>
                <a:ext cx="71352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talian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4"/>
              <p:cNvSpPr/>
              <p:nvPr/>
            </p:nvSpPr>
            <p:spPr>
              <a:xfrm>
                <a:off x="4566600" y="3479400"/>
                <a:ext cx="713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ngl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15"/>
              <p:cNvSpPr/>
              <p:nvPr/>
            </p:nvSpPr>
            <p:spPr>
              <a:xfrm>
                <a:off x="4197960" y="3943080"/>
                <a:ext cx="922680" cy="3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Franc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16"/>
              <p:cNvSpPr/>
              <p:nvPr/>
            </p:nvSpPr>
            <p:spPr>
              <a:xfrm>
                <a:off x="3718800" y="4357080"/>
                <a:ext cx="1574280" cy="3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Norte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7"/>
              <p:cNvSpPr/>
              <p:nvPr/>
            </p:nvSpPr>
            <p:spPr>
              <a:xfrm>
                <a:off x="3387960" y="4723560"/>
                <a:ext cx="33944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Escandinava (excepto Finlandesa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8"/>
              <p:cNvSpPr/>
              <p:nvPr/>
            </p:nvSpPr>
            <p:spPr>
              <a:xfrm>
                <a:off x="2908440" y="5137200"/>
                <a:ext cx="873720" cy="4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lem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19"/>
              <p:cNvSpPr/>
              <p:nvPr/>
            </p:nvSpPr>
            <p:spPr>
              <a:xfrm>
                <a:off x="2075400" y="5575320"/>
                <a:ext cx="37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Suiz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0"/>
              <p:cNvSpPr/>
              <p:nvPr/>
            </p:nvSpPr>
            <p:spPr>
              <a:xfrm>
                <a:off x="7293240" y="1993320"/>
                <a:ext cx="1281240" cy="7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Información implíci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1"/>
              <p:cNvSpPr/>
              <p:nvPr/>
            </p:nvSpPr>
            <p:spPr>
              <a:xfrm>
                <a:off x="7292520" y="24058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2"/>
              <p:cNvSpPr/>
              <p:nvPr/>
            </p:nvSpPr>
            <p:spPr>
              <a:xfrm>
                <a:off x="2338200" y="1884960"/>
                <a:ext cx="1520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al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3"/>
              <p:cNvSpPr/>
              <p:nvPr/>
            </p:nvSpPr>
            <p:spPr>
              <a:xfrm>
                <a:off x="1440360" y="3856680"/>
                <a:ext cx="1203480" cy="7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Rectangle 24"/>
            <p:cNvSpPr/>
            <p:nvPr/>
          </p:nvSpPr>
          <p:spPr>
            <a:xfrm>
              <a:off x="6744960" y="5206320"/>
              <a:ext cx="1325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Información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explícita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Criterios generales para una comunicación más eficaz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A. Una cierta competencia comunicat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B. Un cierto conocimiento de la otra cul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etencia Comunicativa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la habilidad para negociar los significados culturales y ejecutar las conductas comunicativas apropiadamente eficaces que reconocen las múltiples identidades de los interactuantes en un contexto específico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Se reconoc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A. la emotividad: proyectar y recibi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B. lo cognitivo: conciencia y autoconc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C. la conducta: destrezas de actuar ante un objetiv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07" name="3 Marcador de contenido" descr="gudykunst1.jpg"/>
          <p:cNvPicPr/>
          <p:nvPr/>
        </p:nvPicPr>
        <p:blipFill>
          <a:blip r:embed="rId1"/>
          <a:stretch/>
        </p:blipFill>
        <p:spPr>
          <a:xfrm>
            <a:off x="6483240" y="836640"/>
            <a:ext cx="2318040" cy="2736720"/>
          </a:xfrm>
          <a:prstGeom prst="rect">
            <a:avLst/>
          </a:prstGeom>
          <a:ln w="0">
            <a:noFill/>
          </a:ln>
        </p:spPr>
      </p:pic>
      <p:pic>
        <p:nvPicPr>
          <p:cNvPr id="708" name="4 Imagen" descr="untitled-2.jpg"/>
          <p:cNvPicPr/>
          <p:nvPr/>
        </p:nvPicPr>
        <p:blipFill>
          <a:blip r:embed="rId2"/>
          <a:stretch/>
        </p:blipFill>
        <p:spPr>
          <a:xfrm>
            <a:off x="1403280" y="2924280"/>
            <a:ext cx="3981600" cy="1609560"/>
          </a:xfrm>
          <a:prstGeom prst="rect">
            <a:avLst/>
          </a:prstGeom>
          <a:ln w="0">
            <a:noFill/>
          </a:ln>
        </p:spPr>
      </p:pic>
      <p:pic>
        <p:nvPicPr>
          <p:cNvPr id="709" name="5 Imagen" descr="untitled-21.jpg"/>
          <p:cNvPicPr/>
          <p:nvPr/>
        </p:nvPicPr>
        <p:blipFill>
          <a:blip r:embed="rId3"/>
          <a:stretch/>
        </p:blipFill>
        <p:spPr>
          <a:xfrm>
            <a:off x="1187280" y="4292640"/>
            <a:ext cx="4457880" cy="1200240"/>
          </a:xfrm>
          <a:prstGeom prst="rect">
            <a:avLst/>
          </a:prstGeom>
          <a:ln w="0">
            <a:noFill/>
          </a:ln>
        </p:spPr>
      </p:pic>
      <p:pic>
        <p:nvPicPr>
          <p:cNvPr id="710" name="6 Imagen" descr="untitled.jpg"/>
          <p:cNvPicPr/>
          <p:nvPr/>
        </p:nvPicPr>
        <p:blipFill>
          <a:blip r:embed="rId4"/>
          <a:stretch/>
        </p:blipFill>
        <p:spPr>
          <a:xfrm>
            <a:off x="1763640" y="1341360"/>
            <a:ext cx="3981600" cy="1609920"/>
          </a:xfrm>
          <a:prstGeom prst="rect">
            <a:avLst/>
          </a:prstGeom>
          <a:ln w="0">
            <a:noFill/>
          </a:ln>
        </p:spPr>
      </p:pic>
      <p:pic>
        <p:nvPicPr>
          <p:cNvPr id="711" name="7 Imagen" descr="untitled-22.jpg"/>
          <p:cNvPicPr/>
          <p:nvPr/>
        </p:nvPicPr>
        <p:blipFill>
          <a:blip r:embed="rId5"/>
          <a:stretch/>
        </p:blipFill>
        <p:spPr>
          <a:xfrm>
            <a:off x="3780000" y="5373720"/>
            <a:ext cx="4457520" cy="1200240"/>
          </a:xfrm>
          <a:prstGeom prst="rect">
            <a:avLst/>
          </a:prstGeom>
          <a:ln w="0">
            <a:noFill/>
          </a:ln>
        </p:spPr>
      </p:pic>
      <p:sp>
        <p:nvSpPr>
          <p:cNvPr id="712" name="8 Rectángulo"/>
          <p:cNvSpPr/>
          <p:nvPr/>
        </p:nvSpPr>
        <p:spPr>
          <a:xfrm>
            <a:off x="6456240" y="37893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lliam Gudy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sde 1985 con modificacione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eoría compleja, con más de 100 axiomas (24 la primera versión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 central puesto en la dificultad de la comunicación intercultural (malentendid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ill Sans MT"/>
              </a:rPr>
              <a:t>Axioma 1:</a:t>
            </a: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 Un aumento en el grado en que nuestras identidades sociales guian nuestras interacciones con los extranjeros se producirá una disminución en la ansiedad y un aumento de nuestra confianza en la predicción de su comportamien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Este axioma es válido sólo cuando estamos seguros en nuestra vida social, no somos conscientes, si los extranjeros son percibidos por los miembros del exogrupo como típicos, y cuando nuestra ansiedad y la incertidumbre son entre nuestros umbreles mínima y máximos. (Gudykunst, 2005, p. 294)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Foraster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lación dual cerca/lejos Caracterización desde lo ajeno, exterior, extraño. Calidad dada a partir de los grados de inclusión / exclusión dados en el encuentro. Todos los sujetos son potenciales forasteros, dado el contexto de la intera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Incertidumbre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toda relación humana hay un cierto grado de incertidumbre (predictiva y explicativa). Adecuación la indeterminación e impredictibilidad. El justo medio, sería una comunicación eficaz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Ansiedad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onente afectivo. Mientras más alta, mayor cantidad de estereotipos sobre el “forastero”. Si la ansiedad es baja hay desmotiv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Comunicación Eficaz: 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ceso de interpretación y construcción de sentido que reduce la divergencia entre las dos o más intencionalidades comunicativas puestas en juego en la rel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onocer la problematización implícita, la categorización que se realiza y finalmente, la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 mayor conciencia, mayor categorización, mayor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lase 2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331640" y="16282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s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teorías de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a ampliar categorías de pensamiento sobre las formas de conocer y generar encuentros entre distint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Rectángulo"/>
          <p:cNvSpPr/>
          <p:nvPr/>
        </p:nvSpPr>
        <p:spPr>
          <a:xfrm>
            <a:off x="3635280" y="4581360"/>
            <a:ext cx="1800360" cy="648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7 CuadroTexto"/>
          <p:cNvSpPr/>
          <p:nvPr/>
        </p:nvSpPr>
        <p:spPr>
          <a:xfrm>
            <a:off x="3564000" y="4724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NS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8 Rectángulo"/>
          <p:cNvSpPr/>
          <p:nvPr/>
        </p:nvSpPr>
        <p:spPr>
          <a:xfrm>
            <a:off x="3564000" y="5589720"/>
            <a:ext cx="201600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INCERTIDU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11 Elipse"/>
          <p:cNvSpPr/>
          <p:nvPr/>
        </p:nvSpPr>
        <p:spPr>
          <a:xfrm>
            <a:off x="5940360" y="4292640"/>
            <a:ext cx="2519280" cy="2305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12 Triángulo isósceles"/>
          <p:cNvSpPr/>
          <p:nvPr/>
        </p:nvSpPr>
        <p:spPr>
          <a:xfrm>
            <a:off x="971640" y="4437000"/>
            <a:ext cx="2232000" cy="19447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Foras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15 CuadroTexto"/>
          <p:cNvSpPr/>
          <p:nvPr/>
        </p:nvSpPr>
        <p:spPr>
          <a:xfrm>
            <a:off x="6084720" y="479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16 Triángulo isósceles"/>
          <p:cNvSpPr/>
          <p:nvPr/>
        </p:nvSpPr>
        <p:spPr>
          <a:xfrm>
            <a:off x="6804000" y="5157720"/>
            <a:ext cx="1944720" cy="129564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Tercera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Énfasis en sus axiomas en la toma de conciencia del acto comunicativo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udykunst plantea tres componentes centrales en la construcción de competencias comunicativas: motivación, conocimiento y destr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 asociada a necesidades d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ntirnos segur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edecir el deveni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tenencia a un grup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vitar la ans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 sentido común univers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gratificaciones (materiales o simbólica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sostener nuestras identidad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ocimiento: Reconocimiento de que una misma conducta puede ser significada de manera divers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gracia de la comunicación intercultural es que apela a las interpretaciones alternativas, en cada uno de sus ámbitos reflexivos: la descripción, su interpretación y la evaluación (juici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mayor complejidad cognitiva del sujeto participante, mayor eficacia de la comunicación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Teorías de la 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26" name="Picture 3" descr="perros"/>
          <p:cNvPicPr/>
          <p:nvPr/>
        </p:nvPicPr>
        <p:blipFill>
          <a:blip r:embed="rId1"/>
          <a:stretch/>
        </p:blipFill>
        <p:spPr>
          <a:xfrm>
            <a:off x="1476360" y="1341360"/>
            <a:ext cx="3789360" cy="501516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5435280" y="1523880"/>
            <a:ext cx="34988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mberto Eco habla de decodificación aberrante.  El código determina el mens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Una cosa es lo que se dice, otra cosa es lo que el receptor entien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trezas:  habilidades: capacidades o disposición. (conductas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bilidad de crear nuevas categorí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lerancia a la ambigüe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empatiz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adaptación de la comunic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so de la información apropi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lejo y difícil sintetiza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tegorías y se encuadra en uno de los 3 niveles (emotivo, cognitivo y conductist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No tienen en cuenta comunicación de ma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rabajo con inmigrantes, por lo tanto su teoría se basa en contacto de grupos que han tenido una socialización primera en una cultura y después pasan a convivir con otra por un periodo prolong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imilación,  Aculturación e Integr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5" name="3 Imagen" descr="Young%20Kim.jpg"/>
          <p:cNvPicPr/>
          <p:nvPr/>
        </p:nvPicPr>
        <p:blipFill>
          <a:blip r:embed="rId1"/>
          <a:stretch/>
        </p:blipFill>
        <p:spPr>
          <a:xfrm>
            <a:off x="6732720" y="1341360"/>
            <a:ext cx="1828800" cy="2438640"/>
          </a:xfrm>
          <a:prstGeom prst="rect">
            <a:avLst/>
          </a:prstGeom>
          <a:ln w="0">
            <a:noFill/>
          </a:ln>
        </p:spPr>
      </p:pic>
      <p:sp>
        <p:nvSpPr>
          <p:cNvPr id="736" name="4 Rectángulo"/>
          <p:cNvSpPr/>
          <p:nvPr/>
        </p:nvSpPr>
        <p:spPr>
          <a:xfrm>
            <a:off x="6940440" y="3860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ng Yun 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Proceso de cambi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lo largo del tiempo que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se produce en individuo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que han completado su proceso de socialización primaria en una cultura y luego tien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tacto de primera mano 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ntinuo y prolongado con un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ultura nueva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y desconocid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Kim, el eje de la adaptación es la comunicación, complejo y dinám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ce foco en la interculturalidad desde lo que le sucede al forastero.  Es intraperson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similación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 de los principales elementos culturales de la cultura receptora, por parte del “foraster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ltura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cambio, es la adquisición de algunos elementos de la cultura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Imitación y ajustamiento, para Kim, son procesos conductuales individuales, mientras qu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gra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ría la dimensión de participación social del grupo o persona “foraster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Cómo entiende a los forastero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aquel que proviene de otra socialización y se desplaza a una cultura o subcultura difer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n sujetos dependientes de la cultura recepto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perimentan relaciones comunicativas directas con el entor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studio 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2 formas de analizar comunicación intercultural es en qué nivel se da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personal:  cómo se da el contac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ediático: uso y gratificaciones de los medi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relación entre dos ámbi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intermedio: grupos multiculturales en empresas (comunicación organizaciona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Qué ocurre con el o la forastero(a)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ceso de socialización secundario desaprendizaje o deculturación de algunos hábito de la antigu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coste de la nueva adquisición es a la vez pérdida de algo de lo antigu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hoque cultural: ruptura de los puntos de vista sociales de nueva soc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Se busca homeostasis (cambio y estabilidad): equilibrio organis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ceso central de la socialización secundaria: asimilación / acomod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mbio: transformación intercultural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Aumento de su acomodación funcion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“salud psicológica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Surgimiento de una identidad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cognitivo y emotivo es el nucleo de la teorí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La estructura de la adaptación transcultur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Competencia comunicativa Autóctona: capacidad del forastero para recibir información y procesarla, proveniente de la sociedad receptor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Esto tiene directa relación con el grado de participación del sujeto en la “nueva” cultura que lo aloj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ese contexto, surge la comunicación interpersonal autóctona y la comunicación mediática autócton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e ultima puede facilitar la adaptación, al entregar un aprendizaje de las relaciones “para – sociales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o por otro lado están los circuitos comunicacionales “étnic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o, para Kim, facilita  el proceso de adaptación y por otro lado, preserva la identidad cultural de orig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obstante la posición de la sociedad receptora influye en la adaptación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Receptiv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Presión social para la ada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Poder del grupo de origen en la sociedad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orías asimilacioni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se produce negociación sino adaptación cultural a cultura hegemónic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ociedad receptora es vista como  unifor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plantea aportes de foraste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e oculta efecto de mestizaj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56" name="7 Marcador de contenido" descr="fred casmir2.jpg"/>
          <p:cNvPicPr/>
          <p:nvPr/>
        </p:nvPicPr>
        <p:blipFill>
          <a:blip r:embed="rId1"/>
          <a:stretch/>
        </p:blipFill>
        <p:spPr>
          <a:xfrm>
            <a:off x="5499000" y="1484280"/>
            <a:ext cx="3645000" cy="45720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 txBox="1"/>
          <p:nvPr/>
        </p:nvSpPr>
        <p:spPr>
          <a:xfrm>
            <a:off x="1258560" y="1412640"/>
            <a:ext cx="410508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ecesidad de establecer un aproximación desde modelos cooperat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Orientado hacia la preparación en un mundo “mundializado” y “localizad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8 Rectángulo"/>
          <p:cNvSpPr/>
          <p:nvPr/>
        </p:nvSpPr>
        <p:spPr>
          <a:xfrm>
            <a:off x="6669000" y="6093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d Casm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 y es, por ende, metacomunicación, contenido viene determinado por interacción que se establece entre los interactuant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enguaje verbal y no verbal permiten comunicarse a las personas entres sí y es mediante la comunicación cómo se establece la socieda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or ello, una sociedad que vive su mestizaje plenamente solo es posible si se produce una comunicación intercultura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 Conducta son construcciones subjetivas sobre uno mismo, sobre los otros y sobre las exigencias que se producen en las situaciones de la vida cotidia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Todo acto comunicativo podría definirse como inter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importante constatar que en la vida cotidiana existen “grados de diferenciación cultural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istirían distancias y proximidades entre las distintas comunidades de vi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ás proximidad menor intercultural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4 Flecha abajo"/>
          <p:cNvSpPr/>
          <p:nvPr/>
        </p:nvSpPr>
        <p:spPr>
          <a:xfrm>
            <a:off x="4356000" y="3357720"/>
            <a:ext cx="792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5 Flecha abajo"/>
          <p:cNvSpPr/>
          <p:nvPr/>
        </p:nvSpPr>
        <p:spPr>
          <a:xfrm>
            <a:off x="4356000" y="4869000"/>
            <a:ext cx="72072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Antecedentes de Casmi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Valoración de la diversidad 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Expectativa del Mutuo Desarrollo donde la coerción o la persuasión es inadecu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. Interacción trasformad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a tercera cultura es un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subcultu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se produce en una situación determinada dond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temporalmente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se pueden produc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ambi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por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rac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personas que buscan consegu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erdos mutu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bre determinados objetiv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 ámbitos de estudio: individual, organizacional y el mediado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dividu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logro de una identidad mult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Organizacion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apertura a nuevas membresías en las familias y las empre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Mediad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denuncia: imperialismo cultural, ilusión de relación, escasas posibilidades de construcción de una terce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smir propone con-vencer, como buen modelo cooperativo donde “todos ganan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 de la tercera cultur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imer modelo: ciclo de actuación en la construcción individual de la tercera cultura: Experiencia /Necesidades/ Comunicación/ Interdependencia/ Exper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gundo Modelo: Construcción de la Tercera Cultura. Individuo en relación con otro, buscan el beneficio mutuo y construyen una nueva estructura, influidos por agentes externos (outsider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ercer Modelo. Actuación individual y construcción de la tercera cultura. Mirada transaccional. Sujeto A con necesidades y experiencias se comunica con un B. Con el tiempo se genera interdependencia, pero aquella está dada por las modificaciones de amb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7636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Casmir, estos procesos pueden ser facilitados tanto por las familias como por las estructuras del Estado, como el gobierno y desde él, las políticas públic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xcluye la discusión del poder tanto en qu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ideal donde contrapartes están en situación de iguald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uáles son los principios innegociables de los interactuan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rabajo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ha escogido un tema de interés para un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trabajarlo la última sesión se deben traer antecedentes sobre el tema y el destinatario principal del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258560" y="1483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 intercultural interpersonal: “habilidad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negocia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os significados culturales y ejecutar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ducta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comunicativa apropiadas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reconoce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múltiples identidade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de los interactúantes 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entorn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3 CuadroTexto"/>
          <p:cNvSpPr/>
          <p:nvPr/>
        </p:nvSpPr>
        <p:spPr>
          <a:xfrm>
            <a:off x="5940360" y="5877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Chen y Starosta, 19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da relación es diferente por lo que no se pueden dar recetas para comunicar interculturalm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hacemos entonc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eneramos criterios generales para una comunicación más eficaz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7636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Una cierta competencia comunica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Un cierto conocimiento de la ot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sucede entonces cuándo en el lenguaje común hablamos de choque 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7" name="3 Imagen" descr="295_card_tells_bush2050081722-9210.jpg"/>
          <p:cNvPicPr/>
          <p:nvPr/>
        </p:nvPicPr>
        <p:blipFill>
          <a:blip r:embed="rId1"/>
          <a:stretch/>
        </p:blipFill>
        <p:spPr>
          <a:xfrm>
            <a:off x="5148360" y="4581360"/>
            <a:ext cx="1871640" cy="1852920"/>
          </a:xfrm>
          <a:prstGeom prst="rect">
            <a:avLst/>
          </a:prstGeom>
          <a:ln w="0">
            <a:noFill/>
          </a:ln>
        </p:spPr>
      </p:pic>
      <p:pic>
        <p:nvPicPr>
          <p:cNvPr id="668" name="4 Imagen" descr="osama-bin-laden-773756.jpg"/>
          <p:cNvPicPr/>
          <p:nvPr/>
        </p:nvPicPr>
        <p:blipFill>
          <a:blip r:embed="rId2"/>
          <a:stretch/>
        </p:blipFill>
        <p:spPr>
          <a:xfrm>
            <a:off x="3348000" y="4437000"/>
            <a:ext cx="15112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de una visión comunicativa estaríamos hablando de una incomprensión de la relación establecida y del comportamiento del ot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diferencia de comunicación en una misma cultura en la comunicación intercultural el malentendido es la norma y no la exce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cualquier encuentro entre culturas es un encuentr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iene que existir un cierto grado de reconocimiento de la existencia y validez de la (s) otra(s) cultura(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tonces, al darse comunicativamente este reconocimiento, la sociedad de quien observa se asume como  plur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22:51:08Z</dcterms:created>
  <dc:creator>Usuario</dc:creator>
  <dc:description/>
  <dc:language>en-US</dc:language>
  <cp:lastModifiedBy>Usuario</cp:lastModifiedBy>
  <dcterms:modified xsi:type="dcterms:W3CDTF">2012-05-07T05:08:28Z</dcterms:modified>
  <cp:revision>43</cp:revision>
  <dc:subject/>
  <dc:title>Diapositiva 1</dc:title>
</cp:coreProperties>
</file>