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1C4-C101-4189-BD48-A6946F6E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B85-B0E0-4EAB-BF0A-D3236E86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03D-1E44-4725-BFCE-F8E4EF66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A25-42D1-4162-A007-9B4F4852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FE21-C308-465C-A6A3-BA1C7E1F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12F8-997F-4E7D-BC0E-19676907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780F-FF82-4080-923E-57AA4A2A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365C-8540-4499-A52F-66E3D935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EEFC-25F0-40D4-B1C1-156842F6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DB12-4426-4D16-AB22-75F89097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3715-74B0-4351-B440-9FD26E71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CB0-C837-4417-B1B1-A21B89B5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EB84-C462-42D0-A221-E8929558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FEDD-656B-4B4A-A957-E2D494D4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73E9-1AD6-4463-A13F-D2EA98EC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DDAF-50D0-40AC-A9EB-27DB20DA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E564-FDD7-4980-AA12-5F7319FF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E5438-D180-4546-8F04-8049FF18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74C9C-C6D6-439F-A563-DA83FFBE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ED66A-04CC-483A-BAF9-CD7F2968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47B59-E50E-4253-BDC7-1FCAE347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CC194-B8BB-4482-BBB5-8904D3AD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16C-F56A-46D2-ABEA-97CBF9FD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5E70D-D0D8-44C9-A5AE-F340A3DA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CC6C3-D648-4DBD-8116-0D33B1EE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160A9-47AD-47AB-AE8C-99BE270B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41CD6-C1F9-47D4-BA64-0DC93A26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E0CE2-3296-442D-A91D-F1FAEEBB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35AE9-A30F-4E9F-909D-B3F97077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B5DE8-7489-4A3D-A0C2-02023CBE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4FE4F-EE38-49B0-9135-BF51C001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69EE7-475C-46A0-8096-9DA08648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F7C7C-243F-4680-BE69-1F19B505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B199-6CD3-4D2C-A875-5A8C39F6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32A0F-CB56-45C8-93C6-ADCD0952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8AE96-8B4B-43D4-925B-830B5E3B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127E4-E038-47D7-B87F-7CE9BAE3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04ADC-891A-4E7A-BFD7-DE64690E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A71A5-748E-4E5F-8C60-5A2CC1EA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28330-543D-4548-9C43-62113CD6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EDC01-79DB-43B8-9CE7-FFCAEF1E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19845-0AAC-48A9-8492-FBAC8F80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5FA68-DE43-4ED1-BA18-1AF85E10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DFB92-7B79-4ADA-9F76-4A4E6F70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9D8A-31D2-49C1-8A26-733D6A57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FD59F-9EDE-4115-AA74-9A4FB28A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4E406-F67D-442F-BD2D-F36C6F67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F3B52-7EA5-4F4B-B87D-23073E3F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F6503-DD05-47F0-AC55-D4C0BA53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49668-AECA-4915-AB08-A22ADC3F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5DEAB-26C5-4AD2-BBF4-BBDD79C8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8DDD2-D964-456E-A9D7-AFA353AE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555B8-6D1B-43CB-B105-6FBAF849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521B4-87B5-4931-8EDD-EC80734D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8BE8F-1C97-4810-A496-C7E98763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2A6-F530-4822-B690-672BE64F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90294-FC3F-4D23-86CD-7A3A9F6B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46BA8-C40B-4DE0-A1FB-B8B4F30A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AB598-5076-4F9D-87FC-65FD8216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B197A-B0A1-4702-8D85-1B79A39A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D30D1-FA6F-4B00-9E81-0582E0F4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5228B-3E08-475F-94AA-242F329C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B07D4-B994-4ED0-8818-19C29C37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15D38-60D4-4928-AC1A-55DD8E16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44E18-4558-4D95-881D-BCEEF627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EB736-C1C5-4127-9D35-B31A7816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78CC-846E-4DE5-AC7B-4061C128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3BB08-5AF9-49D4-BF12-94E44948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740B0-0900-4A3C-B136-0E1E048E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E5612-94A3-4E67-BD62-C71D07F4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68BE9-2295-4256-8CCA-4A3941BB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18852-6182-4483-A701-363EF403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5045F-FB10-4958-85BD-ADF9D273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894ED-F374-4502-A641-C013E799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58A89-A658-4FDE-93CC-3FBB948B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EA523-D52A-4AD8-8BFF-5B8DF749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903BB-2A92-4216-9D39-0DD32E1C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DF9-2602-4140-85BE-7996E936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F6BAF-847A-4EC7-88D3-E65D13EB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8FF4F-9DED-4480-8A96-2478456F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002F3-0373-422E-BDBC-EF467A10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223DD-7813-4804-855C-74107A14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70991-923B-45EA-8C95-F4505023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93F-B236-45B9-A533-BE2A8342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620C-A78E-44AB-9E51-8A3972E52687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BFD2-55C4-4069-8B8E-ED7F474B86B1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7946-A9FA-4F18-8540-040BDD240A08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DDF6-9C6B-436A-86B0-3866FE52F3C0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3F83-9F2B-49B2-B000-59E7007C2A02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E4CA-1029-4C3F-BE2E-7884B7A50DE4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2E36-3552-46B2-80D2-395624AFBC0C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MUNICACIÓN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20e04"/>
                </a:solidFill>
                <a:latin typeface="Gill Sans MT"/>
              </a:rPr>
              <a:t>Sesión 1: Introducción al camp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20e04"/>
                </a:solidFill>
                <a:latin typeface="Gill Sans MT"/>
              </a:rPr>
              <a:t>Profesor:  Pablo Andrada Sol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9 Elipse"/>
          <p:cNvSpPr/>
          <p:nvPr/>
        </p:nvSpPr>
        <p:spPr>
          <a:xfrm>
            <a:off x="6804000" y="4221000"/>
            <a:ext cx="1944720" cy="863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UNIVERS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10 Llamada de nube"/>
          <p:cNvSpPr/>
          <p:nvPr/>
        </p:nvSpPr>
        <p:spPr>
          <a:xfrm>
            <a:off x="6622920" y="5445000"/>
            <a:ext cx="2521080" cy="720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RELATIV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2 Proceso"/>
          <p:cNvSpPr/>
          <p:nvPr/>
        </p:nvSpPr>
        <p:spPr>
          <a:xfrm>
            <a:off x="6732720" y="1484280"/>
            <a:ext cx="2087280" cy="57636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MONO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15 Y"/>
          <p:cNvSpPr/>
          <p:nvPr/>
        </p:nvSpPr>
        <p:spPr>
          <a:xfrm>
            <a:off x="6300720" y="2276640"/>
            <a:ext cx="2843280" cy="1873080"/>
          </a:xfrm>
          <a:prstGeom prst="flowChartSummingJunction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17 CuadroTexto"/>
          <p:cNvSpPr/>
          <p:nvPr/>
        </p:nvSpPr>
        <p:spPr>
          <a:xfrm>
            <a:off x="4211640" y="4076640"/>
            <a:ext cx="49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18 CuadroTexto"/>
          <p:cNvSpPr/>
          <p:nvPr/>
        </p:nvSpPr>
        <p:spPr>
          <a:xfrm>
            <a:off x="6804000" y="292428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MULTI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Formas de Conoc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risis Universalismo produce 3 tres posiciones epistemológic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. Universalista: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sistencia a la crisis, mirada unidireccional, asimila (asemeja) lo distint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. Diversidad: relativista, particularist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. Relacional Posmoderno:  no hay antítesis, sino relaciones reciproc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3 Rectángulo"/>
          <p:cNvSpPr/>
          <p:nvPr/>
        </p:nvSpPr>
        <p:spPr>
          <a:xfrm>
            <a:off x="6384240" y="59500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ati (1997, 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.  Relacional Posmodern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Nos lleva a tres posiciones o problema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encialismo relativista: estatus ontológico cultura. Cultura como comportamiento estanco.  Culturas incomparables.  (Monocultura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lativismo ético: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Neutralidad en relación a las diferentes culturas. Anticolonislista y acceso al poder. Tensión ante DD.HH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lativismo relativista: autonomía y coherencia interna de cultura.  Tensión cambio roles y normas en sistema 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76360" y="13410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Fin primera par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Tall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Análisis noticia: Caso expropiación YPF por parte del gobierno argentin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Diario ABC (España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Diario Página 12 (Argentina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740556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Taller: Análisis de notic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403280" y="13410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Analice la noticia (Diario Página 12 o Diario ABC, 17 de abril de 2012) dando cuenta de cómo se caracteriza de forma directa o indirecta a las culturas Españolas y Argentinas en conflicto.  Luego señale qué conceptos de los revisados en clase se aprecian en la noticia analizad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332000" y="4075200"/>
          <a:ext cx="7499160" cy="219528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520"/>
                <a:gridCol w="1874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arios oficialis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aracterísticas Cultura Español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aracterísticas Cultura Argen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ceptos mono/multi cul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Españ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ágina 12 (Argenti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municación Intercultural</a:t>
            </a: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larificación de concepto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nocultural/multicultur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luricultut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ulticultual/intercultur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Definición Comunicación Intercultural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omunicación entre aquellas personas que poseen unos referentes culturales tan distintos que se autoperciben como pertenecientes a culturas diferentes”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municación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Forma más simple de conocer es compar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ombatir tendencia a poner acento en la diferencia y a olvidar lo comú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uperar el etnocentrismo en una sociedad pluricultur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Desafío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stablecimiento de una ética de la relación, donde 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reducimos la contradicción universalismo versus relativismo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Todos somos iguales y todos somos distint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Revisar formas de conocer. Clase 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mpliar categorías de pensamiento. Clase 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plicación a planificaciones. Clase 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Epistemología- Formas de Conocer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ill Sans MT"/>
              </a:rPr>
              <a:t>Monocultural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alidad con “existencia” independiente del sujeto y el lenguaj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onocimiento objetivo y Verdad como asunto de precisión de la represent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ducción del sujeto a lo cognitivo en desmedro de lo simbólic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terminista (Biología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xclusión de otros paradigma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rnidad entendida como progres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ción de estadios cultura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Epistemología- Formas de Conocer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ulticultural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arte de la critica y el rechazo a lo mono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1. Cuestiona racionalismo o empirismo ingenu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2. Rechaza teoría de la representación que muestra mundo cómo 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3. Critica concepción de verdad como adecuación al mundo extern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Epistemología- Formas de Conocer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331640" y="1483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ulticultural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. La realidad es una construc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2. La interpretaciones son subjetiva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3. Relativización valóric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4. Conocimiento como hecho polític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Formas de Conoc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Monocultural:  esencialista-determinista, objetividad-verdad, desarrollo de las cultura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Multicultural:  relativista, con sujetos y lenguajes, conocimiento es polít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3 CuadroTexto"/>
          <p:cNvSpPr/>
          <p:nvPr/>
        </p:nvSpPr>
        <p:spPr>
          <a:xfrm>
            <a:off x="6732720" y="60213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(Semprini, 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Formas de Conoc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En investigaciones social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tic:  fuera de la cultura, valora lo material. No particip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mic:  dentro de la cultura, valora lo simbólico. Observación participant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Formas de Conoc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ensamiento Dicotómico: binario,identidad/alteridad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Mestizo:  aumento de complejidad. Es un hecho histórico. No es un principio ni alteridad ni identidad. Escapa a la definición cerra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4 CuadroTexto"/>
          <p:cNvSpPr/>
          <p:nvPr/>
        </p:nvSpPr>
        <p:spPr>
          <a:xfrm>
            <a:off x="5580000" y="5732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plantine y Nouss 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Formas de Conoc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aradigmas o modelo Universalista en cris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Universalismo: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ánones, valores y comportamientos absolutos, juicios mora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risis:  caída de grandes ideologías, estallido de identidades,  velocidad de flujos y comunicación instantánea, resurgimiento de lo local lleva a relativism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4:03:30Z</dcterms:created>
  <dc:creator>Usuario</dc:creator>
  <dc:description/>
  <dc:language>en-US</dc:language>
  <cp:lastModifiedBy>Usuario</cp:lastModifiedBy>
  <dcterms:modified xsi:type="dcterms:W3CDTF">2012-05-03T03:03:04Z</dcterms:modified>
  <cp:revision>33</cp:revision>
  <dc:subject/>
  <dc:title>COMUNICACIÓN INTERCULTURAL</dc:title>
</cp:coreProperties>
</file>