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040-B9CE-4DFE-B897-8DD6D26A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8D4-F494-4469-8726-54638AC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470-15BF-4F7E-B259-61FFF4C5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DF5-8F13-4299-A1E8-C9EA2023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2C6-40A8-4513-B863-2F033184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32CD-ABC6-4AE0-AB42-D3920C22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BF1C-BE64-4B0D-A793-A4F448C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DA69-CC73-4410-86B3-BD5F8EE6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DD35-D35A-4543-B005-2073B514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4A8B-B6DF-4ACE-9674-84F3AE0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B9D8-E402-463E-A479-38FB26DD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CAD-B9C3-4A5A-925C-AD50BADC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0DE-4806-43E7-A2B0-BF06310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B5EE-7FDC-4EAE-9236-75A3D37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A35-629E-4687-B29D-F2D7C85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8B5B-128C-4FAA-A341-052F0299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397-48F4-4A07-92FC-2F6D5FAE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6D02-3846-4304-AFD3-D662CD01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ED2B-FD06-4630-A49D-39E4A0C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B4AC-43B3-434E-AC79-E3D799F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7636-D421-4F69-8551-6C16658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6BDB-76E0-49C1-ADB3-C93485D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BC2-518B-4DF9-BD02-B2D90472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C4CD-39BC-4A46-B6AB-B69BBFD9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9FB8-BBBC-4624-A11D-BF585DD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EA4D-A091-4D3C-AFB3-6CAF4D9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6F6A-BD9D-45BD-A36D-A4C6E4A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D03A-C3EC-47FD-98F5-E7F9F42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FFEA-D791-4082-805D-86C14E21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50F3-6006-4872-BB59-91AE2BEF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E72A-5FD1-4F56-89FB-AA581DEA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400C-7936-4554-BFAE-B4DB809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ED75-D59F-48D7-8AC2-DC591AB7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895-FB83-4D0E-A9B1-9EE8770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4C9A-8E0F-454F-97F5-1E5A42E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0494-330B-4C0C-A83B-39F2533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4E85-04A2-42E3-BE37-5CE060B6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91A7-1A3A-4FC9-87E6-8BFA281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9CE5-99A7-4E60-8BBB-BF8833A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3972-50B7-4117-BBD6-DCB8B88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A829-FC78-4C98-B46F-6DDD6334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0E9C-9630-411C-93D1-4237A46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4B58-765D-4D6A-86DF-0F316609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6B8E-2279-4FCC-BC80-DCBC86C3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DF0-C5D7-467B-8FD3-649110D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D2E2-D720-4DEB-B8F9-0A9C2F50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4C9E-9960-4538-857B-B8FE2C8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2E3C7-CE2A-49AF-BC31-9E3FA3B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EB0D-53C2-4E3D-8FD0-EAD0746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F8643-672F-4458-BAD2-F125FCF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EF40-AD56-4B20-8E71-6FECA86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7223-F156-4CE0-8CB0-06D8E4C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A8A7-41F3-4046-823E-91F2B29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10A0-A19F-4DD8-BE49-92376822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974F-EC77-468A-8E87-CA7B7C2D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83E-CE53-4B0C-BD8C-845C8E2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20F6-7F5D-489B-8A19-C635FC90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BAC4-A779-430F-8FF8-9D36A7ED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FE25-EE0F-4130-9BFE-34D3C55C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9A9D-A395-4F31-B3F8-6004602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E1FA-CCB9-4A78-B9BB-F2ADB93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31E1-217C-49EB-A813-00F91C4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32743-2599-4032-AA1B-2272BF1A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2AEE-44AD-413C-8ADE-6E6D999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EFCB-8EAD-45F7-B1A7-13F7F11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44BE-793C-4C20-9D96-98FA379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233-C1A0-400E-90E5-B139C3E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79384-CEBA-4478-9640-4556E0A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B474-A44B-47AC-99CE-F78C808C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4C92-B677-49A7-9D5B-5165E056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82965-4830-46D6-9A3C-5298848A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96D5-17D9-41E6-A215-6A8D190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1F29-8682-42C3-B207-62A1C56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502D-CD0E-4EF7-B9F4-3F9E2C50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DF9EF-F8CC-4150-A2A1-8EEFB74F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DA96-26C2-4C4A-A14B-5770AA5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D143-B2A6-4251-AA19-1EEF707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EE5-8729-456C-8EFA-E64FC92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C4FF-6C07-4453-BA17-59001DAA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F6D68-652D-445B-A60A-66C66621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AD04-675E-45F0-ACDF-550D9B5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3E9E-FE4A-40BA-82F6-4A84BB6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8491-E1AF-477E-A2A2-6E075ADF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135-3F2F-4AFC-8619-66D5F0A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8B9-13C2-48B7-B3B8-0FF2FFAC0C0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06A-0FF1-4080-B623-236D4B901A4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8F1-6972-4BA4-A2B8-9F9EB6AE8C4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96F9-F09C-4E1B-BC8B-60656AF0153D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85E-784D-479A-9019-44705A9F902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C4E5-49D2-497E-86FC-5C8928BD28F5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8EC-EE5F-4B03-B951-E2DE1608E35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Sesión 1: Introducción al cam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Profesor:  Pablo Andrada So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9 Elipse"/>
          <p:cNvSpPr/>
          <p:nvPr/>
        </p:nvSpPr>
        <p:spPr>
          <a:xfrm>
            <a:off x="6804000" y="4221000"/>
            <a:ext cx="1944720" cy="863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UNIVERS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0 Llamada de nube"/>
          <p:cNvSpPr/>
          <p:nvPr/>
        </p:nvSpPr>
        <p:spPr>
          <a:xfrm>
            <a:off x="6622920" y="5445000"/>
            <a:ext cx="2521080" cy="7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RELATIV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 Proceso"/>
          <p:cNvSpPr/>
          <p:nvPr/>
        </p:nvSpPr>
        <p:spPr>
          <a:xfrm>
            <a:off x="6732720" y="1484280"/>
            <a:ext cx="2087280" cy="57636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ONO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5 Y"/>
          <p:cNvSpPr/>
          <p:nvPr/>
        </p:nvSpPr>
        <p:spPr>
          <a:xfrm>
            <a:off x="6300720" y="2276640"/>
            <a:ext cx="2843280" cy="1873080"/>
          </a:xfrm>
          <a:prstGeom prst="flowChartSummingJunct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7 CuadroTexto"/>
          <p:cNvSpPr/>
          <p:nvPr/>
        </p:nvSpPr>
        <p:spPr>
          <a:xfrm>
            <a:off x="4211640" y="4076640"/>
            <a:ext cx="49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8 CuadroTexto"/>
          <p:cNvSpPr/>
          <p:nvPr/>
        </p:nvSpPr>
        <p:spPr>
          <a:xfrm>
            <a:off x="6804000" y="29242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ULTI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sis Universalismo produce 3 tres posiciones epistemológ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Universalista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sistencia a la crisis, mirada unidireccional, asimila (asemeja) lo disti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Diversidad: relativista, particular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Relacional Posmoderno:  no hay antítesis, sino relaciones recipro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3 Rectángulo"/>
          <p:cNvSpPr/>
          <p:nvPr/>
        </p:nvSpPr>
        <p:spPr>
          <a:xfrm>
            <a:off x="6384240" y="59500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ati (1997, 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.  Relacional Posmoder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s lleva a tres posiciones o problema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encialismo relativista: estatus ontológico cultura. Cultura como comportamiento estanco.  Culturas incomparables.  (Monocultur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ético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eutralidad en relación a las diferentes culturas. Anticolonislista y acceso al poder. Tensión ante DD.H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relativista: autonomía y coherencia interna de cultura.  Tensión cambio roles y normas en sistema 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76360" y="1341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 primera par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nálisis noticia: Caso expropiación YPF por parte del gobierno argentin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ABC (Españ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Página 12 (Argentin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055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: Análisis de notic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03280" y="134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Analice la noticia (Diario Página 12 o Diario ABC, 17 de abril de 2012) dando cuenta de cómo se caracteriza de forma directa o indirecta a las culturas Españolas y Argentinas en conflicto.  Luego señale qué conceptos de los revisados en clase se aprecian en la noticia analizad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332000" y="4075200"/>
          <a:ext cx="7499160" cy="219528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520"/>
                <a:gridCol w="1874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arios oficiali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Españo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ceptos mono/multi 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Españ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ágina 12 (Argent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larificación de concepto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nocultural/multi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luricultu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al/inter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Definición Comunicación Intercultural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unicación entre aquellas personas que poseen unos referentes culturales tan distintos que se autoperciben como pertenecientes a culturas diferentes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orma más simple de conocer es compar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batir tendencia a poner acento en la diferencia y a olvidar lo comú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uperar el etnocentrismo en una sociedad pluricultu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Desafío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imiento de una ética de la relación, donde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ducimos la contradicción universalismo versus relativism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odos somos iguales y todos somos distin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visar formas de conocer. Clase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mpliar categorías de pensamiento. Clase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plicación a planificaciones. Clase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ill Sans MT"/>
              </a:rPr>
              <a:t>Monocultural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lidad con “existencia” independiente del sujeto y el lengu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 objetivo y Verdad como asunto de precisión de la represen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ducción del sujeto a lo cognitivo en desmedro de lo simból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terminista (Biología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clusión de otros paradigm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rnidad entendida como progres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ción de estadios 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te de la critica y el rechazo a lo mono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1. Cuestiona racionalismo o empirismo inge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2. Rechaza teoría de la representación que muestra mundo cómo 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. Critica concepción de verdad como adecuación al mundo exte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3164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La realidad es una constru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La interpretaciones son subjetiv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Relativización valór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4. Conocimiento como hecho polít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onocultural:  esencialista-determinista, objetividad-verdad, desarrollo de las cultur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ulticultural:  relativista, con sujetos y lenguajes, conocimiento es polít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6732720" y="602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Semprini, 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n investigaciones socia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tic:  fuera de la cultura, valora lo material. No partici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mic:  dentro de la cultura, valora lo simbólico. Observación participa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nsamiento Dicotómico: binario,identidad/alterida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estizo:  aumento de complejidad. Es un hecho histórico. No es un principio ni alteridad ni identidad. Escapa a la definición cerr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4 CuadroTexto"/>
          <p:cNvSpPr/>
          <p:nvPr/>
        </p:nvSpPr>
        <p:spPr>
          <a:xfrm>
            <a:off x="5580000" y="573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plantine y Nouss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digmas o modelo Universalista en cri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Universalismo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ánones, valores y comportamientos absolutos, juicios mo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sis:  caída de grandes ideologías, estallido de identidades,  velocidad de flujos y comunicación instantánea, resurgimiento de lo local lleva a relativis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4:03:30Z</dcterms:created>
  <dc:creator>Usuario</dc:creator>
  <dc:description/>
  <dc:language>en-US</dc:language>
  <cp:lastModifiedBy>Usuario</cp:lastModifiedBy>
  <dcterms:modified xsi:type="dcterms:W3CDTF">2012-05-03T03:03:04Z</dcterms:modified>
  <cp:revision>33</cp:revision>
  <dc:subject/>
  <dc:title>COMUNICACIÓN INTERCULTURAL</dc:title>
</cp:coreProperties>
</file>