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302-4A70-4C65-9E80-EBD4DDD7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240-881E-45AF-8B5F-0F9ECFD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962-3881-4A34-8661-1DA7DAD6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1AC-8AEB-4717-A948-41BA5FC2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1689-E048-456C-A3C9-E3523CB3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B88-C881-418A-BD67-FF71FE64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189C-25CF-496F-A51C-45A27DA9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5810-107C-41AC-A3B8-9191FFDC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6540-8E48-4CC3-87AB-1446BEBD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C5D8-F74A-4F87-8B97-EC20804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AFAF-9DC4-4D6C-BA4F-AFF71D3F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722-47A1-4D7B-B990-BEE87563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EE1D-A63E-4837-AC6F-BF21ED1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E55B-3D60-4991-B33B-C6F6BEF2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C95-ADD1-402E-95E9-E7B203B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510D-202C-40C9-B7E3-19CD7356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E182-33EA-42F1-8A9B-A8999DAF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4F87-40FC-42ED-B8B0-8B979B4B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D1683-A6C8-4A5F-A81D-7EAB0A0F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E28F-7608-406B-9CEA-01864802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F318-179E-4051-AD2B-741E2D52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516D-5075-4EF4-BA30-842EFDF8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CFF-F27A-400D-9844-1D98EC84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0156-F73F-4F88-A2A4-0377737B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B69E-5174-469E-B1DB-1EA8E7C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82B86-ABC6-48A1-9EBC-3B41EC8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7F2C-F101-4364-AF70-AABC67D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1FCA-4938-4EEB-82D6-4D130101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B88D-0D55-464D-AF07-AB5FE300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7D17-EC49-4C24-ACB0-2359B06D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7427-84D6-4AB1-9549-1CE0BEB6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F995-6AB1-4C71-BB22-B11AC8CE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32D13-E031-46A8-84E5-4B1EC5D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9EB-7733-4826-80C5-B9AE408B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EA45-4491-457F-8276-D9BA847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B483-3A6E-4140-9035-C2BFCA8F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87554-53C3-465C-9ADF-2C48E0D2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F24A-4D36-4088-90FC-07D1B2B1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20A8-1006-455C-A50D-95D629F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B8F5-6F23-41A0-9C72-A05B3960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D5F3-83CB-4C9A-AE9B-122BF05A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2F85-0E1C-4289-8856-D577128F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0672-26EA-459B-BDDA-9664E6EE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1F35-5AC6-434E-A904-0EA9EEAF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065-B148-4332-83F3-9F1F834B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5666-2630-4CD9-9DF7-3F9F7026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883A-15EE-4CA2-9BC9-67A5C533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9CEE2-7D08-4A0F-8663-720B0A68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EF544-211C-4531-9226-71ADC01D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76E0-8799-423C-9DAE-E14BC8D1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7CB1-85D3-48D1-9939-F4BA826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8221-D070-4543-A76D-69B6E0B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6AEB-F38C-47AA-8787-600767B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3CFE-1E4F-4033-BF15-A8A8AFD7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E97F-F221-4E1E-81B2-ACB03976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429-8AA7-4472-95D2-F0CC61A5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F422-D6D4-4582-A2E3-0E4676BD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452BD-EBE6-48FF-874E-4E2B13EE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050E-B57B-4AB0-996F-DB71C102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F5A85-097A-4459-8788-4381A1DD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03E7B-BE14-4D74-A756-074EF2B2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2EC1-46E9-467E-8134-7CF2BFE9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A59A2-4933-4CBB-A478-1BD62369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E0AE-0EFD-4C96-B80A-4090FE5B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11DA-DAA1-4FCD-9557-5E67BF36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280D1-23DC-42BF-AFAE-E00F0773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054-9D4E-4CD6-BFC7-2EDF0C3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1172-52DE-490A-A363-F3F731A4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71F6-D3FB-426A-93E0-AC3833D8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8D685-A2FA-42E0-9000-9B4928B6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6439-5969-4F7F-9BB6-03E1E635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D8E16-5CB7-48EC-A698-1FB0B14B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2A4A-67EF-431D-8D13-48BD15AE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1097C-4739-459A-A003-21A23AAE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6A2F-20D3-4288-BEB1-AF56F203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8058-DAA3-42A8-B5AD-02F27A8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1CED3-B72E-49FF-85D5-E294E9C3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085-AC04-4F21-8DE5-121415E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165C-94D4-4D32-9F47-CDD25225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1D63C-F07E-459B-98F3-31840EED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DF952-6E66-43D3-B73F-E387649C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41523-3C08-4549-9337-11E4AB7D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D2D3A-5A42-42F9-ABA3-EE13D51A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929-AAFD-41D6-8733-0709CFC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18C4-C50E-45EA-AAAB-085F7224FABF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706-D98C-4DCC-B378-017B0FCAFB55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3075-6A43-4660-996B-CFA93B15306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9AD6-2721-4088-9592-C2DEE88285C1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34D3-F810-424B-ACFC-01F65734CE1A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7B9E-C958-4D80-9DFF-9AB8CD3176A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708-BAB9-4892-A318-C1D6C33AA797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20e04"/>
                </a:solidFill>
                <a:latin typeface="Gill Sans MT"/>
              </a:rPr>
              <a:t>Sesión 1: Introducción al camp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20e04"/>
                </a:solidFill>
                <a:latin typeface="Gill Sans MT"/>
              </a:rPr>
              <a:t>Profesor:  Pablo Andrada Sol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9 Elipse"/>
          <p:cNvSpPr/>
          <p:nvPr/>
        </p:nvSpPr>
        <p:spPr>
          <a:xfrm>
            <a:off x="6804000" y="4221000"/>
            <a:ext cx="1944720" cy="863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UNIVERS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0 Llamada de nube"/>
          <p:cNvSpPr/>
          <p:nvPr/>
        </p:nvSpPr>
        <p:spPr>
          <a:xfrm>
            <a:off x="6622920" y="5445000"/>
            <a:ext cx="2521080" cy="72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RELATIV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2 Proceso"/>
          <p:cNvSpPr/>
          <p:nvPr/>
        </p:nvSpPr>
        <p:spPr>
          <a:xfrm>
            <a:off x="6732720" y="1484280"/>
            <a:ext cx="2087280" cy="57636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MONO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5 Y"/>
          <p:cNvSpPr/>
          <p:nvPr/>
        </p:nvSpPr>
        <p:spPr>
          <a:xfrm>
            <a:off x="6300720" y="2276640"/>
            <a:ext cx="2843280" cy="1873080"/>
          </a:xfrm>
          <a:prstGeom prst="flowChartSummingJunct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7 CuadroTexto"/>
          <p:cNvSpPr/>
          <p:nvPr/>
        </p:nvSpPr>
        <p:spPr>
          <a:xfrm>
            <a:off x="4211640" y="4076640"/>
            <a:ext cx="49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18 CuadroTexto"/>
          <p:cNvSpPr/>
          <p:nvPr/>
        </p:nvSpPr>
        <p:spPr>
          <a:xfrm>
            <a:off x="6804000" y="292428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MULTI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sis Universalismo produce 3 tres posiciones epistemológic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Universalista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sistencia a la crisis, mirada unidireccional, asimila (asemeja) lo distin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Diversidad: relativista, particular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Relacional Posmoderno:  no hay antítesis, sino relaciones recipro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3 Rectángulo"/>
          <p:cNvSpPr/>
          <p:nvPr/>
        </p:nvSpPr>
        <p:spPr>
          <a:xfrm>
            <a:off x="6384240" y="59500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ati (1997, 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.  Relacional Posmodern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s lleva a tres posiciones o problema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encialismo relativista: estatus ontológico cultura. Cultura como comportamiento estanco.  Culturas incomparables.  (Monocultur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lativismo ético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Neutralidad en relación a las diferentes culturas. Anticolonislista y acceso al poder. Tensión ante DD.H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lativismo relativista: autonomía y coherencia interna de cultura.  Tensión cambio roles y normas en sistema 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76360" y="1341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in primera par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all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nálisis noticia: Caso expropiación YPF por parte del gobierno argentin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Diario ABC (Españ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Diario Página 12 (Argentin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4055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aller: Análisis de notic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403280" y="13410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Analice la noticia (Diario Página 12 o Diario ABC, 17 de abril de 2012) dando cuenta de cómo se caracteriza de forma directa o indirecta a las culturas Españolas y Argentinas en conflicto.  Luego señale qué conceptos de los revisados en clase se aprecian en la noticia analizad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332000" y="4075200"/>
          <a:ext cx="7499160" cy="219528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520"/>
                <a:gridCol w="1874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arios oficiali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racterísticas Cultura Españo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racterísticas Cultura 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ceptos mono/multi 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Españ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ágina 12 (Argenti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larificación de concepto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nocultural/multicultu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luricultut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al/intercultu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Definición Comunicación Intercultural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omunicación entre aquellas personas que poseen unos referentes culturales tan distintos que se autoperciben como pertenecientes a culturas diferentes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orma más simple de conocer es compar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ombatir tendencia a poner acento en la diferencia y a olvidar lo comú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uperar el etnocentrismo en una sociedad pluricultur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Desafío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imiento de una ética de la relación, donde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ducimos la contradicción universalismo versus relativism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odos somos iguales y todos somos distin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visar formas de conocer. Clase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mpliar categorías de pensamiento. Clase 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plicación a planificaciones. Clase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ill Sans MT"/>
              </a:rPr>
              <a:t>Monocultural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alidad con “existencia” independiente del sujeto y el lengu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ocimiento objetivo y Verdad como asunto de precisión de la represen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ducción del sujeto a lo cognitivo en desmedro de lo simbólic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terminista (Biología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clusión de otros paradigm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rnidad entendida como progres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ción de estadios cultu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ral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te de la critica y el rechazo a lo mono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1. Cuestiona racionalismo o empirismo ingenu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2. Rechaza teoría de la representación que muestra mundo cómo 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. Critica concepción de verdad como adecuación al mundo exte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33164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ral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La realidad es una construc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La interpretaciones son subjetiv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Relativización valór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4. Conocimiento como hecho polític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onocultural:  esencialista-determinista, objetividad-verdad, desarrollo de las cultur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ulticultural:  relativista, con sujetos y lenguajes, conocimiento es polít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3 CuadroTexto"/>
          <p:cNvSpPr/>
          <p:nvPr/>
        </p:nvSpPr>
        <p:spPr>
          <a:xfrm>
            <a:off x="6732720" y="6021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(Semprini, 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n investigaciones socia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tic:  fuera de la cultura, valora lo material. No particip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mic:  dentro de la cultura, valora lo simbólico. Observación participan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ensamiento Dicotómico: binario,identidad/alteridad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estizo:  aumento de complejidad. Es un hecho histórico. No es un principio ni alteridad ni identidad. Escapa a la definición cerr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4 CuadroTexto"/>
          <p:cNvSpPr/>
          <p:nvPr/>
        </p:nvSpPr>
        <p:spPr>
          <a:xfrm>
            <a:off x="5580000" y="5732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plantine y Nouss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digmas o modelo Universalista en cri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Universalismo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ánones, valores y comportamientos absolutos, juicios mo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isis:  caída de grandes ideologías, estallido de identidades,  velocidad de flujos y comunicación instantánea, resurgimiento de lo local lleva a relativis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4:03:30Z</dcterms:created>
  <dc:creator>Usuario</dc:creator>
  <dc:description/>
  <dc:language>en-US</dc:language>
  <cp:lastModifiedBy>Usuario</cp:lastModifiedBy>
  <dcterms:modified xsi:type="dcterms:W3CDTF">2012-05-03T03:03:04Z</dcterms:modified>
  <cp:revision>33</cp:revision>
  <dc:subject/>
  <dc:title>COMUNICACIÓN INTERCULTURAL</dc:title>
</cp:coreProperties>
</file>