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CCD5-EE6D-4F8C-B7BB-82E48CF6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EF27-74B8-4B7E-8973-5EF5D356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B6E2-9A38-4E1B-97EE-704B1430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D81D-EF97-492F-9BEA-AFAD6487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2E15-A178-4310-BB82-D49832EF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0FD6-C5D0-4674-B702-7441E3C6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1662-7499-4B6A-8770-9C9387C9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99BD-793E-43CC-817D-3DC7AA09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D069-6611-4D27-8FC2-26A6097E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B347-1C0F-4212-9031-9ACBCCBF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FA96-1869-4033-BEB1-FBED2023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1743-9F16-4244-A934-9A334610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A160-78DD-469B-BC9C-C075753D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11F9-B965-4813-8C73-481ED6E1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7583-4E0B-4387-AE7A-8D9C2677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DB58-D59D-4EA6-9159-235DF18C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5F45-C0AF-4567-9BF1-2B0B6F33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8932-5DCF-4B31-AC6B-B3F81D74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7DCE-EEA8-4DF3-91C9-B2534481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EAC5-6D21-42D3-87CD-07DB6CEB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FBB0-EE38-4E69-BAE0-194550DF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D89B-69E1-4584-9B3A-8623D0FB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5C8E-85F9-49C3-BD8C-60C270BB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7C13-209B-4525-8F39-7F8E047D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4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4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897E-219E-4449-91E6-5CCA79077B51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4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6016-4DD3-47AB-B5A1-6D779BA1BEB8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02520" y="1409040"/>
            <a:ext cx="779616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Financiamiento Cultural en Chi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3933360"/>
            <a:ext cx="4013280" cy="81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Bárbara Negr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201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mento de las Artes y Artesaní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693200" cy="40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s Visuales 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(desde pintura a arte digital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Fotografí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s integradas y multimedia 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(experimental y transmedial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eatr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anz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 circens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saní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Modalidades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reación y/o producció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27640" y="1197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Línea de Comunicación y Extensión para el Fomento de las Artes y la Cultura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n las áreas de </a:t>
            </a: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Difusión 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y </a:t>
            </a: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Eventos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 las modalidades que se presentan s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Iniciativas en medios de comunic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Iniciativas de marketing, comercialización y/o distribu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Itinera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xposiciones de au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Desarrollo de Infraestructura Cultura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421000"/>
            <a:ext cx="76932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dquisición e instalación de bienes de inversión que permitan un mejor funcionamiento de espacios culturales existentes en el país y fomenten la creación, ampliación y diversificación de audiencias, a nivel nacional y reg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Linea de financiamiento regio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Fomento de las Artes, la Artesanía y el Folcl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Comunicación y Extensión para el Fomento de las Artes y la Cultur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Desarrollo Cultural Region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Conservación y Difusión del Patrimonio Cultur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Conservación y Promoción del Patrimonio Inmateri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Desarrollo de las Culturas Indígena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Desarrollo de Infraestructura Cultur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Apoyo a la Difusión e Inserción de Artistas y Proyectos Culturales Chilenos en el Paí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Fomento de las Artes y la Artesanía y el folcl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Promueve y estimula la creación y producción artística en las áreas de Artes Visuales, Fotografía, Teatro, Danza, la Artesanía y el Folclor, en todas sus formas y expresion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Comunicación y extensión para el fomento de las artes y la cultura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Fomenta la promoción, difusión, la circulación y comercialización de la producción de bienes y servicios artísticos y culturales, producidos por nuestros creadores, artistas y agentes culturales, a nivel local y en el paí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sarrollo cultural regio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rmación y capacitació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Formación de público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apacitación de artistas, creadores y gestores culturales regiona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vestigación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históricos, de archivo, documentación y teórico sobre la producción regional en artes visuales, fotografía, danza y gestión cultural e infraestructur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iciativas socioculturales.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Contempla el desarrollo, integración e inclusión social a través del arte y la cultu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27760" y="967320"/>
            <a:ext cx="7653600" cy="81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Conservación y Difusión del Patrimonio Cultura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4360" y="256536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Restauración, mantención y elaboración de expedientes técnic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Restauración o manten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laboración de expedient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apacit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apacitación en ofic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onservación patrimoni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ifusión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divulgación y circulación de inf. sobre patrimonio protegido por la ley 17.288 de Monumentos Nacional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Investigación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sobre tangibles, muebles e inmuebles protegidos por la ley 17.288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Conservación y promoción del Patrimonio Inmater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629920" cy="53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n 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artesanía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tradiciones y expresiones orales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artes del espectáculo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y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practicas sociales, rituales y festividades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templa las modalidades d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Formación y difusión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Investigación.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Desarrollo de las Culturas Indígenas</a:t>
            </a:r>
            <a:br>
              <a:rPr sz="24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5640" y="2615760"/>
            <a:ext cx="76932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reación y producción de obra artís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estig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fu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uesta en valor de técnicas ancestrales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vinculadas a la artesaní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moción del intercambio pluricultural e intercultur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scate, conservación y difusión de lenguas ancestr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sólo postulan personas, comunidades o asociaciones indígenas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Alternativas de financiamiento de proyectos cultura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Público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(fondos concursables;  fondos regionales;  fondos municipal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Privado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a) Fundaciones, corporaciones, universidades y otros  organismos cultura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b) Empres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) Personas naturales (donaciones, herencias, legad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Mixto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 Estado y contribuyen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Internacional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(público y privado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Desarrollo de la Infraestructura cultur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a las necesidades de equipamiento de bienes muebles de inversión y móvil para centros o espacios culturales ya existentes, potenciando la oferta artística y cultural hacia la comunida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Línea de Apoyo a la Difusión e inserción de artistas y proyectos culturales chilenos en el paí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Financia total o parcialmente proyectos destinados a facilitar y fomentar la participación en espacios de difusión, circulación e intercambio de creadores, artistas y agentes culturales, en general, y de sus proyectos artísticos o culturales chilenos, en diversas áreas artísticas, en Chile, con motivo de una invitación, selección, clasificación en eventos, certámenes u otra activi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Ventanilla abiert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16040" y="108468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Fondo del Libro y la Lectur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2491920"/>
            <a:ext cx="76932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del Libro: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royectos de edición, difusión e investigación cuya finalidad sea fortalecer a la comunidad creadora, crítica y difusora de obras de autores chilenos, destinadas al públic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Bibliotecario: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iniciativas destinadas al mejoramiento, equipamiento o adquisición de nuevo material para bibliotecas públicas y comunitarias abiertas al público y de entrada gratuit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de la Lectura: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iniciativas destinadas al público lector con el fin de promover o animar la lectura en la comunidad a través de eventos, promoción, investigación u otros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Fondo del Libro y la Lec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Apoyo a la difusión y las comunicaciones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: medios de difusión escritos, electrónicos, radiales o audiovisuales para el fomento de la lectura y el libr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al perfeccionamiento: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 proyectos que incrementen los conocimientos profesionales y las competencias académicas mediante postgrados, seminarios, encuentros, cursos y talleres en instituciones nacionales, así como pasantías en el extranjer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a la creación literaria: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financia a escritores para proyectos de creación en novela, cuento, poesía, ensayo de crítica y creación literaria, dramaturgia, géneros referenciales (crónicas, memorias, testimonio) y literatura para niños. Categoría emergentes y profesional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Premios y concurs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“Escrituras de la Memoria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“Mejores Obras Literarias de Autores Nacionale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Creación literaria joven: “Roberto Bolaño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“Amster-Coré”: reconoce el diseño y la ilustración editorial y promueve creadores gráfic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Iberamericano de poesía Pablo Neru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Selección de obras de autores chilenos para adquisición de libros para bibliotecas públic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87320" y="108468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Fomento de la Música Nacio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4000" y="2276640"/>
            <a:ext cx="7848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realización de eventos presenci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difusión de música nacional en medios de comunicación masivos y establecimientos educacion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creación y producción de música nac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Investigación de Música Nac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Línea formació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Concursos y prem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curso de Composición Luis Advis: en las tres categoria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Popul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e raíz folclór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oct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a la Música Nacional “Presidente de la República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Popul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e raíz folclór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oc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istinción a Edición Musical y producción fonográfic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A personas o institucion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ndo de Fomento Audiovisu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55640" y="220500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oducción de Largometrajes nacionales para exhibición o explotación comercia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rmación profesional (becas, pasantías, tutorías y residenci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Creación de Gu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oducción de Obras Audiovisuales, documental, ficción y animación (Cortos, mediometraje y obras regional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Investigación y Capacit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Arial"/>
              </a:rPr>
              <a:t>Difusión, exhibición y distribución de obras audiovisuales Nacionales, producción de eventos regionales y difusión a través de medi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Arial"/>
              </a:rPr>
              <a:t>Implementación de equipamiento para el desarrollo audiovisu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Programas de desarrollo invitados por el CA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o al resguardo del Patrimonio Audiovisu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o a Festivales Nacion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Comercialización de obras audiovisuales en el exteri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Formación de públic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Programa Ibermed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47800" y="635400"/>
            <a:ext cx="7752600" cy="118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Premio Pedro Sienna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Premio a la trayectori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Reconocimiento especia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Organismos que poseen fondos concursables a nivel nacio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sejo Nacional de Cultura, CN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sejo Nacional de Televisión, CNT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irección de Asuntos Culturales, Dira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AD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RF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obiernos Region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NTV, Fondo CNT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9280" y="2349360"/>
            <a:ext cx="8604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1: Miniserie Histórica y documentales históricos ficcionados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2: Ficción.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3: No Ficción.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3366"/>
                </a:solidFill>
                <a:latin typeface="Arial"/>
              </a:rPr>
              <a:t>Categoría N° 4. Programas de procedencia e interés regional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5:Programas Orientados al Público Infantil de 3 a 6 años.  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6: Programas Orientados al Público Infantil mayor de 6 año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3366"/>
                </a:solidFill>
                <a:latin typeface="Arial"/>
              </a:rPr>
              <a:t>Categoría N° 7: Nuevas temporadas programas ya financiados por el Fondo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3366"/>
                </a:solidFill>
                <a:latin typeface="Arial"/>
              </a:rPr>
              <a:t>Categoría N° 8: Apoyo a la difusión de documentales nacionales ya producido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9:  </a:t>
            </a: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Microprograma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Categoría Nº10: Programas de Procedencia e Interés Regional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Categoría N° 11: Programas unitarios para TV (telefilms)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Categoría N° 12: Telenovela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NTV, Fondo de Anten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e fondo esta destinado a subsidiar la producción, transmisión y difusión de programas televisivos en aquellas 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zonas fronterizas, extremas o apartadas del territorio nacional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en que, por su lejanía o escasa población, no exista interés comercial que incentive a concesionarias de servicios de libre recep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Pueden postular las concesionarias de servicios de radiodifusión televisiva de libre recep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Destina 104 millones de pesos par la instalación de sistemas de recepción y transmis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RA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Anualmente, esta Dirección realiza una convocator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ara concursar por un fondo que permite auspici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actividades artístico-culturales en el exterior. 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curso se divide en d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Fondo para proyectos presentados por artistas y fundaciones u organizaciones culturales. (gastos de operación, difusión y participación de los ejecutor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Fondo para proyectos presentados por las distintas representaciones diplomáticas chilena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ORFO, Programa de Fomento al Cine y la Industria Audiovisual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oyo al desarrollo o la preproducció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conjunto de operaciones previas al rodaj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oyo a la distribución y comercializació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tapa final de las nuevas producciones, apoyo para iniciar distribución comercial tanto nacional como internac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Anualmente, entre abril y marz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onadi / Fondo de Cultura y Educa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grama de Manejo y Protección del Patrimonio Cultural Indígen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ubsidio a la capacitación y especialización de indígen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grama de Difusión y Fomento de las Culturas Indígen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Conadi /Fondo de Cultura yEdu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licación del Diseño Curricular y Pedagógico Intercultural Bilingü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ubsidio a la residencia para alumnos indígenas de Educación Superi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Recuperación y revitalización de las lenguas indígen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OP, Dirección de Arquitec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curso de arte público en edificios y espacios públicos. Comisión Nemesio Antúne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FNDR, 2% de cul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s un porcentaje del Fondo Nacional de Desarrollo Regional, que es el principal instrumento financiero de transmisión de recursos fiscales a region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 administración corresponde a los Gobiernos Regionales y a las subsecretarías de desarrollo region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l uso y modo de asignación del 2% FNDR cuenta con diferentes políticas en cada reg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Generalmente promueve una distribución equitativa del acceso a bienes y servicios culturales, como también la preservación y el desarrollo de la identidad region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l CN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000" y="2361960"/>
            <a:ext cx="867564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A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DEL LIB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DE LA MÚS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AUDIOVIS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NACIONAL ESCUELAS ARTISTIC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Fondo de desarrollo de la Cultura, FONDAR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En </a:t>
            </a:r>
            <a:r>
              <a:rPr b="1" lang="es-ES_tradnl" sz="1400" spc="-1" strike="noStrike">
                <a:solidFill>
                  <a:srgbClr val="003366"/>
                </a:solidFill>
                <a:latin typeface="Arial"/>
              </a:rPr>
              <a:t>ÁMBITO NACIONAL</a:t>
            </a: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 DE FINANCIAMIENT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BICENTENAR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ÌNEA BECAS Y PASANTÍA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apoyo a artistas y proyectos chilenos a desarrollarse en el extranjer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Fomento de las Artes y la Artesaní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Investigación y estudios para el fomento de las Artes y la Cultura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Comunicación y Extensión para el Fomento de las Artes y la Cultur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sarrollo de Infraestructura Cultural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En </a:t>
            </a:r>
            <a:r>
              <a:rPr b="1" lang="es-ES_tradnl" sz="1400" spc="-1" strike="noStrike">
                <a:solidFill>
                  <a:srgbClr val="003366"/>
                </a:solidFill>
                <a:latin typeface="Arial"/>
              </a:rPr>
              <a:t>ÁMBITO REGIONAL</a:t>
            </a: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 DE FINANCIAMIENT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Fomento de las Artes, la Artesanía y el Folclor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Comunicación y Extensión para el Fomento de las Artes y la Cultura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66"/>
                </a:solidFill>
                <a:latin typeface="Arial"/>
              </a:rPr>
              <a:t>Línea Desarrollo Cultural Region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Conservación y Promoción del Patrimonio Cultural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Conservación y Difusión del Patrimonio Inmateri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Desarrollo de las Culturas Indígena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</a:t>
            </a:r>
            <a:r>
              <a:rPr b="1" lang="es-ES" sz="1200" spc="-1" strike="noStrike">
                <a:solidFill>
                  <a:srgbClr val="003366"/>
                </a:solidFill>
                <a:latin typeface="Arial"/>
              </a:rPr>
              <a:t>Desarrollo de Infraestructura Cultur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66"/>
                </a:solidFill>
                <a:latin typeface="Arial"/>
              </a:rPr>
              <a:t>Línea de apoyo a la difusión e inserción de artistas y proyectos culturales chilenos en el paí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66"/>
                </a:solidFill>
                <a:latin typeface="Arial"/>
              </a:rPr>
              <a:t>Línea Bicentenario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FOMENTO AL DESARROLLO INSTITUCIONAL Y FORTALECIMIENTO DE ELENCOS ESTAB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FOMENTO A LA CREACIÓN DE EXCELENCI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FOMENTO A LA ASOCIATIVI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APOYO A PROYECTOS CONMEMORATIVOS DEL BICENTENAR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05680" y="103104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Becas y Pasantías</a:t>
            </a:r>
            <a:br>
              <a:rPr sz="2400"/>
            </a:b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Nacional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49000"/>
            <a:ext cx="7693200" cy="37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asantías y diplomados en Chile y el extranjero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magister a través de Becas Chile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idencias en Chile o el extranjero: estudios de formación, creación o investigación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excepto literatura, música y artes audiovisuales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Línea apoyo a artistas y proyectos chilenos a desarrollarse en el extranjer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o para la promoción de proyectos y artistas chilenos en el extranjero, tales como asistencia a conferencias, seminarios, eventos, festivales, encuentros y muestras, entre otros. Espacios acotados de presentación, no financia giras, éstas deben presentarse a la Línea de Comunicación y Extensión, en la modalidad de itinerancia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Modalidad de Ventanilla Abier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Línea Investigación y estudios para el fomento de las Artes y la Cultura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stimula los proyectos de investigación y estudios en las áreas artísticas y culturales que financia FONDART, en ámbitos como la documentación y archivo, históricos, monográficos, teóricos, creativos, curatoriales, técnicos y tecnológico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No financia proyectos de tesi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9:50:42Z</dcterms:created>
  <dc:creator>vvergara</dc:creator>
  <dc:description/>
  <dc:language>en-US</dc:language>
  <cp:lastModifiedBy>Preferred Customer</cp:lastModifiedBy>
  <dcterms:modified xsi:type="dcterms:W3CDTF">2010-06-16T21:33:36Z</dcterms:modified>
  <cp:revision>125</cp:revision>
  <dc:subject/>
  <dc:title>Fondos culturales concursables en Chile</dc:title>
</cp:coreProperties>
</file>