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2BE6-A865-42A2-890B-400BF43BF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2A2D-F372-4741-9D85-7C5AD9D6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C8D7-E8E6-45D6-8ACD-781C6A0E8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54E0-F52E-43AA-94B7-7F12CF9C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CDAC-6C60-4C93-B238-29CDFCE9A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9013-B8E2-4229-969F-4954D1B1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D71E-183C-4F34-B36B-42C5F69F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4F876-4D4E-412C-B40F-213E93F8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690C-4CD3-47C5-9D59-7954262A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BA06-B1DF-463A-AEFB-50BC7EB2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239B-E6F0-4874-B9B0-7BF27365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1B1F-F0F2-454D-994F-17DD983A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9D7E-9519-4CD8-9D75-93A4F98B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A82A-AC4C-46C3-BAF0-96A9FD82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245B-D8E1-4E06-B2CB-BE7F7A79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3A96-732F-4CDD-9374-D7C7097F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542D-8B8E-45E5-AF1C-E03E7B667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2121-DE11-4CAF-A589-AFE0116A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E71B-4018-427F-9DBA-2F6B9B4B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CCA9-92A1-4C7F-A65D-C94D6ACA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B677-3482-40E1-B79E-A3C716D3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F0D4-3E07-4260-AB70-6C040BB0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31F4-8785-4645-A8D9-98E46578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15A8-4C38-4CC3-9063-F1BED43E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4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4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9FD7-D7C5-425E-9300-B38E904564B8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4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5C06-B6DE-46F5-A543-9B03486F8DBA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02520" y="1409040"/>
            <a:ext cx="779616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Financiamiento Cultural en Chi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3933360"/>
            <a:ext cx="4013280" cy="81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Bárbara Negr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201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Fomento de las Artes y Artesaní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7693200" cy="40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rtes Visuales 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(desde pintura a arte digital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Fotografí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rtes integradas y multimedia 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(experimental y transmedial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Teatr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Danz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rte circens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rtesaní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Modalidades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reación y/o producción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27640" y="1197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Línea de Comunicación y Extensión para el Fomento de las Artes y la Cultura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En las áreas de </a:t>
            </a:r>
            <a:r>
              <a:rPr b="0" lang="es-ES_tradnl" sz="3200" spc="-1" strike="noStrike">
                <a:solidFill>
                  <a:srgbClr val="003366"/>
                </a:solidFill>
                <a:latin typeface="Arial"/>
              </a:rPr>
              <a:t>Difusión 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y </a:t>
            </a:r>
            <a:r>
              <a:rPr b="0" lang="es-ES_tradnl" sz="3200" spc="-1" strike="noStrike">
                <a:solidFill>
                  <a:srgbClr val="003366"/>
                </a:solidFill>
                <a:latin typeface="Arial"/>
              </a:rPr>
              <a:t>Eventos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 las modalidades que se presentan so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Iniciativas en medios de comunic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Iniciativas de marketing, comercialización y/o distribu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Itineran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Exposiciones de au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Desarrollo de Infraestructura Cultura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421000"/>
            <a:ext cx="769320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dquisición e instalación de bienes de inversión que permitan un mejor funcionamiento de espacios culturales existentes en el país y fomenten la creación, ampliación y diversificación de audiencias, a nivel nacional y region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Linea de financiamiento region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Fomento de las Artes, la Artesanía y el Folcl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Comunicación y Extensión para el Fomento de las Artes y la Cultur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Desarrollo Cultural Region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Conservación y Difusión del Patrimonio Cultur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Conservación y Promoción del Patrimonio Inmateri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Desarrollo de las Culturas Indígena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Desarrollo de Infraestructura Cultur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Apoyo a la Difusión e Inserción de Artistas y Proyectos Culturales Chilenos en el Paí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Fomento de las Artes y la Artesanía y el folclo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Promueve y estimula la creación y producción artística en las áreas de Artes Visuales, Fotografía, Teatro, Danza, la Artesanía y el Folclor, en todas sus formas y expresion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Comunicación y extensión para el fomento de las artes y la cultura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Fomenta la promoción, difusión, la circulación y comercialización de la producción de bienes y servicios artísticos y culturales, producidos por nuestros creadores, artistas y agentes culturales, a nivel local y en el paí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sarrollo cultural region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rmación y capacitació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Formación de público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apacitación de artistas, creadores y gestores culturales regiona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vestigación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históricos, de archivo, documentación y teórico sobre la producción regional en artes visuales, fotografía, danza y gestión cultural e infraestructur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iciativas socioculturales.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Contempla el desarrollo, integración e inclusión social a través del arte y la cultu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27760" y="967320"/>
            <a:ext cx="7653600" cy="81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Conservación y Difusión del Patrimonio Cultura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4360" y="2565360"/>
            <a:ext cx="77724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Restauración, mantención y elaboración de expedientes técnico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-5014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Restauración o manten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-5014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laboración de expediente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72760" indent="-57276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apacit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-5014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Capacitación en ofici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-5014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Conservación patrimoni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2760" indent="-5727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Difusión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divulgación y circulación de inf. sobre patrimonio protegido por la ley 17.288 de Monumentos Nacional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72760" indent="-5727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Investigación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sobre tangibles, muebles e inmuebles protegidos por la ley 17.288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Conservación y promoción del Patrimonio Inmateri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629920" cy="53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En 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artesanía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tradiciones y expresiones orales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artes del espectáculo 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y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practicas sociales, rituales y festividades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contempla las modalidades d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Arial"/>
              </a:rPr>
              <a:t>Formación y difusión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Arial"/>
              </a:rPr>
              <a:t>Investigación.</a:t>
            </a: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Desarrollo de las Culturas Indígenas</a:t>
            </a:r>
            <a:br>
              <a:rPr sz="24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55640" y="2615760"/>
            <a:ext cx="76932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reación y producción de obra artíst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vestig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fus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uesta en valor de técnicas ancestrales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vinculadas a la artesaní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omoción del intercambio pluricultural e intercultur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scate, conservación y difusión de lenguas ancestr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sólo postulan personas, comunidades o asociaciones indígenas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Alternativas de financiamiento de proyectos cultural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Público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 (fondos concursables;  fondos regionales;  fondos municipal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Privado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a) Fundaciones, corporaciones, universidades y otros  organismos cultura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b) Empres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c) Personas naturales (donaciones, herencias, legado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Mixto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 Estado y contribuyent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Internacional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 (público y privado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Desarrollo de la Infraestructura cultur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Apoya las necesidades de equipamiento de bienes muebles de inversión y móvil para centros o espacios culturales ya existentes, potenciando la oferta artística y cultural hacia la comunidad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Línea de Apoyo a la Difusión e inserción de artistas y proyectos culturales chilenos en el paí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Financia total o parcialmente proyectos destinados a facilitar y fomentar la participación en espacios de difusión, circulación e intercambio de creadores, artistas y agentes culturales, en general, y de sus proyectos artísticos o culturales chilenos, en diversas áreas artísticas, en Chile, con motivo de una invitación, selección, clasificación en eventos, certámenes u otra activid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Ventanilla abiert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16040" y="1084680"/>
            <a:ext cx="7860600" cy="44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Fondo del Libro y la Lectur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6920" y="2491920"/>
            <a:ext cx="769320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mento del Libro: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royectos de edición, difusión e investigación cuya finalidad sea fortalecer a la comunidad creadora, crítica y difusora de obras de autores chilenos, destinadas al públic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mento Bibliotecario: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iniciativas destinadas al mejoramiento, equipamiento o adquisición de nuevo material para bibliotecas públicas y comunitarias abiertas al público y de entrada gratuit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mento de la Lectura: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iniciativas destinadas al público lector con el fin de promover o animar la lectura en la comunidad a través de eventos, promoción, investigación u otros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Fondo del Libro y la Lec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Apoyo a la difusión y las comunicaciones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: medios de difusión escritos, electrónicos, radiales o audiovisuales para el fomento de la lectura y el libr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mento al perfeccionamiento:</a:t>
            </a: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 proyectos que incrementen los conocimientos profesionales y las competencias académicas mediante postgrados, seminarios, encuentros, cursos y talleres en instituciones nacionales, así como pasantías en el extranjer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mento a la creación literaria: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financia a escritores para proyectos de creación en novela, cuento, poesía, ensayo de crítica y creación literaria, dramaturgia, géneros referenciales (crónicas, memorias, testimonio) y literatura para niños. Categoría emergentes y profesional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Premios y concurs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“Escrituras de la Memoria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“Mejores Obras Literarias de Autores Nacionales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Creación literaria joven: “Roberto Bolaño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“Amster-Coré”: reconoce el diseño y la ilustración editorial y promueve creadores gráfic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Iberamericano de poesía Pablo Nerud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Selección de obras de autores chilenos para adquisición de libros para bibliotecas públic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787320" y="1084680"/>
            <a:ext cx="7860600" cy="44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Fomento de la Música Nacion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4000" y="2276640"/>
            <a:ext cx="7848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Fomento a la realización de eventos presencia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Fomento a la difusión de música nacional en medios de comunicación masivos y establecimientos educaciona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Fomento a la creación y producción de música nacion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Fomento a la Investigación de Música Nacion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Línea formació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Concursos y premi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Concurso de Composición Luis Advis: en las tres categoria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Popul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De raíz folclór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Doct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a la Música Nacional “Presidente de la República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Popul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De raíz folclór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Doc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Distinción a Edición Musical y producción fonográfic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A personas o institucion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Fondo de Fomento Audiovisu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55640" y="220500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roducción de Largometrajes nacionales para exhibición o explotación comercial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rmación profesional (becas, pasantías, tutorías y residencia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Creación de Guion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roducción de Obras Audiovisuales, documental, ficción y animación (Cortos, mediometraje y obras regional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Investigación y Capacita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Arial"/>
              </a:rPr>
              <a:t>Difusión, exhibición y distribución de obras audiovisuales Nacionales, producción de eventos regionales y difusión a través de medi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Arial"/>
              </a:rPr>
              <a:t>Implementación de equipamiento para el desarrollo audiovisu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Programas de desarrollo invitados por el CAI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Apoyo al resguardo del Patrimonio Audiovisu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Apoyo a Festivales Naciona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Comercialización de obras audiovisuales en el exteri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Formación de públic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Programa Ibermed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47800" y="635400"/>
            <a:ext cx="7752600" cy="118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Premio Pedro Sienna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Premio a la trayectoria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Reconocimiento especial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Organismos que poseen fondos concursables a nivel nacion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onsejo Nacional de Cultura, CN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onsejo Nacional de Televisión, CNT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Dirección de Asuntos Culturales, Dira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AD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RF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Gobiernos Region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NTV, Fondo CNTV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39280" y="2349360"/>
            <a:ext cx="86043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1: Miniserie Histórica y documentales históricos ficcionados.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2: Ficción.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3: No Ficción.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3366"/>
                </a:solidFill>
                <a:latin typeface="Arial"/>
              </a:rPr>
              <a:t>Categoría N° 4. Programas de procedencia e interés regional.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5:Programas Orientados al Público Infantil de 3 a 6 años.  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6: Programas Orientados al Público Infantil mayor de 6 año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3366"/>
                </a:solidFill>
                <a:latin typeface="Arial"/>
              </a:rPr>
              <a:t>Categoría N° 7: Nuevas temporadas programas ya financiados por el Fondo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3366"/>
                </a:solidFill>
                <a:latin typeface="Arial"/>
              </a:rPr>
              <a:t>Categoría N° 8: Apoyo a la difusión de documentales nacionales ya producido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9:  </a:t>
            </a:r>
            <a:r>
              <a:rPr b="0" lang="es-ES_tradnl" sz="1900" spc="-1" strike="noStrike">
                <a:solidFill>
                  <a:srgbClr val="003366"/>
                </a:solidFill>
                <a:latin typeface="Arial"/>
              </a:rPr>
              <a:t>Microprograma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3366"/>
                </a:solidFill>
                <a:latin typeface="Arial"/>
              </a:rPr>
              <a:t>Categoría Nº10: Programas de Procedencia e Interés Regional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3366"/>
                </a:solidFill>
                <a:latin typeface="Arial"/>
              </a:rPr>
              <a:t>Categoría N° 11: Programas unitarios para TV (telefilms)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3366"/>
                </a:solidFill>
                <a:latin typeface="Arial"/>
              </a:rPr>
              <a:t>Categoría N° 12: Telenovela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NTV, Fondo de Anten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te fondo esta destinado a subsidiar la producción, transmisión y difusión de programas televisivos en aquellas 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zonas fronterizas, extremas o apartadas del territorio nacional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en que, por su lejanía o escasa población, no exista interés comercial que incentive a concesionarias de servicios de libre recepci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Pueden postular las concesionarias de servicios de radiodifusión televisiva de libre recep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Destina 104 millones de pesos par la instalación de sistemas de recepción y transmisi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RA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Anualmente, esta Dirección realiza una convocator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ara concursar por un fondo que permite auspici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actividades artístico-culturales en el exterior. 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concurso se divide en do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Fondo para proyectos presentados por artistas y fundaciones u organizaciones culturales. (gastos de operación, difusión y participación de los ejecutor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Fondo para proyectos presentados por las distintas representaciones diplomáticas chilena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CORFO, Programa de Fomento al Cine y la Industria Audiovisual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poyo al desarrollo o la preproducció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conjunto de operaciones previas al rodaj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poyo a la distribución y comercializació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Etapa final de las nuevas producciones, apoyo para iniciar distribución comercial tanto nacional como internacion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Anualmente, entre abril y marz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Conadi / Fondo de Cultura y Educació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grama de Manejo y Protección del Patrimonio Cultural Indígen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Subsidio a la capacitación y especialización de indígen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grama de Difusión y Fomento de las Culturas Indígen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Conadi /Fondo de Cultura yEdu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plicación del Diseño Curricular y Pedagógico Intercultural Bilingü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Subsidio a la residencia para alumnos indígenas de Educación Superi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Recuperación y revitalización de las lenguas indígen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OP, Dirección de Arquitec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curso de arte público en edificios y espacios públicos. Comisión Nemesio Antúne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FNDR, 2% de cul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Es un porcentaje del Fondo Nacional de Desarrollo Regional, que es el principal instrumento financiero de transmisión de recursos fiscales a region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Lo administración corresponde a los Gobiernos Regionales y a las subsecretarías de desarrollo region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El uso y modo de asignación del 2% FNDR cuenta con diferentes políticas en cada reg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Generalmente promueve una distribución equitativa del acceso a bienes y servicios culturales, como también la preservación y el desarrollo de la identidad region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l CN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000" y="2361960"/>
            <a:ext cx="867564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NDA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NDO DEL LIBR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NDO DE LA MÚS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NDO AUDIOVISU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NDO NACIONAL ESCUELAS ARTISTIC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Fondo de desarrollo de la Cultura, FONDAR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En </a:t>
            </a:r>
            <a:r>
              <a:rPr b="1" lang="es-ES_tradnl" sz="1400" spc="-1" strike="noStrike">
                <a:solidFill>
                  <a:srgbClr val="003366"/>
                </a:solidFill>
                <a:latin typeface="Arial"/>
              </a:rPr>
              <a:t>ÁMBITO NACIONAL</a:t>
            </a: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 DE FINANCIAMIENT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BICENTENAR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ÌNEA BECAS Y PASANTÍA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apoyo a artistas y proyectos chilenos a desarrollarse en el extranjer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 Fomento de las Artes y la Artesaní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Investigación y estudios para el fomento de las Artes y la Cultura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 Comunicación y Extensión para el Fomento de las Artes y la Cultur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sarrollo de Infraestructura Cultural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En </a:t>
            </a:r>
            <a:r>
              <a:rPr b="1" lang="es-ES_tradnl" sz="1400" spc="-1" strike="noStrike">
                <a:solidFill>
                  <a:srgbClr val="003366"/>
                </a:solidFill>
                <a:latin typeface="Arial"/>
              </a:rPr>
              <a:t>ÁMBITO REGIONAL</a:t>
            </a: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 DE FINANCIAMIENT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 Fomento de las Artes, la Artesanía y el Folclor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 Comunicación y Extensión para el Fomento de las Artes y la Cultura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66"/>
                </a:solidFill>
                <a:latin typeface="Arial"/>
              </a:rPr>
              <a:t>Línea Desarrollo Cultural Regiona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Conservación y Promoción del Patrimonio Cultural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Conservación y Difusión del Patrimonio Inmateria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Desarrollo de las Culturas Indígena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 </a:t>
            </a:r>
            <a:r>
              <a:rPr b="1" lang="es-ES" sz="1200" spc="-1" strike="noStrike">
                <a:solidFill>
                  <a:srgbClr val="003366"/>
                </a:solidFill>
                <a:latin typeface="Arial"/>
              </a:rPr>
              <a:t>Desarrollo de Infraestructura Cultura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66"/>
                </a:solidFill>
                <a:latin typeface="Arial"/>
              </a:rPr>
              <a:t>Línea de apoyo a la difusión e inserción de artistas y proyectos culturales chilenos en el paí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66"/>
                </a:solidFill>
                <a:latin typeface="Arial"/>
              </a:rPr>
              <a:t>Línea Bicentenario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FOMENTO AL DESARROLLO INSTITUCIONAL Y FORTALECIMIENTO DE ELENCOS ESTAB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FOMENTO A LA CREACIÓN DE EXCELENCI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FOMENTO A LA ASOCIATIVID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APOYO A PROYECTOS CONMEMORATIVOS DEL BICENTENARI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05680" y="103104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Becas y Pasantías</a:t>
            </a:r>
            <a:br>
              <a:rPr sz="2400"/>
            </a:b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Nacional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49000"/>
            <a:ext cx="7693200" cy="37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asantías y diplomados en Chile y el extranjero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magister a través de Becas Chile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idencias en Chile o el extranjero: estudios de formación, creación o investigación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excepto literatura, música y artes audiovisuales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Línea apoyo a artistas y proyectos chilenos a desarrollarse en el extranjero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Apoyo para la promoción de proyectos y artistas chilenos en el extranjero, tales como asistencia a conferencias, seminarios, eventos, festivales, encuentros y muestras, entre otros. Espacios acotados de presentación, no financia giras, éstas deben presentarse a la Línea de Comunicación y Extensión, en la modalidad de itinerancia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Modalidad de Ventanilla Abiert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Línea Investigación y estudios para el fomento de las Artes y la Cultura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Estimula los proyectos de investigación y estudios en las áreas artísticas y culturales que financia FONDART, en ámbitos como la documentación y archivo, históricos, monográficos, teóricos, creativos, curatoriales, técnicos y tecnológico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No financia proyectos de tesi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19:50:42Z</dcterms:created>
  <dc:creator>vvergara</dc:creator>
  <dc:description/>
  <dc:language>en-US</dc:language>
  <cp:lastModifiedBy>Preferred Customer</cp:lastModifiedBy>
  <dcterms:modified xsi:type="dcterms:W3CDTF">2010-06-16T21:33:36Z</dcterms:modified>
  <cp:revision>125</cp:revision>
  <dc:subject/>
  <dc:title>Fondos culturales concursables en Chile</dc:title>
</cp:coreProperties>
</file>