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F90A1-BDAE-430E-AB72-4C15535860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3A28-E1BA-4AB8-8910-06B73CD9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103-EA39-4063-8D5D-EE11C05DD7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AD78-E2C2-4DBD-8B8E-BB71183A6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10BF9-72E3-46AA-AD6D-CE2F30489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4C46F-D4CF-4DEE-B6A1-D02B83E736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BE6FB-4FDF-4C2A-8418-D54C92F21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080D1-F56C-47AF-94F9-86E70354A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828244-7398-4464-9927-62C577B76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64C8E-7106-4739-9CC2-0D8C6496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BA02DC-9FEA-48CC-8232-7719B3881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27954-2A8C-4641-9F6A-AF7DA3FC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02853-1F7E-4B6F-B74A-E477DB20F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4CB88-C90C-40E1-90DC-920F6BEDA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DFA68-621E-4DAB-A3DA-BD0EC6143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7877D-C749-4F4B-8A78-60594913A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8463E-5FF1-4729-AB81-D330A3D2FA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5304-38A5-4A6C-B796-ED403023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7EF15-996C-4CD2-A17B-54A9AFD0E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5D7AF-4EB8-45C8-AE93-BFFDE3B6A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178D0-BA59-4074-8AB2-6BB1AB939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57CA5-51EE-48F2-83A0-FC71D8B4B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BF15-2464-4375-898B-EE447B218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D21AF-0EA3-421D-A4AB-2B6193566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f4c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43A46-1174-4011-800E-D05F44993F38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f4c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s-E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B4854-F6C2-4231-8DAB-4A9C3FA665FA}" type="slidenum">
              <a:rPr b="1" lang="es-E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02520" y="1409040"/>
            <a:ext cx="7796160" cy="104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inanciamiento Cultural en Chile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73520" y="3933360"/>
            <a:ext cx="4013280" cy="816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Bárbara Negr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6666"/>
                </a:solidFill>
                <a:latin typeface="Arial"/>
              </a:rPr>
              <a:t>2010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mento de las Artes y Artesaní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900000" y="2420640"/>
            <a:ext cx="7693200" cy="409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Visuales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desde pintura a arte digit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tografí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 integradas y multimedia </a:t>
            </a:r>
            <a:r>
              <a:rPr b="0" lang="es-ES" sz="1600" spc="-1" strike="noStrike">
                <a:solidFill>
                  <a:srgbClr val="003366"/>
                </a:solidFill>
                <a:latin typeface="Arial"/>
              </a:rPr>
              <a:t>(experimental y transmedial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Teatro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Danz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 circense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Artesaní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Modalidades: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reación y/o producción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827640" y="119736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Línea de Comunicación y Extensión para el Fomento de las Artes y la Cultura</a:t>
            </a: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n las áreas de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Difusión 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y </a:t>
            </a: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Evento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 las modalidades que se presentan so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en medios de comunica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niciativas de marketing, comercialización y/o distribució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Itineranc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xposiciones de autor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Desarrollo de Infraestructura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838080" y="2421000"/>
            <a:ext cx="7693200" cy="366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dquisición e instalación de bienes de inversión que permitan un mejor funcionamiento de espacios culturales existentes en el país y fomenten la creación, ampliación y diversificación de audiencias, a nivel nacional y reg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Linea de financiamiento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Fomento de las Artes, la Artesanía y el Folclo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Cultural Region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Difusión del Patrimonio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Conservación y Promoción del Patrimonio Inmateri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las Culturas Indígena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Desarrollo de Infraestructura Cultural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Fomento de las Artes y la Artesanía y el folclor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mueve y estimula la creación y producción artística en las áreas de Artes Visuales, Fotografía, Teatro, Danza, la Artesanía y el Folclor, en todas sus formas y expresione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municación y extensión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menta la promoción, difusión, la circulación y comercialización de la producción de bienes y servicios artísticos y culturales, producidos por nuestros creadores, artistas y agentes culturales, a nivel local y en el paí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sarrollo cultural region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rmación y capacitación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Formación de público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Capacitación de artistas, creadores y gestores culturales regional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históricos, de archivo, documentación y teórico sobre la producción regional en artes visuales, fotografía, danza y gestión cultural e infraestructur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Iniciativas socioculturales.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Contempla el desarrollo, integración e inclusión social a través del arte y la cultur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527760" y="967320"/>
            <a:ext cx="7653600" cy="81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   </a:t>
            </a: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Conservación y Difusión del Patrimonio Cultural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684360" y="2565360"/>
            <a:ext cx="777240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5727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Restauración, mantención y elaboración de expedientes técnico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Restauración o manten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Elaboración de expedientes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Capacit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apacitación en oficio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-50148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3366"/>
                </a:solidFill>
                <a:latin typeface="Arial"/>
              </a:rPr>
              <a:t>Conservación patrimonia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divulgación y circulación de inf. sobre patrimonio protegido por la ley 17.288 de Monumentos Nac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572760" indent="-57276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obre tangibles, muebles e inmuebles protegidos por la ley 17.288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93096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Conservación y promoción del Patrimonio Inmateri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8629920" cy="538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anía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tradiciones y expresiones oral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artes del espectáculo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y       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1" lang="es-ES_tradnl" sz="2800" spc="-1" strike="noStrike">
                <a:solidFill>
                  <a:srgbClr val="003366"/>
                </a:solidFill>
                <a:latin typeface="Arial"/>
              </a:rPr>
              <a:t>practicas sociales, rituales y festividades</a:t>
            </a: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,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templa las modalidades de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Formación y difusión. 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5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3366"/>
                </a:solidFill>
                <a:latin typeface="Arial"/>
              </a:rPr>
              <a:t>Investigación.</a:t>
            </a: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s Culturas Indígenas</a:t>
            </a:r>
            <a:br>
              <a:rPr sz="24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/>
          </p:nvPr>
        </p:nvSpPr>
        <p:spPr>
          <a:xfrm>
            <a:off x="755640" y="2615760"/>
            <a:ext cx="76932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Creación y producción de obra artístic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Investiga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Difus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uesta en valor de técnicas ancestrales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vinculadas a la artesanía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Promoción del intercambio pluricultural e intercultur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Rescate, conservación y difusión de lenguas ancestral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sólo postulan personas, comunidades o asociaciones indígena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6666"/>
                </a:solidFill>
                <a:latin typeface="Arial"/>
              </a:rPr>
              <a:t>Alternativas de financiamiento de proyectos culturales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úblic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fondos concursables;  fondos regionales;  fondos municipal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Privad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) Fundaciones, corporaciones, universidades y otros  organismos cultura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b) Empresa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) Personas naturales (donaciones, herencias, legado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Mixto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:</a:t>
            </a: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 Estado y contribuyent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3366"/>
                </a:solidFill>
                <a:latin typeface="Arial"/>
              </a:rPr>
              <a:t>Internacional</a:t>
            </a: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 (público y privado)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Desarrollo de la Infraestructura cultur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a las necesidades de equipamiento de bienes muebles de inversión y móvil para centros o espacios culturales ya existentes, potenciando la oferta artística y cultural hacia la comunidad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de Apoyo a la Difusión e inserción de artistas y proyectos culturales chilenos en el paí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inancia total o parcialmente proyectos destinados a facilitar y fomentar la participación en espacios de difusión, circulación e intercambio de creadores, artistas y agentes culturales, en general, y de sus proyectos artísticos o culturales chilenos, en diversas áreas artísticas, en Chile, con motivo de una invitación, selección, clasificación en eventos, certámenes u otra ac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Ventanilla abierta.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71604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826920" y="2491920"/>
            <a:ext cx="7693200" cy="369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l Libr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proyectos de edición, difusión e investigación cuya finalidad sea fortalecer a la comunidad creadora, crítica y difusora de obras de autores chilenos, destinadas al públic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Bibliotecario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mejoramiento, equipamiento o adquisición de nuevo material para bibliotecas públicas y comunitarias abiertas al público y de entrada gratuit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de la Lectura: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iniciativas destinadas al público lector con el fin de promover o animar la lectura en la comunidad a través de eventos, promoción, investigación u otros</a:t>
            </a: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3366"/>
                </a:solidFill>
                <a:latin typeface="Arial"/>
              </a:rPr>
              <a:t>Fondo del Libro y la L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Apoyo a la difusión y las comunicaciones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: medios de difusión escritos, electrónicos, radiales o audiovisuales para el fomento de la lectura y el lib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l perfeccionamiento:</a:t>
            </a: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 proyectos que incrementen los conocimientos profesionales y las competencias académicas mediante postgrados, seminarios, encuentros, cursos y talleres en instituciones nacionales, así como pasantías en el extranjero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mento a la creación literaria: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 financia a escritores para proyectos de creación en novela, cuento, poesía, ensayo de crítica y creación literaria, dramaturgia, géneros referenciales (crónicas, memorias, testimonio) y literatura para niños. Categoría emergentes y profesional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s y concurs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Escrituras de la Memori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Mejores Obras Literarias de Autores Nacionales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Creación literaria joven: “Roberto Bolaño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“Amster-Coré”: reconoce el diseño y la ilustración editorial y promueve creadores gráfico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Iberamericano de poesía Pablo Nerud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Selección de obras de autores chilenos para adquisición de libros para bibliotecas pública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 txBox="1"/>
          <p:nvPr/>
        </p:nvSpPr>
        <p:spPr>
          <a:xfrm>
            <a:off x="787320" y="1084680"/>
            <a:ext cx="7860600" cy="442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Fomento de la Música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684000" y="2276640"/>
            <a:ext cx="78483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realización de eventos presenci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difusión de música nacional en medios de comunicación masivos y establecimientos educ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creación y produc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Fomento a la Investigación de Música 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Línea formación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Concursos y premio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de Composición Luis Advis: en las tres categoria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35880" indent="-335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remio a la Música Nacional “Presidente de la República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Popular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e raíz folclóric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octa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Distinción a Edición Musical y producción fonográfica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3366"/>
                </a:solidFill>
                <a:latin typeface="Arial"/>
              </a:rPr>
              <a:t>A personas o instituciones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279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Fondo de Fomento Audiovisual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755640" y="2205000"/>
            <a:ext cx="7693200" cy="409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Largometrajes nacionales para exhibición o explotación comercial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Formación profesional (becas, pasantías, tutorías y residencia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Creación de Guione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Producción de Obras Audiovisuales, documental, ficción y animación (Cortos, mediometraje y obras regionales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3366"/>
                </a:solidFill>
                <a:latin typeface="Arial"/>
              </a:rPr>
              <a:t>Investigación y Capacitació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Difusión, exhibición y distribución de obras audiovisuales Nacionales, producción de eventos regionales y difusión a través de medio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3366"/>
                </a:solidFill>
                <a:latin typeface="Arial"/>
              </a:rPr>
              <a:t>Implementación de equipamiento para el desarrollo audiovisu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Programas de desarrollo invitados por el CAIA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l resguardo del Patrimonio Audiovisu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a Festivales Nacionale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Comercialización de obras audiovisuales en el ext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Formación de público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Programa Ibermedi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47800" y="635400"/>
            <a:ext cx="7752600" cy="1183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 </a:t>
            </a: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Premio Pedro Sienna</a:t>
            </a: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Premio a la trayectoria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003366"/>
                </a:solidFill>
                <a:latin typeface="Arial"/>
              </a:rPr>
              <a:t>Reconocimiento especial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Organismos que poseen fondos concursables a nivel nacional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Cultura, CN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Consejo Nacional de Televisión, CNTV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66"/>
                </a:solidFill>
                <a:latin typeface="Arial"/>
              </a:rPr>
              <a:t>Dirección de Asuntos Culturales, Dirac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AD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RF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MOP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Gobiernos Regional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CNTV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539280" y="2349360"/>
            <a:ext cx="8604360" cy="39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cc33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1: Miniserie Histórica y documentales históricos ficcionados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2: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3: No Ficción.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4. Programas de procedencia e interés regional.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5:Programas Orientados al Público Infantil de 3 a 6 años.  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6: Programas Orientados al Público Infantil mayor de 6 añ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7: Nuevas temporadas programas ya financiados por el Fondo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900" spc="-1" strike="noStrike">
                <a:solidFill>
                  <a:srgbClr val="003366"/>
                </a:solidFill>
                <a:latin typeface="Arial"/>
              </a:rPr>
              <a:t>Categoría N° 8: Apoyo a la difusión de documentales nacionales ya producido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3366"/>
                </a:solidFill>
                <a:latin typeface="Arial"/>
              </a:rPr>
              <a:t>Categoría Nº9:  </a:t>
            </a: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Microprogram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º10: Programas de Procedencia e Interés Regional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1: Programas unitarios para TV (telefilms) 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476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900" spc="-1" strike="noStrike">
                <a:solidFill>
                  <a:srgbClr val="003366"/>
                </a:solidFill>
                <a:latin typeface="Arial"/>
              </a:rPr>
              <a:t>Categoría N° 12: Telenovelas</a:t>
            </a:r>
            <a:endParaRPr b="0" lang="en-US" sz="1900" spc="-1" strike="noStrike">
              <a:solidFill>
                <a:srgbClr val="003366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CNTV, Fondo de Antenas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Este fondo esta destinado a subsidiar la producción, transmisión y difusión de programas televisivos en aquellas </a:t>
            </a: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zonas fronterizas, extremas o apartadas del territorio nacional</a:t>
            </a:r>
            <a:r>
              <a:rPr b="0" lang="es-ES" sz="2400" spc="-1" strike="noStrike">
                <a:solidFill>
                  <a:srgbClr val="003366"/>
                </a:solidFill>
                <a:latin typeface="Arial"/>
              </a:rPr>
              <a:t> en que, por su lejanía o escasa población, no exista interés comercial que incentive a concesionarias de servicios de libre recepc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Pueden postular las concesionarias de servicios de radiodifusión televisiva de libre recepc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 algn="just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3366"/>
                </a:solidFill>
                <a:latin typeface="Arial"/>
              </a:rPr>
              <a:t>Destina 104 millones de pesos par la instalación de sistemas de recepción y transmisión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IRAC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nualmente, esta Dirección realiza una convocatori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para concursar por un fondo que permite auspicia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actividades artístico-culturales en el exterior. 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concurso se divide en dos: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artistas y fundaciones u organizaciones culturales. (gastos de operación, difusión y participación de los ejecutores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Fondo para proyectos presentados por las distintas representaciones diplomáticas chilenas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RFO, Programa de Fomento al Cine y la Industria Audiovisual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l desarrollo o la preproduc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conjunto de operaciones previas al rodaje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oyo a la distribución y comercialización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Etapa final de las nuevas producciones, apoyo para iniciar distribución comercial tanto nacional como internacional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Anualmente, entre abril y marz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6666"/>
                </a:solidFill>
                <a:latin typeface="Arial"/>
              </a:rPr>
              <a:t>Conadi / Fondo de Cultura y Educación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Manejo y Protección del Patrimonio Cultural Indígen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capacitación y especialización de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rograma de Difusión y Fomento de las Culturas Indígen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6666"/>
                </a:solidFill>
                <a:latin typeface="Arial"/>
              </a:rPr>
              <a:t>Conadi /Fondo de Cultura yEducación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Aplicación del Diseño Curricular y Pedagógico Intercultural Bilingü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Subsidio a la residencia para alumnos indígenas de Educación Superior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3366"/>
                </a:solidFill>
                <a:latin typeface="Arial"/>
              </a:rPr>
              <a:t>Recuperación y revitalización de las lenguas indígenas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MOP, Dirección de Arquitec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Concurso de arte público en edificios y espacios públicos. Comisión Nemesio Antúnez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6666"/>
                </a:solidFill>
                <a:latin typeface="Arial"/>
              </a:rPr>
              <a:t>FNDR, 2% de cultur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s un porcentaje del Fondo Nacional de Desarrollo Regional, que es el principal instrumento financiero de transmisión de recursos fiscales a region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Lo administración corresponde a los Gobiernos Regionales y a las subsecretarías de desarrollo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El uso y modo de asignación del 2% FNDR cuenta con diferentes políticas en cada regió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3366"/>
                </a:solidFill>
                <a:latin typeface="Arial"/>
              </a:rPr>
              <a:t>Generalmente promueve una distribución equitativa del acceso a bienes y servicios culturales, como también la preservación y el desarrollo de la identidad regional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22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006666"/>
                </a:solidFill>
                <a:latin typeface="Arial"/>
              </a:rPr>
              <a:t>Del CNCA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68000" y="2361960"/>
            <a:ext cx="8675640" cy="43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AR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L LIBR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DE LA MÚSIC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AUDIOVISUA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914400" indent="-45720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FONDO NACIONAL ESCUELAS ARTISTICA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66"/>
                </a:solidFill>
                <a:latin typeface="Arial"/>
              </a:rPr>
              <a:t>Fondo de desarrollo de la Cultura, FONDART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NAC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BICENTENARI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ÌNEA BECAS Y PASANTÍ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apoyo a artistas y proyectos chilenos a desarrollarse en el extranjer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 y la Artesaní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Investigación y estudios para el fomento de las Artes y la Cultura.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sarrollo de Infraestructura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En </a:t>
            </a:r>
            <a:r>
              <a:rPr b="1" lang="es-ES_tradnl" sz="1400" spc="-1" strike="noStrike">
                <a:solidFill>
                  <a:srgbClr val="003366"/>
                </a:solidFill>
                <a:latin typeface="Arial"/>
              </a:rPr>
              <a:t>ÁMBITO REGIONAL</a:t>
            </a: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 DE FINANCIAMIENTO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Fomento de las Artes, la Artesanía y el Folclore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Comunicación y Extensión para el Fomento de las Artes y la Cultura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sarrollo Cultural Region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Promoción del Patrimonio Cultural 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Conservación y Difusión del Patrimonio Inmateri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Desarrollo de las Culturas Indígena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3366"/>
                </a:solidFill>
                <a:latin typeface="Arial"/>
              </a:rPr>
              <a:t>Línea de </a:t>
            </a: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Desarrollo de Infraestructura Cultural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3366"/>
                </a:solidFill>
                <a:latin typeface="Arial"/>
              </a:rPr>
              <a:t>Línea de apoyo a la difusión e inserción de artistas y proyectos culturales chilenos en el país</a:t>
            </a: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6666"/>
                </a:solidFill>
                <a:latin typeface="Arial"/>
              </a:rPr>
              <a:t>Línea Bicentenario</a:t>
            </a:r>
            <a:endParaRPr b="1" lang="en-US" sz="4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76932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L DESARROLLO INSTITUCIONAL Y FORTALECIMIENTO DE ELENCOS ESTABLES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CREACIÓN DE EXCELENCIA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3366"/>
                </a:solidFill>
                <a:latin typeface="Arial"/>
              </a:rPr>
              <a:t>FOMENTO A LA ASOCIATIVIDAD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66"/>
                </a:solidFill>
                <a:latin typeface="Arial"/>
              </a:rPr>
              <a:t>APOYO A PROYECTOS CONMEMORATIVOS DEL BICENTENARIO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05680" y="103104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Becas y Pasantías</a:t>
            </a:r>
            <a:br>
              <a:rPr sz="2400"/>
            </a:br>
            <a:r>
              <a:rPr b="0" lang="es-ES" sz="2400" spc="-1" strike="noStrike">
                <a:solidFill>
                  <a:srgbClr val="006666"/>
                </a:solidFill>
                <a:latin typeface="Arial"/>
              </a:rPr>
              <a:t>Nacional</a:t>
            </a:r>
            <a:endParaRPr b="1" lang="en-US" sz="24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49000"/>
            <a:ext cx="7693200" cy="3737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Pasantías y diplomados en Chile y el extranjero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magister a través de Becas Chile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3366"/>
                </a:solidFill>
                <a:latin typeface="Arial"/>
              </a:rPr>
              <a:t>Residencias en Chile o el extranjero: estudios de formación, creación o investigación </a:t>
            </a:r>
            <a:r>
              <a:rPr b="0" lang="es-ES" sz="2000" spc="-1" strike="noStrike">
                <a:solidFill>
                  <a:srgbClr val="003366"/>
                </a:solidFill>
                <a:latin typeface="Arial"/>
              </a:rPr>
              <a:t>(excepto literatura, música y artes audiovisuales)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66"/>
                </a:solidFill>
                <a:latin typeface="Arial"/>
              </a:rPr>
              <a:t>Línea apoyo a artistas y proyectos chilenos a desarrollarse en el extranjero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Apoyo para la promoción de proyectos y artistas chilenos en el extranjero, tales como asistencia a conferencias, seminarios, eventos, festivales, encuentros y muestras, entre otros. Espacios acotados de presentación, no financia giras, éstas deben presentarse a la Línea de Comunicación y Extensión, en la modalidad de itinerancia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Modalidad de Ventanilla Abierta.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66"/>
                </a:solidFill>
                <a:latin typeface="Arial"/>
              </a:rPr>
              <a:t>Línea Investigación y estudios para el fomento de las Artes y la Cultura.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Estimula los proyectos de investigación y estudios en las áreas artísticas y culturales que financia FONDART, en ámbitos como la documentación y archivo, históricos, monográficos, teóricos, creativos, curatoriales, técnicos y tecnológico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3366"/>
                </a:solidFill>
                <a:latin typeface="Arial"/>
              </a:rPr>
              <a:t>No financia proyectos de tesis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0T19:50:42Z</dcterms:created>
  <dc:creator>vvergara</dc:creator>
  <dc:description/>
  <dc:language>en-US</dc:language>
  <cp:lastModifiedBy>Preferred Customer</cp:lastModifiedBy>
  <dcterms:modified xsi:type="dcterms:W3CDTF">2010-06-16T21:33:36Z</dcterms:modified>
  <cp:revision>125</cp:revision>
  <dc:subject/>
  <dc:title>Fondos culturales concursables en Chile</dc:title>
</cp:coreProperties>
</file>