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9E23-5A7B-47FA-A49D-AC3FF0039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79D5-50BA-4955-96F4-9E1D66D75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3E95-B82D-4970-84E2-A4D325FD0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12EE-0327-4E23-9AE8-7F57E0401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4D469-5E64-4E4B-B812-82A4D5375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85AE1-9741-4069-9C47-4C626968D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F24AE-7682-4886-8BD8-C0168ABC3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27122-5288-494B-B973-887EC8AFD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FBD3A-EE14-47E9-BF07-7F4A19AEF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65481-AD4F-4D6F-9722-1DD0152D5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B6C62-6BDC-4A28-87DB-614575D6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F5DA-B235-4F8A-B3FC-E4082F266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4AE38-4535-4C3B-9CF4-C1054047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473AA-DD5A-44B9-930B-3FA1850D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E7F68-3C6F-44AC-9750-33B2AF0C9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40F86-3F61-476B-B43F-C2EEC9F9B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90B17-7F09-4D4B-9C1C-D13AC0CF7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915D-56F6-4059-A65B-FA4596149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1729-F5F9-4150-8EDA-5F9536277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5E8E-200D-4C92-BECE-FB12E3C58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8FD8-FF2D-4189-AB0E-91203BF6D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9096-C024-464D-9E32-FF20DC65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40E7-CACE-4E0F-AED2-DC444C8F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CDAD-77A0-4D1D-BD81-30961A5B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4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f4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E5168-BA56-4178-82F8-B30F7FB63AF3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4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B975F-AADA-465C-BB1A-7CF532EB71E7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02520" y="1409040"/>
            <a:ext cx="7796160" cy="104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Arial"/>
              </a:rPr>
              <a:t>Financiamiento Cultural en Chi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3933360"/>
            <a:ext cx="4013280" cy="81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66"/>
                </a:solidFill>
                <a:latin typeface="Arial"/>
              </a:rPr>
              <a:t>Bárbara Negró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66"/>
                </a:solidFill>
                <a:latin typeface="Arial"/>
              </a:rPr>
              <a:t>201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12160" y="812160"/>
            <a:ext cx="7823880" cy="69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Fomento de las Artes y Artesaní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900000" y="2420640"/>
            <a:ext cx="7693200" cy="40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Artes Visuales </a:t>
            </a: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(desde pintura a arte digital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Fotografí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Artes integradas y multimedia </a:t>
            </a: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(experimental y transmedial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Teatr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Danz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Arte circense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Artesanía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Modalidades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Creación y/o producción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27640" y="1197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66"/>
                </a:solidFill>
                <a:latin typeface="Arial"/>
              </a:rPr>
              <a:t>Línea de Comunicación y Extensión para el Fomento de las Artes y la Cultura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En las áreas de </a:t>
            </a:r>
            <a:r>
              <a:rPr b="0" lang="es-ES_tradnl" sz="3200" spc="-1" strike="noStrike">
                <a:solidFill>
                  <a:srgbClr val="003366"/>
                </a:solidFill>
                <a:latin typeface="Arial"/>
              </a:rPr>
              <a:t>Difusión </a:t>
            </a: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y </a:t>
            </a:r>
            <a:r>
              <a:rPr b="0" lang="es-ES_tradnl" sz="3200" spc="-1" strike="noStrike">
                <a:solidFill>
                  <a:srgbClr val="003366"/>
                </a:solidFill>
                <a:latin typeface="Arial"/>
              </a:rPr>
              <a:t>Eventos</a:t>
            </a: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 las modalidades que se presentan so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Iniciativas en medios de comunic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Iniciativas de marketing, comercialización y/o distribu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Itineranc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Exposiciones de aut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66"/>
                </a:solidFill>
                <a:latin typeface="Arial"/>
              </a:rPr>
              <a:t>Desarrollo de Infraestructura Cultural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421000"/>
            <a:ext cx="7693200" cy="36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dquisición e instalación de bienes de inversión que permitan un mejor funcionamiento de espacios culturales existentes en el país y fomenten la creación, ampliación y diversificación de audiencias, a nivel nacional y regiona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Linea de financiamiento region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Línea Fomento de las Artes, la Artesanía y el Folclo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Línea de Comunicación y Extensión para el Fomento de las Artes y la Cultura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Línea de Desarrollo Cultural Regional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Línea de Conservación y Difusión del Patrimonio Cultural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Línea de Conservación y Promoción del Patrimonio Inmateri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Línea de Desarrollo de las Culturas Indígena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Línea de Desarrollo de Infraestructura Cultural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Línea de Apoyo a la Difusión e Inserción de Artistas y Proyectos Culturales Chilenos en el Paí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66"/>
                </a:solidFill>
                <a:latin typeface="Arial"/>
              </a:rPr>
              <a:t>Fomento de las Artes y la Artesanía y el folclor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Promueve y estimula la creación y producción artística en las áreas de Artes Visuales, Fotografía, Teatro, Danza, la Artesanía y el Folclor, en todas sus formas y expresion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66"/>
                </a:solidFill>
                <a:latin typeface="Arial"/>
              </a:rPr>
              <a:t>Comunicación y extensión para el fomento de las artes y la cultura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Fomenta la promoción, difusión, la circulación y comercialización de la producción de bienes y servicios artísticos y culturales, producidos por nuestros creadores, artistas y agentes culturales, a nivel local y en el paí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esarrollo cultural region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Formación y capacitació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Formación de público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Capacitación de artistas, creadores y gestores culturales regiona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nvestigación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(históricos, de archivo, documentación y teórico sobre la producción regional en artes visuales, fotografía, danza y gestión cultural e infraestructur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niciativas socioculturales.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 Contempla el desarrollo, integración e inclusión social a través del arte y la cultur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27760" y="967320"/>
            <a:ext cx="7653600" cy="81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1" lang="es-ES_tradnl" sz="2800" spc="-1" strike="noStrike">
                <a:solidFill>
                  <a:srgbClr val="006666"/>
                </a:solidFill>
                <a:latin typeface="Arial"/>
              </a:rPr>
              <a:t>Conservación y Difusión del Patrimonio Cultural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4360" y="2565360"/>
            <a:ext cx="77724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Restauración, mantención y elaboración de expedientes técnico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30960" indent="-50148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Restauración o mantenció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30960" indent="-50148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Elaboración de expediente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72760" indent="-57276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Capacit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30960" indent="-50148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Capacitación en ofici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930960" indent="-50148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Conservación patrimonia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2760" indent="-5727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Difusión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(divulgación y circulación de inf. sobre patrimonio protegido por la ley 17.288 de Monumentos Nacionale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72760" indent="-5727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Investigación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(sobre tangibles, muebles e inmuebles protegidos por la ley 17.288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30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309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66"/>
                </a:solidFill>
                <a:latin typeface="Arial"/>
              </a:rPr>
              <a:t>Conservación y promoción del Patrimonio Inmateri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629920" cy="53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En </a:t>
            </a: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artesanía</a:t>
            </a: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tradiciones y expresiones orales</a:t>
            </a: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artes del espectáculo 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y    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practicas sociales, rituales y festividades</a:t>
            </a: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contempla las modalidades d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Arial"/>
              </a:rPr>
              <a:t>Formación y difusión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Arial"/>
              </a:rPr>
              <a:t>Investigación.</a:t>
            </a: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66"/>
                </a:solidFill>
                <a:latin typeface="Arial"/>
              </a:rPr>
              <a:t>Desarrollo de las Culturas Indígenas</a:t>
            </a:r>
            <a:br>
              <a:rPr sz="24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755640" y="2615760"/>
            <a:ext cx="769320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reación y producción de obra artístic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vestig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ifus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uesta en valor de técnicas ancestrales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(vinculadas a la artesaní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omoción del intercambio pluricultural e intercultur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Rescate, conservación y difusión de lenguas ancestra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(sólo postulan personas, comunidades o asociaciones indígenas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66"/>
                </a:solidFill>
                <a:latin typeface="Arial"/>
              </a:rPr>
              <a:t>Alternativas de financiamiento de proyectos cultural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"/>
              </a:rPr>
              <a:t>Público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 (fondos concursables;  fondos regionales;  fondos municipale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"/>
              </a:rPr>
              <a:t>Privado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a) Fundaciones, corporaciones, universidades y otros  organismos cultural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b) Empresa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c) Personas naturales (donaciones, herencias, legado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"/>
              </a:rPr>
              <a:t>Mixto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1" lang="es-ES_tradnl" sz="2400" spc="-1" strike="noStrike">
                <a:solidFill>
                  <a:srgbClr val="003366"/>
                </a:solidFill>
                <a:latin typeface="Arial"/>
              </a:rPr>
              <a:t> Estado y contribuyent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"/>
              </a:rPr>
              <a:t>Internacional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 (público y privado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66"/>
                </a:solidFill>
                <a:latin typeface="Arial"/>
              </a:rPr>
              <a:t>Desarrollo de la Infraestructura cultur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Apoya las necesidades de equipamiento de bienes muebles de inversión y móvil para centros o espacios culturales ya existentes, potenciando la oferta artística y cultural hacia la comunidad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66"/>
                </a:solidFill>
                <a:latin typeface="Arial"/>
              </a:rPr>
              <a:t>Línea de Apoyo a la Difusión e inserción de artistas y proyectos culturales chilenos en el paí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Financia total o parcialmente proyectos destinados a facilitar y fomentar la participación en espacios de difusión, circulación e intercambio de creadores, artistas y agentes culturales, en general, y de sus proyectos artísticos o culturales chilenos, en diversas áreas artísticas, en Chile, con motivo de una invitación, selección, clasificación en eventos, certámenes u otra activida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Ventanilla abierta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716040" y="1084680"/>
            <a:ext cx="7860600" cy="44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66"/>
                </a:solidFill>
                <a:latin typeface="Arial"/>
              </a:rPr>
              <a:t>Fondo del Libro y la Lectur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26920" y="2491920"/>
            <a:ext cx="7693200" cy="36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Fomento del Libro: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proyectos de edición, difusión e investigación cuya finalidad sea fortalecer a la comunidad creadora, crítica y difusora de obras de autores chilenos, destinadas al público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Fomento Bibliotecario: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iniciativas destinadas al mejoramiento, equipamiento o adquisición de nuevo material para bibliotecas públicas y comunitarias abiertas al público y de entrada gratuit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Fomento de la Lectura: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iniciativas destinadas al público lector con el fin de promover o animar la lectura en la comunidad a través de eventos, promoción, investigación u otros</a:t>
            </a: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Arial"/>
              </a:rPr>
              <a:t>Fondo del Libro y la Lectu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Apoyo a la difusión y las comunicaciones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: medios de difusión escritos, electrónicos, radiales o audiovisuales para el fomento de la lectura y el libro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Fomento al perfeccionamiento:</a:t>
            </a: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 proyectos que incrementen los conocimientos profesionales y las competencias académicas mediante postgrados, seminarios, encuentros, cursos y talleres en instituciones nacionales, así como pasantías en el extranjero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Fomento a la creación literaria: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 financia a escritores para proyectos de creación en novela, cuento, poesía, ensayo de crítica y creación literaria, dramaturgia, géneros referenciales (crónicas, memorias, testimonio) y literatura para niños. Categoría emergentes y profesional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Premios y concurs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Premio “Escrituras de la Memoria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Premio “Mejores Obras Literarias de Autores Nacionales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Premio Creación literaria joven: “Roberto Bolaño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Premio “Amster-Coré”: reconoce el diseño y la ilustración editorial y promueve creadores gráfico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Premio Iberamericano de poesía Pablo Nerud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Selección de obras de autores chilenos para adquisición de libros para bibliotecas públic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787320" y="1084680"/>
            <a:ext cx="7860600" cy="44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Fomento de la Música Nacion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84000" y="2276640"/>
            <a:ext cx="78483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Fomento a la realización de eventos presencial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Fomento a la difusión de música nacional en medios de comunicación masivos y establecimientos educacional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Fomento a la creación y producción de música naciona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Fomento a la Investigación de Música Naciona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Línea formació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Concursos y premi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Concurso de Composición Luis Advis: en las tres categoria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Popula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De raíz folclóric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Docta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Premio a la Música Nacional “Presidente de la República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Popula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De raíz folclóric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Doct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Distinción a Edición Musical y producción fonográfic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A personas o institucion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Fondo de Fomento Audiovisu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755640" y="220500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Producción de Largometrajes nacionales para exhibición o explotación comercial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Formación profesional (becas, pasantías, tutorías y residencia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Creación de Guion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Producción de Obras Audiovisuales, documental, ficción y animación (Cortos, mediometraje y obras regionale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Investigación y Capacitació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66"/>
                </a:solidFill>
                <a:latin typeface="Arial"/>
              </a:rPr>
              <a:t>Difusión, exhibición y distribución de obras audiovisuales Nacionales, producción de eventos regionales y difusión a través de medi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66"/>
                </a:solidFill>
                <a:latin typeface="Arial"/>
              </a:rPr>
              <a:t>Implementación de equipamiento para el desarrollo audiovisu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66"/>
                </a:solidFill>
                <a:latin typeface="Arial"/>
              </a:rPr>
              <a:t>Programas de desarrollo invitados por el CAI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Apoyo al resguardo del Patrimonio Audiovisua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Apoyo a Festivales Nacional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Comercialización de obras audiovisuales en el exterio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Formación de públic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Programa Ibermed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47800" y="635400"/>
            <a:ext cx="7752600" cy="118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Premio Pedro Sienna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66"/>
                </a:solidFill>
                <a:latin typeface="Arial"/>
              </a:rPr>
              <a:t>Premio a la trayectoria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66"/>
                </a:solidFill>
                <a:latin typeface="Arial"/>
              </a:rPr>
              <a:t>Reconocimiento especial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Organismos que poseen fondos concursables a nivel nacion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Consejo Nacional de Cultura, CN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Consejo Nacional de Televisión, CNTV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Dirección de Asuntos Culturales, Dira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NAD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RF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O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Gobiernos Regiona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NTV, Fondo CNTV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539280" y="2349360"/>
            <a:ext cx="86043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3366"/>
                </a:solidFill>
                <a:latin typeface="Arial"/>
              </a:rPr>
              <a:t>Categoría Nº1: Miniserie Histórica y documentales históricos ficcionados.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3366"/>
                </a:solidFill>
                <a:latin typeface="Arial"/>
              </a:rPr>
              <a:t>Categoría Nº2: Ficción. 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3366"/>
                </a:solidFill>
                <a:latin typeface="Arial"/>
              </a:rPr>
              <a:t>Categoría Nº3: No Ficción. 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3366"/>
                </a:solidFill>
                <a:latin typeface="Arial"/>
              </a:rPr>
              <a:t>Categoría N° 4. Programas de procedencia e interés regional.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3366"/>
                </a:solidFill>
                <a:latin typeface="Arial"/>
              </a:rPr>
              <a:t>Categoría Nº5:Programas Orientados al Público Infantil de 3 a 6 años.   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3366"/>
                </a:solidFill>
                <a:latin typeface="Arial"/>
              </a:rPr>
              <a:t>Categoría Nº6: Programas Orientados al Público Infantil mayor de 6 años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3366"/>
                </a:solidFill>
                <a:latin typeface="Arial"/>
              </a:rPr>
              <a:t>Categoría N° 7: Nuevas temporadas programas ya financiados por el Fondo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3366"/>
                </a:solidFill>
                <a:latin typeface="Arial"/>
              </a:rPr>
              <a:t>Categoría N° 8: Apoyo a la difusión de documentales nacionales ya producidos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3366"/>
                </a:solidFill>
                <a:latin typeface="Arial"/>
              </a:rPr>
              <a:t>Categoría Nº9:  </a:t>
            </a:r>
            <a:r>
              <a:rPr b="0" lang="es-ES_tradnl" sz="1900" spc="-1" strike="noStrike">
                <a:solidFill>
                  <a:srgbClr val="003366"/>
                </a:solidFill>
                <a:latin typeface="Arial"/>
              </a:rPr>
              <a:t>Microprogramas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3366"/>
                </a:solidFill>
                <a:latin typeface="Arial"/>
              </a:rPr>
              <a:t>Categoría Nº10: Programas de Procedencia e Interés Regional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3366"/>
                </a:solidFill>
                <a:latin typeface="Arial"/>
              </a:rPr>
              <a:t>Categoría N° 11: Programas unitarios para TV (telefilms) 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3366"/>
                </a:solidFill>
                <a:latin typeface="Arial"/>
              </a:rPr>
              <a:t>Categoría N° 12: Telenovelas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NTV, Fondo de Anten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ste fondo esta destinado a subsidiar la producción, transmisión y difusión de programas televisivos en aquellas 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zonas fronterizas, extremas o apartadas del territorio nacional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en que, por su lejanía o escasa población, no exista interés comercial que incentive a concesionarias de servicios de libre recepció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Pueden postular las concesionarias de servicios de radiodifusión televisiva de libre recep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Destina 104 millones de pesos par la instalación de sistemas de recepción y transmisió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RAC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Anualmente, esta Dirección realiza una convocatori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para concursar por un fondo que permite auspici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actividades artístico-culturales en el exterior. 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concurso se divide en do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Fondo para proyectos presentados por artistas y fundaciones u organizaciones culturales. (gastos de operación, difusión y participación de los ejecutore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Fondo para proyectos presentados por las distintas representaciones diplomáticas chilena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CORFO, Programa de Fomento al Cine y la Industria Audiovisual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poyo al desarrollo o la preproducció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conjunto de operaciones previas al rodaj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poyo a la distribución y comercializació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Etapa final de las nuevas producciones, apoyo para iniciar distribución comercial tanto nacional como internaciona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Anualmente, entre abril y marz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Conadi / Fondo de Cultura y Educació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ograma de Manejo y Protección del Patrimonio Cultural Indígen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Subsidio a la capacitación y especialización de indígena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ograma de Difusión y Fomento de las Culturas Indígen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Conadi /Fondo de Cultura yEduc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plicación del Diseño Curricular y Pedagógico Intercultural Bilingü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Subsidio a la residencia para alumnos indígenas de Educación Superio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Recuperación y revitalización de las lenguas indígena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OP, Dirección de Arquitectu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ncurso de arte público en edificios y espacios públicos. Comisión Nemesio Antúnez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FNDR, 2% de cultu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Es un porcentaje del Fondo Nacional de Desarrollo Regional, que es el principal instrumento financiero de transmisión de recursos fiscales a region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Lo administración corresponde a los Gobiernos Regionales y a las subsecretarías de desarrollo regiona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El uso y modo de asignación del 2% FNDR cuenta con diferentes políticas en cada reg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Generalmente promueve una distribución equitativa del acceso a bienes y servicios culturales, como también la preservación y el desarrollo de la identidad regiona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el CNC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68000" y="2361960"/>
            <a:ext cx="867564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FONDAR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FONDO DEL LIBR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FONDO DE LA MÚSI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FONDO AUDIOVISU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FONDO NACIONAL ESCUELAS ARTISTIC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66"/>
                </a:solidFill>
                <a:latin typeface="Arial"/>
              </a:rPr>
              <a:t>Fondo de desarrollo de la Cultura, FONDAR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En </a:t>
            </a:r>
            <a:r>
              <a:rPr b="1" lang="es-ES_tradnl" sz="1400" spc="-1" strike="noStrike">
                <a:solidFill>
                  <a:srgbClr val="003366"/>
                </a:solidFill>
                <a:latin typeface="Arial"/>
              </a:rPr>
              <a:t>ÁMBITO NACIONAL</a:t>
            </a: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 DE FINANCIAMIENT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LÍNEA BICENTENARI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LÌNEA BECAS Y PASANTÍA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Línea apoyo a artistas y proyectos chilenos a desarrollarse en el extranjer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Línea de Fomento de las Artes y la Artesaní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Línea Investigación y estudios para el fomento de las Artes y la Cultura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Línea de Comunicación y Extensión para el Fomento de las Artes y la Cultur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Línea Desarrollo de Infraestructura Cultural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En </a:t>
            </a:r>
            <a:r>
              <a:rPr b="1" lang="es-ES_tradnl" sz="1400" spc="-1" strike="noStrike">
                <a:solidFill>
                  <a:srgbClr val="003366"/>
                </a:solidFill>
                <a:latin typeface="Arial"/>
              </a:rPr>
              <a:t>ÁMBITO REGIONAL</a:t>
            </a: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 DE FINANCIAMIENT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Línea de Fomento de las Artes, la Artesanía y el Folclor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Línea de Comunicación y Extensión para el Fomento de las Artes y la Cultura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3366"/>
                </a:solidFill>
                <a:latin typeface="Arial"/>
              </a:rPr>
              <a:t>Línea Desarrollo Cultural Regiona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Conservación y Promoción del Patrimonio Cultural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Conservación y Difusión del Patrimonio Inmateria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Desarrollo de las Culturas Indígena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Línea de </a:t>
            </a:r>
            <a:r>
              <a:rPr b="1" lang="es-ES" sz="1200" spc="-1" strike="noStrike">
                <a:solidFill>
                  <a:srgbClr val="003366"/>
                </a:solidFill>
                <a:latin typeface="Arial"/>
              </a:rPr>
              <a:t>Desarrollo de Infraestructura Cultura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3366"/>
                </a:solidFill>
                <a:latin typeface="Arial"/>
              </a:rPr>
              <a:t>Línea de apoyo a la difusión e inserción de artistas y proyectos culturales chilenos en el paí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6666"/>
                </a:solidFill>
                <a:latin typeface="Arial"/>
              </a:rPr>
              <a:t>Línea Bicentenario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Arial"/>
              </a:rPr>
              <a:t>FOMENTO AL DESARROLLO INSTITUCIONAL Y FORTALECIMIENTO DE ELENCOS ESTABL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Arial"/>
              </a:rPr>
              <a:t>FOMENTO A LA CREACIÓN DE EXCELENCI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Arial"/>
              </a:rPr>
              <a:t>FOMENTO A LA ASOCIATIVIDA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APOYO A PROYECTOS CONMEMORATIVOS DEL BICENTENARI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05680" y="1031040"/>
            <a:ext cx="7823880" cy="69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66"/>
                </a:solidFill>
                <a:latin typeface="Arial"/>
              </a:rPr>
              <a:t>Becas y Pasantías</a:t>
            </a:r>
            <a:br>
              <a:rPr sz="2400"/>
            </a:br>
            <a:r>
              <a:rPr b="0" lang="es-ES" sz="2400" spc="-1" strike="noStrike">
                <a:solidFill>
                  <a:srgbClr val="006666"/>
                </a:solidFill>
                <a:latin typeface="Arial"/>
              </a:rPr>
              <a:t>Nacional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49000"/>
            <a:ext cx="7693200" cy="37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asantías y diplomados en Chile y el extranjero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(magister a través de Becas Chile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sidencias en Chile o el extranjero: estudios de formación, creación o investigación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(excepto literatura, música y artes audiovisuales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66"/>
                </a:solidFill>
                <a:latin typeface="Arial"/>
              </a:rPr>
              <a:t>Línea apoyo a artistas y proyectos chilenos a desarrollarse en el extranjero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Apoyo para la promoción de proyectos y artistas chilenos en el extranjero, tales como asistencia a conferencias, seminarios, eventos, festivales, encuentros y muestras, entre otros. Espacios acotados de presentación, no financia giras, éstas deben presentarse a la Línea de Comunicación y Extensión, en la modalidad de itinerancia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Modalidad de Ventanilla Abiert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66"/>
                </a:solidFill>
                <a:latin typeface="Arial"/>
              </a:rPr>
              <a:t>Línea Investigación y estudios para el fomento de las Artes y la Cultura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Estimula los proyectos de investigación y estudios en las áreas artísticas y culturales que financia FONDART, en ámbitos como la documentación y archivo, históricos, monográficos, teóricos, creativos, curatoriales, técnicos y tecnológico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No financia proyectos de tesi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19:50:42Z</dcterms:created>
  <dc:creator>vvergara</dc:creator>
  <dc:description/>
  <dc:language>en-US</dc:language>
  <cp:lastModifiedBy>Preferred Customer</cp:lastModifiedBy>
  <dcterms:modified xsi:type="dcterms:W3CDTF">2010-06-16T21:33:36Z</dcterms:modified>
  <cp:revision>125</cp:revision>
  <dc:subject/>
  <dc:title>Fondos culturales concursables en Chile</dc:title>
</cp:coreProperties>
</file>