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9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1D006-35C1-44B8-BFF8-A6505194FC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9344-014D-410F-A6B3-6BA9BAC22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CF76D-DB23-4B1D-B605-50B8ADF7F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1531-74D6-4958-B11D-CF9DD2ABAB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34A22-7CA7-4E5B-8518-8F7A11205F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484B9-7C59-48AC-94C9-B341C1E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52EB9-71D8-456D-A510-85D081D47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1728B-E346-4505-B1D5-5C2CBC41C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D05A73-CDC6-4C6C-8A11-744F77D81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D595D-199F-4067-B96F-4DAEF7E440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BF9DB4-AE7E-43A2-9763-B1957AB3D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8F75F-14F7-4819-90C1-DBC2BD7B1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C4408-0662-4940-9BCC-DD1FB3AE9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B72513-1FDE-4E2C-8270-AD6FFAE371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7AD03-904C-47F6-A499-8D5581800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8180C-08D8-4B76-98FC-A9F861FA1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EE57D-6306-40A1-BF43-CCB39BF1E6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C4051-84F6-4762-BF3D-09346ACC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AD0B-E1CD-463F-B80A-461BAE0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FA9E-24FC-4295-90FD-F7210276E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81F8-B15A-485C-95D5-1DB2035BE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B1C79-36F9-46B0-8699-7D7AAA2CB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8B5CA-E48A-4B09-830D-6A82553F7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725D0-F2B1-40CF-9A90-C47BE2C781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cc33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f5f5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EC5BA-FFC4-4C1B-9622-7EB7B7146B36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4D189-AFBA-4780-98AD-169C2C6B1D25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f5f5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Arial"/>
              </a:rPr>
              <a:t>Participación ciudadana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0" y="3933360"/>
            <a:ext cx="4013280" cy="129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Primeros resultados Encuesta Consumo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2009</a:t>
            </a: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572000" y="2852640"/>
            <a:ext cx="3745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4572000" y="3068640"/>
            <a:ext cx="386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f5f5f"/>
                </a:solidFill>
                <a:latin typeface="Arial"/>
              </a:rPr>
              <a:t>Encuesta de Consumo cultural </a:t>
            </a:r>
            <a:r>
              <a:rPr b="1" lang="en-US" sz="2400" spc="-1" strike="noStrike">
                <a:solidFill>
                  <a:srgbClr val="5f5f5f"/>
                </a:solidFill>
                <a:latin typeface="Arial"/>
              </a:rPr>
              <a:t>200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:</a:t>
            </a:r>
            <a:r>
              <a:rPr b="1" lang="en-GB" sz="36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7720" y="2361960"/>
            <a:ext cx="377532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 algn="ctr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8" name=""/>
          <p:cNvGraphicFramePr/>
          <p:nvPr/>
        </p:nvGraphicFramePr>
        <p:xfrm>
          <a:off x="609480" y="1600200"/>
          <a:ext cx="8018640" cy="4637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600200"/>
                    <a:ext cx="8018640" cy="463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Prácticas Artísticas (12 meses):</a:t>
            </a:r>
            <a:endParaRPr b="1" lang="en-US" sz="28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09480" y="1600200"/>
            <a:ext cx="792180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 (clases)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39640" y="1557360"/>
            <a:ext cx="799308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61760" y="858600"/>
            <a:ext cx="7926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Indicador </a:t>
            </a:r>
            <a:r>
              <a:rPr b="0" lang="en-GB" sz="2800" spc="-1" strike="noStrike" u="sng">
                <a:solidFill>
                  <a:srgbClr val="5f5f5f"/>
                </a:solidFill>
                <a:uFillTx/>
                <a:latin typeface="Arial"/>
              </a:rPr>
              <a:t>aproximativo</a:t>
            </a: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de piratería:</a:t>
            </a:r>
            <a:br>
              <a:rPr sz="2800"/>
            </a:b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(</a:t>
            </a:r>
            <a:r>
              <a:rPr b="0" lang="en-GB" sz="2100" spc="-1" strike="noStrike">
                <a:solidFill>
                  <a:srgbClr val="5f5f5f"/>
                </a:solidFill>
                <a:latin typeface="Arial"/>
              </a:rPr>
              <a:t>Compra artículos en la calle)</a:t>
            </a:r>
            <a:endParaRPr b="1" lang="en-US" sz="21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85800" y="2133720"/>
          <a:ext cx="7775640" cy="4548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133720"/>
                    <a:ext cx="7775640" cy="454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  <a:ea typeface="Lucida Sans Unicode"/>
              </a:rPr>
              <a:t>Los Jóvenes son grandes consumidores de cultura</a:t>
            </a:r>
            <a:endParaRPr b="1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8280360" cy="4824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32" name=""/>
          <p:cNvGraphicFramePr/>
          <p:nvPr/>
        </p:nvGraphicFramePr>
        <p:xfrm>
          <a:off x="914400" y="2133720"/>
          <a:ext cx="7834320" cy="4248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2133720"/>
                    <a:ext cx="7834320" cy="424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acceso a medios audiovisuales, música e Internet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57200" y="2104920"/>
            <a:ext cx="820728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Jóvenes y acceso a medios audiovisuales, música e Internet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37" name=""/>
          <p:cNvGraphicFramePr/>
          <p:nvPr/>
        </p:nvGraphicFramePr>
        <p:xfrm>
          <a:off x="838080" y="2286000"/>
          <a:ext cx="7981920" cy="409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286000"/>
                    <a:ext cx="7981920" cy="409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201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200" spc="-1" strike="noStrike">
                <a:solidFill>
                  <a:srgbClr val="000000"/>
                </a:solidFill>
                <a:latin typeface="Arial"/>
                <a:ea typeface="Lucida Sans Unicode"/>
              </a:rPr>
              <a:t>Hay importantes </a:t>
            </a:r>
            <a:r>
              <a:rPr b="1" lang="en-GB" sz="4200" spc="-1" strike="noStrike" u="sng">
                <a:solidFill>
                  <a:srgbClr val="000000"/>
                </a:solidFill>
                <a:uFillTx/>
                <a:latin typeface="Arial"/>
                <a:ea typeface="Lucida Sans Unicode"/>
              </a:rPr>
              <a:t>desigualdades</a:t>
            </a:r>
            <a:r>
              <a:rPr b="1" lang="en-GB" sz="4200" spc="-1" strike="noStrike">
                <a:solidFill>
                  <a:srgbClr val="000000"/>
                </a:solidFill>
                <a:latin typeface="Arial"/>
                <a:ea typeface="Lucida Sans Unicode"/>
              </a:rPr>
              <a:t> por nivel educativo</a:t>
            </a:r>
            <a:endParaRPr b="1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33200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incipales Resultado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Encuesta de Consumo Cultural 2005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asistencia a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24000" y="1700280"/>
            <a:ext cx="8424720" cy="4608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asistencia a espectáculos en vivo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762120" y="2286000"/>
          <a:ext cx="8229600" cy="4087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286000"/>
                    <a:ext cx="8229600" cy="408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lectoría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228600" y="1817640"/>
            <a:ext cx="856944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Nivel Educativo y lectoría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49" name=""/>
          <p:cNvGraphicFramePr/>
          <p:nvPr/>
        </p:nvGraphicFramePr>
        <p:xfrm>
          <a:off x="685800" y="2209680"/>
          <a:ext cx="8229600" cy="4422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8229600" cy="442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A modo de síntesi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clusione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xiste un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percepción positiv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respecto del acceso a la cultura desde el año 2000 a la fech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 u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acceso equivalente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 los bienes y servicios culturales entre RM y otras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Ciertas actividades comunitarias de uso del tiempo libre (festividades religiosas, fútbol) son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más frecuentes en region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Hay un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similar práctica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actividades artístico-culturales en RM que en otras regiones, destacando la fotografía-vide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clusiones</a:t>
            </a: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Hogares tienen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recursos culturales equivalentes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tre RM y otras regiones, salvo en lo concerniente a la música, donde la capital presenta mayores nivel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Piratería es algo mayor en RM 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que en otras regiones (sobre todo en CD’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En todo Chile los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jóvenes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son el grupo que más accede y participa de la cultura, mientras la </a:t>
            </a: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tercera e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participa escasamen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000" spc="-1" strike="noStrike" u="sng">
                <a:solidFill>
                  <a:srgbClr val="000000"/>
                </a:solidFill>
                <a:uFillTx/>
                <a:latin typeface="Arial"/>
              </a:rPr>
              <a:t>Desigualdad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 en el acceso a la cultura está presente en RM como en otras regiones (a mayor educación, mayor acceso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</a:rPr>
              <a:t>Resultados preliminares 2009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Datos sobre la Encuest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uestra mayor que la anterior: 4.176 cas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15 region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Población de más de 15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Aplicada entre enero y abril del 200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67% considero que el acceso es más facil que hace 5 años. Tendencia positiva con respecto al 2005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85% cree que tiene mayor acceso que las generaciones anterio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Con respecto al 2005, el % de gente que nunca había asistido a un espectáculo bajó 21 puntos porcentu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61760" y="811080"/>
            <a:ext cx="7926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Percepción sobre el Acceso a las Actividades Culturales: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77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61%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de la población de regiones opina que el acceso a la cultura es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más fácil</a:t>
            </a: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 que hace 5 años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Esto da cuenta de una </a:t>
            </a:r>
            <a:r>
              <a:rPr b="1" lang="en-GB" sz="2800" spc="-1" strike="noStrike" u="sng">
                <a:solidFill>
                  <a:srgbClr val="000000"/>
                </a:solidFill>
                <a:uFillTx/>
                <a:latin typeface="Arial"/>
              </a:rPr>
              <a:t>valorización positiva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e la ciudadanía respecto del desarrollo de la actividad cultural en el paí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spcBef>
                <a:spcPts val="700"/>
              </a:spcBef>
              <a:buNone/>
              <a:tabLst>
                <a:tab algn="l" pos="0"/>
                <a:tab algn="l" pos="34128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l acceso, los resultados del 2005 indicaban que el acceso y la frecuencia dependian mucho de la situación socioeconóm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2009 vemos mayor diversidad de asistencia a espectáculos de los distintos grupos socioeconómic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50 % de las audiencias son de la clase media. La participación de las clases bajas nunca es inferior al 10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ine es la disciplina con más asistencia, lo que consolida la tendencia mostrada el 2005. El 35% de los chilenos asiste al c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La danza aumenta significativamente su asistencia. De un 14,7% a un 23%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y una gran disminución del % de personas que jamás habían asistido a actividades cultura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ambién se observa mayor frecuencia de asistencia a las activida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60% consume igual o más de dos veces. Sobre el 25% lo hace 4 ve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spectos generales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Se hace evidente que hay disciplinas artísticas cuyo acceso parece estar medidado por la gratuid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81% 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76% artes visua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9,8 % concie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46,8% teatr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En cambio el 93,7% que fue al cine pagó una entr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cceso a la cultur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3022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diría que su acceso a la cultura es más dificil, más facil o igual que hace 5 año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4067280" y="2565360"/>
          <a:ext cx="4464000" cy="3535560"/>
        </p:xfrm>
        <a:graphic>
          <a:graphicData uri="http://schemas.openxmlformats.org/drawingml/2006/table">
            <a:tbl>
              <a:tblPr/>
              <a:tblGrid>
                <a:gridCol w="1488960"/>
                <a:gridCol w="1486080"/>
                <a:gridCol w="1488960"/>
              </a:tblGrid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, 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difíc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6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ás fáci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7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4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ual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Acceso a la cultura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usted diría que usted a la edad de sus padres tiene mayor, igual o menor acceso a la cultur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4" name=""/>
          <p:cNvGraphicFramePr/>
          <p:nvPr/>
        </p:nvGraphicFramePr>
        <p:xfrm>
          <a:off x="4643280" y="2708280"/>
          <a:ext cx="3770640" cy="3132000"/>
        </p:xfrm>
        <a:graphic>
          <a:graphicData uri="http://schemas.openxmlformats.org/drawingml/2006/table">
            <a:tbl>
              <a:tblPr/>
              <a:tblGrid>
                <a:gridCol w="1886040"/>
                <a:gridCol w="188460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enor ac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4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yor ac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7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gual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9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2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S-N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Infraestructura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¿Existe en su comuna o barrio una sala o centro de exposiciones de artes visuales, teatro, concierto, cine, centro cultural, museo y/o biblioteca pública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4761000" y="2362320"/>
          <a:ext cx="4059000" cy="3716280"/>
        </p:xfrm>
        <a:graphic>
          <a:graphicData uri="http://schemas.openxmlformats.org/drawingml/2006/table">
            <a:tbl>
              <a:tblPr/>
              <a:tblGrid>
                <a:gridCol w="1179360"/>
                <a:gridCol w="2879640"/>
              </a:tblGrid>
              <a:tr h="48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s vi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6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 teatr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ala de concier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 o proyección audiovisu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31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9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entros cultur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8,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useo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4,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ibliotec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</a:rPr>
              <a:t>¿En los últimos 12 meses ha asistido a eventos de artes visuales, teatro, danza, conciertos y cin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4572000" y="2362320"/>
          <a:ext cx="4247640" cy="3724200"/>
        </p:xfrm>
        <a:graphic>
          <a:graphicData uri="http://schemas.openxmlformats.org/drawingml/2006/table">
            <a:tbl>
              <a:tblPr/>
              <a:tblGrid>
                <a:gridCol w="1082880"/>
                <a:gridCol w="1206000"/>
                <a:gridCol w="1958760"/>
              </a:tblGrid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7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9,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Conciert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14,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23,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cc3300"/>
                          </a:solidFill>
                          <a:latin typeface="Arial"/>
                        </a:rPr>
                        <a:t>Da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3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rtes visual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tro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366264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ambio más significativo: la gente que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UNC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 ha asistido a un espectácu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todas las disciplinas hay menos gente que nunca ha asistido. Salvo en el cine que aument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" name=""/>
          <p:cNvGraphicFramePr/>
          <p:nvPr/>
        </p:nvGraphicFramePr>
        <p:xfrm>
          <a:off x="4572000" y="2362320"/>
          <a:ext cx="3959280" cy="3949560"/>
        </p:xfrm>
        <a:graphic>
          <a:graphicData uri="http://schemas.openxmlformats.org/drawingml/2006/table">
            <a:tbl>
              <a:tblPr/>
              <a:tblGrid>
                <a:gridCol w="1111320"/>
                <a:gridCol w="1309680"/>
                <a:gridCol w="1538280"/>
              </a:tblGrid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00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p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1,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atr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nz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ier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0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,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,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ne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5f5f5f"/>
                </a:solidFill>
                <a:latin typeface="Arial"/>
              </a:rPr>
              <a:t>Asistencia a espectáculos artístico y culturales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los espectáculos hay diferencia entre el RM y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cine es el espectáculo con más asistencia en la RM, en tanto en regiones prefieren los concier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l menos favorecido en regiones es el teatro. Lo que puede tener que ver con la ofer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En relación a la gratuidad, en todos los espectáculos, la asistencia gratuita ocurre mayoritariamente en los niveles baj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Gastos y consumo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37702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Hab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8" name=""/>
          <p:cNvGraphicFramePr/>
          <p:nvPr/>
        </p:nvGraphicFramePr>
        <p:xfrm>
          <a:off x="1187280" y="3068640"/>
          <a:ext cx="6624360" cy="3089160"/>
        </p:xfrm>
        <a:graphic>
          <a:graphicData uri="http://schemas.openxmlformats.org/drawingml/2006/table">
            <a:tbl>
              <a:tblPr/>
              <a:tblGrid>
                <a:gridCol w="1490040"/>
                <a:gridCol w="5134320"/>
              </a:tblGrid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2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cucha música (todos los día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2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7,5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r películas (últimos 12 me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28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1,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eer libros (últimos 12 mese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834840"/>
            <a:ext cx="792612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5f5f5f"/>
                </a:solidFill>
                <a:latin typeface="Arial"/>
              </a:rPr>
              <a:t>Evaluación del Acceso a Actividades Culturales:</a:t>
            </a:r>
            <a:endParaRPr b="1" lang="en-US" sz="3000" spc="-1" strike="noStrike">
              <a:solidFill>
                <a:srgbClr val="5f5f5f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960480" y="1600200"/>
          <a:ext cx="7221600" cy="4525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60480" y="1600200"/>
                    <a:ext cx="72216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5f5f5f"/>
                </a:solidFill>
                <a:latin typeface="Arial"/>
              </a:rPr>
              <a:t>Gastos y consumo cultural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837720" y="2361960"/>
            <a:ext cx="675828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1" name=""/>
          <p:cNvGraphicFramePr/>
          <p:nvPr/>
        </p:nvGraphicFramePr>
        <p:xfrm>
          <a:off x="1332000" y="3284640"/>
          <a:ext cx="6264360" cy="3017880"/>
        </p:xfrm>
        <a:graphic>
          <a:graphicData uri="http://schemas.openxmlformats.org/drawingml/2006/table">
            <a:tbl>
              <a:tblPr/>
              <a:tblGrid>
                <a:gridCol w="2176200"/>
                <a:gridCol w="4088160"/>
              </a:tblGrid>
              <a:tr h="603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0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V, todos los dí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9, 3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io, en la última se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9, 8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arios, en la última semana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vistas, últimos 1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5,9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net, últimos 12 mes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219320"/>
            <a:ext cx="777240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4800" spc="-1" strike="noStrike">
                <a:solidFill>
                  <a:srgbClr val="000000"/>
                </a:solidFill>
                <a:latin typeface="Arial"/>
                <a:ea typeface="Lucida Sans Unicode"/>
              </a:rPr>
              <a:t>El acceso a los bienes y servicios culturales</a:t>
            </a:r>
            <a:endParaRPr b="1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Consumo Cultural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33520" y="1371600"/>
            <a:ext cx="8064360" cy="525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811080"/>
            <a:ext cx="7926120" cy="104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5f5f5f"/>
                </a:solidFill>
                <a:latin typeface="Arial"/>
              </a:rPr>
              <a:t>El acceso a los bienes y servicios culturales en el país</a:t>
            </a:r>
            <a:r>
              <a:rPr b="1" lang="en-GB" sz="3200" spc="-1" strike="noStrike">
                <a:solidFill>
                  <a:srgbClr val="5f5f5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El consumo de los distintos bienes y servicios culturales en regiones es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igual o mayor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l de la RM (mayor: videos, diarios, revistas, conciertos, danza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excepción que constituyen los museos debe analizarse considerando la cuasi-inexistencia de oferta de museos artísticos en region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914400" y="1218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ácticas Artísticas</a:t>
            </a:r>
            <a:endParaRPr b="1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5f5f5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877680"/>
            <a:ext cx="7926120" cy="91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3600" spc="-1" strike="noStrike">
                <a:solidFill>
                  <a:srgbClr val="5f5f5f"/>
                </a:solidFill>
                <a:latin typeface="Arial"/>
              </a:rPr>
              <a:t>Prácticas Artísticas:</a:t>
            </a:r>
            <a:endParaRPr b="1" lang="en-US" sz="3600" spc="-1" strike="noStrike">
              <a:solidFill>
                <a:srgbClr val="5f5f5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4640" cy="37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alización de actividades artístico culturales presenta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niveles equivalente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 lo largo del paí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La realización de algún 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asatiempo artístico cultura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es una señal importante en relación al </a:t>
            </a:r>
            <a:r>
              <a:rPr b="1" lang="en-GB" sz="2400" spc="-1" strike="noStrike" u="sng">
                <a:solidFill>
                  <a:srgbClr val="000000"/>
                </a:solidFill>
                <a:uFillTx/>
                <a:latin typeface="Arial"/>
              </a:rPr>
              <a:t>futuro dinamismo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de la actividad artístico cultural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Relevancia de “Sacar fotografías, elaborar videos o alguna otra creación audiovisual”, que es el pasatiempo artístico cultural que efectúa un mayor número de personas en el paí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3T21:25:23Z</dcterms:created>
  <dc:creator>WinuE</dc:creator>
  <dc:description/>
  <dc:language>en-US</dc:language>
  <cp:lastModifiedBy>WinuE</cp:lastModifiedBy>
  <dcterms:modified xsi:type="dcterms:W3CDTF">2010-05-10T18:21:53Z</dcterms:modified>
  <cp:revision>7</cp:revision>
  <dc:subject/>
  <dc:title>Participación ciudadana</dc:title>
</cp:coreProperties>
</file>