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4BB-4C30-4FE8-9B13-3D5A2245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395-F593-4E3D-BBEB-6D3B819A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7D4-C6CE-4468-90D5-735F93D5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BB5-5363-4400-AA1A-06F318B4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40A9-635A-4CD2-85C6-D7F6B9C6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C529-5986-4F85-9EFA-D42340C9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C37D-EE18-4CB2-BE95-0A00F2B2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F0E1-E209-43D4-9A41-DFBC8599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0F50-81D6-4622-B62C-A8C57F56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7FDE-3832-4C90-9A0E-459787F7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0617-F095-4AB3-9DED-55B7010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206-38BC-4E87-9A8E-392C346C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917D-9B27-49CE-9F4F-F6B8528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B66-890A-4C16-BC2A-B37D2C36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DD94-8BDC-4F48-9E24-42880B68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A28D-89C0-470E-8887-41938C1F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B7C-ACC0-46FD-9FAA-9A3276F6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A22-D94E-4E6A-8591-61BF17C8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36F-3DB0-4FAA-B5D3-2A285264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94B-D8F6-4B1E-9EA9-B2F28DD0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3D8-E037-42D3-B5E3-6F1A1D24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464-3B43-4BDE-A31C-27D78A4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615-2304-4355-B883-89B1854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B40-C17C-4DBD-A3D4-1F84C4C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0CB-6C48-4908-B5CB-FD0DDFEFE3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E4B3-9FED-42B4-9E50-BE9B74E763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3933360"/>
            <a:ext cx="4013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imeros resultados Encuesta Consumo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852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068640"/>
            <a:ext cx="38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ncuesta de Consumo cultural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: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1600200"/>
          <a:ext cx="8018640" cy="46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01864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ácticas Artísticas (12 meses):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1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 (clases)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858600"/>
            <a:ext cx="7926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dicador </a:t>
            </a:r>
            <a:r>
              <a:rPr b="0" lang="en-GB" sz="2800" spc="-1" strike="noStrike" u="sng">
                <a:solidFill>
                  <a:srgbClr val="5f5f5f"/>
                </a:solidFill>
                <a:uFillTx/>
                <a:latin typeface="Arial"/>
              </a:rPr>
              <a:t>aproximativo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de piratería: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(</a:t>
            </a:r>
            <a:r>
              <a:rPr b="0" lang="en-GB" sz="2100" spc="-1" strike="noStrike">
                <a:solidFill>
                  <a:srgbClr val="5f5f5f"/>
                </a:solidFill>
                <a:latin typeface="Arial"/>
              </a:rPr>
              <a:t>Compra artículos en la calle)</a:t>
            </a:r>
            <a:endParaRPr b="1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2133720"/>
          <a:ext cx="7775640" cy="45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56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s Jóvenes son grandes consumidores de cultur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2133720"/>
          <a:ext cx="78343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8343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acceso a medios audiovisuales, música e Internet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10492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acceso a medios audiovisuales, música e Internet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286000"/>
          <a:ext cx="798192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9819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ay importantes </a:t>
            </a:r>
            <a:r>
              <a:rPr b="1" lang="en-GB" sz="4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sigualdades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r nivel educativo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ales Resultad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ncuesta de Consumo Cultural 2005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asistencia a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asistencia a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286000"/>
          <a:ext cx="8229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8229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lectoría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817640"/>
            <a:ext cx="8569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lectoría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209680"/>
          <a:ext cx="8229600" cy="44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82296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modo de síntes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clusione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 un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ercepción positiv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specto del acceso a la cultura desde el año 2000 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 u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cceso equivalen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s bienes y servicios culturales entre RM y otras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ertas actividades comunitarias de uso del tiempo libre (festividades religiosas, fútbol) so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ás frecuentes en regi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 un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imilar prácti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actividades artístico-culturales en RM que en otras regiones, destacando la fotografía-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clusione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gares tiene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cursos culturales equivalent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re RM y otras regiones, salvo en lo concerniente a la música, donde la capital presenta mayore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iratería es algo mayor en R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 en otras regiones (sobre todo en CD’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todo Chile lo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jóve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n el grupo que más accede y participa de la cultura, mientras la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ercera e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articipa esca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sigual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el acceso a la cultura está presente en RM como en otras regiones (a mayor educación, mayor acce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ltados preliminares 200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Datos sobre la Encuest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estra mayor que la anterior: 4.176 c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reg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blación de más de 15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da entre enero y abril del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7% considero que el acceso es más facil que hace 5 años. Tendencia positiva con respecto al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cree que tiene mayor acceso que las generacion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respecto al 2005, el % de gente que nunca había asistido a un espectáculo bajó 21 puntos porcen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811080"/>
            <a:ext cx="7926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ercepción sobre el Acceso a las Actividades Culturales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 la población de regiones opina que el acceso a la cultura e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ás fáci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que hace 5 añ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o da cuenta de una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valorización positiv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la ciudadanía respecto del desarrollo de la actividad cultural en el paí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l acceso, los resultados del 2005 indicaban que el acceso y la frecuencia dependian mucho de la situación socio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009 vemos mayor diversidad de asistencia a espectáculos de los distintos grupos socio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50 % de las audiencias son de la clase media. La participación de las clases bajas nunca es inferior al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ine es la disciplina con más asistencia, lo que consolida la tendencia mostrada el 2005. El 35% de los chilenos asiste al 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anza aumenta significativamente su asistencia. De un 14,7% a un 2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una gran disminución del % de personas que jamás habían asistido a actividades cultu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 observa mayor frecuencia de asistencia a las activ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60% consume igual o más de dos veces. Sobre el 25% lo hace 4 v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hace evidente que hay disciplinas artísticas cuyo acceso parece estar medidado por la gratu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81% 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6% artes vi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9,8 % con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6,8% tea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cambio el 93,7% que fue al cine pagó una ent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cceso a la cultur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3022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iría que su acceso a la cultura es más dificil, más facil o igual que hace 5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067280" y="2565360"/>
          <a:ext cx="4464000" cy="3535560"/>
        </p:xfrm>
        <a:graphic>
          <a:graphicData uri="http://schemas.openxmlformats.org/drawingml/2006/table">
            <a:tbl>
              <a:tblPr/>
              <a:tblGrid>
                <a:gridCol w="1488960"/>
                <a:gridCol w="1486080"/>
                <a:gridCol w="1488960"/>
              </a:tblGrid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difíc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fác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cceso a la cultur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usted diría que usted a la edad de sus padres tiene mayor, igual o menor acceso a la cul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43280" y="2708280"/>
          <a:ext cx="3770640" cy="3132000"/>
        </p:xfrm>
        <a:graphic>
          <a:graphicData uri="http://schemas.openxmlformats.org/drawingml/2006/table">
            <a:tbl>
              <a:tblPr/>
              <a:tblGrid>
                <a:gridCol w="1886040"/>
                <a:gridCol w="1884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ac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ac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u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-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Infraestructura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en su comuna o barrio una sala o centro de exposiciones de artes visuales, teatro, concierto, cine, centro cultural, museo y/o biblioteca públ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61000" y="2362320"/>
          <a:ext cx="4059000" cy="3716280"/>
        </p:xfrm>
        <a:graphic>
          <a:graphicData uri="http://schemas.openxmlformats.org/drawingml/2006/table">
            <a:tbl>
              <a:tblPr/>
              <a:tblGrid>
                <a:gridCol w="1179360"/>
                <a:gridCol w="2879640"/>
              </a:tblGrid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s vi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 tea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 de concier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 o proyección audiovi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cul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n los últimos 12 meses ha asistido a eventos de artes visuales, teatro, danza, conciertos y c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0" y="2362320"/>
          <a:ext cx="4247640" cy="3724200"/>
        </p:xfrm>
        <a:graphic>
          <a:graphicData uri="http://schemas.openxmlformats.org/drawingml/2006/table">
            <a:tbl>
              <a:tblPr/>
              <a:tblGrid>
                <a:gridCol w="1082880"/>
                <a:gridCol w="1206000"/>
                <a:gridCol w="19587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ncier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s vi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t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662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más significativo: la gente qu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UN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a asistido a un espectá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das las disciplinas hay menos gente que nunca ha asistido. Salvo en el cine que aument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0" y="2362320"/>
          <a:ext cx="3959280" cy="3949560"/>
        </p:xfrm>
        <a:graphic>
          <a:graphicData uri="http://schemas.openxmlformats.org/drawingml/2006/table">
            <a:tbl>
              <a:tblPr/>
              <a:tblGrid>
                <a:gridCol w="1111320"/>
                <a:gridCol w="1309680"/>
                <a:gridCol w="1538280"/>
              </a:tblGrid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ier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los espectáculos hay diferencia entre el RM y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ine es el espectáculo con más asistencia en la RM, en tanto en regiones prefieren los concie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enos favorecido en regiones es el teatro. Lo que puede tener que ver con la of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la gratuidad, en todos los espectáculos, la asistencia gratuita ocurre mayoritariamente en los niveles ba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Gastos y consumo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87280" y="3068640"/>
          <a:ext cx="6624360" cy="3089160"/>
        </p:xfrm>
        <a:graphic>
          <a:graphicData uri="http://schemas.openxmlformats.org/drawingml/2006/table">
            <a:tbl>
              <a:tblPr/>
              <a:tblGrid>
                <a:gridCol w="1490040"/>
                <a:gridCol w="51343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ucha música (todos los 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películas (últimos 12 me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 libros (últimos 12 me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Evaluación del Acceso a Actividades Culturales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60480" y="1600200"/>
          <a:ext cx="7221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600200"/>
                    <a:ext cx="7221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Gastos y consumo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758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332000" y="3284640"/>
          <a:ext cx="6264360" cy="3017880"/>
        </p:xfrm>
        <a:graphic>
          <a:graphicData uri="http://schemas.openxmlformats.org/drawingml/2006/table">
            <a:tbl>
              <a:tblPr/>
              <a:tblGrid>
                <a:gridCol w="2176200"/>
                <a:gridCol w="408816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, todos los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 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, en la última se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 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ios, en la última se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tas, últimos 1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, últimos 1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acceso a los bienes y servicios cultural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sumo Cultural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811080"/>
            <a:ext cx="7926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l acceso a los bienes y servicios culturales en el país</a:t>
            </a: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onsumo de los distintos bienes y servicios culturales en regiones 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ual o may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 de la RM (mayor: videos, diarios, revistas, conciertos, dan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excepción que constituyen los museos debe analizarse considerando la cuasi-inexistencia de oferta de museos artísticos en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ácticas Artística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alización de actividades artístico culturales present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iveles equivalen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lo largo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alización de algú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atiempo artístico cult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 una señal importante en relación a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turo dinamism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la actividad artístico cultural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cia de “Sacar fotografías, elaborar videos o alguna otra creación audiovisual”, que es el pasatiempo artístico cultural que efectúa un mayor número de persona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21:25:23Z</dcterms:created>
  <dc:creator>WinuE</dc:creator>
  <dc:description/>
  <dc:language>en-US</dc:language>
  <cp:lastModifiedBy>WinuE</cp:lastModifiedBy>
  <dcterms:modified xsi:type="dcterms:W3CDTF">2010-05-10T18:21:53Z</dcterms:modified>
  <cp:revision>7</cp:revision>
  <dc:subject/>
  <dc:title>Participación ciudadana</dc:title>
</cp:coreProperties>
</file>