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36F-F19F-4371-B1A8-98424700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748-B6CF-4F03-9491-7D57BAE8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F7D-1C90-45DD-BF28-ADD13EEA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4B3-0883-430E-8EA0-9DF25C05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E578-0A13-43F5-BA55-C3721504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0C31-F33C-405D-AA97-9CB23F0B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3CB4-F124-4230-93E6-5D28122B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70D4-71FF-4F88-8C09-C680BB40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C69B-02AB-495A-B846-624A9FC8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3526-D0DE-4768-888C-B0BFFE78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6DB0-8D86-4F58-B540-23AC4E68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6FB-C63C-4955-A5CB-18CC8DB8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7E78-635B-4084-800C-AEFA852E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839D-B318-409C-A273-01ECC4FA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3196-D9D8-427C-AAED-9CFFBB63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BDAA-730E-4F2D-84C5-AEA23C3B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F8EB-CB92-4027-BFD4-267697B6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177-21F0-42BE-9F13-A79D7EBD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5F9-C8F2-404A-B3DE-8453A0CF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63E-D06A-4162-B576-9660AA99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7CB-5D08-4DBA-889A-07617D1B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8F9-895D-4395-8B71-6A18B2A1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B87-C214-4198-ACF1-2EE219D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92F-561B-4B4B-ABAC-6BAE341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1A44-1663-4410-93F2-51D2FAEBE3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1363-649D-450A-ADE7-0FCFCF6C1F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3933360"/>
            <a:ext cx="4013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imeros resultados Encuesta Consumo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852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068640"/>
            <a:ext cx="38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Encuesta de Consumo cultural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: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1600200"/>
          <a:ext cx="8018640" cy="46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01864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ácticas Artísticas (12 meses):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18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 (clases)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858600"/>
            <a:ext cx="7926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dicador </a:t>
            </a:r>
            <a:r>
              <a:rPr b="0" lang="en-GB" sz="2800" spc="-1" strike="noStrike" u="sng">
                <a:solidFill>
                  <a:srgbClr val="5f5f5f"/>
                </a:solidFill>
                <a:uFillTx/>
                <a:latin typeface="Arial"/>
              </a:rPr>
              <a:t>aproximativo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de piratería: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(</a:t>
            </a:r>
            <a:r>
              <a:rPr b="0" lang="en-GB" sz="2100" spc="-1" strike="noStrike">
                <a:solidFill>
                  <a:srgbClr val="5f5f5f"/>
                </a:solidFill>
                <a:latin typeface="Arial"/>
              </a:rPr>
              <a:t>Compra artículos en la calle)</a:t>
            </a:r>
            <a:endParaRPr b="1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2133720"/>
          <a:ext cx="7775640" cy="45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56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os Jóvenes son grandes consumidores de cultur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2133720"/>
          <a:ext cx="78343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8343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acceso a medios audiovisuales, música e Internet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104920"/>
            <a:ext cx="8207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acceso a medios audiovisuales, música e Internet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286000"/>
          <a:ext cx="798192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9819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  <a:ea typeface="Lucida Sans Unicode"/>
              </a:rPr>
              <a:t>Hay importantes </a:t>
            </a:r>
            <a:r>
              <a:rPr b="1" lang="en-GB" sz="4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sigualdades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r nivel educativo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ncipales Resultad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ncuesta de Consumo Cultural 2005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asistencia a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asistencia a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2286000"/>
          <a:ext cx="8229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8229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lectoría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817640"/>
            <a:ext cx="8569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lectoría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209680"/>
          <a:ext cx="8229600" cy="44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82296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modo de síntes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clusione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 un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ercepción positiv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specto del acceso a la cultura desde el año 2000 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 u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cceso equivalen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s bienes y servicios culturales entre RM y otras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ertas actividades comunitarias de uso del tiempo libre (festividades religiosas, fútbol) so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ás frecuentes en regio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 un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imilar práctic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actividades artístico-culturales en RM que en otras regiones, destacando la fotografía-vi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clusione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gares tiene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cursos culturales equivalent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re RM y otras regiones, salvo en lo concerniente a la música, donde la capital presenta mayores niv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iratería es algo mayor en R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 en otras regiones (sobre todo en CD’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todo Chile lo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jóve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n el grupo que más accede y participa de la cultura, mientras la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ercera ed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articipa escas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siguald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el acceso a la cultura está presente en RM como en otras regiones (a mayor educación, mayor acce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ltados preliminares 200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Datos sobre la Encuest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estra mayor que la anterior: 4.176 c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reg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blación de más de 15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da entre enero y abril del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7% considero que el acceso es más facil que hace 5 años. Tendencia positiva con respecto al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5% cree que tiene mayor acceso que las generaciones anteri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respecto al 2005, el % de gente que nunca había asistido a un espectáculo bajó 21 puntos porcen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811080"/>
            <a:ext cx="7926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ercepción sobre el Acceso a las Actividades Culturales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 la población de regiones opina que el acceso a la cultura e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ás fáci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que hace 5 añ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o da cuenta de una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valorización positiv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la ciudadanía respecto del desarrollo de la actividad cultural en el paí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l acceso, los resultados del 2005 indicaban que el acceso y la frecuencia dependian mucho de la situación socio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2009 vemos mayor diversidad de asistencia a espectáculos de los distintos grupos socioeconó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50 % de las audiencias son de la clase media. La participación de las clases bajas nunca es inferior al 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ine es la disciplina con más asistencia, lo que consolida la tendencia mostrada el 2005. El 35% de los chilenos asiste al 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anza aumenta significativamente su asistencia. De un 14,7% a un 2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una gran disminución del % de personas que jamás habían asistido a actividades cultu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se observa mayor frecuencia de asistencia a las activ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60% consume igual o más de dos veces. Sobre el 25% lo hace 4 v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hace evidente que hay disciplinas artísticas cuyo acceso parece estar medidado por la gratu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81% 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6% artes vis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9,8 % con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6,8% tea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cambio el 93,7% que fue al cine pagó una entr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cceso a la cultur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3022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iría que su acceso a la cultura es más dificil, más facil o igual que hace 5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067280" y="2565360"/>
          <a:ext cx="4464000" cy="3535560"/>
        </p:xfrm>
        <a:graphic>
          <a:graphicData uri="http://schemas.openxmlformats.org/drawingml/2006/table">
            <a:tbl>
              <a:tblPr/>
              <a:tblGrid>
                <a:gridCol w="1488960"/>
                <a:gridCol w="1486080"/>
                <a:gridCol w="1488960"/>
              </a:tblGrid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difíc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fác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cceso a la cultur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usted diría que usted a la edad de sus padres tiene mayor, igual o menor acceso a la cul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43280" y="2708280"/>
          <a:ext cx="3770640" cy="3132000"/>
        </p:xfrm>
        <a:graphic>
          <a:graphicData uri="http://schemas.openxmlformats.org/drawingml/2006/table">
            <a:tbl>
              <a:tblPr/>
              <a:tblGrid>
                <a:gridCol w="1886040"/>
                <a:gridCol w="1884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ac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ac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u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-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Infraestructura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en su comuna o barrio una sala o centro de exposiciones de artes visuales, teatro, concierto, cine, centro cultural, museo y/o biblioteca públ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61000" y="2362320"/>
          <a:ext cx="4059000" cy="3716280"/>
        </p:xfrm>
        <a:graphic>
          <a:graphicData uri="http://schemas.openxmlformats.org/drawingml/2006/table">
            <a:tbl>
              <a:tblPr/>
              <a:tblGrid>
                <a:gridCol w="1179360"/>
                <a:gridCol w="2879640"/>
              </a:tblGrid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s vi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 tea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 de concier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 o proyección audiovis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cul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n los últimos 12 meses ha asistido a eventos de artes visuales, teatro, danza, conciertos y c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0" y="2362320"/>
          <a:ext cx="4247640" cy="3724200"/>
        </p:xfrm>
        <a:graphic>
          <a:graphicData uri="http://schemas.openxmlformats.org/drawingml/2006/table">
            <a:tbl>
              <a:tblPr/>
              <a:tblGrid>
                <a:gridCol w="1082880"/>
                <a:gridCol w="1206000"/>
                <a:gridCol w="19587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ncier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s vi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tr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662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más significativo: la gente qu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UN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a asistido a un espectá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odas las disciplinas hay menos gente que nunca ha asistido. Salvo en el cine que aument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0" y="2362320"/>
          <a:ext cx="3959280" cy="3949560"/>
        </p:xfrm>
        <a:graphic>
          <a:graphicData uri="http://schemas.openxmlformats.org/drawingml/2006/table">
            <a:tbl>
              <a:tblPr/>
              <a:tblGrid>
                <a:gridCol w="1111320"/>
                <a:gridCol w="1309680"/>
                <a:gridCol w="1538280"/>
              </a:tblGrid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ier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los espectáculos hay diferencia entre el RM y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ine es el espectáculo con más asistencia en la RM, en tanto en regiones prefieren los concier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enos favorecido en regiones es el teatro. Lo que puede tener que ver con la of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la gratuidad, en todos los espectáculos, la asistencia gratuita ocurre mayoritariamente en los niveles ba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Gastos y consumo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87280" y="3068640"/>
          <a:ext cx="6624360" cy="3089160"/>
        </p:xfrm>
        <a:graphic>
          <a:graphicData uri="http://schemas.openxmlformats.org/drawingml/2006/table">
            <a:tbl>
              <a:tblPr/>
              <a:tblGrid>
                <a:gridCol w="1490040"/>
                <a:gridCol w="51343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ucha música (todos los 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películas (últimos 12 me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 libros (últimos 12 me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Evaluación del Acceso a Actividades Culturales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60480" y="1600200"/>
          <a:ext cx="7221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600200"/>
                    <a:ext cx="7221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Gastos y consumo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758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332000" y="3284640"/>
          <a:ext cx="6264360" cy="3017880"/>
        </p:xfrm>
        <a:graphic>
          <a:graphicData uri="http://schemas.openxmlformats.org/drawingml/2006/table">
            <a:tbl>
              <a:tblPr/>
              <a:tblGrid>
                <a:gridCol w="2176200"/>
                <a:gridCol w="408816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, todos los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 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, en la última sem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 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ios, en la última sem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tas, últimos 1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, últimos 1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acceso a los bienes y servicios cultural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sumo Cultural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6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811080"/>
            <a:ext cx="7926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l acceso a los bienes y servicios culturales en el país</a:t>
            </a: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onsumo de los distintos bienes y servicios culturales en regiones 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ual o may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 de la RM (mayor: videos, diarios, revistas, conciertos, dan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excepción que constituyen los museos debe analizarse considerando la cuasi-inexistencia de oferta de museos artísticos en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ácticas Artística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ealización de actividades artístico culturales present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iveles equivalen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lo largo d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ealización de algú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atiempo artístico cultu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 una señal importante en relación al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turo dinamism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la actividad artístico cultural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cia de “Sacar fotografías, elaborar videos o alguna otra creación audiovisual”, que es el pasatiempo artístico cultural que efectúa un mayor número de personas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21:25:23Z</dcterms:created>
  <dc:creator>WinuE</dc:creator>
  <dc:description/>
  <dc:language>en-US</dc:language>
  <cp:lastModifiedBy>WinuE</cp:lastModifiedBy>
  <dcterms:modified xsi:type="dcterms:W3CDTF">2010-05-10T18:21:53Z</dcterms:modified>
  <cp:revision>7</cp:revision>
  <dc:subject/>
  <dc:title>Participación ciudadana</dc:title>
</cp:coreProperties>
</file>