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CA5-84DF-4DB8-BC2D-ED2C32D1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635-1676-4D86-9F23-03CC73F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A26-88E7-45D7-AA93-8DC9FACE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6C2-3931-4D36-AB46-E6BAE3C5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9492-623C-4ADE-9AF7-15A34B55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D2C8-E347-411E-9259-E1CFCF33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6AA5-1126-4AF7-9746-8278C256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3E2C-7D8F-4958-BCB2-15A478EC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86B3-5C75-4B30-83E6-B5627DD8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34B9-091C-4D59-A472-80E3C0E7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86AA-5C05-4264-B6DE-926C6E5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5CBD-49DA-4C9D-B149-EF8D818E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74A8-76A5-42F2-B7D8-AA2FD908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AE97-3DE3-496F-A6D4-E647DFC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457D-EC2B-45A1-8FDB-78A6FD9E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ED19-6B7A-43DB-83E1-0D0BFF5A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D9DD-567D-42E5-9418-98F2551D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1C4-D809-4C6D-9A5C-D5BED154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6AF-D729-47F1-98EE-B7826182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5A4-4729-489C-94B0-A5C53F79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0D5-FF38-4959-9134-12DA2463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170-CF07-4919-AE7D-639F974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638-7C32-48A6-9BFF-0E1F259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453-F706-49DF-8E48-E748AC8E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2921-4D99-4336-B7F3-A27014D0CE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147E-6A6D-482C-934D-C1924B6D99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933360"/>
            <a:ext cx="4013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imeros resultados Encuesta Consumo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852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068640"/>
            <a:ext cx="38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ncuesta de Consumo cultural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1600200"/>
          <a:ext cx="8018640" cy="46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01864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ácticas Artísticas (12 meses)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1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 (clases)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858600"/>
            <a:ext cx="7926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dicador </a:t>
            </a:r>
            <a:r>
              <a:rPr b="0" lang="en-GB" sz="2800" spc="-1" strike="noStrike" u="sng">
                <a:solidFill>
                  <a:srgbClr val="5f5f5f"/>
                </a:solidFill>
                <a:uFillTx/>
                <a:latin typeface="Arial"/>
              </a:rPr>
              <a:t>aproximativo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de piratería: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(</a:t>
            </a:r>
            <a:r>
              <a:rPr b="0" lang="en-GB" sz="2100" spc="-1" strike="noStrike">
                <a:solidFill>
                  <a:srgbClr val="5f5f5f"/>
                </a:solidFill>
                <a:latin typeface="Arial"/>
              </a:rPr>
              <a:t>Compra artículos en la calle)</a:t>
            </a:r>
            <a:endParaRPr b="1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133720"/>
          <a:ext cx="777564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56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s Jóvenes son grandes consumidores de cultu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2133720"/>
          <a:ext cx="78343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8343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10492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286000"/>
          <a:ext cx="798192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9819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ay importantes </a:t>
            </a:r>
            <a:r>
              <a:rPr b="1" lang="en-GB" sz="4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sigualdades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r nivel educativo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ales Resultad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ncuesta de Consumo Cultural 2005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286000"/>
          <a:ext cx="8229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8229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81764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209680"/>
          <a:ext cx="8229600" cy="44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82296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modo de síntes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cepción positi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specto del acceso a la cultura desde el año 2000 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cceso equivalen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s bienes y servicios culturales entre RM y otras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ertas actividades comunitarias de uso del tiempo libre (festividades religiosas, fútbol) s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ás frecuentes en regi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milar práct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actividades artístico-culturales en RM que en otras regiones, destacando la fotografía-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gares tiene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cursos culturales equivalent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re RM y otras regiones, salvo en lo concerniente a la música, donde la capital presenta mayore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iratería es algo mayor en R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 en otras regiones (sobre todo en CD’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todo Chile lo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jóve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n el grupo que más accede y participa de la cultura, mientras la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rcera e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rticipa esca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igual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el acceso a la cultura está presente en RM como en otras regiones (a mayor educación, mayor acce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ltados preliminares 200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Datos sobre la Encuest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stra mayor que la anterior: 4.176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reg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blación de más de 15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da entre enero y abril del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7% considero que el acceso es más facil que hace 5 años. Tendencia positiva con respecto al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cree que tiene mayor acceso que las generacion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respecto al 2005, el % de gente que nunca había asistido a un espectáculo bajó 21 puntos porcen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ercepción sobre el Acceso a las Actividades Culturales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 la población de regiones opina que el acceso a la cultura e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ás fáci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e hace 5 añ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o da cuenta de una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valorización positiv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la ciudadanía respecto del desarrollo de la actividad cultural en el paí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l acceso, los resultados del 2005 indicaban que el acceso y la frecuencia dependian mucho de la situación socio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009 vemos mayor diversidad de asistencia a espectáculos de los distintos grupos socio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50 % de las audiencias son de la clase media. La participación de las clases bajas nunca es inferior al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la disciplina con más asistencia, lo que consolida la tendencia mostrada el 2005. El 35% de los chilenos asiste al 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anza aumenta significativamente su asistencia. De un 14,7% a un 2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gran disminución del % de personas que jamás habían asistido a actividades cul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 observa mayor frecuencia de asistencia a las activ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60% consume igual o más de dos veces. Sobre el 25% lo hace 4 v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hace evidente que hay disciplinas artísticas cuyo acceso parece estar medidado por la gratu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81% 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6% artes vi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9,8 % con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6,8% tea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cambio el 93,7% que fue al cine pagó una ent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3022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iría que su acceso a la cultura es más dificil, más facil o igual que hace 5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067280" y="2565360"/>
          <a:ext cx="4464000" cy="3535560"/>
        </p:xfrm>
        <a:graphic>
          <a:graphicData uri="http://schemas.openxmlformats.org/drawingml/2006/table">
            <a:tbl>
              <a:tblPr/>
              <a:tblGrid>
                <a:gridCol w="1488960"/>
                <a:gridCol w="1486080"/>
                <a:gridCol w="1488960"/>
              </a:tblGrid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ifí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fá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usted diría que usted a la edad de sus padres tiene mayor, igual o menor acceso a la cul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43280" y="2708280"/>
          <a:ext cx="3770640" cy="3132000"/>
        </p:xfrm>
        <a:graphic>
          <a:graphicData uri="http://schemas.openxmlformats.org/drawingml/2006/table">
            <a:tbl>
              <a:tblPr/>
              <a:tblGrid>
                <a:gridCol w="1886040"/>
                <a:gridCol w="1884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-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Infraestructura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en su comuna o barrio una sala o centro de exposiciones de artes visuales, teatro, concierto, cine, centro cultural, museo y/o biblioteca públ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61000" y="2362320"/>
          <a:ext cx="4059000" cy="3716280"/>
        </p:xfrm>
        <a:graphic>
          <a:graphicData uri="http://schemas.openxmlformats.org/drawingml/2006/table">
            <a:tbl>
              <a:tblPr/>
              <a:tblGrid>
                <a:gridCol w="1179360"/>
                <a:gridCol w="287964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tea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de 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 o proyección audiovi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cul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los últimos 12 meses ha asistido a eventos de artes visuales, teatro, danza, conciertos y 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0" y="2362320"/>
          <a:ext cx="4247640" cy="3724200"/>
        </p:xfrm>
        <a:graphic>
          <a:graphicData uri="http://schemas.openxmlformats.org/drawingml/2006/table">
            <a:tbl>
              <a:tblPr/>
              <a:tblGrid>
                <a:gridCol w="1082880"/>
                <a:gridCol w="1206000"/>
                <a:gridCol w="19587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662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más significativo: la gente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a asistido a un espectá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das las disciplinas hay menos gente que nunca ha asistido. Salvo en el cine que aumen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0" y="2362320"/>
          <a:ext cx="3959280" cy="3949560"/>
        </p:xfrm>
        <a:graphic>
          <a:graphicData uri="http://schemas.openxmlformats.org/drawingml/2006/table">
            <a:tbl>
              <a:tblPr/>
              <a:tblGrid>
                <a:gridCol w="1111320"/>
                <a:gridCol w="1309680"/>
                <a:gridCol w="153828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ier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os espectáculos hay diferencia entre el RM y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el espectáculo con más asistencia en la RM, en tanto en regiones prefieren los concie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enos favorecido en regiones es el teatro. Lo que puede tener que ver con la of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a gratuidad, en todos los espectáculos, la asistencia gratuita ocurre mayoritariamente en los niveles ba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3068640"/>
          <a:ext cx="6624360" cy="3089160"/>
        </p:xfrm>
        <a:graphic>
          <a:graphicData uri="http://schemas.openxmlformats.org/drawingml/2006/table">
            <a:tbl>
              <a:tblPr/>
              <a:tblGrid>
                <a:gridCol w="1490040"/>
                <a:gridCol w="51343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cha música (todos los 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película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 libro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Evaluación del Acceso a Actividades Culturales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60480" y="1600200"/>
          <a:ext cx="7221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600200"/>
                    <a:ext cx="7221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758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332000" y="3284640"/>
          <a:ext cx="6264360" cy="3017880"/>
        </p:xfrm>
        <a:graphic>
          <a:graphicData uri="http://schemas.openxmlformats.org/drawingml/2006/table">
            <a:tbl>
              <a:tblPr/>
              <a:tblGrid>
                <a:gridCol w="2176200"/>
                <a:gridCol w="408816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, todos los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 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 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ios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tas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acceso a los bienes y servicios cultur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sumo Cultural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l acceso a los bienes y servicios culturales en el país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onsumo de los distintos bienes y servicios culturales en regiones 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ual o may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 de la RM (mayor: videos, diarios, revistas, conciertos, dan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excepción que constituyen los museos debe analizarse considerando la cuasi-inexistencia de oferta de museos artísticos en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ácticas Artística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ctividades artístico culturales present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iveles equivale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lo largo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lgú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atiempo artístico cult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 una señal importante en relación 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turo dinamism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la actividad artístico cultural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cia de “Sacar fotografías, elaborar videos o alguna otra creación audiovisual”, que es el pasatiempo artístico cultural que efectúa un mayor número de persona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1:25:23Z</dcterms:created>
  <dc:creator>WinuE</dc:creator>
  <dc:description/>
  <dc:language>en-US</dc:language>
  <cp:lastModifiedBy>WinuE</cp:lastModifiedBy>
  <dcterms:modified xsi:type="dcterms:W3CDTF">2010-05-10T18:21:53Z</dcterms:modified>
  <cp:revision>7</cp:revision>
  <dc:subject/>
  <dc:title>Participación ciudadana</dc:title>
</cp:coreProperties>
</file>