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ECE2-74CB-4FB4-B02A-A51C473EF3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F586-69AF-4FE4-8A43-07141002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A03A-1764-4C19-8BA4-83F9F6EF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B84D-6443-48D6-B560-D57098F53A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0DF94-539E-43C7-AD19-433645F578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9F90B-47A0-4BDE-984E-B106A248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A920A-F2F2-4B49-8CBD-B4D0AE35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91E3C-6D09-4868-AA70-6EF571F2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D8A7F-880A-4DF8-91F8-0DE4C1DB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FB263-7F23-40C6-B07A-067009F6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59C8F-6099-4063-9C8F-FD59B0D3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61E1-4523-401F-878C-EB297072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D71F6-25CA-4F03-8067-5CC21896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519A5-C3D9-4346-A9FE-FFB472CE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BD898-A139-4202-8EA6-381ACBD0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4ED8A-1DDB-42D0-9AA8-1A2DAA13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099D9-5B93-4CA7-AD23-49D4143946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C835-2F37-44C8-9D81-C6BA73029C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7EF5-0C3F-4A98-85F4-5279CCC9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77C9-5659-4057-8CB1-93B2C043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82F3-1A79-4450-BD04-7ADF613C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B2D7-0740-4B74-A0BB-0EF0E715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C479-B6C8-4C3B-8F75-7C4EB842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5066-25D5-4336-91AC-6DB2BE6A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28CB-4F78-48BD-A453-952764F4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86E0-743F-408E-B16F-CCEB9ECB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E5F9-787D-4609-9843-5658F169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595A-4F70-4945-B912-914E4051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6A5B-F452-4DE5-8964-969D3307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46F4-0621-4908-A9B6-BA3287A3E5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8442B-2FD8-4759-81F9-A34A8F751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41EFB-0646-4F89-A5E8-D3B30229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B978B-7494-4A7C-91A1-7556ED56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EED4-60D0-4213-92EE-DE3E9250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45A33-2939-4129-A331-6E0D2E92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A1BD8-4FBF-4ECE-9397-FABEFA00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0F435-7AC5-4678-93DD-950DA06A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22115-75A0-4A80-A514-9A13550C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160EB-1200-4B4D-B4DE-48024CC1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1B99D-0D16-474D-8659-E3D22CAA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1630F-EBFC-4677-966C-29C80B2B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7C826-31E5-44B7-B599-143779DA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08CDC-EF04-4425-B815-ECFB2A316D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14AD2-4D3A-4867-AE95-568E4A27B4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EB9C-F79F-4D9E-A037-ED145FCD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2356D-7F5E-4B44-801E-540F3919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D27A89-0938-4429-9BDA-0F28EA28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883D3-A319-4D4C-ABF7-DD6D16D7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C849D9-937B-4186-B66F-5F227D45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3E17A-DDAF-48DE-9475-EB7D6715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E5DA9E-CE00-4C53-869C-FD7B8547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2BEF4-0EDD-438B-A91D-5A4966B5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37D37-7E51-448E-9F76-42AE6D04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F3D435-480B-4549-A4D7-11981AE0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D87575-2FD3-4B11-8289-F664B2B1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B357-5946-4AB7-9FC1-916C2C14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C6EEFB-46E3-4AFE-B190-EDB6A6F0F4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83A44-1DDE-4FD0-9474-637DCA04DF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1E7E2-A6F1-400E-B58F-84CD545C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B41AF-B52A-4343-A156-AAF6FFB1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CEF8-1432-4214-AF35-EA74B75B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61CF1-86CF-43FB-BC37-F4B12E2D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FA420-48EB-4BE4-B4AE-4EBF1A82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F6AC8-F7C3-4C30-B378-9271A20B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738A1-0793-41F1-9E51-4EF586F7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AC51E-281B-4883-ABD0-2DADDB10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7525-BF05-4BCA-AB7D-8A22379C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DD2B-59EC-4996-844A-4B01B045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B764-3B37-4306-BAE0-449FDD7D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657DB-D9B2-4B1E-83B1-8C62D6EC3B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28D19-85E7-428C-A27C-755F764E49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04C41-331B-4D7A-BCFB-2E8BA53E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C5B15-CF6F-4F0B-9A9A-4337762A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309C7-B89D-478F-BA1F-DD2AAA18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BAC1A-2C0A-4A18-B563-191B9F9E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C15EB-B5AD-4593-909E-5CEB74EC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890A9-CB2F-4D85-962A-749A8DA3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3173-6AF3-48EB-927F-68479F42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18C04-D390-4D3D-ADBC-18695BE0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7A66B-AF53-4315-BBB3-59A0CBC7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48DAA-E310-4662-A1D6-B580E1E1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A2785-F7EB-481C-BE5F-6C54D4EE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80A5C-FB64-4F3D-9E1A-21839E0F30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D3CBBE-8AA3-4498-83FB-8BD8DA4E92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41435B-3721-48A8-A8E9-DA336612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744B79-2748-48AA-A84F-BE392AB9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51F53F-7171-455A-9800-A3CD26AE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1D4916-1086-4E01-94EE-260F1361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6A74-792A-43D2-9C9D-80D601A5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1282A-1FBF-487A-932E-2C11ADD6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1E3F67-7B9B-4D39-A48D-EAEAC4C2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19330F-0DA3-4C13-96F3-5BD54956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890BA9-DD86-4CE5-8EAE-1B01E89A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7913EC-D0C3-4FE7-8C03-3E1EB6D5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C5F055-49A9-4A71-A81A-EBAB977A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B23A55-53AB-43EA-B1AF-D74E5CA47B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1233000"/>
            <a:ext cx="52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490ECB-A7D1-4723-90A1-746CE23ED9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494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189000"/>
            <a:ext cx="586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016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71FFDE-8139-42D4-97AE-1BBB22DAC188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0" y="1752120"/>
            <a:ext cx="12873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E56F36-E9AD-441C-81FA-808EBED82AE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233000"/>
            <a:ext cx="52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A52FD8-E107-484D-9D0F-C357C9DD9A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0" y="1233000"/>
            <a:ext cx="52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ACE790-C371-4403-82B7-1E09786DFB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1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256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5DEED6-BC56-4964-89DE-1C270B1E4A19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58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0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CD3CA2-6242-4EB3-8163-AAB3AF91A17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1600200" y="6200640"/>
            <a:ext cx="4572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5"/>
          </p:nvPr>
        </p:nvSpPr>
        <p:spPr>
          <a:xfrm>
            <a:off x="6552720" y="6248520"/>
            <a:ext cx="22021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7200" y="6200640"/>
            <a:ext cx="5573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6"/>
          </p:nvPr>
        </p:nvSpPr>
        <p:spPr>
          <a:xfrm>
            <a:off x="6410160" y="-6840"/>
            <a:ext cx="52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8F3088-B323-4252-AAFB-2473B18F75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2362320" y="3944880"/>
            <a:ext cx="64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NFOQUES LATINOAMERICANO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N COMUNICACIÓN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5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Tw Cen MT"/>
              </a:rPr>
              <a:t>BIBLIOGRAFIA CHILE ETAPA 1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145360" cy="4535640"/>
          </a:xfrm>
          <a:prstGeom prst="rect">
            <a:avLst/>
          </a:prstGeom>
          <a:solidFill>
            <a:srgbClr val="663300">
              <a:alpha val="80000"/>
            </a:srgbClr>
          </a:solidFill>
          <a:ln w="9360">
            <a:solidFill>
              <a:srgbClr val="ff9966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900" spc="-1" strike="noStrike">
                <a:solidFill>
                  <a:srgbClr val="ff9900"/>
                </a:solidFill>
                <a:latin typeface="Tw Cen MT"/>
              </a:rPr>
              <a:t>GENER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w Cen MT"/>
              </a:rPr>
              <a:t>1. Armand Mattelart(1970</a:t>
            </a:r>
            <a:r>
              <a:rPr b="1" i="1" lang="es-ES_tradnl" sz="2000" spc="-1" strike="noStrike">
                <a:solidFill>
                  <a:srgbClr val="ff9900"/>
                </a:solidFill>
                <a:latin typeface="Tw Cen MT"/>
              </a:rPr>
              <a:t>): Los medios de comunicación de masas. La ideología de la prensa liberal en Chil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w Cen MT"/>
              </a:rPr>
              <a:t>2. Armand Mattelart y Ariel Dorfman(1972</a:t>
            </a:r>
            <a:r>
              <a:rPr b="1" i="1" lang="es-ES_tradnl" sz="2000" spc="-1" strike="noStrike">
                <a:solidFill>
                  <a:srgbClr val="ff9900"/>
                </a:solidFill>
                <a:latin typeface="Tw Cen MT"/>
              </a:rPr>
              <a:t>): Para leer al Pato Donal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w Cen MT"/>
              </a:rPr>
              <a:t>3. A. Mattelart, C. Castillo y L. Castillo(1973</a:t>
            </a:r>
            <a:r>
              <a:rPr b="1" i="1" lang="es-ES_tradnl" sz="2000" spc="-1" strike="noStrike">
                <a:solidFill>
                  <a:srgbClr val="ff9900"/>
                </a:solidFill>
                <a:latin typeface="Tw Cen MT"/>
              </a:rPr>
              <a:t>): La ideología de la dominación en una sociedad dependient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w Cen MT"/>
              </a:rPr>
              <a:t>4. Manuel A. Garretón (Comp)(1973</a:t>
            </a:r>
            <a:r>
              <a:rPr b="1" i="1" lang="es-ES_tradnl" sz="2000" spc="-1" strike="noStrike">
                <a:solidFill>
                  <a:srgbClr val="ff9900"/>
                </a:solidFill>
                <a:latin typeface="Tw Cen MT"/>
              </a:rPr>
              <a:t>): Ideología y medios de comunicació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9720" cy="4633920"/>
          </a:xfrm>
          <a:prstGeom prst="rect">
            <a:avLst/>
          </a:prstGeom>
          <a:noFill/>
          <a:ln w="9360">
            <a:solidFill>
              <a:srgbClr val="ff9966"/>
            </a:solidFill>
            <a:round/>
          </a:ln>
        </p:spPr>
        <p:txBody>
          <a:bodyPr lIns="90000" rIns="90000" tIns="46800" bIns="46800" anchor="t">
            <a:normAutofit/>
          </a:bodyPr>
          <a:p>
            <a:pPr lvl="4" marL="1828800" indent="-228600">
              <a:spcBef>
                <a:spcPts val="4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w Cen MT"/>
              </a:rPr>
              <a:t>PERIODISM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1. Camilo Taufic(1971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Periodismo y lucha de cla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2. Diego Portales(1981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Poder económico y libertad de expres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3. Abraham Santibañez(1974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Periodismo interpretativ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4. Osvaldo Arias E.(1970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La prensa obrera en Chi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5. Luisa Ulibarri(1972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Caricaturas de ayer y ho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w Cen MT"/>
              </a:rPr>
              <a:t>C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900" spc="-1" strike="noStrike">
                <a:solidFill>
                  <a:srgbClr val="ff99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ff9900"/>
                </a:solidFill>
                <a:latin typeface="Tw Cen MT"/>
              </a:rPr>
              <a:t>1</a:t>
            </a:r>
            <a:r>
              <a:rPr b="0" lang="es-ES_tradnl" sz="2900" spc="-1" strike="noStrike">
                <a:solidFill>
                  <a:srgbClr val="ff9900"/>
                </a:solidFill>
                <a:latin typeface="Tw Cen MT"/>
              </a:rPr>
              <a:t>. </a:t>
            </a: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Mario Godoy (1966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Historia del cine chilen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2. Carlos Ossa Coo (1971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Historia del cine chile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w Cen MT"/>
              </a:rPr>
              <a:t>RADI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  </a:t>
            </a: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1. Consuelo Morel et alter (1972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Historia de la Radio en Chi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REVIST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900" spc="-1" strike="noStrike">
                <a:solidFill>
                  <a:srgbClr val="ff9900"/>
                </a:solidFill>
                <a:latin typeface="Tw Cen MT"/>
              </a:rPr>
              <a:t>Cuadernos de la Realidad Nacional</a:t>
            </a:r>
            <a:r>
              <a:rPr b="0" lang="es-ES_tradnl" sz="2900" spc="-1" strike="noStrike">
                <a:solidFill>
                  <a:srgbClr val="ff9900"/>
                </a:solidFill>
                <a:latin typeface="Tw Cen MT"/>
              </a:rPr>
              <a:t> (Centro de Estudios de la Realidad Nacional, Ceren, U. Católic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900" spc="-1" strike="noStrike">
                <a:solidFill>
                  <a:srgbClr val="ff9900"/>
                </a:solidFill>
                <a:latin typeface="Tw Cen MT"/>
              </a:rPr>
              <a:t>Revista EAC</a:t>
            </a:r>
            <a:r>
              <a:rPr b="0" lang="es-ES_tradnl" sz="2900" spc="-1" strike="noStrike">
                <a:solidFill>
                  <a:srgbClr val="ff9900"/>
                </a:solidFill>
                <a:latin typeface="Tw Cen MT"/>
              </a:rPr>
              <a:t> (Escuela de Artes de la Comunicación, U. Católic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900" spc="-1" strike="noStrike">
                <a:solidFill>
                  <a:srgbClr val="ff9900"/>
                </a:solidFill>
                <a:latin typeface="Tw Cen MT"/>
              </a:rPr>
              <a:t>Comunicación y Cultu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1260360" y="2743200"/>
            <a:ext cx="72342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cc99"/>
                </a:solidFill>
                <a:latin typeface="Tw Cen MT"/>
              </a:rPr>
              <a:t>LAS MEDIACIONES Y LOS PROCESOS: ENFOQUE CULTURAL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775f55"/>
                </a:solidFill>
                <a:latin typeface="Tw Cen MT"/>
              </a:rPr>
              <a:t>(Años `80)</a:t>
            </a:r>
            <a:r>
              <a:rPr b="0" lang="en-GB" sz="2800" spc="-1" strike="noStrike">
                <a:solidFill>
                  <a:srgbClr val="775f55"/>
                </a:solidFill>
                <a:latin typeface="Tw Cen MT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ETAPA 2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539640" y="6480"/>
            <a:ext cx="8460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BIBLIOGRAFÍA BÁSICA 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539640" y="1619280"/>
            <a:ext cx="882036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1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BERNARDO SUBERCASEAUX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“Sobre Cultura Popular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2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NESTOR GARCÍA CANCLINI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“¿De qué estamos hablando cuando hablamos de lo popular?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3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JESÚS MARTIN BARBERO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De los medios a las mediacion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4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RISTIÁN PARKER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Otra lógica en América Latina. Religión popular  y modernización capitalist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5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GUILLERMO SUNKEL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Razón y pasión en la prensa popula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6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LACSO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Comunicación y culturas populares en Latinoaméric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7. 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José J. Brunner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: Un espejo trizad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500040" y="1000080"/>
            <a:ext cx="8229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CONTEXTO HISTÓRICO: FIN DE LAS DICTADURAS Y PROCESOS DE DEMOCRATIZACIÓN EN AMÉRICA LATINA. CRISIS DEL BLOQUE SOVIÉTICO.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557280" y="179280"/>
            <a:ext cx="2862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747720" y="2048040"/>
            <a:ext cx="768204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MARCOS CONCEPTUALES:</a:t>
            </a:r>
            <a:br>
              <a:rPr sz="2400"/>
            </a:b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GRAMSCI (“HEGEMONÍA” Y “SENTIDO COMÚN”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ESTUDIOS CULTURALES (WILLIAMS, HALL)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MICHEL DE CERTEAU (“APROPIACIÓN CULTURAL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BORDIEU (“CAMPO CULTURAL”)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FOUCAULT (“PODER Y DISCURSO”)</a:t>
            </a:r>
            <a:br>
              <a:rPr sz="2500"/>
            </a:b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557280" y="200160"/>
            <a:ext cx="2719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539640" y="539640"/>
            <a:ext cx="822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611280" y="1413000"/>
            <a:ext cx="815328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TRES SUPERACIONES METODOLÓGICA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RMINAR CON LA VISIÓN DEMONÍACA DE LA INDUSTRIA CULTURAL Y LA CULTURA DE MAS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RMINAR CON LA VISIÓN DUALISTA ENTRE LO NACIONAL Y LO GLOBA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RMINAR CON LA VISIÓN DE LA CULTURA POPULAR COMO ESPACIO AUTÁRQUICO Y ESENCIALIST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612720" y="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360360" y="1800360"/>
            <a:ext cx="81532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A CULTURA DE MASAS COMO UNA FORMA DE EXISTENCIA DE LO POPULAR. IMPORTANCIA DEL CONSUMO CULTURAL Y LOS FENÓMENOS DE RECEPCIÓ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UBICAR HISTÓRICAMENTE LOS PROCESOS Y PRODUCTOS DE LA CULTURA DE MASAS, MÁS BIEN EN RELACIÓN CON LAS CULTURAS POPULAR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NTEXTUALIZAR LO QUE SE PRODUCE EN LOS MEDIOS, EN RELACIÓN A OTROS ESPACIOS (POLÍTICA, ECONOMÍA) Y PRÁCTICAS SOCIALES COTIDIANAS (EL BARRIO, LA CALLE, LOS MERCADOS, LA ESCUELA, LA MÚSICA, LOS BAILES, ETC.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1332000" y="2708280"/>
            <a:ext cx="72342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LA DENUNCIA Y EL PENSAMIENTO DUAL (60-70)</a:t>
            </a: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ETAPA 1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REACTIVACIÓN DEL DEBATE SOBRE LA IDENTIDAD, COLOCÁNDOLO EN EL CENTRO DE LA RELACIÓN COMUNICACIÓN/CULTURA, LO QUE IMPLICÓ UBICARLO EN LOS MARCOS DE LA MODERNIZACIÓN Y GLOBALIZACIÓN (NUEVAS TECNOLOGÍAS)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SUPERACIÓN DE TODA VISIÓN ESENCIALISTA. RELACIÓN DE LO COMUNICACIONAL Y CULTURAL CON LO ECONÓMICO Y POLÍTICO (CULTURA COMO MATERIALIDAD: WILLIAMS)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11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775f55"/>
                </a:solidFill>
                <a:latin typeface="Tw Cen MT"/>
              </a:rPr>
              <a:t>BIBLIOGRAFIA CHILE ETAPA 2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45360" cy="4924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GENERA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1.- 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Giselle Munizaga y Any Rivera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investigación de la Comunicac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Varios Autores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Comunicación en los ’8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VECTOR, Centro de Estudios Económicos y Sociales (1980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comunicación alternativa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4.- Alfredo Riquelme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municación de masas. Debate ideológico (1958-1973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5.- Eduardo Santa Cruz A.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municación, una alternativa popula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6.- Eduardo Santa Cruz A.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municación y conciencia de mas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183960"/>
            <a:ext cx="8145720" cy="873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PERIODISM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- Guillermo Sunkel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Razón y pasión en la prensa popula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Guillermo Sunkel (1981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El Mercurio: 10 años de educación político-ideológic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Eduardo Santa Cruz A. (1988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Análisis histórico del periodismo chilen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4.- Jaime Martínez W. (Coordinador) (1980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Así lo vio Zig Za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5.- Patricio Dooner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Periodismo y política. La prensa de Derecha en Chile (1970-197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6.- 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Alfredo Riquelme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 (1986), Trabajadores y pobladores en el discurso de la prensa sectorial popular: Chile 1958-1973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255240"/>
            <a:ext cx="8145360" cy="8665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7.- Patricio Dooner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prensa de Izquierda en Chile (1970-197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8.- F. Reyes M. y J.A.Richards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Periodismo independiente: ¿mito o realidad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9.- C. Durán, F. Reyes y C. Ruiz (198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prensa: del autoritarismo a la liberta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0.- F. Ossandón y Sandra Rojas (198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Epoca y Fortín Mapocho. El primer impact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1.- Pedro Bravo E.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El Despertar de los Trabajador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2.- Diego Portales (1978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Heterogeneidad industrial en la prensa de Santiago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120"/>
            <a:ext cx="814572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TELEVI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- Valerio Fuenzalida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V Padres-Hijo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V. Fuenzalida y M.E. Hermosilla (198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Visiones y ambiciones del televident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María de la Luz Hurtado (1987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Historia de la TV en Chile (1958-1973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4.- D. Portales, G. Sunkel et alter (198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política en pantalla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5.- Yessica Ulloa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Videoindependiente en Chile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6.- Juan C. Altamirano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Así, así, se mueve Don Francisco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7.- Augusto Góngora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tele-visión del mundo popular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8.- Elizabeth Fox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V y comunidad. 5 falaci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9.-Edison Otero y Ricardo López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elevisión y violencia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0.- Juan C. Altamirano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os desafíos de la programación televisiva democrátic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1.- Valerio Fuenzalida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ransformaciones en la estructura de la TV chile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2.- María de la luz Hurtado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ransformaciones estatales y modelos de televis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3.- G. Munizaga, A. Riquelme y P. Gutiérrez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Sistema de comunicac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4.- Diego Portales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contribución democrática de la televisió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1453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5.- Diego Portales (1987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dificultad de innovar. Un estudio sobre las empresas de televisión en América Latina”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6.- Giselle Munizaga (1981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Marco jurídico legal del medio televisivo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7.- Raquel Salinas (1981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elevisión chilena: opción a color”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8.- Juan C. Altamirano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os desafíos de la televisión de maña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45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RAD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.- Giselle Munizaga y Paulina Gutierrez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Radio y cultura popular de mas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Giselle Munizaga y G. de la Maza (1978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El espacio radial no oficialista en Chile: 1973-1977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M. Cristina Lasagni, Paula Edwards y Josiane Bonnefoy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Radio en Chile. Historia, modelos y perspectiv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1280" y="-19080"/>
            <a:ext cx="814536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C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.- Alicia Vega (197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Re-visión del cine chilen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Jacqueline Mouesca (1988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Plano secuencia de la memoria de Chile. Veinticinco años de cine chileno (1960-1985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María de la Luz Hurtado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industria cinematográfica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FOTOGRAF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.- Hernán Rodríguez Villegas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Historia de la fotografía en Chile. Registro de daguerrotipos, fotógrafos, reporteros gráficos y camarógrafos. 1840-1940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CAMBIO DE SIGLO: TRANSFORMACIONES Y PERPLEJIDADES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ETAPA 3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539640" y="0"/>
            <a:ext cx="8460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cc99"/>
                </a:solidFill>
                <a:latin typeface="Tw Cen MT"/>
              </a:rPr>
              <a:t>BIBLIOGRAFÍA BÁSICA ETAPA 1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612720" y="1600200"/>
            <a:ext cx="81532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1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RMAND MATTELART(1970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100" spc="-1" strike="noStrike">
                <a:solidFill>
                  <a:srgbClr val="ffcc99"/>
                </a:solidFill>
                <a:latin typeface="Tw Cen MT"/>
              </a:rPr>
              <a:t>“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Los medios de comunicación de masas. La prensa liberal en Chile”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2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NTONIO PASQUALI(1965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Comunicación y cultura de masa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3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AMILO TAUFIC(1971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Periodismo y lucha de clas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4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M.A.GARRETÓN (COMP.)(1973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Ideología y medios de comunic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5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. MATTELART Y A. DORFMAN(1972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Para leer al Pato Donald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6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RMAND MATTELART(1974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La Comunicación masiva en procesos de liber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7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LUDOVICO SILVA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Teoría y práctica de la ideologí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8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ELISEO VERON(1971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):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 Lenguaje y Comunicación Socia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468360" y="1639800"/>
            <a:ext cx="822960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1. JOSÉ J. BRUNNER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Chile: transformaciones culturales y modernida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2. NESTOR GARCÍA CANCLINI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Culturas Híbridas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3. RENATO ORTIZ 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Mundialización y Cultur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4. NESTOR GARCÍA CANCLINI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Consumidores y Ciudadan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5. JESÚS MARTIN BARBERO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El oficio de cartógraf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6. MANUEL A. GARRETÓN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La faz sumergida del iceberg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7. ELISEO VERÓN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El cuerpo de las imágen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8. VV.AA. 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Videoculturas de fin de sigl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9. RUBÉN DITTUS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Cartografía de los estudios mediales en Chil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10. JOSÉ J. BRUNNER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Posmodernismo y globalización cultura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539640" y="360360"/>
            <a:ext cx="860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 </a:t>
            </a: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BIBLIOGRAFÍA BÁSICA 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60360" y="6480"/>
            <a:ext cx="84056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395280" y="1628640"/>
            <a:ext cx="8406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TRANSFORMACIONES ESTRUCTURAL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onsagración del mercado como articulador de todas las prácticas sociale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Naturalización del orden social, sus supuestos y fines (política como administración tecnificada de un orden social naturalizado)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celerados procesos de concentración y centralización del poder y descentralización de su operación y gestión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Disminución de la actividad política del Estado y crecimiento de su capacidad de control (Estado subsidiario y empresario)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Reducción de toda actividad comunicacional y propagandística al marketing (ya no se parte de la oferta, sino de la demanda: escenificación de la política. Ciudadanos y consumidore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onfusión de lo público y lo privado. Hiperinviduación y personalización de lo social. Lo público como escenario</a:t>
            </a:r>
            <a:r>
              <a:rPr b="1" lang="en-GB" sz="2200" spc="-1" strike="noStrike">
                <a:solidFill>
                  <a:srgbClr val="ffcc99"/>
                </a:solidFill>
                <a:latin typeface="Tw Cen MT"/>
              </a:rPr>
              <a:t>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mediático: farandulización</a:t>
            </a:r>
            <a:r>
              <a:rPr b="1" lang="en-GB" sz="2200" spc="-1" strike="noStrike">
                <a:solidFill>
                  <a:srgbClr val="ffcc99"/>
                </a:solidFill>
                <a:latin typeface="Tw Cen MT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612720" y="1440000"/>
            <a:ext cx="815328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MEDIATIZACIÓN SOCIA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MUNICACIÓN DE MASAS: EL MISMO PRODUCTO A“ENE” RECEPTORES. HOMOGENEIZACIÓN CULTURAL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OZANO: SUJETO CAUTIV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VERÓN: SOCIEDAD MEDIÁTICA (ESPACIO DE REPRESENTACIÓN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MUNICACIÓN SEGMENTADA: “AUDIENCIAS ERRANTES” QUE SE ARMAN Y DESARMAN (PAPEL DE LA TECNOLOGÍA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OZANO: SUJETO NÓMAD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VERÓN: SOCIEDAD MEDIATIZADA (TODA PRÁCTICA SOCIAL ENCUENTRA SENTIDO EN TANTO SE RELACIONE CON LOS MEDIOS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557280" y="200160"/>
            <a:ext cx="2719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539640" y="1440000"/>
            <a:ext cx="8226360" cy="59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PLEBE, PUEBLO, MASA, MULTITU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MULTITU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A UNIDAD COMO SUPUESTO (EJ. IDENTIDAD NACIONAL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A UNIDAD EN LOS SIGNOS Y EL LENGUAJE (EJS. LO NACIONAL, EL CASO DE </a:t>
            </a: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LA CUARTA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REGIÓN INTERMEDIA ENTRE LO COLECTIVO Y LO INDIVIDUA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INDIVIDUACIÓN DE LO UNIVERSAL, DE LO COMÚN COMPARTIDO, LA BASE QUE LEGITIMA LA DIFERENCIACIÓN (VALOR QUE SE LE DA A LA DIVERSIDAD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557280" y="200160"/>
            <a:ext cx="2790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VIRTUALIZ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NFUSIÓN ENTRE LAS REGLAS DEL JUEGO Y EL JUEGO DE LAS REGL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FICCIÓN 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(MENTIRA, TEATRO, DISFRAZ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REALIDAD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(VERDAD, REPRESENTACIÓN, EJ: FOTOGRAFÍA ANALÓGICA, CONOCIMIENTO MODERNO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539640" y="179280"/>
            <a:ext cx="280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539640" y="1979640"/>
            <a:ext cx="3095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VIRTUALIZ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557280" y="179280"/>
            <a:ext cx="2719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14200" y="2643120"/>
            <a:ext cx="91458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A TV ANALÓGICA ROMPIÓ LA DIFERENCIA DILUYENDO LOS MARCADORES: ILUSIÓN DE “REGISTRO DE LA REALIDAD” Y ALTERACIÓN DE CATEGORÍAS DE TIEMPO Y ESPACIO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CNOLOGÍA DIGITAL TERMINÓ POR BORRAR LA FRONTERA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PÉRDIDA DE TODO REFERENTE. CONSECUENCIAS EN EL CONOCIMIENTO Y EL PERIODISMO (PÉRDIDA DE TODA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POSIBILIDAD DE OBJETIVIDAD: DE UNA VERDAD EXTERIOR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AL SUJET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612720" y="1600200"/>
            <a:ext cx="815328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INVESTIGACIÓN EN COMUNIC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IERRE O REDUCCIÓN DE CENTROS ACADÉMICOS INDEPENDIENT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EXPLOSIÓN DEL SISTEMA UNIVERSITARIO ARTICULADO POR EL MERCADO (PREDOMINIO DE FONDOS CONCURSABLES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HEGEMONÍA ENFOQUE ADMINISTRATIVO: LOS SUPUESTOS Y FINES DEL ORDEN SOCIAL SON DAT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NEOFUNCIONALISMO: VISIÓN CIENTIFICISTA DE LA COMUNICACIÓN, REDUCIDA AL ESQUEMA EMISOR-MENSAJE-RECEPTO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7631280" y="6323040"/>
            <a:ext cx="498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500040" y="285840"/>
            <a:ext cx="2919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250920" y="1979640"/>
            <a:ext cx="87138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LINEAS TEMÁTICAS PREDOMINANT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ENCUESTAS DE OPINIÓN PÚBLICA Y ESTUDIOS DE MERCADO (MARKETING Y PUBLICIDAD CON APLICACIÓN A LA POLÍTICA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CONSULTORÍAS Y ASESORÍAS COMUNICACIONAL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COMUNICACION APLICADA A LA ORGANIZACION EMPRESARIAL Y DE INSTITUCION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CONSUMO Y USO DE MEDIOS Y TECNOLOGIAS INFORMATIC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(VERSIÓN A-CRÍTICA DE ESTUDIOS CULTURALES)</a:t>
            </a: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046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775f55"/>
                </a:solidFill>
                <a:latin typeface="Tw Cen MT"/>
              </a:rPr>
              <a:t>BIBLIOGRAFIA CHILE ETAPA 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w Cen MT"/>
              </a:rPr>
              <a:t>GENER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Maribel Quezada (1992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El mensaje medio a medi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2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Pablo Halpern y Sergio España (compiladores) (1995),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 Comunicaciones: nuevos umbral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3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Edison Otero (1998),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 Teorías de la Comunicació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4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Carlos Ossa S. (editor) (1999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La pantalla delirante. Los nuevos escenarios de la comunicación en Chi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5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Guillermo Sunkel y Esteban Geoffrey (2001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Concentración económica de los medios de comunicació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6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Herman Herlinghaus (editor) (2002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Narraciones anacrónicas de la modernidad. Melodrama e intermedialidad en América Lati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7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Rubén Dittus (2008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Cartografías de los estudios mediales en Chi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-254520"/>
            <a:ext cx="8145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45360" cy="41292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8.- Matías Chaparro (200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nocer las audiencias. La investigación del consumo de medios de comunicac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9.- Stefan Rinke (2002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ultura de masas. Reforma y nacionalismo en Chile. 1910-1931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0.- Juan P. Arancibia (200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municación Política. Fragmentos para una genealogía de la mediatizac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1.- Eduardo Santa Cruz A. (1997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Estudios de Comunicación en América Latina: acerca de causas y azar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360360" y="1619280"/>
            <a:ext cx="417816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7080"/>
                <a:tab algn="l" pos="1206360"/>
                <a:tab algn="l" pos="1655640"/>
                <a:tab algn="l" pos="21049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70060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CONTEXTO SOCIOHISTÓRIC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7080"/>
                <a:tab algn="l" pos="1206360"/>
                <a:tab algn="l" pos="1655640"/>
                <a:tab algn="l" pos="21049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70060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7080"/>
                <a:tab algn="l" pos="1206360"/>
                <a:tab algn="l" pos="1655640"/>
                <a:tab algn="l" pos="21049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70060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PROBLEMÁTICA DEL DESARROLLO: </a:t>
            </a:r>
            <a:br>
              <a:rPr sz="2000"/>
            </a:b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(CEPAL, ALIANZA PARA EL PROGRESO, REVOLUCIÓN CUBANA)</a:t>
            </a:r>
            <a:br>
              <a:rPr sz="2000"/>
            </a:b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4844880" y="1589040"/>
            <a:ext cx="39751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CONTEXTO ACADÉMIC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MODELOS FUNCIONALISTAS (ATRASO: MENTALIDAD)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- POSITIVISM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- PROBLEMÁTICA DE LOS EFECT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- INVESTIGACIÓN ADMINISTRATIV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- APLICACIÓN (“</a:t>
            </a:r>
            <a:r>
              <a:rPr b="1" i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TEORÍAS DE ALCANCE MEDIO</a:t>
            </a:r>
            <a:r>
              <a:rPr b="0" lang="en-US" sz="24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”)</a:t>
            </a:r>
            <a:r>
              <a:rPr b="0" lang="en-US" sz="24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5986440" y="4741920"/>
            <a:ext cx="498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577800" y="360360"/>
            <a:ext cx="3022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1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45360" cy="10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775f55"/>
                </a:solidFill>
                <a:latin typeface="Tw Cen MT"/>
              </a:rPr>
              <a:t>PERIODISMO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.- Roxana Alvarado (1997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prensa sensacionalista: el caso de La Cuarta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2.- Carlos Ossandón B. (1998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crepúsculo de los sabios y la irrupción de los publicista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3.- C. Ossandón B y E. Santa Cruz A. (2001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ntre las alas y el plomo. La gestación de la prensa moderna en Chil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4.- C. Ossandón B. y E. Santa Cruz A. (2005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estallido de las formas. Chile en los albores de la cultura de masa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5.- Eduardo Santa Cruz A. (1996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Modelos y estrategias de prensa en procesos de modernización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6.- Guillermo Sunkel (2002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prensa sensacionalista y los sectores populares</a:t>
            </a: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7.- Maximiliano Salinas et alter (2001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que ríe último…Caricaturas y poesías en la prensa humorística chilena del siglo XIX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8.- Juan R. Couyoumdjian, Eliana Rozas y Josefina Tocornal (2002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Hora. Trayectoria de un diario político, 1935-1951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280" y="-257760"/>
            <a:ext cx="8145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997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9</a:t>
            </a: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.- E. Santa Cruz A. y Luis Edo. Santa Cruz G.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Las escuelas de la identidad. Deporte y cultura en el Chile desarrollist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0.-Programa Libertad de Expresión ICEI-U. de Chile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Mordazas de la transición</a:t>
            </a: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1.-Guillermo Sunkel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Narrativas periodísticas y escándalos políticos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2.-Matías León Lira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El periodismo que no calló. Historia de la revista Análisis (1977-1993</a:t>
            </a: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3.-Claudio Durán (199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El Mercurio. Ideología y propaganda. 1954-1994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4.-Angel Soto (editor) (2004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Entre tintas y plumas. Historias de la prensa chilena del siglo XIX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5.-Paula Mobarek y Dominique Spiniak (2001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HOY. 1108 ediciones con histori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6.-Angel Soto (2003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El Mercurio y la difusión  del pensamiento político económico liberal. 1955-1970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7.- Gonzalo Piwonka (2000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Orígenes de la libertad de prensa en Chile: 1823-1830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8.- Evangeline Mundy (199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Joaquín Díaz Garcés (Angel Pino). Su vida y su obr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9.- Soledad Puente (1997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Televisión. El drama hecho notici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20.- Bernardo Amigo (editor)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Desafíos actuales del periodismo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21.- Francisca Araya (2007), Historia de la revista APSI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22.- Cristián Cabalín (2007), PLAN B: una revista que remeción la prensa chilen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6120"/>
            <a:ext cx="8145720" cy="974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775f55"/>
                </a:solidFill>
                <a:latin typeface="Tw Cen MT"/>
              </a:rPr>
              <a:t>TELEVIS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145360" cy="4518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1.- José J. Brunner y Carlos Catalán (1995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Televisión: libertad, mercado y mora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2.- Valerio Fuenzalida (1997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Televisión y cultura cotidiana. La influencia social de la televisión percibida desde la cultura cotidiana de la audienci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3.- Eduardo Santa Cruz A. (1997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Comunicación, consumo cultural y cultura cotidiana: el caso de la información televisiv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4.- Valerio Fuenzalida (2000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La televisión pública en América Lati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5.- Valerio Fuenzalida (2002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Televisión abierta y audiencias en América Lati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6.- Eduardo Santa Cruz A. (2003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Las telenovelas puertas adentro. El discurso social de la telenovela chile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7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Rafael del Villar (1997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Trayectos en Semiótica fílmica televisiv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901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775f55"/>
                </a:solidFill>
                <a:latin typeface="Tw Cen MT"/>
              </a:rPr>
              <a:t>CIN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997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.- Jacqueline Mouesca (1997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cine en Chile. Crónica en tres tiempos</a:t>
            </a: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2.- Jacqueline Mouesca (1993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ine chileno. Veinte años (1970-1990)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3.- J. Mouesca y C. Orellana (1998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ine y memoria del siglo XX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4.- Eliana Jara Donoso (1994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ine mudo chilen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5.- Julio López Navarro (1997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Películas chilena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6.- Ernesto Muñoz y Darío Burotto (1998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Filmografía del cine chilen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7.- Ascanio Cavallo et alter (1999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Huérfanos y perdidos. El cine chileno de la transición (1990-1999)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8.- Aldo Francia (1990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Nuevo cine latinoamericano en Viña del Mar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9.- Remberto Latorre (2002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ien años de cine chilen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0.- Mónica Villarroel (2005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voz de los cineastas. Cine e identidad en el umbral del mileni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1.- Antonella Estévez (2005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uz, cámara, transición. El rollo del cine chileno de 1993 al 2003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2.- Jacqueline Mouesca (2005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documental chilen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-146160"/>
            <a:ext cx="8145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.- Secretaría Comunicación y Cultura (1996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Perspectivas de la Radio en Chile</a:t>
            </a: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2.- Jaime Bustos Mandiola (1996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rónicas de un ex locutor de radi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FOTOGRAFI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.- Teodoro Elssaca (1999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fotografía como arte en Chil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2.- Abel Alexander, Margarita Alvarado et alter (2000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Historia de la fotografía en Chile: rescate de huellas en la luz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3.- Juan D. Marinello (2001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Gráficas de la oralidad periodística</a:t>
            </a: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-146160"/>
            <a:ext cx="8145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45360" cy="41292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w Cen MT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1.- Juan P. González y Claudio Rolle (2005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Historia social de la música popular en Chi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2.- Alejandro Godoy (1992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Historia del afiche en Chile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3.- Udo Jacobsen (2001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Leyendo comics. Una guía introductoria al lenguaje de la historiet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NFOQUE CRÍTICO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539640" y="1800360"/>
            <a:ext cx="815364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MARCOS CONCEPTUAL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ORÍA DE LA DEPENDENCIA (“IMPERIALISMO CULTURAL”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MARXISMO (VERSIÓN ORTODOXA-ALTHUSSER: “APARATOS IDEOLÓGICOS”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ESCUELA DE FRANKFURT (“CULTURA DE MASAS E INDUSTRIA CULTURAL”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SEMIOLOGÍA ESTRUCTURALISTA (“CONOTACIÓN/DENOTACIÓN”; “DOBLE ARTICULACIÓN DEL LENGUAJE”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AÑOS '60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    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PERSPECTIVA ANALITICA: (COMUNICACIÓN– IDEOLOGÍA Y PODER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ctr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LÍNEAS TEMÁTICAS (DENUNCIA)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ctr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1. 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MUNICACIÓN Y SU CONTEXTO POLÍTICO Y   ECONÓMIC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2. ESTRUCTURA DE PROPIEDAD DE LOS MEDI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3. CARÁCTER IDEOLÓGICO DEL CONTENIDO DE LOS MEDI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AÑOS '70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Tw Cen MT"/>
              </a:rPr>
              <a:t>CONTEXTO HISTÓRICO: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CRISIS DEL PETROLEO: APARICION DEL LLAMADO “DIALOGO NORTE-SUR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DICTADURAS MILITARES, AUNQUE DE DISTINTO CARÁCTER. EN SUDAMÉRICA SOLAMENTE DOS GOBIERNOS CONSTITUCIONAL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cc99"/>
                </a:solidFill>
                <a:latin typeface="Tw Cen MT"/>
              </a:rPr>
              <a:t>           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539640" y="1800360"/>
            <a:ext cx="82980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DOS LÍNEAS TEMÁTICAS (PROPOSITIVAS)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1.- ELABORACIÓN POLÍTICAS NACIONALES DE COMUNICACIÓN Y CULTURA (“DIÁLOGO NORTE-SUR; PAÍSES NO ALINEADOS; COMISIÓN MC BRIDE: EL NOII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COMUNICACIÓN Y CULTURA COMO UN DERECHO Y NO COMO RECURSO O SERVICIO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NECESIDAD DE POLÍTICAS ESTATALES:  GARANTIZAR DEMOCRATIZACIÓN DE LA COMUNICACIÓN Y DEFENSA DE IDENTIDADES CULTURAL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539640" y="360360"/>
            <a:ext cx="3024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AÑOS '70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428760" y="785880"/>
            <a:ext cx="82296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2.- COMUNICACIÓN ALTERNATIVA: (VISIÓN DUALISTA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NACIONAL/TRANSNACIONA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ARTESANÍA/INDUSTRI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DEMOCRACIA/DICTADUR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DOMINADOS/DOMINANTES (CLASISTA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POPULAR/MASIV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   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O POPULAR COMO “CULTURA DE RESISTENCIA”, AUTÉNTICA Y AUTÓNOMA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ULTURA DE MASAS COMO ALGO AJENO Y PERTENECIENTE AL CAMPO DE LA DOMINACIÓ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539640" y="360360"/>
            <a:ext cx="2952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AÑOS '70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ne14</dc:creator>
  <dc:description/>
  <dc:language>en-US</dc:language>
  <cp:lastModifiedBy>apocalipsi</cp:lastModifiedBy>
  <dcterms:modified xsi:type="dcterms:W3CDTF">2009-10-29T01:01:20Z</dcterms:modified>
  <cp:revision>48</cp:revision>
  <dc:subject/>
  <dc:title>ENFOQUES LATINOAMERICANOS EN COMUNICACION</dc:title>
</cp:coreProperties>
</file>