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6ADB-2CC8-4EEB-B0FF-549B4A2178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5BF9-BB84-403F-97A1-25CD24B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2F45-48E0-44F9-8650-3DDB36A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5216-4E24-409E-A677-DA90B7FEB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C124C-610F-424F-91D4-0A133B0B2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4E653-39EF-4301-BB11-114E0F9A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F79CC-8EE3-4C81-9425-CB0E0DF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2BCBF-3369-4EFB-A180-3E461EC7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7DF57-DE3D-43C6-86E2-F1BAEDDB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C3B8-CF7A-4C22-9477-4A2F9D0F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28BB4-16E8-43F8-9BDD-A4A0C2AB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7515-9196-441C-B768-DF593603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24098-1649-429A-951C-E24FBD3C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AD3E8-AD81-4956-BA91-95E32D9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7D789-CA5D-4343-90A9-D8F058C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460C8-264B-4FE7-A0F9-027668B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96C5-EC9C-482A-8061-9CE7620D4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FDF-42C9-44D6-987E-0AC23630B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C064-A86A-411F-9F79-23F1FFD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91C8-83EB-48EF-9CCE-26CBAF92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BD95-69B4-4A21-8B7D-34878A49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B5C5-8776-4528-B27C-FF2C65DD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BB85-E548-4572-A099-A4632D6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0273-7AF0-4125-8A19-6F52D2C7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2A6-7C25-4F58-8B93-E328D94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E10F-4707-4D2B-B6C8-9F1F092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B028-D6DC-4E0A-B9B7-D8F0F8B5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BB65-FBFE-4DAE-941B-E5B5DA47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613-CCC3-49D9-9BA8-D2A4D30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09D-9B4C-47D3-A296-8EBA74E75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E4A62-9654-4A64-A153-F8F616C28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3C383-BFEC-4589-881C-BFD30872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3201C-5201-4A89-9260-933EB78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8F27-8FFF-47BB-AFB9-E99AD02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5508F-F4FA-460E-AB3D-5E69E4A3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DA6E9-7A1D-4EA0-A9D0-83B1A38C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DDBD4-E2C0-42F2-8411-B258346A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EBAF1-A33B-4D6E-9768-EB149634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D2C5E-64C6-48D9-91A7-2E11595C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CFDD3-D388-4AA6-9439-A203EEA3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37375-8D18-4E59-8C62-E12FB39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82E57-04B0-4BB1-859E-653D8F76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5FAB9-9710-4CB8-B0A7-B764C236A1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BED86-D9F2-4907-8F54-95637142F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22E7-BFD7-415D-8E71-C286879A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A772E-C94E-4BD2-995E-DD7A8FD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F91A7-3540-41FB-B42F-0954750B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D5281-BE92-4601-87C6-02121398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ACCBA-C5E7-4BBD-8544-A8EC2E72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22CE0-3E8E-407E-A8AC-843F0A2F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0A789-DA2F-4A82-B1D8-67613F97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41672-6EAD-497E-97B4-4719D88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0421D-DDCD-4A27-A8D5-1C7BDDFD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8E33D-BD77-4026-BEAD-8E88A7E9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40CD6-6A90-41C0-98C0-B234E36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AF1F-DDB3-43F8-9BDA-13315E03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E2D90-4B21-4502-B59B-DE3152F82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BB91-DD88-47D6-94F2-7B2BADA53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5D4A-F7E1-47BD-A51F-19F208D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0182-A355-4C6B-A356-03F06E6A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329B-92E6-4A5F-922A-E5D74016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A06A-AC16-451C-9448-7B2BE63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8611-AE3C-48BD-8F47-4173559E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2BCA-6161-422B-83DE-A1DD6818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5BFB-0DDC-4798-8345-0BD65824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BB85-FE60-4B3E-904B-F85D923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670E-5EFA-4968-AC4E-A4A54E21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0C7F-0A03-460C-9315-81103178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F956-5337-42E5-B35B-F518642B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D071-E4AA-4A3C-8C6D-99D9E3EA7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71D39-E0F1-4D5E-BFDB-E2688ABDE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B4964-5511-4B78-82CD-303DC75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63B82-2385-4CE2-94DF-569360DD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221A5-40BE-4E95-864C-8C19F1DE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BC130-8B81-4756-9DCD-30362CFB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EDF47-4D4F-4125-A28F-697F19AB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DB790-AF45-4972-A8CA-071F713E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3934-AFF9-4A6E-B915-55098A21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53269-EFE7-47E4-9BED-BFD2FC69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DB3EC-E8A3-44BA-8E57-06730847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53E24-B4A7-49A3-98CD-7EA78C24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B9CFE-7907-456E-8290-EE222E8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02155-E849-4D4A-986E-5FE05E5F3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BCC608-82CB-4DA1-82DE-4AE1FC0E8E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F0F369-2018-428D-B22D-0CB30168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F59E5-87DC-413B-9CB4-FA79886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FD58F-0D08-4687-83EE-80BFE05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BA2CF-30B5-476B-81B6-31943CCA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4BFE-5F3A-4F9A-B76D-3AE8559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5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F9C203-7E5E-48FB-B858-C58006B8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F80A74-4BA0-4D1A-8912-F1CCDF0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474F1-C09D-45E7-9EDD-32389D1A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EADFA-2C25-4FC9-A18D-3B36A4A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0360"/>
            <a:ext cx="81453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93318-D923-498B-8CA9-6DDA6F6A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6560" y="160020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86560" y="3960360"/>
            <a:ext cx="397476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4E14D-AD1A-4C68-817E-2FD1428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672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672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1080" y="3960360"/>
            <a:ext cx="262260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F2D77E-ED0B-4FCC-8AE7-24E241834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4B38E3-C2CA-472C-9307-9EED7E435D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49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189000"/>
            <a:ext cx="586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016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084467-29FC-4461-973E-848903705EF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87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DE1A54-C064-4B67-B320-C4D9107785F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04A954-9F84-4697-9A0F-07196F210C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0" y="123300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1DE3E5-827E-4508-87B1-082804EA33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59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256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6BCBF6-89FD-405C-915D-C579B9EBB00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58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0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78551E-1DF4-47FE-AA41-D5824910CA3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00640"/>
            <a:ext cx="4572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1800" indent="-26676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6552720" y="6248520"/>
            <a:ext cx="22021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00640"/>
            <a:ext cx="557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6410160" y="-6840"/>
            <a:ext cx="52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B8CCD5-386B-497E-84A2-DE1C17F7EA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2362320" y="39448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FOQUES LATINOAMERICANO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 COMUNICACIÓN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5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w Cen MT"/>
              </a:rPr>
              <a:t>BIBLIOGRAFIA CHILE ETAPA 1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45360" cy="4535640"/>
          </a:xfrm>
          <a:prstGeom prst="rect">
            <a:avLst/>
          </a:prstGeom>
          <a:solidFill>
            <a:srgbClr val="663300">
              <a:alpha val="80000"/>
            </a:srgbClr>
          </a:solidFill>
          <a:ln w="9360">
            <a:solidFill>
              <a:srgbClr val="ff9966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900" spc="-1" strike="noStrike">
                <a:solidFill>
                  <a:srgbClr val="ff9900"/>
                </a:solidFill>
                <a:latin typeface="Tw Cen MT"/>
              </a:rPr>
              <a:t>GENER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1. Armand Mattelart(1970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Los medios de comunicación de masas. La ideología de la prensa liberal en Chil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2. Armand Mattelart y Ariel Dorfman(1972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Para leer al Pato Donal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3. A. Mattelart, C. Castillo y L. Castillo(1973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La ideología de la dominación en una sociedad dependien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w Cen MT"/>
              </a:rPr>
              <a:t>4. Manuel A. Garretón (Comp)(1973</a:t>
            </a:r>
            <a:r>
              <a:rPr b="1" i="1" lang="es-ES_tradnl" sz="2000" spc="-1" strike="noStrike">
                <a:solidFill>
                  <a:srgbClr val="ff9900"/>
                </a:solidFill>
                <a:latin typeface="Tw Cen MT"/>
              </a:rPr>
              <a:t>): Ideología y medios de comunicació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9720" cy="4633920"/>
          </a:xfrm>
          <a:prstGeom prst="rect">
            <a:avLst/>
          </a:prstGeom>
          <a:noFill/>
          <a:ln w="9360">
            <a:solidFill>
              <a:srgbClr val="ff9966"/>
            </a:solidFill>
            <a:round/>
          </a:ln>
        </p:spPr>
        <p:txBody>
          <a:bodyPr lIns="90000" rIns="90000" tIns="46800" bIns="46800" anchor="t">
            <a:normAutofit/>
          </a:bodyPr>
          <a:p>
            <a:pPr lvl="4" marL="1828800" indent="-228600">
              <a:spcBef>
                <a:spcPts val="400"/>
              </a:spcBef>
              <a:buClr>
                <a:srgbClr val="a5ab81"/>
              </a:buClr>
              <a:buSzPct val="65000"/>
              <a:buFont typeface="Wingdings" charset="2"/>
              <a:buChar char="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w Cen MT"/>
              </a:rPr>
              <a:t>PERIODISM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1. Camilo Taufic(197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eriodismo y lucha de cla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2. Diego Portales(198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oder económico y libertad de expres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3. Abraham Santibañez(1974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Periodismo interpretativ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4. Osvaldo Arias E.(1970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La prensa obrera en Ch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5. Luisa Ulibarri(1972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Caricaturas de ayer y ho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w Cen MT"/>
              </a:rPr>
              <a:t>C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</a:t>
            </a:r>
            <a:r>
              <a:rPr b="0" lang="es-ES_tradnl" sz="2400" spc="-1" strike="noStrike">
                <a:solidFill>
                  <a:srgbClr val="ff9900"/>
                </a:solidFill>
                <a:latin typeface="Tw Cen MT"/>
              </a:rPr>
              <a:t>1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.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Mario Godoy (1966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l cine chilen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2. Carlos Ossa Coo (1971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l cine chile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  </a:t>
            </a:r>
            <a:r>
              <a:rPr b="1" lang="es-ES_tradnl" sz="2400" spc="-1" strike="noStrike">
                <a:solidFill>
                  <a:srgbClr val="ff9900"/>
                </a:solidFill>
                <a:latin typeface="Tw Cen MT"/>
              </a:rPr>
              <a:t>1. Consuelo Morel et alter (1972): </a:t>
            </a:r>
            <a:r>
              <a:rPr b="1" i="1" lang="es-ES_tradnl" sz="2400" spc="-1" strike="noStrike">
                <a:solidFill>
                  <a:srgbClr val="ff9900"/>
                </a:solidFill>
                <a:latin typeface="Tw Cen MT"/>
              </a:rPr>
              <a:t>Historia de la Radio en Chi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REVIST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Cuadernos de la Realidad Nacional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(Centro de Estudios de la Realidad Nacional, Ceren, U. Católi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Revista EAC</a:t>
            </a: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(Escuela de Artes de la Comunicación, U. Católi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900" spc="-1" strike="noStrike">
                <a:solidFill>
                  <a:srgbClr val="ff9900"/>
                </a:solidFill>
                <a:latin typeface="Tw Cen MT"/>
              </a:rPr>
              <a:t>Comunicación y Cultu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1260360" y="2743200"/>
            <a:ext cx="7234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cc99"/>
                </a:solidFill>
                <a:latin typeface="Tw Cen MT"/>
              </a:rPr>
              <a:t>LAS MEDIACIONES Y LOS PROCESOS: ENFOQUE CULTURAL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(Años `80)</a:t>
            </a: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2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539640" y="6480"/>
            <a:ext cx="8460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BIBLIOGRAFÍA BÁSICA 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539640" y="1619280"/>
            <a:ext cx="882036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BERNARDO SUBERCASEAUX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“Sobre Cultura Popular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2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NESTOR GARCÍA CANCLINI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“¿De qué estamos hablando cuando hablamos de lo popular?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3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JESÚS MARTIN BARBERO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De los medios a las mediacion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4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RISTIÁN PARKER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Otra lógica en América Latina. Religión popular  y modernización capitalis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5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GUILLERMO SUNKEL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Razón y pasión en la prensa popula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6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LACSO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Comunicación y culturas populares en Latinoaméric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7. 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José J. Brunner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: Un espejo triza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500040" y="100008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HISTÓRICO: FIN DE LAS DICTADURAS Y PROCESOS DE DEMOCRATIZACIÓN EN AMÉRICA LATINA. CRISIS DEL BLOQUE SOVIÉTICO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557280" y="179280"/>
            <a:ext cx="2862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747720" y="2048040"/>
            <a:ext cx="768204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ARCOS CONCEPTUALES: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GRAMSCI (“HEGEMONÍA” Y “SENTIDO COMÚN”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ESTUDIOS CULTURALES (WILLIAMS, HALL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MICHEL DE CERTEAU (“APROPIACIÓN CULTURAL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BORDIEU (“CAMPO CULTURAL”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FOUCAULT (“PODER Y DISCURSO”)</a:t>
            </a:r>
            <a:br>
              <a:rPr sz="2500"/>
            </a:b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557280" y="200160"/>
            <a:ext cx="271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539640" y="539640"/>
            <a:ext cx="822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11280" y="1413000"/>
            <a:ext cx="81532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TRES SUPERACIONES METODOLÓGIC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EMONÍACA DE LA INDUSTRIA CULTURAL Y LA CULTURA DE MAS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UALISTA ENTRE LO NACIONAL Y LO GLOB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RMINAR CON LA VISIÓN DE LA CULTURA POPULAR COMO ESPACIO AUTÁRQUICO Y ESENCIALIST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12720" y="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2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60360" y="1800360"/>
            <a:ext cx="8153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CULTURA DE MASAS COMO UNA FORMA DE EXISTENCIA DE LO POPULAR. IMPORTANCIA DEL CONSUMO CULTURAL Y LOS FENÓMENOS DE RECEPC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UBICAR HISTÓRICAMENTE LOS PROCESOS Y PRODUCTOS DE LA CULTURA DE MASAS, MÁS BIEN EN RELACIÓN CON LAS CULTURAS POPULAR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NTEXTUALIZAR LO QUE SE PRODUCE EN LOS MEDIOS, EN RELACIÓN A OTROS ESPACIOS (POLÍTICA, ECONOMÍA) Y PRÁCTICAS SOCIALES COTIDIANAS (EL BARRIO, LA CALLE, LOS MERCADOS, LA ESCUELA, LA MÚSICA, LOS BAILES, ETC.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332000" y="2708280"/>
            <a:ext cx="7234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LA DENUNCIA Y EL PENSAMIENTO DUAL (60-70)</a:t>
            </a: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1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REACTIVACIÓN DEL DEBATE SOBRE LA IDENTIDAD, COLOCÁNDOLO EN EL CENTRO DE LA RELACIÓN COMUNICACIÓN/CULTURA, LO QUE IMPLICÓ UBICARLO EN LOS MARCOS DE LA MODERNIZACIÓN Y GLOBALIZACIÓN (NUEVAS TECNOLOGÍAS)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SUPERACIÓN DE TODA VISIÓN ESENCIALISTA. RELACIÓN DE LO COMUNICACIONAL Y CULTURAL CON LO ECONÓMICO Y POLÍTICO (CULTURA COMO MATERIALIDAD: WILLIAMS)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11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BIBLIOGRAFIA CHILE ETAPA 2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45360" cy="4924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GENERA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Giselle Munizaga y Any River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investigación de la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Varios Autores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municación en los ’8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VECTOR, Centro de Estudios Económicos y Sociales (1980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municación alternativa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Alfredo Riquelme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de masas. Debate ideológico (1958-1973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Eduardo Santa Cruz A.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, una alternativa popula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6.- Eduardo Santa Cruz A.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y conciencia de mas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183960"/>
            <a:ext cx="8145720" cy="873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ERIOD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- Guillermo Sunkel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azón y pasión en la prensa popula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Guillermo Sunkel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Mercurio: 10 años de educación político-ideológ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Eduardo Santa Cruz A. (198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nálisis histórico del periodismo chilen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Jaime Martínez W. (Coordinador) (1980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sí lo vio Zig Za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Patricio Dooner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eriodismo y política. La prensa de Derecha en Chile (1970-197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6.- 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Alfredo Riquelme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 (1986), Trabajadores y pobladores en el discurso de la prensa sectorial popular: Chile 1958-1973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255240"/>
            <a:ext cx="8145360" cy="8665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7.- Patricio Dooner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rensa de Izquierda en Chile (1970-197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F. Reyes M. y J.A.Richards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eriodismo independiente: ¿mito o realidad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 C. Durán, F. Reyes y C. Ruiz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rensa: del autoritarismo a la liberta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F. Ossandón y Sandra Rojas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Epoca y Fortín Mapocho. El primer impact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Pedro Bravo E.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Despertar de los Trabajador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2.- Diego Portales (197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eterogeneidad industrial en la prensa de Santiago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120"/>
            <a:ext cx="814572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- Valerio Fuenzalida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V Padres-Hijo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V. Fuenzalida y M.E. Hermosilla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Visiones y ambiciones del televiden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aría de la Luz Hurtado (198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istoria de la TV en Chile (1958-1973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4.- D. Portales, G. Sunkel et alter (198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política en pantalla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5.- Yessica Ulloa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Videoindependiente en Chile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6.- Juan C. Altamirano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Así, así, se mueve Don Francisco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7.- Augusto Góngor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tele-visión del mundo popular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Elizabeth Fox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V y comunidad. 5 falaci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Edison Otero y Ricardo López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elevisión y violencia</a:t>
            </a: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Juan C. Altamirano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os desafíos de la programación televisiva democrátic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Valerio Fuenzalida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ransformaciones en la estructura de la TV chil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2.- María de la luz Hurtado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ransformaciones estatales y modelos de televis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3.- G. Munizaga, A. Riquelme y P. Gutiérrez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Sistema de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4.- Diego Portales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contribución democrática de la televisió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453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5.- Diego Portales (198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dificultad de innovar. Un estudio sobre las empresas de televisión en América Latina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6.- Giselle Munizaga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Marco jurídico legal del medio televisivo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7.- Raquel Salinas (1981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Televisión chilena: opción a color”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8.- Juan C. Altamirano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os desafíos de la televisión de maña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45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Giselle Munizaga y Paulina Gutierrez (198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adio y cultura popular de mas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Giselle Munizaga y G. de la Maza (197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l espacio radial no oficialista en Chile: 1973-1977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. Cristina Lasagni, Paula Edwards y Josiane Bonnefoy (1985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Radio en Chile. Historia, modelos y perspectiva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-19080"/>
            <a:ext cx="814536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C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Alicia Vega (1979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Re-visión del cine chilen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2.- Jacqueline Mouesca (1988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Plano secuencia de la memoria de Chile. Veinticinco años de cine chileno (1960-1985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3.- María de la Luz Hurtado (1984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La industria cinematográfica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w Cen MT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FOTOGRAF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.- Hernán Rodríguez Villegas (198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Historia de la fotografía en Chile. Registro de daguerrotipos, fotógrafos, reporteros gráficos y camarógrafos. 1840-194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CAMBIO DE SIGLO: TRANSFORMACIONES Y PERPLEJIDADE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TAPA 3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539640" y="0"/>
            <a:ext cx="846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w Cen MT"/>
              </a:rPr>
              <a:t>BIBLIOGRAFÍA BÁSICA ETAPA 1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612720" y="1600200"/>
            <a:ext cx="81532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RMAND MATTELART(1970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100" spc="-1" strike="noStrike">
                <a:solidFill>
                  <a:srgbClr val="ffcc99"/>
                </a:solidFill>
                <a:latin typeface="Tw Cen MT"/>
              </a:rPr>
              <a:t>“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Los medios de comunicación de masas. La prensa liberal en Chile”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2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NTONIO PASQUALI(1965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Comunicación y cultura de mas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3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AMILO TAUFIC(1971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Periodismo y lucha de clas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4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M.A.GARRETÓN (COMP.)(1973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Ideología y medios de comunic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5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. MATTELART Y A. DORFMAN(1972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Para leer al Pato Donald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6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RMAND MATTELART(1974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)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La Comunicación masiva en procesos de liber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7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LUDOVICO SILVA</a:t>
            </a:r>
            <a:r>
              <a:rPr b="1" lang="en-GB" sz="2100" spc="-1" strike="noStrike">
                <a:solidFill>
                  <a:srgbClr val="ffcc99"/>
                </a:solidFill>
                <a:latin typeface="Tw Cen MT"/>
              </a:rPr>
              <a:t>: 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Teoría y práctica de la ideologí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8.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ELISEO VERON(1971</a:t>
            </a:r>
            <a:r>
              <a:rPr b="1" lang="en-GB" sz="2400" spc="-1" strike="noStrike">
                <a:solidFill>
                  <a:srgbClr val="ffcc99"/>
                </a:solidFill>
                <a:latin typeface="Tw Cen MT"/>
              </a:rPr>
              <a:t>):</a:t>
            </a:r>
            <a:r>
              <a:rPr b="1" i="1" lang="en-GB" sz="2400" spc="-1" strike="noStrike">
                <a:solidFill>
                  <a:srgbClr val="ffcc99"/>
                </a:solidFill>
                <a:latin typeface="Tw Cen MT"/>
              </a:rPr>
              <a:t> Lenguaje y Comunicación Socia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1639800"/>
            <a:ext cx="82296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1. JOSÉ J. BRUNNER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hile: transformaciones culturales y modernida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2. NESTOR GARCÍA CANCLINI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ulturas Híbridas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3. RENATO ORTIZ 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Mundialización y Cultur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4. NESTOR GARCÍA CANCLINI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onsumidores y Ciudadan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5. JESÚS MARTIN BARBERO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El oficio de cartógraf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6. MANUEL A. GARRETÓN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La faz sumergida del iceber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7. ELISEO VERÓN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El cuerpo de las imágen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8. VV.AA. 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Videoculturas de fin de sigl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9. RUBÉN DITTUS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Cartografía de los estudios mediales en Chil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10. JOSÉ J. BRUNNER: </a:t>
            </a:r>
            <a:r>
              <a:rPr b="1" i="1" lang="en-GB" sz="2000" spc="-1" strike="noStrike">
                <a:solidFill>
                  <a:srgbClr val="ffcc99"/>
                </a:solidFill>
                <a:latin typeface="Tw Cen MT"/>
              </a:rPr>
              <a:t>Posmodernismo y globalización cultur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539640" y="360360"/>
            <a:ext cx="860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 </a:t>
            </a: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BIBLIOGRAFÍA BÁSICA 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60360" y="6480"/>
            <a:ext cx="8405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95280" y="1628640"/>
            <a:ext cx="8406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TRANSFORMACIONES ESTRUCTUR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onsagración del mercado como articulador de todas las prácticas social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Naturalización del orden social, sus supuestos y fines (política como administración tecnificada de un orden social naturalizado)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Acelerados procesos de concentración y centralización del poder y descentralización de su operación y gestión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Disminución de la actividad política del Estado y crecimiento de su capacidad de control (Estado subsidiario y empresario)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Reducción de toda actividad comunicacional y propagandística al marketing (ya no se parte de la oferta, sino de la demanda: escenificación de la política. Ciudadanos y consumidor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Confusión de lo público y lo privado. Hiperinviduación y personalización de lo social. Lo público como escenario</a:t>
            </a:r>
            <a:r>
              <a:rPr b="1" lang="en-GB" sz="2200" spc="-1" strike="noStrike">
                <a:solidFill>
                  <a:srgbClr val="ffcc99"/>
                </a:solidFill>
                <a:latin typeface="Tw Cen MT"/>
              </a:rPr>
              <a:t> </a:t>
            </a:r>
            <a:r>
              <a:rPr b="1" lang="en-GB" sz="2000" spc="-1" strike="noStrike">
                <a:solidFill>
                  <a:srgbClr val="ffcc99"/>
                </a:solidFill>
                <a:latin typeface="Tw Cen MT"/>
              </a:rPr>
              <a:t>mediático: farandulización</a:t>
            </a:r>
            <a:r>
              <a:rPr b="1" lang="en-GB" sz="2200" spc="-1" strike="noStrike">
                <a:solidFill>
                  <a:srgbClr val="ffcc99"/>
                </a:solidFill>
                <a:latin typeface="Tw Cen MT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612720" y="1440000"/>
            <a:ext cx="81532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EDIATIZACIÓN SOCIA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DE MASAS: EL MISMO PRODUCTO A“ENE” RECEPTORES. HOMOGENEIZACIÓN CULTURAL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ZANO: SUJETO CAUTIV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VERÓN: SOCIEDAD MEDIÁTICA (ESPACIO DE REPRESENTACIÓN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SEGMENTADA: “AUDIENCIAS ERRANTES” QUE SE ARMAN Y DESARMAN (PAPEL DE LA TECNOLOGÍ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ZANO: SUJETO NÓMAD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VERÓN: SOCIEDAD MEDIATIZADA (TODA PRÁCTICA SOCIAL ENCUENTRA SENTIDO EN TANTO SE RELACIONE CON LOS MEDIOS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557280" y="200160"/>
            <a:ext cx="271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539640" y="1440000"/>
            <a:ext cx="822636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PLEBE, PUEBLO, MASA, MULTITU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ULTITU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UNIDAD COMO SUPUESTO (EJ. IDENTIDAD NACIONAL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UNIDAD EN LOS SIGNOS Y EL LENGUAJE (EJS. LO NACIONAL, EL CASO DE 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LA CUARTA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REGIÓN INTERMEDIA ENTRE LO COLECTIVO Y LO INDIVIDU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INDIVIDUACIÓN DE LO UNIVERSAL, DE LO COMÚN COMPARTIDO, LA BASE QUE LEGITIMA LA DIFERENCIACIÓN (VALOR QUE SE LE DA A LA DIVERSIDAD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557280" y="200160"/>
            <a:ext cx="279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VIRTUALIZ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NFUSIÓN ENTRE LAS REGLAS DEL JUEGO Y EL JUEGO DE LAS REG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FICCIÓN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MENTIRA, TEATRO, DISFRAZ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REALIDAD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VERDAD, REPRESENTACIÓN, EJ: FOTOGRAFÍA ANALÓGICA, CONOCIMIENTO MODERNO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539640" y="179280"/>
            <a:ext cx="2808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539640" y="1979640"/>
            <a:ext cx="3095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VIRTUALIZ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557280" y="179280"/>
            <a:ext cx="2719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4200" y="2643120"/>
            <a:ext cx="9145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A TV ANALÓGICA ROMPIÓ LA DIFERENCIA DILUYENDO LOS MARCADORES: ILUSIÓN DE “REGISTRO DE LA REALIDAD” Y ALTERACIÓN DE CATEGORÍAS DE TIEMPO Y ESPACI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CNOLOGÍA DIGITAL TERMINÓ POR BORRAR LA FRONTERA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ÉRDIDA DE TODO REFERENTE. CONSECUENCIAS EN EL CONOCIMIENTO Y EL PERIODISMO (PÉRDIDA DE TODA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OSIBILIDAD DE OBJETIVIDAD: DE UNA VERDAD EXTERIOR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AL SUJE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612720" y="1600200"/>
            <a:ext cx="81532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INVESTIGACIÓN EN COMUNICA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IERRE O REDUCCIÓN DE CENTROS ACADÉMICOS INDEPENDIENT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EXPLOSIÓN DEL SISTEMA UNIVERSITARIO ARTICULADO POR EL MERCADO (PREDOMINIO DE FONDOS CONCURSABLES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HEGEMONÍA ENFOQUE ADMINISTRATIVO: LOS SUPUESTOS Y FINES DEL ORDEN SOCIAL SON DAT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NEOFUNCIONALISMO: VISIÓN CIENTIFICISTA DE LA COMUNICACIÓN, REDUCIDA AL ESQUEMA EMISOR-MENSAJE-RECEPT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631280" y="6323040"/>
            <a:ext cx="498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500040" y="285840"/>
            <a:ext cx="29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3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250920" y="1979640"/>
            <a:ext cx="87138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LINEAS TEMÁTICAS PREDOMINANT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ENCUESTAS DE OPINIÓN PÚBLICA Y ESTUDIOS DE MERCADO (MARKETING Y PUBLICIDAD CON APLICACIÓN A LA POLÍTIC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NSULTORÍAS Y ASESORÍAS COMUNICACION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MUNICACION APLICADA A LA ORGANIZACION EMPRESARIAL Y DE INSTITUCION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CONSUMO Y USO DE MEDIOS Y TECNOLOGIAS INFORMATIC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(VERSIÓN A-CRÍTICA DE ESTUDIOS CULTURALES)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104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BIBLIOGRAFIA CHILE ETAPA 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w Cen MT"/>
              </a:rPr>
              <a:t>GENER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Maribel Quezada (1992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El mensaje medio a medi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2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Pablo Halpern y Sergio España (compiladores) (1995),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 Comunicaciones: nuevos umbral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3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Edison Otero (1998),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 Teorías de la Comunicac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4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Carlos Ossa S. (editor) (1999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La pantalla delirante. Los nuevos escenarios de la comunicación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5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Guillermo Sunkel y Esteban Geoffrey (2001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Concentración económica de los medios de comunicac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6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Herman Herlinghaus (editor) (2002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Narraciones anacrónicas de la modernidad. Melodrama e intermedialidad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7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Rubén Dittus (2008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Cartografías de los estudios mediales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-25452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45360" cy="4129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8.- Matías Chaparro (2003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nocer las audiencias. La investigación del consumo de medios de comunic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9.- Stefan Rinke (2002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ultura de masas. Reforma y nacionalismo en Chile. 1910-1931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0.- Juan P. Arancibia (2006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Comunicación Política. Fragmentos para una genealogía de la mediatización en Ch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11.- Eduardo Santa Cruz A. (1997), </a:t>
            </a:r>
            <a:r>
              <a:rPr b="1" i="1" lang="es-ES" sz="2000" spc="-1" strike="noStrike">
                <a:solidFill>
                  <a:srgbClr val="000000"/>
                </a:solidFill>
                <a:latin typeface="Tw Cen MT"/>
              </a:rPr>
              <a:t>Estudios de Comunicación en América Latina: acerca de causas y azar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360360" y="1619280"/>
            <a:ext cx="41781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SOCIOHISTÓR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7080"/>
                <a:tab algn="l" pos="1206360"/>
                <a:tab algn="l" pos="1655640"/>
                <a:tab algn="l" pos="21049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70060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ROBLEMÁTICA DEL DESARROLLO: </a:t>
            </a:r>
            <a:br>
              <a:rPr sz="2000"/>
            </a:b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(CEPAL, ALIANZA PARA EL PROGRESO, REVOLUCIÓN CUBANA)</a:t>
            </a:r>
            <a:br>
              <a:rPr sz="2000"/>
            </a:b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844880" y="1589040"/>
            <a:ext cx="39751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CONTEXTO ACADÉM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MODELOS FUNCIONALISTAS (ATRASO: MENTALIDAD)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POSITIVISM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PROBLEMÁTICA DE LOS EFECT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INVESTIGACIÓN ADMINISTRATIV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31800" indent="-26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- APLICACIÓN (“</a:t>
            </a:r>
            <a:r>
              <a:rPr b="1" i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TEORÍAS DE ALCANCE MEDIO</a:t>
            </a:r>
            <a:r>
              <a:rPr b="0" lang="en-US" sz="24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”)</a:t>
            </a:r>
            <a:r>
              <a:rPr b="0" lang="en-US" sz="24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5986440" y="4741920"/>
            <a:ext cx="498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77800" y="360360"/>
            <a:ext cx="3022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TAPA 1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45360" cy="10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PERIODISMO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Roxana Alvarado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prensa sensacionalista: el caso de La Cuart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Carlos Ossandón B.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crepúsculo de los sabios y la irrupción de los publicist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C. Ossandón B y E. Santa Cruz A.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ntre las alas y el plomo. La gestación de la prensa moderna en Chi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4.- C. Ossandón B. y E. Santa Cruz A.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estallido de las formas. Chile en los albores de la cultura de mas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5.- Eduardo Santa Cruz A.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Modelos y estrategias de prensa en procesos de modernizació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6.- Guillermo Sunkel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prensa sensacionalista y los sectores populares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7.- Maximiliano Salinas et alter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que ríe último…Caricaturas y poesías en la prensa humorística chilena del siglo XIX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8.- Juan R. Couyoumdjian, Eliana Rozas y Josefina Tocornal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Hora. Trayectoria de un diario político, 1935-1951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-2577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997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</a:rPr>
              <a:t>9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.- E. Santa Cruz A. y Luis Edo. Santa Cruz G.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Las escuelas de la identidad. Deporte y cultura en el Chile desarrollist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0.-Programa Libertad de Expresión ICEI-U. de Chile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Mordazas de la transición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1.-Guillermo Sunkel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Narrativas periodísticas y escándalos político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2.-Matías León Lira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periodismo que no calló. Historia de la revista Análisis (1977-1993</a:t>
            </a: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3.-Claudio Durán (199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Mercurio. Ideología y propaganda. 1954-1994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4.-Angel Soto (editor) (2004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ntre tintas y plumas. Historias de la prensa chilena del siglo XIX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5.-Paula Mobarek y Dominique Spiniak (2001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HOY. 1108 ediciones con histori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6.-Angel Soto (2003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El Mercurio y la difusión  del pensamiento político económico liberal. 1955-1970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7.- Gonzalo Piwonka (2000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Orígenes de la libertad de prensa en Chile: 1823-1830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8.- Evangeline Mundy (199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Joaquín Díaz Garcés (Angel Pino). Su vida y su obr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19.- Soledad Puente (1997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Televisión. El drama hecho notici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0.- Bernardo Amigo (editor) (2005), </a:t>
            </a:r>
            <a:r>
              <a:rPr b="1" i="1" lang="es-ES" sz="1400" spc="-1" strike="noStrike">
                <a:solidFill>
                  <a:srgbClr val="000000"/>
                </a:solidFill>
                <a:latin typeface="Tw Cen MT"/>
              </a:rPr>
              <a:t>Desafíos actuales del periodismo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1.- Francisca Araya (2007), Historia de la revista APSI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w Cen MT"/>
              </a:rPr>
              <a:t>22.- Cristián Cabalín (2007), PLAN B: una revista que remeción la prensa chilen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120"/>
            <a:ext cx="8145720" cy="974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TELEVIS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145360" cy="4518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1.- José J. Brunner y Carlos Catalán (1995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: libertad, mercado y mor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2.- Valerio Fuenzalida (1997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 y cultura cotidiana. La influencia social de la televisión percibida desde la cultura cotidiana de la audienci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3.- Eduardo Santa Cruz A. (1997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Comunicación, consumo cultural y cultura cotidiana: el caso de la información televisiv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4.- Valerio Fuenzalida (2000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a televisión pública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5.- Valerio Fuenzalida (2002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Televisión abierta y audiencias en América Lati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6.- Eduardo Santa Cruz A. (2003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as telenovelas puertas adentro. El discurso social de la telenovela chile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7.-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Rafael del Villar (1997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), Trayectos en Semiótica fílmica televisiv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5720" cy="901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CIN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997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Jacqueline Mouesca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cine en Chile. Crónica en tres tiempos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Jacqueline Mouesca (1993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chileno. Veinte años (1970-1990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J. Mouesca y C. Orellana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y memoria del siglo XX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4.- Eliana Jara Donoso (1994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ne mudo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5.- Julio López Navarro (1997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Películas chilen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6.- Ernesto Muñoz y Darío Burotto (1998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Filmografía del cine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7.- Ascanio Cavallo et alter (1999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Huérfanos y perdidos. El cine chileno de la transición (1990-1999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8.- Aldo Francia (1990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Nuevo cine latinoamericano en Viña del Mar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9.- Remberto Latorre (2002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ien años de cine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0.- Mónica Villarroel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voz de los cineastas. Cine e identidad en el umbral del mileni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1.- Antonella Estévez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uz, cámara, transición. El rollo del cine chileno de 1993 al 2003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2.- Jacqueline Mouesca (2005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El documental chilen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-1461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45360" cy="451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Secretaría Comunicación y Cultura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Perspectivas de la Radio en Chile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Jaime Bustos Mandiola (1996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Crónicas de un ex locutor de radi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FOTOGRAFI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1.- Teodoro Elssaca (1999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La fotografía como arte en Chi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2.- Abel Alexander, Margarita Alvarado et alter (2000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Historia de la fotografía en Chile: rescate de huellas en la luz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3.- Juan D. Marinello (2001), </a:t>
            </a:r>
            <a:r>
              <a:rPr b="1" i="1" lang="es-ES" sz="1600" spc="-1" strike="noStrike">
                <a:solidFill>
                  <a:srgbClr val="000000"/>
                </a:solidFill>
                <a:latin typeface="Tw Cen MT"/>
              </a:rPr>
              <a:t>Gráficas de la oralidad periodística</a:t>
            </a:r>
            <a:r>
              <a:rPr b="1" lang="es-E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-146160"/>
            <a:ext cx="814572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989000"/>
            <a:ext cx="8145360" cy="4129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1040" indent="-311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1.- Juan P. González y Claudio Rolle (2005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Historia social de la música popular en Chi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2.- Alejandro Godoy (1992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Historia del afiche en Chile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3.- Udo Jacobsen (2001), </a:t>
            </a:r>
            <a:r>
              <a:rPr b="1" i="1" lang="es-ES" sz="1800" spc="-1" strike="noStrike">
                <a:solidFill>
                  <a:srgbClr val="000000"/>
                </a:solidFill>
                <a:latin typeface="Tw Cen MT"/>
              </a:rPr>
              <a:t>Leyendo comics. Una guía introductoria al lenguaje de la historiet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ENFOQUE CRÍTICO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539640" y="1800360"/>
            <a:ext cx="815364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MARCOS CONCEPTUAL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TEORÍA DE LA DEPENDENCIA (“IMPERIALISMO CULTURAL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MARXISMO (VERSIÓN ORTODOXA-ALTHUSSER: “APARATOS IDEOLÓGICOS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ESCUELA DE FRANKFURT (“CULTURA DE MASAS E INDUSTRIA CULTURAL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SEMIOLOGÍA ESTRUCTURALISTA (“CONOTACIÓN/DENOTACIÓN”; “DOBLE ARTICULACIÓN DEL LENGUAJE”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6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PERSPECTIVA ANALITICA: (COMUNICACIÓN– IDEOLOGÍA Y PODER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LÍNEAS TEMÁTICAS (DENUNCIA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1.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OMUNICACIÓN Y SU CONTEXTO POLÍTICO Y   ECONÓMIC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2. ESTRUCTURA DE PROPIEDAD DE LOS MEDI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3. CARÁCTER IDEOLÓGICO DEL CONTENIDO DE LOS MEDI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Tw Cen MT"/>
              </a:rPr>
              <a:t>CONTEXTO HISTÓRICO: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CRISIS DEL PETROLEO: APARICION DEL LLAMADO “DIALOGO NORTE-SUR”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- DICTADURAS MILITARES, AUNQUE DE DISTINTO CARÁCTER. EN SUDAMÉRICA SOLAMENTE DOS GOBIERNOS CONSTITUCIONAL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cc99"/>
                </a:solidFill>
                <a:latin typeface="Tw Cen MT"/>
              </a:rPr>
              <a:t>           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539640" y="1800360"/>
            <a:ext cx="8298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DOS LÍNEAS TEMÁTICAS (PROPOSITIVAS)</a:t>
            </a:r>
            <a:r>
              <a:rPr b="1" lang="en-US" sz="24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1.- ELABORACIÓN POLÍTICAS NACIONALES DE COMUNICACIÓN Y CULTURA (“DIÁLOGO NORTE-SUR; PAÍSES NO ALINEADOS; COMISIÓN MC BRIDE: EL NOII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COMUNICACIÓN Y CULTURA COMO UN DERECHO Y NO COMO RECURSO O SERVICI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Font typeface="Tw Cen MT"/>
              <a:buChar char="-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  <a:ea typeface="Lucida Sans Unicode"/>
              </a:rPr>
              <a:t>NECESIDAD DE POLÍTICAS ESTATALES:  GARANTIZAR DEMOCRATIZACIÓN DE LA COMUNICACIÓN Y DEFENSA DE IDENTIDADES CULTUR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539640" y="360360"/>
            <a:ext cx="302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428760" y="785880"/>
            <a:ext cx="82296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2.- COMUNICACIÓN ALTERNATIVA: (VISIÓN DUALIST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NACIONAL/TRANSNACIONA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ARTESANÍA/INDUSTRI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DEMOCRACIA/DICTADUR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DOMINADOS/DOMINANTES (CLASISTA)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- POPULAR/MASIV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    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LO POPULAR COMO “CULTURA DE RESISTENCIA”, AUTÉNTICA Y AUTÓNOMA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ffcc99"/>
                </a:solidFill>
                <a:latin typeface="Tw Cen MT"/>
              </a:rPr>
              <a:t>CULTURA DE MASAS COMO ALGO AJENO Y PERTENECIENTE AL CAMPO DE LA DOMINAC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1040" indent="-31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539640" y="360360"/>
            <a:ext cx="295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w Cen MT"/>
              </a:rPr>
              <a:t>AÑOS '70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ne14</dc:creator>
  <dc:description/>
  <dc:language>en-US</dc:language>
  <cp:lastModifiedBy>apocalipsi</cp:lastModifiedBy>
  <dcterms:modified xsi:type="dcterms:W3CDTF">2009-10-29T01:01:20Z</dcterms:modified>
  <cp:revision>48</cp:revision>
  <dc:subject/>
  <dc:title>ENFOQUES LATINOAMERICANOS EN COMUNICACION</dc:title>
</cp:coreProperties>
</file>