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D150-F068-4199-8965-96E235F3F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4CBC-9911-4DE5-B649-E95566B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B767-8F53-45B5-B5FA-95077B1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75A2-8714-46B7-AFD9-4F27B6855A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4E02-B42C-470F-82E7-2E132FF92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3AF77-ABA2-4D85-8119-65D0976E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F454F-735D-4DCD-B4DB-4C50817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54F1-037D-46F0-8C97-31A4C8A5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3CDA7-1542-44F5-9D40-D49ED007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92680-C7B8-4837-BE24-181AA5BA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8144-0DE6-40AA-97BE-F7613249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D124-BEA8-48B6-A1DB-F672800A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F95E-2B7E-4F41-930D-2987EDC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538B3-0401-49BE-96ED-6130575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6F585-0680-4672-B282-7AF6CFD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0E108-92D4-4271-8DFA-56F857B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6C3F-787A-4473-8AF0-A64B78C57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6AF-017F-4462-A1FB-7E6788AEA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276-A5C5-4358-BC93-4A4CA651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7096-C2EF-49C5-A2A0-A6A7212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1B67-925B-4D06-BD01-D34849E5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0E9-0A84-483B-9C34-7E76E6FA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5207-EAF0-415E-8434-3CECC2E2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C6B-118F-465E-B536-58D40880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97C-AE1F-4A80-A8FE-CECBF68E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8F46-1F5A-4FA4-A283-9A69DC9D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B7A-8B6B-41DC-9378-2E301B14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E184-8EE7-4ADB-BB4D-D6AF3CC3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FFAA-D039-4FF6-B33B-D90E1BA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53DB-A402-44DF-97C2-F8AA577C1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AD421-F706-4895-89FB-980AC3F9A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B1DA2-E57F-4895-891D-3708FF1A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2C70-FE39-4713-9E0F-0136992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512C-735E-4E7C-B32A-845DDC2A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AAED6-26F6-4EE9-90D5-C102A800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CD389-77CF-4EB3-87BF-7A5DB34C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E390B-D479-4138-99DE-34B76F07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10E5C-E840-4170-8419-56A1134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CE045-8784-48A0-800B-EE5E1260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E4A5B-1303-4F45-BC0A-CFD78C9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F85C6-0BCB-4CB1-962D-936A362D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7A980-7643-45CB-AAED-BB23A66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80AD5-2994-4899-9E33-D7DA5E4D8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A0F9F-6A22-4FD9-B3B8-2202160F2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A311-7396-48A6-91C4-B6ADAA6A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F319B-D49A-4C60-9877-5F92B727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766A1-D494-4E9C-89C3-07CB82A5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42C27-C928-458F-B9A7-A17BF005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C38D5-6C67-411E-BB39-7263B976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6061D-7AA3-4DB2-ACAE-5BA3282C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C634E-FF2D-4C6F-AF10-669BF5E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32752-CC29-4316-8829-C2E4B59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195DD-2FF8-499A-AAFE-AEBAE2EE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74011-4F79-478B-B2EA-96D1397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819C2-E4AC-4748-BE68-7013460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A9F8-6274-4228-926F-6DBDC07A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F5690-8161-4657-B878-A9CD267E5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B119-2DC3-48B3-9D49-4F851C478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FD52-90D3-41F9-B001-2E9FEDD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1827-85FE-44F4-ABB8-7DDCD16E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4925C-E54A-4901-86FF-40ACADD5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3C85-8E44-483F-A7D0-6B448E58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EA53-C491-4B18-88BB-D33CCC76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2607-543E-4114-855D-97C29F51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B2ACF-E8F5-40E5-AD76-1432B899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7DB3-A001-4528-AE58-7FE17EFE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37F3-3DB6-4EC4-99D3-A295A55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ED83-5B39-49F6-A81D-525AD84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6C8C-22A3-4E9E-AF43-35C0F742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15CE-02FF-4A64-9AC6-948CF697D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29308-2DAE-4302-8280-0EB22AFCE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D907C-5F96-4B99-90B0-E25469B3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4999B-D9E2-494A-9073-2E5C09E8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E0112-B4C8-48A4-87F5-CA2043F9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74555-F9E1-4087-BF6E-49CC8308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0C8B3-3649-4EF4-8D79-89519B0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13E9C-2D33-4D67-92A5-B5B3B48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6359-41D9-4316-B612-8D3161A5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51CE2-ACF6-4EDE-BD1C-8B03090A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17565-208F-4183-A379-EEAF2820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D3952-F05E-4EBA-B766-1573068E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7BEA1-9B9A-455A-AE0D-3A17522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211A1-E323-4FCF-9D25-ED035D81F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CADDE1-9D58-4A6A-BFD1-E6314237C3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A25F32-219D-40FE-935F-28B8C79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396FE-6C6F-4A24-9C34-6BA9F20C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74F81-2883-4644-ABDD-061B1CF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868F5-1446-4A88-99AA-242672DB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A296-1BE3-4A23-83C8-66865E8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5BBFC0-DC34-4EA3-BF91-3806A6BB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77E9A-05A6-4013-91EB-2C466AAA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88164-0682-4E1A-8B79-C0B03BD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347157-0EEF-4A7E-BD44-A784A4E6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02C13-F517-43A4-9BEA-13656B26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0077A-2EB8-44EF-872E-B4A8540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243CB-370F-4693-8B92-9B96A4989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51BBE5-3F1B-4763-A25C-517D90F2B7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49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189000"/>
            <a:ext cx="586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016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1F60F0-74B1-4867-97A4-083ACD75037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87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2BB67-7378-4CD4-8536-06F3639A0AD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ED4D45-6C37-454F-9B67-A8945C7495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3AF5AE-4B99-4EA0-99F0-49DEA4D6C9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256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F37EAB-D2B6-464F-AB73-64CBDC86AD4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58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0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C79996-1615-40CB-8ACA-AD78C474C96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00640"/>
            <a:ext cx="4572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6552720" y="6248520"/>
            <a:ext cx="2202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00640"/>
            <a:ext cx="557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6410160" y="-684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49C410-E930-446A-8F82-76CE79A237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2362320" y="39448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FOQUES LATINOAMERICANO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 COMUNICACIÓN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5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w Cen MT"/>
              </a:rPr>
              <a:t>BIBLIOGRAFIA CHILE ETAPA 1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45360" cy="4535640"/>
          </a:xfrm>
          <a:prstGeom prst="rect">
            <a:avLst/>
          </a:prstGeom>
          <a:solidFill>
            <a:srgbClr val="663300">
              <a:alpha val="80000"/>
            </a:srgbClr>
          </a:solidFill>
          <a:ln w="9360">
            <a:solidFill>
              <a:srgbClr val="ff9966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900" spc="-1" strike="noStrike">
                <a:solidFill>
                  <a:srgbClr val="ff9900"/>
                </a:solidFill>
                <a:latin typeface="Tw Cen MT"/>
              </a:rPr>
              <a:t>GENER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1. Armand Mattelart(1970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Los medios de comunicación de masas. La ideología de la prensa liberal en Chil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2. Armand Mattelart y Ariel Dorfman(1972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Para leer al Pato Donal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3. A. Mattelart, C. Castillo y L. Castillo(1973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La ideología de la dominación en una sociedad dependien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4. Manuel A. Garretón (Comp)(1973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Ideología y medios de comunicació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9720" cy="4633920"/>
          </a:xfrm>
          <a:prstGeom prst="rect">
            <a:avLst/>
          </a:prstGeom>
          <a:noFill/>
          <a:ln w="9360">
            <a:solidFill>
              <a:srgbClr val="ff9966"/>
            </a:solidFill>
            <a:round/>
          </a:ln>
        </p:spPr>
        <p:txBody>
          <a:bodyPr lIns="90000" rIns="90000" tIns="46800" bIns="46800" anchor="t">
            <a:normAutofit/>
          </a:bodyPr>
          <a:p>
            <a:pPr lvl="4" marL="1828800" indent="-228600">
              <a:spcBef>
                <a:spcPts val="4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w Cen MT"/>
              </a:rPr>
              <a:t>PERIODISM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1. Camilo Taufic(197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eriodismo y lucha de cla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2. Diego Portales(198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oder económico y libertad de ex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3. Abraham Santibañez(1974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eriodismo interpretati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4. Osvaldo Arias E.(1970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La prensa obrera en Ch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5. Luisa Ulibarri(1972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Caricaturas de ayer y ho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w Cen MT"/>
              </a:rPr>
              <a:t>C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ff9900"/>
                </a:solidFill>
                <a:latin typeface="Tw Cen MT"/>
              </a:rPr>
              <a:t>1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.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Mario Godoy (1966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l cine chile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2. Carlos Ossa Coo (197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l cine chile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 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1. Consuelo Morel et alter (1972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 la Radio en Ch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REVIST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Cuadernos de la Realidad Nacional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(Centro de Estudios de la Realidad Nacional, Ceren, U. Católi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Revista EAC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(Escuela de Artes de la Comunicación, U. Católi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Comunicación y Cultu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1260360" y="2743200"/>
            <a:ext cx="7234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w Cen MT"/>
              </a:rPr>
              <a:t>LAS MEDIACIONES Y LOS PROCESOS: ENFOQUE CULTURAL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(Años `80)</a:t>
            </a: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2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539640" y="6480"/>
            <a:ext cx="8460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BIBLIOGRAFÍA BÁSICA 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539640" y="1619280"/>
            <a:ext cx="882036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BERNARDO SUBERCASEAUX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“Sobre Cultura Popular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2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NESTOR GARCÍA CANCLINI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“¿De qué estamos hablando cuando hablamos de lo popular?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3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JESÚS MARTIN BARBERO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De los medios a las mediacion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4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RISTIÁN PARKER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Otra lógica en América Latina. Religión popular  y modernización capitalis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5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GUILLERMO SUNKEL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Razón y pasión en la prensa popula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6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LACSO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Comunicación y culturas populares en Latinoaméric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7. 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José J. Brunner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: Un espejo triza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500040" y="100008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HISTÓRICO: FIN DE LAS DICTADURAS Y PROCESOS DE DEMOCRATIZACIÓN EN AMÉRICA LATINA. CRISIS DEL BLOQUE SOVIÉTICO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557280" y="179280"/>
            <a:ext cx="2862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747720" y="2048040"/>
            <a:ext cx="768204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ARCOS CONCEPTUALES: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GRAMSCI (“HEGEMONÍA” Y “SENTIDO COMÚN”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ESTUDIOS CULTURALES (WILLIAMS, HALL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MICHEL DE CERTEAU (“APROPIACIÓN CULTURAL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BORDIEU (“CAMPO CULTURAL”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FOUCAULT (“PODER Y DISCURSO”)</a:t>
            </a:r>
            <a:br>
              <a:rPr sz="2500"/>
            </a:b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557280" y="200160"/>
            <a:ext cx="271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539640" y="539640"/>
            <a:ext cx="822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280" y="1413000"/>
            <a:ext cx="81532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TRES SUPERACIONES METODOLÓGIC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EMONÍACA DE LA INDUSTRIA CULTURAL Y LA CULTURA DE MAS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UALISTA ENTRE LO NACIONAL Y LO GLOB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E LA CULTURA POPULAR COMO ESPACIO AUTÁRQUICO Y ESENCIALIST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12720" y="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60360" y="1800360"/>
            <a:ext cx="8153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CULTURA DE MASAS COMO UNA FORMA DE EXISTENCIA DE LO POPULAR. IMPORTANCIA DEL CONSUMO CULTURAL Y LOS FENÓMENOS DE RECEPC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UBICAR HISTÓRICAMENTE LOS PROCESOS Y PRODUCTOS DE LA CULTURA DE MASAS, MÁS BIEN EN RELACIÓN CON LAS CULTURAS POPULAR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NTEXTUALIZAR LO QUE SE PRODUCE EN LOS MEDIOS, EN RELACIÓN A OTROS ESPACIOS (POLÍTICA, ECONOMÍA) Y PRÁCTICAS SOCIALES COTIDIANAS (EL BARRIO, LA CALLE, LOS MERCADOS, LA ESCUELA, LA MÚSICA, LOS BAILES, ETC.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332000" y="2708280"/>
            <a:ext cx="7234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LA DENUNCIA Y EL PENSAMIENTO DUAL (60-70)</a:t>
            </a: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1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REACTIVACIÓN DEL DEBATE SOBRE LA IDENTIDAD, COLOCÁNDOLO EN EL CENTRO DE LA RELACIÓN COMUNICACIÓN/CULTURA, LO QUE IMPLICÓ UBICARLO EN LOS MARCOS DE LA MODERNIZACIÓN Y GLOBALIZACIÓN (NUEVAS TECNOLOGÍAS)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SUPERACIÓN DE TODA VISIÓN ESENCIALISTA. RELACIÓN DE LO COMUNICACIONAL Y CULTURAL CON LO ECONÓMICO Y POLÍTICO (CULTURA COMO MATERIALIDAD: WILLIAMS)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11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BIBLIOGRAFIA CHILE ETAPA 2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45360" cy="4924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GENERA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Giselle Munizaga y Any River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investigación de la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Varios Autores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municación en los ’8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VECTOR, Centro de Estudios Económicos y Sociales (1980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municación alternativa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Alfredo Riquelme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de masas. Debate ideológico (1958-1973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Eduardo Santa Cruz A.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, una alternativa popula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6.- Eduardo Santa Cruz A.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y conciencia de mas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183960"/>
            <a:ext cx="8145720" cy="873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ERIOD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- Guillermo Sunkel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azón y pasión en la prensa popula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Guillermo Sunkel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Mercurio: 10 años de educación político-ideológ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Eduardo Santa Cruz A. (198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nálisis histórico del periodismo chilen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Jaime Martínez W. (Coordinador) (1980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sí lo vio Zig Za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Patricio Dooner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eriodismo y política. La prensa de Derecha en Chile (1970-197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6.- 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Alfredo Riquelme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 (1986), Trabajadores y pobladores en el discurso de la prensa sectorial popular: Chile 1958-1973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255240"/>
            <a:ext cx="8145360" cy="8665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7.- Patricio Dooner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rensa de Izquierda en Chile (1970-197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F. Reyes M. y J.A.Richards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eriodismo independiente: ¿mito o realidad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 C. Durán, F. Reyes y C. Ruiz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rensa: del autoritarismo a la liberta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F. Ossandón y Sandra Rojas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Epoca y Fortín Mapocho. El primer impact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Pedro Bravo E.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Despertar de los Trabajador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2.- Diego Portales (197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eterogeneidad industrial en la prensa de Santiago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120"/>
            <a:ext cx="814572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- Valerio Fuenzalida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V Padres-Hijo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V. Fuenzalida y M.E. Hermosilla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Visiones y ambiciones del televiden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aría de la Luz Hurtado (198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istoria de la TV en Chile (1958-1973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D. Portales, G. Sunkel et alter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olítica en pantalla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Yessica Ulloa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Videoindependiente en Chile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6.- Juan C. Altamirano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sí, así, se mueve Don Francisco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7.- Augusto Góngor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tele-visión del mundo popular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Elizabeth Fox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V y comunidad. 5 falaci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Edison Otero y Ricardo López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elevisión y violencia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Juan C. Altamirano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os desafíos de la programación televisiva democrát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Valerio Fuenzalid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ransformaciones en la estructura de la TV chil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2.- María de la luz Hurtado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ransformaciones estatales y modelos de televis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3.- G. Munizaga, A. Riquelme y P. Gutiérrez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Sistema de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4.- Diego Portales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ntribución democrática de la televisió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453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5.- Diego Portales (198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dificultad de innovar. Un estudio sobre las empresas de televisión en América Latina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6.- Giselle Munizaga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Marco jurídico legal del medio televisivo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7.- Raquel Salinas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elevisión chilena: opción a color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8.- Juan C. Altamirano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os desafíos de la televisión de maña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45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Giselle Munizaga y Paulina Gutierrez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adio y cultura popular de mas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Giselle Munizaga y G. de la Maza (197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espacio radial no oficialista en Chile: 1973-1977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. Cristina Lasagni, Paula Edwards y Josiane Bonnefoy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Radio en Chile. Historia, modelos y perspectiv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-19080"/>
            <a:ext cx="814536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C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Alicia Vega (197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e-visión del cine chilen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Jacqueline Mouesca (198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lano secuencia de la memoria de Chile. Veinticinco años de cine chileno (1960-1985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aría de la Luz Hurtado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industria cinematográfica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FOTOGRAF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Hernán Rodríguez Villegas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istoria de la fotografía en Chile. Registro de daguerrotipos, fotógrafos, reporteros gráficos y camarógrafos. 1840-194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CAMBIO DE SIGLO: TRANSFORMACIONES Y PERPLEJIDADE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3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539640" y="0"/>
            <a:ext cx="846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w Cen MT"/>
              </a:rPr>
              <a:t>BIBLIOGRAFÍA BÁSICA ETAPA 1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612720" y="1600200"/>
            <a:ext cx="81532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RMAND MATTELART(1970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100" spc="-1" strike="noStrike">
                <a:solidFill>
                  <a:srgbClr val="ffcc99"/>
                </a:solidFill>
                <a:latin typeface="Tw Cen MT"/>
              </a:rPr>
              <a:t>“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Los medios de comunicación de masas. La prensa liberal en Chile”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2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NTONIO PASQUALI(1965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Comunicación y cultura de mas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3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AMILO TAUFIC(1971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Periodismo y lucha de clas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4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M.A.GARRETÓN (COMP.)(1973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Ideología y medios de comunic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5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. MATTELART Y A. DORFMAN(1972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Para leer al Pato Donald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6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RMAND MATTELART(1974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La Comunicación masiva en procesos de liber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7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LUDOVICO SILVA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Teoría y práctica de la ideologí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8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ELISEO VERON(1971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):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 Lenguaje y Comunicación Socia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1639800"/>
            <a:ext cx="82296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1. JOSÉ J. BRUNNER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hile: transformaciones culturales y modernida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2. NESTOR GARCÍA CANCLINI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ulturas Híbridas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3. RENATO ORTIZ 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Mundialización y Cultur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4. NESTOR GARCÍA CANCLINI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onsumidores y Ciudadan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5. JESÚS MARTIN BARBERO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El oficio de cartógraf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6. MANUEL A. GARRETÓN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La faz sumergida del iceber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7. ELISEO VERÓN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El cuerpo de las imágen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8. VV.AA. 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Videoculturas de fin de sigl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9. RUBÉN DITTUS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artografía de los estudios mediales en Chil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10. JOSÉ J. BRUNNER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Posmodernismo y globalización cultur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539640" y="360360"/>
            <a:ext cx="860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 </a:t>
            </a: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BIBLIOGRAFÍA BÁSICA 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60360" y="6480"/>
            <a:ext cx="8405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95280" y="1628640"/>
            <a:ext cx="8406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TRANSFORMACIONES ESTRUCTUR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onsagración del mercado como articulador de todas las prácticas social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Naturalización del orden social, sus supuestos y fines (política como administración tecnificada de un orden social naturalizado)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celerados procesos de concentración y centralización del poder y descentralización de su operación y gestión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Disminución de la actividad política del Estado y crecimiento de su capacidad de control (Estado subsidiario y empresario)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Reducción de toda actividad comunicacional y propagandística al marketing (ya no se parte de la oferta, sino de la demanda: escenificación de la política. Ciudadanos y consumidor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onfusión de lo público y lo privado. Hiperinviduación y personalización de lo social. Lo público como escenario</a:t>
            </a:r>
            <a:r>
              <a:rPr b="1" lang="en-GB" sz="2200" spc="-1" strike="noStrike">
                <a:solidFill>
                  <a:srgbClr val="ffcc99"/>
                </a:solidFill>
                <a:latin typeface="Tw Cen MT"/>
              </a:rPr>
              <a:t>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mediático: farandulización</a:t>
            </a:r>
            <a:r>
              <a:rPr b="1" lang="en-GB" sz="2200" spc="-1" strike="noStrike">
                <a:solidFill>
                  <a:srgbClr val="ffcc99"/>
                </a:solidFill>
                <a:latin typeface="Tw Cen MT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612720" y="1440000"/>
            <a:ext cx="81532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EDIATIZACIÓN SOCIA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DE MASAS: EL MISMO PRODUCTO A“ENE” RECEPTORES. HOMOGENEIZACIÓN CULTURAL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ZANO: SUJETO CAUTIV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VERÓN: SOCIEDAD MEDIÁTICA (ESPACIO DE REPRESENTACIÓN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SEGMENTADA: “AUDIENCIAS ERRANTES” QUE SE ARMAN Y DESARMAN (PAPEL DE LA TECNOLOGÍ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ZANO: SUJETO NÓMAD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VERÓN: SOCIEDAD MEDIATIZADA (TODA PRÁCTICA SOCIAL ENCUENTRA SENTIDO EN TANTO SE RELACIONE CON LOS MEDIOS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557280" y="200160"/>
            <a:ext cx="271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539640" y="1440000"/>
            <a:ext cx="822636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PLEBE, PUEBLO, MASA, MULTITU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ULTITU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UNIDAD COMO SUPUESTO (EJ. IDENTIDAD NACIONAL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UNIDAD EN LOS SIGNOS Y EL LENGUAJE (EJS. LO NACIONAL, EL CASO DE 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LA CUARTA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REGIÓN INTERMEDIA ENTRE LO COLECTIVO Y LO INDIVIDU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INDIVIDUACIÓN DE LO UNIVERSAL, DE LO COMÚN COMPARTIDO, LA BASE QUE LEGITIMA LA DIFERENCIACIÓN (VALOR QUE SE LE DA A LA DIVERSIDAD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557280" y="200160"/>
            <a:ext cx="279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VIRTUALIZ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NFUSIÓN ENTRE LAS REGLAS DEL JUEGO Y EL JUEGO DE LAS REG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FICCIÓN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MENTIRA, TEATRO, DISFRAZ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REALIDAD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VERDAD, REPRESENTACIÓN, EJ: FOTOGRAFÍA ANALÓGICA, CONOCIMIENTO MODERNO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539640" y="179280"/>
            <a:ext cx="280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539640" y="1979640"/>
            <a:ext cx="3095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VIRTUALIZ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557280" y="179280"/>
            <a:ext cx="2719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4200" y="2643120"/>
            <a:ext cx="9145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TV ANALÓGICA ROMPIÓ LA DIFERENCIA DILUYENDO LOS MARCADORES: ILUSIÓN DE “REGISTRO DE LA REALIDAD” Y ALTERACIÓN DE CATEGORÍAS DE TIEMPO Y ESPACI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CNOLOGÍA DIGITAL TERMINÓ POR BORRAR LA FRONTERA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ÉRDIDA DE TODO REFERENTE. CONSECUENCIAS EN EL CONOCIMIENTO Y EL PERIODISMO (PÉRDIDA DE TODA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OSIBILIDAD DE OBJETIVIDAD: DE UNA VERDAD EXTERIOR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AL SUJ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612720" y="1600200"/>
            <a:ext cx="81532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INVESTIGACIÓN EN COMUNIC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IERRE O REDUCCIÓN DE CENTROS ACADÉMICOS INDEPENDIENT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EXPLOSIÓN DEL SISTEMA UNIVERSITARIO ARTICULADO POR EL MERCADO (PREDOMINIO DE FONDOS CONCURSABLES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HEGEMONÍA ENFOQUE ADMINISTRATIVO: LOS SUPUESTOS Y FINES DEL ORDEN SOCIAL SON DAT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NEOFUNCIONALISMO: VISIÓN CIENTIFICISTA DE LA COMUNICACIÓN, REDUCIDA AL ESQUEMA EMISOR-MENSAJE-RECEPT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631280" y="6323040"/>
            <a:ext cx="498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500040" y="285840"/>
            <a:ext cx="29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250920" y="1979640"/>
            <a:ext cx="87138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LINEAS TEMÁTICAS PREDOMINANT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ENCUESTAS DE OPINIÓN PÚBLICA Y ESTUDIOS DE MERCADO (MARKETING Y PUBLICIDAD CON APLICACIÓN A LA POLÍTIC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NSULTORÍAS Y ASESORÍAS COMUNICACION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MUNICACION APLICADA A LA ORGANIZACION EMPRESARIAL Y DE INSTITUCION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NSUMO Y USO DE MEDIOS Y TECNOLOGIAS INFORMATIC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(VERSIÓN A-CRÍTICA DE ESTUDIOS CULTURALES)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04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BIBLIOGRAFIA CHILE ETAPA 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GENER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Maribel Quezada (1992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El mensaje medio a medi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2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Pablo Halpern y Sergio España (compiladores) (1995),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 Comunicaciones: nuevos umbral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3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Edison Otero (1998),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 Teorías de la Comunicac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4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Carlos Ossa S. (editor) (1999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La pantalla delirante. Los nuevos escenarios de la comunicación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5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Guillermo Sunkel y Esteban Geoffrey (2001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Concentración económica de los medios de comunicac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6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Herman Herlinghaus (editor) (2002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Narraciones anacrónicas de la modernidad. Melodrama e intermedialidad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7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Rubén Dittus (2008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Cartografías de los estudios mediales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-25452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45360" cy="4129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Matías Chaparro (200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nocer las audiencias. La investigación del consumo de medios de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 Stefan Rinke (2002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ultura de masas. Reforma y nacionalismo en Chile. 1910-1931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Juan P. Arancibia (200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Política. Fragmentos para una genealogía de la mediatiz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Eduardo Santa Cruz A. (199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studios de Comunicación en América Latina: acerca de causas y azar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360360" y="1619280"/>
            <a:ext cx="41781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SOCIOHISTÓR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ROBLEMÁTICA DEL DESARROLLO: </a:t>
            </a:r>
            <a:br>
              <a:rPr sz="2000"/>
            </a:b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CEPAL, ALIANZA PARA EL PROGRESO, REVOLUCIÓN CUBANA)</a:t>
            </a:r>
            <a:br>
              <a:rPr sz="2000"/>
            </a:b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844880" y="1589040"/>
            <a:ext cx="39751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ACADÉM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MODELOS FUNCIONALISTAS (ATRASO: MENTALIDAD)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POSITIVISM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PROBLEMÁTICA DE LOS EFECT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INVESTIGACIÓN ADMINISTRATIV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APLICACIÓN (“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TEORÍAS DE ALCANCE MEDIO</a:t>
            </a:r>
            <a:r>
              <a:rPr b="0" lang="en-US" sz="24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”)</a:t>
            </a:r>
            <a:r>
              <a:rPr b="0" lang="en-US" sz="24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5986440" y="4741920"/>
            <a:ext cx="498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77800" y="360360"/>
            <a:ext cx="3022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1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45360" cy="10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PERIODISMO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Roxana Alvarado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prensa sensacionalista: el caso de La Cuart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Carlos Ossandón B.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crepúsculo de los sabios y la irrupción de los publicist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C. Ossandón B y E. Santa Cruz A.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ntre las alas y el plomo. La gestación de la prensa moderna en Chi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4.- C. Ossandón B. y E. Santa Cruz A.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estallido de las formas. Chile en los albores de la cultura de mas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5.- Eduardo Santa Cruz A.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Modelos y estrategias de prensa en procesos de modernizació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6.- Guillermo Sunkel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prensa sensacionalista y los sectores populares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7.- Maximiliano Salinas et alter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que ríe último…Caricaturas y poesías en la prensa humorística chilena del siglo XIX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8.- Juan R. Couyoumdjian, Eliana Rozas y Josefina Tocornal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Hora. Trayectoria de un diario político, 1935-1951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-2577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997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9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.- E. Santa Cruz A. y Luis Edo. Santa Cruz G.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Las escuelas de la identidad. Deporte y cultura en el Chile desarrollist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0.-Programa Libertad de Expresión ICEI-U. de Chile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Mordazas de la transición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1.-Guillermo Sunkel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Narrativas periodísticas y escándalos político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2.-Matías León Lira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periodismo que no calló. Historia de la revista Análisis (1977-1993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3.-Claudio Durán (199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Mercurio. Ideología y propaganda. 1954-1994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4.-Angel Soto (editor) (2004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ntre tintas y plumas. Historias de la prensa chilena del siglo XIX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5.-Paula Mobarek y Dominique Spiniak (2001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HOY. 1108 ediciones con histori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6.-Angel Soto (2003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Mercurio y la difusión  del pensamiento político económico liberal. 1955-1970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7.- Gonzalo Piwonka (2000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Orígenes de la libertad de prensa en Chile: 1823-1830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8.- Evangeline Mundy (199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Joaquín Díaz Garcés (Angel Pino). Su vida y su obr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9.- Soledad Puente (1997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Televisión. El drama hecho notici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0.- Bernardo Amigo (editor)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Desafíos actuales del periodismo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1.- Francisca Araya (2007), Historia de la revista APSI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2.- Cristián Cabalín (2007), PLAN B: una revista que remeción la prensa chilen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120"/>
            <a:ext cx="8145720" cy="974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TELEVIS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145360" cy="4518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1.- José J. Brunner y Carlos Catalán (1995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: libertad, mercado y mor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2.- Valerio Fuenzalida (1997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 y cultura cotidiana. La influencia social de la televisión percibida desde la cultura cotidiana de la audienci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3.- Eduardo Santa Cruz A. (1997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Comunicación, consumo cultural y cultura cotidiana: el caso de la información televisiv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4.- Valerio Fuenzalida (2000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a televisión pública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5.- Valerio Fuenzalida (2002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 abierta y audiencias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6.- Eduardo Santa Cruz A. (2003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as telenovelas puertas adentro. El discurso social de la telenovela chile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7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Rafael del Villar (1997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Trayectos en Semiótica fílmica televisiv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901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CIN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997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Jacqueline Mouesca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cine en Chile. Crónica en tres tiempos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Jacqueline Mouesca (1993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chileno. Veinte años (1970-1990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J. Mouesca y C. Orellana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y memoria del siglo XX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4.- Eliana Jara Donoso (1994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mudo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5.- Julio López Navarro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Películas chilen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6.- Ernesto Muñoz y Darío Burotto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Filmografía del cine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7.- Ascanio Cavallo et alter (1999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Huérfanos y perdidos. El cine chileno de la transición (1990-1999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8.- Aldo Francia (1990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Nuevo cine latinoamericano en Viña del Mar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9.- Remberto Latorre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en años de cine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0.- Mónica Villarroel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voz de los cineastas. Cine e identidad en el umbral del mileni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1.- Antonella Estévez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uz, cámara, transición. El rollo del cine chileno de 1993 al 2003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2.- Jacqueline Mouesca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documental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-1461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Secretaría Comunicación y Cultura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Perspectivas de la Radio en Chile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Jaime Bustos Mandiola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rónicas de un ex locutor de radi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FOTOGRAFI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Teodoro Elssaca (1999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fotografía como arte en Chi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Abel Alexander, Margarita Alvarado et alter (2000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Historia de la fotografía en Chile: rescate de huellas en la luz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Juan D. Marinello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Gráficas de la oralidad periodística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-1461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45360" cy="4129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1.- Juan P. González y Claudio Rolle (2005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Historia social de la música popular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2.- Alejandro Godoy (1992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Historia del afiche en Chile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3.- Udo Jacobsen (2001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eyendo comics. Una guía introductoria al lenguaje de la historiet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FOQUE CRÍTICO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539640" y="1800360"/>
            <a:ext cx="815364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ARCOS CONCEPTUAL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ORÍA DE LA DEPENDENCIA (“IMPERIALISMO CULTURAL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MARXISMO (VERSIÓN ORTODOXA-ALTHUSSER: “APARATOS IDEOLÓGICOS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ESCUELA DE FRANKFURT (“CULTURA DE MASAS E INDUSTRIA CULTURAL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SEMIOLOGÍA ESTRUCTURALISTA (“CONOTACIÓN/DENOTACIÓN”; “DOBLE ARTICULACIÓN DEL LENGUAJE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6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ERSPECTIVA ANALITICA: (COMUNICACIÓN– IDEOLOGÍA Y PODER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LÍNEAS TEMÁTICAS (DENUNCIA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Y SU CONTEXTO POLÍTICO Y   ECONÓMIC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2. ESTRUCTURA DE PROPIEDAD DE LOS MEDI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3. CARÁCTER IDEOLÓGICO DEL CONTENIDO DE LOS MEDI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Tw Cen MT"/>
              </a:rPr>
              <a:t>CONTEXTO HISTÓRICO: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CRISIS DEL PETROLEO: APARICION DEL LLAMADO “DIALOGO NORTE-SUR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DICTADURAS MILITARES, AUNQUE DE DISTINTO CARÁCTER. EN SUDAMÉRICA SOLAMENTE DOS GOBIERNOS CONSTITUCIONAL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cc99"/>
                </a:solidFill>
                <a:latin typeface="Tw Cen MT"/>
              </a:rPr>
              <a:t>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539640" y="1800360"/>
            <a:ext cx="8298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DOS LÍNEAS TEMÁTICAS (PROPOSITIVAS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1.- ELABORACIÓN POLÍTICAS NACIONALES DE COMUNICACIÓN Y CULTURA (“DIÁLOGO NORTE-SUR; PAÍSES NO ALINEADOS; COMISIÓN MC BRIDE: EL NOII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COMUNICACIÓN Y CULTURA COMO UN DERECHO Y NO COMO RECURSO O SERVICI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NECESIDAD DE POLÍTICAS ESTATALES:  GARANTIZAR DEMOCRATIZACIÓN DE LA COMUNICACIÓN Y DEFENSA DE IDENTIDADES CULTUR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539640" y="360360"/>
            <a:ext cx="302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428760" y="785880"/>
            <a:ext cx="82296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2.- COMUNICACIÓN ALTERNATIVA: (VISIÓN DUALIST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NACIONAL/TRANSNACION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ARTESANÍA/INDUSTRI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DEMOCRACIA/DICTADUR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DOMINADOS/DOMINANTES (CLASIST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POPULAR/MASIV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 POPULAR COMO “CULTURA DE RESISTENCIA”, AUTÉNTICA Y AUTÓNOMA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ULTURA DE MASAS COMO ALGO AJENO Y PERTENECIENTE AL CAMPO DE LA DOMINAC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539640" y="360360"/>
            <a:ext cx="295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ne14</dc:creator>
  <dc:description/>
  <dc:language>en-US</dc:language>
  <cp:lastModifiedBy>apocalipsi</cp:lastModifiedBy>
  <dcterms:modified xsi:type="dcterms:W3CDTF">2009-10-29T01:01:20Z</dcterms:modified>
  <cp:revision>48</cp:revision>
  <dc:subject/>
  <dc:title>ENFOQUES LATINOAMERICANOS EN COMUNICACION</dc:title>
</cp:coreProperties>
</file>