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9AB-B627-435A-A7D3-E49F7E62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917-F74D-4828-95A2-5166440D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8C2-3C95-4C7D-A198-28C30D50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95B-79A2-498B-B224-3AFC4277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E619-541D-4EC7-8432-E95040CA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3AB5-6D81-4AC8-B5D0-69EEE160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38AE-A2D7-4E4A-84C3-DA2EEC66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11B7-7897-4B6B-A5EA-E1E0EC66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0D68-44D6-4505-8684-E3B0A3EF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5FA5-B4EB-4EA9-BBC1-B538636D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C3CB-BBD5-4B07-BFA2-A1A0D0EA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55D-A215-443D-87D4-8A2FDFBB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A2D5-81D7-4F35-A1A2-5C5E1B1A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50E5-2D10-439B-A9E9-CAF9E7A6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B563-B1C5-4FC5-8283-5C2EC602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7E83-EE86-46D6-B6D4-D605BAC9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9CA8-2646-4D27-AD20-28E0A2AE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ACD-9521-48F1-94D9-60BEC6F2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B33-E1CC-4365-9163-5D0E67D6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C6E-F852-4E6E-90CD-7847A579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623-D748-4788-85E2-2FA6BBA4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3BB-CF0B-4396-A66D-91DF442B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F18-6A37-40F5-B579-DF34CE4D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CF1-2FE7-4FF5-A552-2960B8D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700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0061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47E9-EBA7-4C9D-9761-45DB9B7DD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700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0061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8DEB-4274-4B3D-A607-9942B5BF7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ALIDADES Y REQUISITOS Y DEFINICIÓN DEL BUEN ESTILO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Para un periodismo eficaz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18399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random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BREVEDAD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 la práctica equivale a concisión.  Un escritor denso y conciso es, por sí, brev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a usted breve”.  Decir lo que tenga que decir y callarse en cuanto queda dich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 realidad no hay medida para la brevedad: todo depende de lo que se tenga que decir o contar.   Y también de cómo se di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 reportaje o un artículo mal escritos resultarán siempre larg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 trabajo bien escrito, en el que cada palabra, cada frase, “estén preñadas de sentido”, nunca resultará extenso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ando se recomienda brevedad debe entenderse como: “no escriba ni hable demás”.  Más de lo indispensable y necesario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 casa frase hay una sola idea: El ideal estilístico – elegancia se llama el resultado – resulta de combinar la frase corta con la frase larga, según lo requiera la expresión de los hechos o de los pensamientos sobre los hech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VARIEDAD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periodismo es esencialmente variado, como variado y multiforme es el mund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ilísticamente, esta exigencia implica una variedad expresiva de acuerdo con la variedad de los hechos que se narra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de el punto de vista del lenguaje, hay ocasiones en que resulta forzoso repetir una palabra porque no hay otra más propia que la utilizad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a se sabe que no hay dos palabras que tengan un sentido idéntico.  Mucho depende del contex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la lectura armoniosa es importante combinar longitud de frases con cambios de tono, velocidad y énfasis que cobran especial importancia en el caso de la ra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ATRACCIÓN</a:t>
            </a:r>
            <a:endParaRPr b="1" lang="en-US" sz="6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estilo periodístico no puede ser torpe, soso, gri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dad es que los hechos mismos se narran, sobre todo si son noticiosos, dan ya suficiente atractivo al texto periodístic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 cual no obsta para que la prosa del periodista, por su construcción, sea atractiva por sí misma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y periodistas a quienes se escucha, en más de una ocasión, no tanto por lo que dicen sin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ó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 dic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jo Pascal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“En la elocuencia tiene que darse lo agradable y lo real; pero es preciso que lo agradable sea real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RITMO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da hecho que un periodista relata tiene su propio ritm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es lo mismo el relato de un funeral de una personalidad, que la descripción de incidentes en el centro de la ciu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es lo mismo un relato del fútbol que el reporte de los efectos de un tempo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COLOR</a:t>
            </a:r>
            <a:endParaRPr b="1" lang="en-US" sz="6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depende de las palabras, sino más bien del engarce dentro de la fras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r color a un hecho es describirlo de un modo pintoresco, plástic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color puede darse en la descripción y en la narración.  Decir “llueve” o “nieva” es enunciar un hech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bir la lluvia sobre los campos, o sobre los tejados, o la nieve sobre los árboles desnudos del parque es dar un toque de color a nuestra descripció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rrar un suceso escuetamente es dar noticia del mism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rrarlo con pinceladas plásticas es revivirlo.  Así, se ha dicho que “la diferencia entre una lista de hechos y un buen reportaje es el estil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SONORIDAD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frase debe sonar bien no en el sentido musical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e tener una buena resonancia mental de que se cuenta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o que fue, tal como fu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 color y con sonido, si lo hubo en el fenómeno r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DETALLISMO</a:t>
            </a:r>
            <a:endParaRPr b="1" lang="en-US" sz="6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 periodística es la gran noticia como el minúsculo detalle que revela o descubre el valor humano de un suces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quiere decirse que el periodismo viva del detalle, pero sí que el detalle, en ocasiones, es muy periodístic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luso en la gran noticia o en el gran reportaje los detalles reveladores hacen aún más noticiosos o sugestivo el relat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discurso del Presidente Frei del 21 de mayo de 1999 al Congreso Pleno: en medio de la solemnidad y la tensión del momento mientras hacía una pausa y había gritos en las graderías, exclamó: ¡la vieja pa´gritona!.  Rompe la solemnidad.  Humaniza al personaje.  Produce un quiebre en el clim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 detalle import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CORRECCIÓN Y PROPIEDAD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lenguaje del periodista debe ser correcto desde el punto de vista gramatical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cribir con propiedad significa no olvidar nunca “las estructuras” fundamentales del idioma en que se escribe.  Hay que mantener un idioma digno, propio y correct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, si se quiere,  eleg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BIBLIOGRAFIA</a:t>
            </a: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erráiz, Ismael             EL PERIODISMO, TEORIA Y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Vivaldi, Martín              GÉNEROS PERIODIS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uñoz y Gil                   LA RADIO: TEORIA Y PRÁ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ebrián Herreros          INFORMACIÓN RADIOFÓ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ubau Iván                     PERIODISMO O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aye Ricardo                  HACIA UNA NUEVA R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tínez Albertos         CURSO GRAL DE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DACCIÓN PERIODÍS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Documento preparado por Sergio Campos Ulloa, profesor de Periodismo Radiofónico de la Escuela de Periodismo de la Universidad de Chile, INSTITUTO DE LA COMUNICACIÓN E IMAGEN, ICEI</a:t>
            </a:r>
            <a:r>
              <a:rPr b="1" i="1" lang="en-US" sz="2400" spc="-1" strike="noStrike">
                <a:solidFill>
                  <a:srgbClr val="d6b90a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ww.icei.uchile.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campos@uchile.c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CLARIDAD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ción primera de la prosa periodístic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 de escribirse para que entienda todo el mundo: el docto y el menos docto, el especialista en la materia y el profano; el inteligente y el menos inteligen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eriodista debe tene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aridad en las ideas y transparencia expositiva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ribe claro quien piensa cla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o no basta la claridad mental o de ideas.   Es preciso utilizar un lenguaje fácil, a base de palabras transparentes y frases breves.  Ir derecho a las cosas sin detener al auditor. (Azorí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ún Quintillano (romano año 95 d.c.), la meta de la claridad significa no que pueda entenderse lo que decimos, “sino que no pueda, en modo alguno, no entenders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CONCISIÓN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 resulta de utilizar sólo las palabras indispensables, justas y significativas para expresar lo que se quiere deci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lo conciso no significa estilo lacónico, ultracondensad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concisión es enemiga de la verborrea, de la redundancia, del titubeo expresiv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concisión lleva a la rapidez y viveza del estil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verbo activo y dinámico viene a ser así la clave del estilo ráp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DENSIDAD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vale, en la práctica, a la concisión y se traduce en que cada palabra o frase estén preñadas de senti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lo denso equivale a estilo significativo.  Periodísticamente la densidad de estilo pide hechos y más hecho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un escrito no debe sobrar ni faltar ni una palab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EXACTITUD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ólo en los hechos que se narran, sino en las palabras que se utilizan para contar tales hecho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que huir de las palabras de amplio significado y buscar siempre la palabra exacta, la inevi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PRECISIÓN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 no divagar, para “ir derecho al grano”.  La precisión requi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 lógico en las ide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idad mental y sensibilidad para los h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tes de observación, visión clara, en suma, de los hechos y de las idea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uir la frase con rigor lógico-psicológ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ge huir del término ambiguo o de la expresión equívoc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ENCILLEZ</a:t>
            </a:r>
            <a:endParaRPr b="1" lang="en-US" sz="48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alidad que se produce al utilizar palabras de uso comú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 contrario de la sencillez es el estilo artificioso, el empleo de voces rebuscadas – cultas o arcaica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an Ramón Jiménez decía que, en la duda entre utilizar “estío” o “verano”, después de mucho pensarlo, prefería “verano” por ser la voz popular, mientras que “estío” era palabra más cul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periodismo es un medio de comunicación social por lo tanto el lenguaje debe ser sencillo, asequible a la gran mayoría, al “gran públic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NATURALIDAD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ción ésta que se produce cuando se utilizan palabras o expresiones propias al acerbo personal y social del que se habla o escribe.  Se opone a la naturalidad la afectació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y un lenguaje natural político, otro técnico, otro deportivo... Los que van a votar son ciudadanos,  los que van al estadio son hinchas, los que van a un recital constituyen público.  Y así.  El lenguaje natural SIEMPRE está asociado al 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ORIGINALIDAD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alidad consecutiva de la sinceridad expresiva, de una gran fidelidad a sí mismo y hacia el mundo externo y de un modo de hacer personalísim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o escritor fiel a la realidad y a sí mismo es ya original. Hoy ser dice también autentic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gún Chateaubriand:  escritor original no es el que no imita a nadie, sino a aquel “a quien nadie puede imita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ísticamente, la originalidad consiste en decir las cosas tal como las vemos y senti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9T09:41:10Z</dcterms:created>
  <dc:creator>a</dc:creator>
  <dc:description/>
  <dc:language>en-US</dc:language>
  <cp:lastModifiedBy>*</cp:lastModifiedBy>
  <dcterms:modified xsi:type="dcterms:W3CDTF">2009-08-03T08:14:21Z</dcterms:modified>
  <cp:revision>13</cp:revision>
  <dc:subject/>
  <dc:title>CUALIDADES Y REQUISITOS Y DEFINICIÓN DEL BUEN ESTIL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