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C67-65E8-4B79-BC52-E7C43F0C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CC8-A55E-4659-81F3-F3F5D31B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CF9-3F95-4363-94E9-CEA019AA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F0B-F5D0-4417-B3F7-869F8139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4D8F-89F0-48E4-A2C4-25CBB097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ED57-02D4-4BC6-9A57-FAFD27B6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87CE-DEA5-421D-9AA1-FA53A56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BE4E-767F-4521-B5FD-C16871B9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140F-9486-4F9B-9E56-FDD19DAC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D873-B969-45DD-A773-397B128B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FF52-5557-44CD-8663-32D69136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3BF-815B-4F4B-BDE8-7757D13B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8915-0F1D-4C9A-A2A8-8CC0B327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E2DC-46B4-4A0D-B421-DDD564EE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E3F4-192B-46D8-A388-E3D09C3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1517-9D8A-4DC3-8767-58466E2A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C8F1-9652-4A0B-B061-737E329A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BD5-2BE7-407E-A7C7-2A806B82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42C-4543-4B46-9E05-86C0C9F3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376-B967-40A9-9F68-974BEB16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B04-4B5A-4361-8FFD-F597C274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20B2-123C-49FE-8A28-C26D012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683-1961-4A09-9D69-F1F7F7F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B14-5322-45A5-988E-A8566023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DF9A-613C-4A02-93DD-6A54DC59D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7000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0061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FA5C-D2DD-4E3F-81CA-583F4F220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ALIDADES Y REQUISITOS Y DEFINICIÓN DEL BUEN ESTILO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Para un periodismo efica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18399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random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BREVE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 la práctica equivale a concisión.  Un escritor denso y conciso es, por sí, bre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a usted breve”.  Decir lo que tenga que decir y callarse en cuanto queda dich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 realidad no hay medida para la brevedad: todo depende de lo que se tenga que decir o contar.   Y también de cómo se dig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 reportaje o un artículo mal escritos resultarán siempre larg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n trabajo bien escrito, en el que cada palabra, cada frase, “estén preñadas de sentido”, nunca resultará extenso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ando se recomienda brevedad debe entenderse como: “no escriba ni hable demás”.  Más de lo indispensable y necesario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 casa frase hay una sola idea: El ideal estilístico – elegancia se llama el resultado – resulta de combinar la frase corta con la frase larga, según lo requiera la expresión de los hechos o de los pensamientos sobre los hech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VARIE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periodismo es esencialmente variado, como variado y multiforme es el mun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ilísticamente, esta exigencia implica una variedad expresiva de acuerdo con la variedad de los hechos que se narra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 el punto de vista del lenguaje, hay ocasiones en que resulta forzoso repetir una palabra porque no hay otra más propia que la utilizad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a se sabe que no hay dos palabras que tengan un sentido idéntico.  Mucho depende del contex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la lectura armoniosa es importante combinar longitud de frases con cambios de tono, velocidad y énfasis que cobran especial importancia en el caso de la ra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ATRACCIÓN</a:t>
            </a:r>
            <a:endParaRPr b="1" lang="en-US" sz="6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estilo periodístico no puede ser torpe, soso, gri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dad es que los hechos mismos se narran, sobre todo si son noticiosos, dan ya suficiente atractivo al texto periodístic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 cual no obsta para que la prosa del periodista, por su construcción, sea atractiva por sí misma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y periodistas a quienes se escucha, en más de una ocasión, no tanto por lo que dicen sin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ó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 dic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jo Pascal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“En la elocuencia tiene que darse lo agradable y lo real; pero es preciso que lo agradable sea real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RITMO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da hecho que un periodista relata tiene su propio ritm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es lo mismo el relato de un funeral de una personalidad, que la descripción de incidentes en el centro de la ciu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es lo mismo un relato del fútbol que el reporte de los efectos de un tempo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COLOR</a:t>
            </a:r>
            <a:endParaRPr b="1" lang="en-US" sz="6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depende de las palabras, sino más bien del engarce dentro de la fras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r color a un hecho es describirlo de un modo pintoresco, plástic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color puede darse en la descripción y en la narración.  Decir “llueve” o “nieva” es enunciar un hech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bir la lluvia sobre los campos, o sobre los tejados, o la nieve sobre los árboles desnudos del parque es dar un toque de color a nuestra descripció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rrar un suceso escuetamente es dar noticia del mism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rrarlo con pinceladas plásticas es revivirlo.  Así, se ha dicho que “la diferencia entre una lista de hechos y un buen reportaje es el estil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SONORI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frase debe sonar bien no en el sentido musica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e tener una buena resonancia mental de que se cuenta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 que fue, tal como fu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 color y con sonido, si lo hubo en el fenómen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DETALLISMO</a:t>
            </a:r>
            <a:endParaRPr b="1" lang="en-US" sz="66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n periodística es la gran noticia como el minúsculo detalle que revela o descubre el valor humano de un suces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quiere decirse que el periodismo viva del detalle, pero sí que el detalle, en ocasiones, es muy periodístic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so en la gran noticia o en el gran reportaje los detalles reveladores hacen aún más noticiosos o sugestivo el relato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discurso del Presidente Frei del 21 de mayo de 1999 al Congreso Pleno: en medio de la solemnidad y la tensión del momento mientras hacía una pausa y había gritos en las graderías, exclamó: ¡la vieja pa´gritona!.  Rompe la solemnidad.  Humaniza al personaje.  Produce un quiebre en el clim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 detalle impor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CORRECCIÓN Y PROPIE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lenguaje del periodista debe ser correcto desde el punto de vista gramatical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cribir con propiedad significa no olvidar nunca “las estructuras” fundamentales del idioma en que se escribe.  Hay que mantener un idioma digno, propio y correcto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, si se quiere,  eleg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BIBLIOGRAFIA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rráiz, Ismael             EL PERIODISMO, TEORIA Y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ivaldi, Martín              GÉNEROS PERIODIS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uñoz y Gil                   LA RADIO: TEORIA Y PRÁ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ebrián Herreros          INFORMACIÓN RADIOFÓ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ubau Iván                     PERIODISMO O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aye Ricardo                  HACIA UNA NUEVA R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tínez Albertos         CURSO GRAL DE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DACCIÓN PERIODÍS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Times New Roman"/>
              </a:rPr>
              <a:t>Documento preparado por Sergio Campos Ulloa, profesor de Periodismo Radiofónico de la Escuela de Periodismo de la Universidad de Chile, INSTITUTO DE LA COMUNICACIÓN E IMAGEN, ICEI</a:t>
            </a:r>
            <a:r>
              <a:rPr b="1" i="1" lang="en-US" sz="2400" spc="-1" strike="noStrike">
                <a:solidFill>
                  <a:srgbClr val="d6b90a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ww.icei.uchile.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campos@uchile.c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CLARI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ción primera de la prosa periodístic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 de escribirse para que entienda todo el mundo: el docto y el menos docto, el especialista en la materia y el profano; el inteligente y el menos intelig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eriodista debe tene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ridad en las ideas y transparencia expositiva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ribe claro quien piensa clar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o no basta la claridad mental o de ideas.   Es preciso utilizar un lenguaje fácil, a base de palabras transparentes y frases breves.  Ir derecho a las cosas sin detener al auditor. (Azorí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ún Quintillano (romano año 95 d.c.), la meta de la claridad significa no que pueda entenderse lo que decimos, “sino que no pueda, en modo alguno, no entenders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CONCISIÓN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 resulta de utilizar sólo las palabras indispensables, justas y significativas para expresar lo que se quiere deci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lo conciso no significa estilo lacónico, ultracondens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concisión es enemiga de la verborrea, de la redundancia, del titubeo expresiv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 concisión lleva a la rapidez y viveza del estilo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verbo activo y dinámico viene a ser así la clave del estilo ráp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DENSIDAD</a:t>
            </a:r>
            <a:endParaRPr b="1" lang="en-US" sz="6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vale, en la práctica, a la concisión y se traduce en que cada palabra o frase estén preñadas de senti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ilo denso equivale a estilo significativo.  Periodísticamente la densidad de estilo pide hechos y más hech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 un escrito no debe sobrar ni faltar ni una palab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EXACTITUD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ólo en los hechos que se narran, sino en las palabras que se utilizan para contar tales hech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que huir de las palabras de amplio significado y buscar siempre la palabra exacta, la inevit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PRECISIÓN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 no divagar, para “ir derecho al grano”.  La precisión requie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 lógico en las ide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idad mental y sensibilidad para los hech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tes de observación, visión clara, en suma, de los hechos y de las idea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uir la frase con rigor lógico-psicológ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ge huir del término ambiguo o de la expresión equívoc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ENCILLEZ</a:t>
            </a:r>
            <a:endParaRPr b="1" lang="en-US" sz="48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alidad que se produce al utilizar palabras de uso comú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 contrario de la sencillez es el estilo artificioso, el empleo de voces rebuscadas – cultas o arcaic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an Ramón Jiménez decía que, en la duda entre utilizar “estío” o “verano”, después de mucho pensarlo, prefería “verano” por ser la voz popular, mientras que “estío” era palabra más cul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periodismo es un medio de comunicación social por lo tanto el lenguaje debe ser sencillo, asequible a la gran mayoría, al “gran público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NATURALIDAD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ción ésta que se produce cuando se utilizan palabras o expresiones propias al acerbo personal y social del que se habla o escribe.  Se opone a la naturalidad la afectació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y un lenguaje natural político, otro técnico, otro deportivo... Los que van a votar son ciudadanos,  los que van al estadio son hinchas, los que van a un recital constituyen público.  Y así.  El lenguaje natural SIEMPRE está asociado al 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Times New Roman"/>
              </a:rPr>
              <a:t>ORIGINALIDAD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alidad consecutiva de la sinceridad expresiva, de una gran fidelidad a sí mismo y hacia el mundo externo y de un modo de hacer personalísim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o escritor fiel a la realidad y a sí mismo es ya original. Hoy ser dice también autentic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gún Chateaubriand:  escritor original no es el que no imita a nadie, sino a aquel “a quien nadie puede imita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ísticamente, la originalidad consiste en decir las cosas tal como las vemos y senti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random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09:41:10Z</dcterms:created>
  <dc:creator>a</dc:creator>
  <dc:description/>
  <dc:language>en-US</dc:language>
  <cp:lastModifiedBy>*</cp:lastModifiedBy>
  <dcterms:modified xsi:type="dcterms:W3CDTF">2009-08-03T08:14:21Z</dcterms:modified>
  <cp:revision>13</cp:revision>
  <dc:subject/>
  <dc:title>CUALIDADES Y REQUISITOS Y DEFINICIÓN DEL BUEN ESTIL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