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C4EB-23D1-4E5F-B7FF-5C6206A75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BAD4-5C35-4274-BB8E-3CDBC76C4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81CA-A9E1-4D47-BAAB-8B3887AEA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2EA9-6CE7-4EB0-8280-3029E2A09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1306-9527-4228-919D-BFA63339C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10C3-61F0-404F-90E2-070C1E25C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D2E9-D15B-4276-A926-63C52C30C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F79F-59F9-44C3-9C66-D95D3470C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0414-A773-4174-86C1-7C858AB14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266C-6B71-4587-A77A-D90C5BF6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8CE9-ECEA-4C93-9894-7593C21A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C3AA-FEF0-47AA-91C5-3024CE48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0F3C2-2E02-4F80-A579-4FE57F15B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s.fotolia.com/id/7880199?by=similia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INIÓN PÚBLICA. DEMOCRACIA Y CONFLICTOS EN AMÉRICA LA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os:Demoscópica, Rivas Cumsi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iodismo Político: Prof. Sergio Campos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new life in light bulb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35280" y="1125360"/>
            <a:ext cx="2611440" cy="2611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050920" cy="14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Imagen 1" descr=""/>
          <p:cNvPicPr/>
          <p:nvPr/>
        </p:nvPicPr>
        <p:blipFill>
          <a:blip r:embed="rId1"/>
          <a:stretch/>
        </p:blipFill>
        <p:spPr>
          <a:xfrm>
            <a:off x="0" y="0"/>
            <a:ext cx="50036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Imagen 1" descr=""/>
          <p:cNvPicPr/>
          <p:nvPr/>
        </p:nvPicPr>
        <p:blipFill>
          <a:blip r:embed="rId1"/>
          <a:stretch/>
        </p:blipFill>
        <p:spPr>
          <a:xfrm>
            <a:off x="1187280" y="228600"/>
            <a:ext cx="756144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NDEOS DE OPINIÓN PÚBL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uestas electo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or central de la vida democrá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sito básico para mejorar la democra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ncia téc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usión con respon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zación con alcance verdad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tido é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DUSTRIA DE LOS ESTUDIO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t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ganismos, empresas que los realiz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s medios de comun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s polí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STADIOS DE DESARROL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storia de los estudios de opin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idad de la encuestas (técnic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 manera de difusión en los Mass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cciones de los polític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I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ce 50 años en univers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o herramienta de propaganda polít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ándares técnicos y é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las campañas para construir imagen de triu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hibidas en dictad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TA CONCENTRACIÓN DE LA PRENSA ESCRI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es políticos y económ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ogida en la pren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ón unilateral político-ideo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liferación de encues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ae la calidad técnica y é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UBLICA “EL MERCURIO”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ía del plebisci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Imagen 1" descr=""/>
          <p:cNvPicPr/>
          <p:nvPr/>
        </p:nvPicPr>
        <p:blipFill>
          <a:blip r:embed="rId1"/>
          <a:stretch/>
        </p:blipFill>
        <p:spPr>
          <a:xfrm>
            <a:off x="3059280" y="2421000"/>
            <a:ext cx="32511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YLWIN GANÓ EN 1ª VUEL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42920" y="2565360"/>
            <a:ext cx="6840720" cy="29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A SEGUNDA: Ganó Lag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Imagen 1" descr=""/>
          <p:cNvPicPr/>
          <p:nvPr/>
        </p:nvPicPr>
        <p:blipFill>
          <a:blip r:embed="rId1"/>
          <a:stretch/>
        </p:blipFill>
        <p:spPr>
          <a:xfrm>
            <a:off x="179280" y="2492280"/>
            <a:ext cx="633744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1T11:38:59Z</dcterms:created>
  <dc:creator>*</dc:creator>
  <dc:description/>
  <dc:language>en-US</dc:language>
  <cp:lastModifiedBy>*</cp:lastModifiedBy>
  <dcterms:modified xsi:type="dcterms:W3CDTF">2009-06-03T09:33:53Z</dcterms:modified>
  <cp:revision>3</cp:revision>
  <dc:subject/>
  <dc:title>                                                                                                                                                                                                                                </dc:title>
</cp:coreProperties>
</file>