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858-8146-4010-9CB6-C3D6B722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578-B48A-480E-87B4-50D4284B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C8D-9204-4D68-A751-6E297426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C81-A0A4-4D80-8F73-5DCE913B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CB1-C569-410E-890B-C11A3E20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5DC-DF6D-44A5-BDAF-C146D4DA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304-362D-4BCA-9A9A-463E7ACD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915-B17C-45C2-A506-C41BB977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B47-E1C0-449E-9EFD-99483B54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A69-0731-498B-ACF5-ED2257FE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005-19D2-4844-BF65-F8C2D9D6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CF7-3793-46AC-8CC7-C84849D1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7582-7D71-4A6A-9A90-C2CF6CEE7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fotolia.com/id/7880199?by=similia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INIÓN PÚBLICA. DEMOCRACIA Y CONFLICTOS EN AMÉRICA 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os:Demoscópica, Rivas Cums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odismo Político: Prof. Sergio Campos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new life in light bul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25360"/>
            <a:ext cx="2611440" cy="2611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09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1" descr=""/>
          <p:cNvPicPr/>
          <p:nvPr/>
        </p:nvPicPr>
        <p:blipFill>
          <a:blip r:embed="rId1"/>
          <a:stretch/>
        </p:blipFill>
        <p:spPr>
          <a:xfrm>
            <a:off x="1187280" y="228600"/>
            <a:ext cx="756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NDEOS DE OPINIÓN PÚ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uestas elect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 central de la vida democr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sito básico para mejorar la 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cia 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usión con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ción con alcance verda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ido 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USTRIA DE LOS ESTUDI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mos, empresas que los realiz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medio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pol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ADIOS DE 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ia de los estudios de opi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dad de la encuestas (técn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manera de difusión en los Mass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es de los polí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50 años en univer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herramienta de propaganda polí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ndares técnicos y 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s campañas para construir imagen de triu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idas en dictad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A CONCENTRACIÓN DE LA PRENSA ESCR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 políticos y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gida en la pr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unilateral político-id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iferación de enc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e la calidad técnica y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BLICA “EL MERCURIO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ía del plebisc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n 1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251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YLWIN GANÓ EN 1ª VU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8407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SEGUNDA: Ganó La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n 1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6337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1:38:59Z</dcterms:created>
  <dc:creator>*</dc:creator>
  <dc:description/>
  <dc:language>en-US</dc:language>
  <cp:lastModifiedBy>*</cp:lastModifiedBy>
  <dcterms:modified xsi:type="dcterms:W3CDTF">2009-06-03T09:33:53Z</dcterms:modified>
  <cp:revision>3</cp:revision>
  <dc:subject/>
  <dc:title>                                                                                                                                                                                                                                </dc:title>
</cp:coreProperties>
</file>