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2F2-D5CB-453E-9DC1-78FB2AE5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6E1-862A-47C2-92F8-55761E21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688-2A94-4E54-A375-4D192CBB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BDA-F9CD-498B-B4DE-02A4E772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808-BD64-484E-97BA-EC2BB9F9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8C0-FC1B-4E2C-A4B5-5DABED0D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49C-9E91-4756-9495-780CC86E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E87-E99B-4899-BF46-0FED5580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03C-5732-40CE-B9FD-9A9AAA74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8081-7F47-4BE3-98D3-EA64359F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2ED0-CE3A-46F5-8F74-AD83FD8C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50DC-7074-4946-A3AA-41EC705D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1B95-E258-4C42-A350-308FDA9CA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.fotolia.com/id/7880199?by=similia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INIÓN PÚBLICA. DEMOCRACIA Y CONFLICTOS EN AMÉRICA L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os:Demoscópica, Rivas Cums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iodismo Político: Prof. Sergio Campos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new life in light bul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125360"/>
            <a:ext cx="2611440" cy="2611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5092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n 1" descr=""/>
          <p:cNvPicPr/>
          <p:nvPr/>
        </p:nvPicPr>
        <p:blipFill>
          <a:blip r:embed="rId1"/>
          <a:stretch/>
        </p:blipFill>
        <p:spPr>
          <a:xfrm>
            <a:off x="1187280" y="228600"/>
            <a:ext cx="7561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NDEOS DE OPINIÓN PÚB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uestas elect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 central de la vida democr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sito básico para mejorar la dem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ncia 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usión con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ción con alcance verdad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ido 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USTRIA DE LOS ESTUDI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smos, empresas que los realiz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medios de 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pol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ADIOS DE 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ia de los estudios de opin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idad de la encuestas (técn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manera de difusión en los Mass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ciones de los polít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 50 años en univers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herramienta de propaganda polí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ándares técnicos y 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las campañas para construir imagen de triu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ibidas en dictad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A CONCENTRACIÓN DE LA PRENSA ESCR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es políticos y 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gida en la pr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unilateral político-ide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iferación de encu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e la calidad técnica y 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UBLICA “EL MERCURIO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ía del plebisc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n 1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3251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YLWIN GANÓ EN 1ª VU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684072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 SEGUNDA: Ganó La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n 1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63374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1:38:59Z</dcterms:created>
  <dc:creator>*</dc:creator>
  <dc:description/>
  <dc:language>en-US</dc:language>
  <cp:lastModifiedBy>*</cp:lastModifiedBy>
  <dcterms:modified xsi:type="dcterms:W3CDTF">2009-06-03T09:33:53Z</dcterms:modified>
  <cp:revision>3</cp:revision>
  <dc:subject/>
  <dc:title>                                                                                                                                                                                                                                </dc:title>
</cp:coreProperties>
</file>