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E9B-9C8E-4F93-A7C0-14DC79A6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74F-9F41-4A51-B4FE-0998A9D0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939-E259-471D-B62D-391E9B8B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7B6-3745-4200-99C9-9519105A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B1C-6352-4519-BB29-2E490E1A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F43-9C3E-40DD-A419-03DB4781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B32-23D1-4126-A643-1007E592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5BD-A6FB-45B3-938C-BEDFE0D3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99A-47CC-4368-BF0B-867AD9BC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E86-0AA6-4D4D-9D8D-2FD9B68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093-A627-4E01-88D4-9ECF446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216-6068-48EE-AB96-C8E5C2A2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5B84-BF40-4738-9733-251D720CA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fotolia.com/id/7880199?by=similia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INIÓN PÚBLICA. DEMOCRACIA Y CONFLICTOS EN AMÉRICA 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os:Demoscópica, Rivas Cums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odismo Político: Prof. Sergio Campos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new life in light bul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25360"/>
            <a:ext cx="2611440" cy="261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09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1"/>
          <a:stretch/>
        </p:blipFill>
        <p:spPr>
          <a:xfrm>
            <a:off x="1187280" y="228600"/>
            <a:ext cx="756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NDEOS DE OPINIÓN PÚ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uestas elect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 central de la vida democr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o básico para mejorar la 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cia 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usión con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ción con alcance verda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ido 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USTRIA DE LOS ESTUDI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mos, empresas que los realiz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medio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pol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ADIOS DE 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ia de los estudios de opi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dad de la encuestas (técn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anera de difusión en los Mass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es de los polí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50 años en univer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herramienta de propaganda pol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ndares técnicos y 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s campañas para construir imagen de triu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das en dictad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A CONCENTRACIÓN DE LA PRENSA ESCR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 políticos y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gida en la pr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unilateral político-id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iferación de enc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e la calidad técnica y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BLICA “EL MERCURIO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ía del plebisc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n 1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251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YLWIN GANÓ EN 1ª VU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8407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SEGUNDA: Ganó La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n 1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6337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38:59Z</dcterms:created>
  <dc:creator>*</dc:creator>
  <dc:description/>
  <dc:language>en-US</dc:language>
  <cp:lastModifiedBy>*</cp:lastModifiedBy>
  <dcterms:modified xsi:type="dcterms:W3CDTF">2009-06-03T09:33:53Z</dcterms:modified>
  <cp:revision>3</cp:revision>
  <dc:subject/>
  <dc:title>                                                                                                                                                                                                                                </dc:title>
</cp:coreProperties>
</file>