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D7C-44DF-4C19-AA35-AA5F857E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CEC-201E-47C0-BEE2-9BA5835D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A0CD-94BB-4B81-AD7F-39255104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EBC-A88D-46F4-BF7F-B357CD35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C1C1-4ADF-4A88-B6E0-E3A3DE51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764B-6810-4C25-AA64-D436B193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1884-3C24-41F9-BE07-F3FC21D2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C808-E694-4D67-9762-CFE84710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F111-551A-4DBA-9D3E-4B4BE4D5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BAB5-3100-43DF-A787-68081F00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0ABB-D757-4648-BB41-50BD3107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359-B6DF-47DF-8F95-1CE4F9F7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F4CC-FC8E-4F0D-A2D1-88452FFD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4827-5D7C-4E1B-BE54-CC132475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EF0B-F0CE-4597-80CC-2677AF8A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DE6E-E7F3-4D2C-A9AE-7528A292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BE07-0D0B-413C-B177-12121E18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789-C848-4636-9C6C-50CF2D5A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8FC-F361-48AA-B0DF-4E595C5D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64AE-13D9-4EE8-88D9-48494997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0DA6-D73E-46D7-AD62-DAC3E7D4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04C-CB50-40CB-B1AE-7C541035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0F5-C0A8-490D-AD84-7E2904D8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62D-CB29-407C-A9E9-379E3179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14D3-26FC-4FD8-B0D6-787669E0F1F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96DF-48C0-47A2-8696-B793DDEE7F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Monarqu&#237;a" TargetMode="External"/><Relationship Id="rId2" Type="http://schemas.openxmlformats.org/officeDocument/2006/relationships/hyperlink" Target="http://es.wikipedia.org/wiki/Aristocracia" TargetMode="External"/><Relationship Id="rId3" Type="http://schemas.openxmlformats.org/officeDocument/2006/relationships/hyperlink" Target="http://es.wikipedia.org/wiki/Democracia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s.wikipedia.org/wiki/Tiran&#237;a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Verdana"/>
              </a:rPr>
              <a:t>¿Qué es la política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rberto Bobbi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48436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istocra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bierno de los mejo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se asimila a la democraci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biduría, inteligen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iqueza, lina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Democra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 no hay comida cuando se tiene hambre, si no hay medicamentos cuando se está enfermo, si hay ignorancia y no se respetan los derechos elementales de las personas, la democracia es una cáscara vacía, aunque los ciudadanos voten y tengan Parlamento. (Nelson Mandel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clocra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uchedumb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nt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ión demagóg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mociones irraciona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generación de la democra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Oligarqu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biernan muy pocas person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ma degenerada y negativa de la Arist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grupo minoritario de personas, pertenecientes a una misma clase social, generalmente con gran poder e influencia que dirige y controla una colectividad o institución”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unción de la política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denar o prohib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gisl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btención de recurs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tribución de recurs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quist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ntener, defender, ampliar, reforz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ati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stornar el poder estat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 sentido del PODER</a:t>
            </a:r>
            <a:br>
              <a:rPr sz="4400"/>
            </a:b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Aristóteles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der pater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der despót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der polít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avor del hij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avor del patr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favor del gobern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del gobernante=corrupción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pología moderna del pod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er económ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er ideológ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der polít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sesión y bienes y medios de produc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le fija precio a la fuerza de trabajo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piedad de los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ass med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Igl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ol del Gbno.Congres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nopolio de la fuerz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os fines de la POLI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s políticos pertenecen a un determinado grupo soci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 clase dominante de ese grupo soci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os acentos de la POLI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Época de lucha so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mpos de Pa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pendencia de una potencia extranjer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dad del Est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cordia, paz orden públ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enestar,prosperid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en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ependencia naciona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FIN mínimo de la POLÍ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den público en relaciones intern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fensa de la Integridad Naci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aciones del Estado con otros Es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Polí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iudad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udada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ivi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úbl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ci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Aristóteles: Política</a:t>
            </a:r>
            <a:br>
              <a:rPr sz="4400"/>
            </a:b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384 a.C.  322 a.C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stado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urale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n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is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stado de Derecho</a:t>
            </a:r>
            <a:br>
              <a:rPr sz="4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nvención de Montevideo 1933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l estado como persona de Derecho Internacional debe reunir los siguientes requisitos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. Población permanent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. Territorio determinado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II. Gobierno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V. Capacidad de entrar en relaciones con los demás Estado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eoría clásica de gobiern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s seis formas de gobierno Aristóteles tomó en cuenta dos factores primordiales, quién gobierna y cómo gobierna. En base al criterio de quién gobierna, distinguió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gobierna una sola persona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monarquí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gobiernan pocas personas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aristocraci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 gobiernan muchas:            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democracia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De lo puro a lo impur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gradación de la monarquía es la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tiraní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gradación de la aristocracia es l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Verdana"/>
              </a:rPr>
              <a:t>	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Verdana"/>
              </a:rPr>
              <a:t>oligarquí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corrupción de la democracia oclocraci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De lo mejor a lo pe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Monarqu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Arist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Dem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 Oclocra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 Oligarquí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6. Tiraní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iran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l tirano ocupa el poder por la fuer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o abusivo y cruel del poder usurp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ra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por derech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magogia populism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éspo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átra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ct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narqu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bierno de uno so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talic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igna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arca o Re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bdicación, derrocamiento, destronamient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redit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optación del monar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10:02:24Z</dcterms:created>
  <dc:creator>*</dc:creator>
  <dc:description/>
  <dc:language>en-US</dc:language>
  <cp:lastModifiedBy>*</cp:lastModifiedBy>
  <dcterms:modified xsi:type="dcterms:W3CDTF">2009-04-13T12:36:06Z</dcterms:modified>
  <cp:revision>4</cp:revision>
  <dc:subject/>
  <dc:title>¿Qué es la política?</dc:title>
</cp:coreProperties>
</file>