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F4EA-90D5-47A3-AEB5-526CC958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8A27-95E0-4AD3-9AC4-1E7514C2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00C9-55AA-4498-86F7-0F7A87B1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313A-F20E-4ED4-AD26-D341464F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9011-FA1F-425F-A27F-A0EB11CC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DC39-B4E3-4A48-BE8C-1278E99D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F5FD-A4D7-4E76-97FD-3363D628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E4FD-9A2A-41D6-BC01-30F86AE4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C898-3A03-490E-91A2-C36102DA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9493-2E92-4390-8E4D-1903974F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65EF-1893-4A0D-9D33-F041E81C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0E65-1F99-40C9-97C4-8900B3DB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E260-0513-493F-85FF-63653709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48BB-D44E-4077-AF0A-52ADAEC3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F52C-9E49-47B2-9AFF-838A4E06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D55B-B84D-40C2-BB9D-5792752D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47CF-711F-46B7-B482-BFA338A8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E756-151B-4FC9-96F4-F0B952CF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C6AB-6D43-4AE9-8761-5FF6AF2B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4C68-4348-41CF-8621-F6C43582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C1CA-9B1D-463D-8035-BFDCA4B6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4DF5-45E3-4BE9-9E27-CF7CF241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845E-385A-4C57-8793-733FD280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F8F4-C778-40AB-BEAC-084842F5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3E69-19C1-4EC9-853B-BC1F0215FF3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97E6-19EF-45C7-89D5-36FBB689973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s.wikipedia.org/wiki/Monarqu&#237;a" TargetMode="External"/><Relationship Id="rId2" Type="http://schemas.openxmlformats.org/officeDocument/2006/relationships/hyperlink" Target="http://es.wikipedia.org/wiki/Aristocracia" TargetMode="External"/><Relationship Id="rId3" Type="http://schemas.openxmlformats.org/officeDocument/2006/relationships/hyperlink" Target="http://es.wikipedia.org/wiki/Democracia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s.wikipedia.org/wiki/Tiran&#237;a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Verdana"/>
              </a:rPr>
              <a:t>¿Qué es la política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rberto Bobbi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8436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istocrac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bierno de los mejo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se asimila a la democracia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biduría, inteligenc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iqueza, linaj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Democrac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 no hay comida cuando se tiene hambre, si no hay medicamentos cuando se está enfermo, si hay ignorancia y no se respetan los derechos elementales de las personas, la democracia es una cáscara vacía, aunque los ciudadanos voten y tengan Parlamento. (Nelson Mandel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clocrac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chedumb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ntí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ión demagógic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mociones irraciona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generación de la democrac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ligarqu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biernan muy pocas person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ma degenerada y negativa de la Aristocrac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grupo minoritario de personas, pertenecientes a una misma clase social, generalmente con gran poder e influencia que dirige y controla una colectividad o institución”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Función de la política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denar o prohibi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gisl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btención de recurs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tribución de recurs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quist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ntener, defender, ampliar, reforz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bati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stornar el poder estat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 sentido del PODER</a:t>
            </a:r>
            <a:br>
              <a:rPr sz="4400"/>
            </a:b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Aristóte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oder pater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oder despótic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oder polític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favor del hij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favor del patró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favor del goberna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(del gobernante=corrupció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ipología moderna del pod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der económ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der ideológ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der polít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sesión y bienes y medios de producció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le fija precio a la fuerza de trabajo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piedad de los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ass med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Igle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rol del Gbno.Congres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nopolio de la fuerz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Los fines de la POLI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s políticos pertenecen a un determinado grupo soci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 clase dominante de ese grupo soci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Los acentos de la POLI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Época de lucha soci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mpos de Paz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pendencia de una potencia extranje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idad del Esta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cordia, paz orden públic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ienestar,prosperida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tenc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dependencia nacional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FIN mínimo de la POLÍ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rden público en relaciones intern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fensa de la Integridad Nacion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laciones del Estado con otros Estad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olí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iudad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iudada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ivil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úblic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cia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ci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ristóteles: Política</a:t>
            </a:r>
            <a:br>
              <a:rPr sz="4400"/>
            </a:b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384 a.C.  322 a.C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stado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turale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uncio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visio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stado de Derecho</a:t>
            </a:r>
            <a:br>
              <a:rPr sz="4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convención de Montevideo 1933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 estado como persona de Derecho Internacional debe reunir los siguientes requisitos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. Población permanent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I. Territorio determinado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II. Gobierno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V. Capacidad de entrar en relaciones con los demás Estado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eoría clásica de gobiern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s seis formas de gobierno Aristóteles tomó en cuenta dos factores primordiales, quién gobierna y cómo gobierna. En base al criterio de quién gobierna, distinguió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 gobierna una sola persona: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monarquía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 gobiernan pocas personas: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aristocracia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 gobiernan muchas:            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democracia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De lo puro a lo impur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gradación de la monarquía es la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tiraní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gradación de la aristocracia es l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Verdana"/>
              </a:rPr>
              <a:t>oligarquí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 corrupción de la democracia oclocraci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De lo mejor a lo pe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Monarquí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Aristocrac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Democrac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 Oclocrac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 Oligarquí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. Tiraní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iran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 tirano ocupa el poder por la fuer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o abusivo y cruel del poder usurpa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ra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 por derech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magogia populism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éspo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átrap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ctad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narqu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bierno de uno so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talic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ignad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arca o R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bdicación, derrocamiento, destronamient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reditar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optación del monarc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0:02:24Z</dcterms:created>
  <dc:creator>*</dc:creator>
  <dc:description/>
  <dc:language>en-US</dc:language>
  <cp:lastModifiedBy>*</cp:lastModifiedBy>
  <dcterms:modified xsi:type="dcterms:W3CDTF">2009-04-13T12:36:06Z</dcterms:modified>
  <cp:revision>4</cp:revision>
  <dc:subject/>
  <dc:title>¿Qué es la política?</dc:title>
</cp:coreProperties>
</file>