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722-B48D-4AF0-9FED-16B670A6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DEC-3354-4E9C-A6EC-C3D2B54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E02-0549-4DF9-BC75-4799722A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69F-9CB3-4568-94CA-3CDB7EBE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8BE-1D54-481B-A9E8-AA0BCC6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0D0-72AA-4FEB-A36C-4D3F8F11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7B7-7B36-4742-9D87-E9C3E06F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ABC-0991-4EA5-9E4C-C2EDBB8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14DF-A03D-4675-8B1A-F5863B0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A473-73BA-459F-A052-D2F5E21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C3EF-4A9D-4B58-9DB4-D32CE1D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CEA-71E9-48AB-8DF9-55177E3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2220-2CDB-4E41-B34E-135FB81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2CF1-2BD6-465E-929A-84DF91E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6F43-6A70-4A54-85EB-46D241BD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9E0-CE26-4A69-8CAE-D20CC8BB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3D1-B5D0-498B-9407-468D82A9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8A2-4B65-4138-8AA9-2B4F43B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325-9F51-429E-88CC-BB4495E7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2F6-A227-4242-8347-F9BACB6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164-D808-477D-9B18-75EA47A9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95D-815F-461A-8967-50A41C6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6C7-299F-4BE1-B853-560C75F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083-E289-4402-9496-91B96F2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57BE-9EF2-4239-B2FF-8A0FBBD090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84E-2EB4-4C7F-B930-D0104C71D4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onarqu&#237;a" TargetMode="External"/><Relationship Id="rId2" Type="http://schemas.openxmlformats.org/officeDocument/2006/relationships/hyperlink" Target="http://es.wikipedia.org/wiki/Aristocracia" TargetMode="External"/><Relationship Id="rId3" Type="http://schemas.openxmlformats.org/officeDocument/2006/relationships/hyperlink" Target="http://es.wikipedia.org/wiki/Democraci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iran&#237;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Verdana"/>
              </a:rPr>
              <a:t>¿Qué es la polític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berto Bobb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ist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los mej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se asimila a la democrac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biduría, intelig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queza, lin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m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 no hay comida cuando se tiene hambre, si no hay medicamentos cuando se está enfermo, si hay ignorancia y no se respetan los derechos elementales de las personas, la democracia es una cáscara vacía, aunque los ciudadanos voten y tengan Parlamento. (Nelson Mandel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cl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edumb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ón demagóg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ciones irracion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eneración de la democra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lig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biernan muy pocas perso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degenerada y negativa de la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grupo minoritario de personas, pertenecientes a una misma clase social, generalmente con gran poder e influencia que dirige y controla una colectividad o institución”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ión de la polític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denar o proh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is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ten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i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tener, defender, ampliar, reforz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at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stornar el poder esta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sentido del PODER</a:t>
            </a:r>
            <a:br>
              <a:rPr sz="44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a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despó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hi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patr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gobern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del gobernante=corrupció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ología moderna del po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econó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ide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esión y bienes y medios de p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le fija precio a la fuerza de trabaj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iedad de lo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ss 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gl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 del Gbno.Congre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opolio de la fuerz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fine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políticos pertenecen a un determinado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lase dominante de ese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acento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poca de luch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s de P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cia de una potencia extranj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dad del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ordia, paz orden 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enestar,prosper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ia naci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IN mínimo de la 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n público en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nsa de la Integridad N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ciones del Estado con otros Es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iuda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udad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istóteles: Política</a:t>
            </a:r>
            <a:br>
              <a:rPr sz="44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384 a.C.  322 a.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e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tado de Derecho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vención de Montevideo 193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estado como persona de Derecho Internacional debe reunir los siguientes requisit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Población permanen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. Territorio determinad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. Gobiern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V. Capacidad de entrar en relaciones con los demás Estad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oría clásica de gobie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seis formas de gobierno Aristóteles tomó en cuenta dos factores primordiales, quién gobierna y cómo gobierna. En base al criterio de quién gobierna, distinguió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 una sola persona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onarquí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pocas persona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arist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muchas:       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dem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 lo puro a lo impur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monarquía es 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ra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aristocracia es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ligarquí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orrupción de la democracia oclocrac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 lo mejor a lo pe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Mon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em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Ocl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Olig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Tiran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ran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 tirano ocupa el poder por la fuer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o abusivo y cruel del poder usurp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r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por derec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gogia popu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ésp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átra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t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uno s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li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arca o R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dicación, derrocamiento, destronami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dit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tación del mon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0:02:24Z</dcterms:created>
  <dc:creator>*</dc:creator>
  <dc:description/>
  <dc:language>en-US</dc:language>
  <cp:lastModifiedBy>*</cp:lastModifiedBy>
  <dcterms:modified xsi:type="dcterms:W3CDTF">2009-04-13T12:36:06Z</dcterms:modified>
  <cp:revision>4</cp:revision>
  <dc:subject/>
  <dc:title>¿Qué es la política?</dc:title>
</cp:coreProperties>
</file>