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67F-8D24-4C50-8B90-D10AFE38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250-A83B-4482-88E5-1B49A0D2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CAB-C04A-40BB-8D40-AA82FE47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4CB-04B3-41EC-8585-95AE080B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7496-EA0B-4083-967F-160A6018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E43B-FAA8-4078-896E-8481C949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2AF4-AA66-4758-9B04-5C9DC2E6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DB39-2D58-4CB0-A395-44A43A46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8457-5E59-4729-B88A-04BF13CA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8AED-CDB4-499A-A37D-63388DF2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952C-8118-4754-A284-4768BC64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B981-9323-4FDA-8127-3161B488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3590-6CF7-43EC-A051-913A73F5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380E-F9EB-44AD-AD00-3CE8D258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4A4D-F1BB-45B3-A202-B2E98E87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5B63-A7B1-4FE9-AD35-F555C01D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64C3-2ADC-40F8-A8DA-0788F641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D1E9-AE6C-4588-A813-31D13A32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108-6F94-4AAB-B400-116A49AA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92C6-70AB-4772-95FE-DC9785A3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7FB-633F-4DD9-8BCB-A3072687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139E-C2FB-412D-8AE4-045B6B2F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28C7-01E3-4645-BDE1-F232F6A4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463-5A7D-4556-8C01-F92CF3D7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A95A-DDFB-47F0-9B59-8ACFAECEA8D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A064-E800-444E-AA96-722EBB1A70C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Monarqu&#237;a" TargetMode="External"/><Relationship Id="rId2" Type="http://schemas.openxmlformats.org/officeDocument/2006/relationships/hyperlink" Target="http://es.wikipedia.org/wiki/Aristocracia" TargetMode="External"/><Relationship Id="rId3" Type="http://schemas.openxmlformats.org/officeDocument/2006/relationships/hyperlink" Target="http://es.wikipedia.org/wiki/Democracia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s.wikipedia.org/wiki/Tiran&#237;a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Verdana"/>
              </a:rPr>
              <a:t>¿Qué es la polític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rberto Bobb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istocra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bierno de los mejo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se asimila a la democraci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biduría, inteligen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queza, lina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Democra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 no hay comida cuando se tiene hambre, si no hay medicamentos cuando se está enfermo, si hay ignorancia y no se respetan los derechos elementales de las personas, la democracia es una cáscara vacía, aunque los ciudadanos voten y tengan Parlamento. (Nelson Mandel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clocra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chedumb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t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ión demagóg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ociones irraciona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generación de la democra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ligarqu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biernan muy pocas person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a degenerada y negativa de la Arist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grupo minoritario de personas, pertenecientes a una misma clase social, generalmente con gran poder e influencia que dirige y controla una colectividad o institución”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unción de la política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denar o prohib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gisl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tención de recurs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tribución de recurs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quist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tener, defender, ampliar, reforz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at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stornar el poder esta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sentido del PODER</a:t>
            </a:r>
            <a:br>
              <a:rPr sz="44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Aristóte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der pater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der despót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der polít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avor del hij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avor del patr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avor del gobern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del gobernante=corrupció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pología moderna del po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der económ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der ideológ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der polít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sesión y bienes y medios de produc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le fija precio a la fuerza de trabajo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piedad de los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ss med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Igle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ol del Gbno.Congres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nopolio de la fuerz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os fines de la POLI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s políticos pertenecen a un determinado grupo soci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 clase dominante de ese grupo soci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os acentos de la POLI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Época de lucha soc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mpos de Paz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pendencia de una potencia extranje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dad del Est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cordia, paz orden públ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enestar,prosperid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ten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ependencia naciona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IN mínimo de la POLÍ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den público en relaciones intern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fensa de la Integridad Nacion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aciones del Estado con otros Es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olí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iudad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udada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vi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úbl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ci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c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ristóteles: Política</a:t>
            </a:r>
            <a:br>
              <a:rPr sz="44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384 a.C.  322 a.C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stad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turale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n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vis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stado de Derecho</a:t>
            </a:r>
            <a:br>
              <a:rPr sz="4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onvención de Montevideo 1933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 estado como persona de Derecho Internacional debe reunir los siguientes requisito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. Población permanent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. Territorio determinado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I. Gobierno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V. Capacidad de entrar en relaciones con los demás Estado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eoría clásica de gobiern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s seis formas de gobierno Aristóteles tomó en cuenta dos factores primordiales, quién gobierna y cómo gobierna. En base al criterio de quién gobierna, distinguió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 gobierna una sola persona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onarquí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 gobiernan pocas personas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aristocraci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 gobiernan muchas:         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democraci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e lo puro a lo impur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gradación de la monarquía es la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tiraní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gradación de la aristocracia es l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Verdana"/>
              </a:rPr>
              <a:t>oligarquí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corrupción de la democracia oclocraci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De lo mejor a lo pe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Monarquí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Arist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Dem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 Ocl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Oligarquí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. Tiraní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iran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 tirano ocupa el poder por la fuer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o abusivo y cruel del poder usurp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ra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por derech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magogia populism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éspo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átra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ct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narqu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bierno de uno so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talic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igna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arca o R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dicación, derrocamiento, destronamient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redit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ptación del monar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0:02:24Z</dcterms:created>
  <dc:creator>*</dc:creator>
  <dc:description/>
  <dc:language>en-US</dc:language>
  <cp:lastModifiedBy>*</cp:lastModifiedBy>
  <dcterms:modified xsi:type="dcterms:W3CDTF">2009-04-13T12:36:06Z</dcterms:modified>
  <cp:revision>4</cp:revision>
  <dc:subject/>
  <dc:title>¿Qué es la política?</dc:title>
</cp:coreProperties>
</file>