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52F1C-5284-41BD-826A-E1F8132AF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66926-7095-4F3A-A34C-6123C271C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E8303-2988-4C9E-8804-77FB7B986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1A0B8-7782-41DD-AE36-060EF5720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554597-21EA-41DA-B257-A1B4D4AC8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437DBC-D1EC-4B1B-A7F1-ECBE4BA8F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469FBB-14BF-4A1E-A7BD-46AEB872E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815D73-D272-4C93-BA93-AEA08819B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2ED497-A48D-493E-88ED-AC7AA663C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E32B8B-30E3-44C1-A0D2-BDDAE90D1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504EA6-7523-4B3B-B7E5-4E30DF552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8A2B9-8826-428B-81E7-E8A1B1EA2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9F74C2-2E13-4E87-98D9-D3CC570AA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DEC1F6-E645-43DD-9038-D0E5D0A49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BFC788-A5B8-45F4-89BF-7D6236FFE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1C46B4-1A0A-433C-BC83-7E93AA4C2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947C88-A763-439A-924D-590A010BF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C21DE-F9BF-4CF2-9919-123BD618E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8BB90-EF64-49CD-95A2-99D997DB6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FC769-33E1-4227-9A83-63883CE76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E31E4-0C91-44AC-9C80-8E0D6A1A9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4E819-20CE-4074-A8B5-8D18157DD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8241A-C73C-4B7A-9840-36614AC7D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8ECF9-1387-4921-A705-993F614C1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01793-AD09-4CBD-A3EB-143C80D916F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67477-1716-47F2-B2A7-3873F1AD967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ahoma"/>
              </a:rPr>
              <a:t>PERIODISMO POLÍTICO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átedra: Prof. Sergio Camp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009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ahoma"/>
              </a:rPr>
              <a:t>GV: Comunistas proscrito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ª. Guerra Mundial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ndiferencia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Ni con el fascismo ni con el capitalism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taque a la URSS: EL PC se aline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l PC expulsado del gbn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Ley de Defensa de la de la Democracia (1948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C propicia revolución armad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ahoma"/>
              </a:rPr>
              <a:t>PROBLEMAS SOCIALES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Emigración del campo a la ciuda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risis del salit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Escasez de viviendas en las ciudad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Insalubrida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Cesantí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Hambr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Marginalida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Ropero del puebl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ahoma"/>
              </a:rPr>
              <a:t>1952: eleccion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edro Enrique Alfonso, radic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rturo Matte, derech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alvador Allende, izquierd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rlos Ibáñez, pequeños grupos 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(mayoría absoluta)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ahoma"/>
              </a:rPr>
              <a:t>LO QUE VIENE: 1958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e visualizan 3/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Unidad socialista-comunist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La DC emerge al centr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Liberales-conservador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Desde 1958  Hasta 1973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Desplazan a radical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Derecha monolític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ahoma"/>
              </a:rPr>
              <a:t>Se va el caudillo carismático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Alessandr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Independiente a la derech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a opción de los tecnócrat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obierno opac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rave crisis económic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ahoma"/>
              </a:rPr>
              <a:t>Municipales de 1963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La DC 1ª. Fuerz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errota de la Derech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El Naranjazo de Curicó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 perfila los DC y la izquierda para la presidencial de 196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C y FRAP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a derecha se vuelca a Fre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ahoma"/>
              </a:rPr>
              <a:t>“</a:t>
            </a:r>
            <a:r>
              <a:rPr b="1" lang="en-US" sz="4400" spc="-1" strike="noStrike">
                <a:solidFill>
                  <a:srgbClr val="ffff00"/>
                </a:solidFill>
                <a:latin typeface="Tahoma"/>
              </a:rPr>
              <a:t>La Revolución en Libertad”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riunfo de Eduardo Frei Montalv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En oposición al comunism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riunfo de la Revolución cuban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royectos políticos global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Reforma Agrari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Ley de sindicalización campesin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romoción popular: juntas de vecino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60 mil casas x añ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ufragio universal: Analfabetos y ciego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Renovación de la derecha: P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iberales+conservador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R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a izquierda dur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l Partido Nacion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gitación en el camp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aros, huelgas, repres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rechos human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ahoma"/>
              </a:rPr>
              <a:t>Voto+fusil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965: Nace el MI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atria y Liberta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acnazo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spiración cuban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posición armada a cambios estructura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ral. Viaux: ¿equipamientos, sueldos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ahoma"/>
              </a:rPr>
              <a:t>La crisis DC: El MAPU 1969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Guerra Frí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Rodrigo Ambrosi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ríticas al gobiern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pción marxist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ahoma"/>
              </a:rPr>
              <a:t>EL MODELO ECONÓMICO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a crisis del 29: AL al descubiert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ierre de los mercados europe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dustrialización               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Exportación materias prima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Importación productos manufacturado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Desarrollo hacia afuera”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NO crecimiento NO estabilidad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Bienes industriales, mineros y agrícola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ALLENDE: 1ª. Mayoría relativa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greso Plen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arantías constituciona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4 noviembre 197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obierno de la Unidad Popula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statuto de Garantí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llende asume en el Congreso Plen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ocialistas, comunistas, radicales, independient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ahoma"/>
              </a:rPr>
              <a:t>HITLER AL PODER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menaza a la URS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rente Popula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Nueva estrategia: Los “frentes populares”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lianzas con fuerzas burguesas, antifascista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C+PR= 3 Pdtes. Radical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Nuevo modelo desarroll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ESTADO: MOTOR DE LA INDUSTRIALIZACIÓ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strategia técnico económic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ustituyen importacion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ejora nivel de vid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aja la cesantí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Nuevas Industria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leva el consumo intern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utonomía de mercados externo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EL ESTADO:ROL EMPRESARIO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mpliación de crédit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egislación para regulació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Regulación de precio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mpresas mixta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lectrificación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onstrucción de fundiciones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ejoramiento de camino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uentes, túnel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ahoma"/>
              </a:rPr>
              <a:t>1939: AGUIRRE CERD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imer radical al pod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obernar es educa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 crea la CORF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NDES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entrales termo, hidroeléctric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ospección petróle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AP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ANS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“</a:t>
            </a: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DON TINTO”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Profesor y abogad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Estudió en UCHIL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Masó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Ministro de JLS (1918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Radical:diputado y senado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Terremoto y exilio españo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1941 muere: Cardenal Caro,lo despid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" descr="Pedro Aguirre Cerda"/>
          <p:cNvPicPr/>
          <p:nvPr/>
        </p:nvPicPr>
        <p:blipFill>
          <a:blip r:embed="rId2"/>
          <a:stretch/>
        </p:blipFill>
        <p:spPr>
          <a:xfrm>
            <a:off x="5619600" y="3009960"/>
            <a:ext cx="3056040" cy="277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DÉCADA DEL 40: Juan A Rí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hile dependiente de US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onstitución del 25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II Guerra Mundial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Alta inflació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Sustanciosos préstamo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Reducción iniciativa parlamentari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Independencia contralorí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Ruptura con el Eje (Alemania, Italia, Japón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1946: Gabriel González Videla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lan Seren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ra. Base antártic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AP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rganiza la ENAP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+organización sindic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migració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as mujer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d.Media, Técnica, U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ltos hornos de Huachipato y Concepció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l petróleo en manos de estad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84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indicato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lase media + fuert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84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Nombramiento (1935:voto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84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84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uerte impuls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84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6T10:11:38Z</dcterms:created>
  <dc:creator>*</dc:creator>
  <dc:description/>
  <dc:language>en-US</dc:language>
  <cp:lastModifiedBy>*</cp:lastModifiedBy>
  <dcterms:modified xsi:type="dcterms:W3CDTF">2009-04-06T13:37:21Z</dcterms:modified>
  <cp:revision>2</cp:revision>
  <dc:subject/>
  <dc:title>PERIODISMO POLÍTICO</dc:title>
</cp:coreProperties>
</file>