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58F-C353-4A03-BE89-6A8A37C5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BCD-7235-4D37-A65D-E5407A59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8CF-A74F-44EC-AEBD-A19EEDF6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911-7B9C-41C8-B021-007F3C9B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DB6D8-59CF-4EA5-B6AF-15C0F9FC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B7DDF-D1D2-43C4-9E5A-AD988D47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154CE-6372-4EBE-B224-44D5D2A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0BA09-9A83-4BD4-8F3F-E818F84C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4A93A-C0F0-4DB1-BA58-A63BE12B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F1B27-9657-46E3-81C6-56DDC968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DDED1-1B22-44DC-9843-43CC073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180-0DAD-414A-8D38-273226C7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0B223-AD43-4E04-A357-73D0B7A7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0B89E-FFCA-448B-A9E7-2B690F7A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6A135-3C46-4146-B4D8-4AEB981F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6AD8B-6621-4614-818F-0D0BD196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05518-DCC1-4D78-9835-758739FD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40F-27FC-4FB6-8576-A98B95DD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1A4-488C-4EB5-A8C6-98604818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2F3-ACEB-48DA-BBA6-7F991FD4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3B2-CA7E-440F-8273-1FA4F9A8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449-5374-4678-9D17-4211B859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D03-A803-4E42-B494-2453ECAA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7AB-9CAE-4607-8B2B-EDCE34C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4CFA-6759-4430-8B59-4CFE32B54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51ED-EB2C-47DC-80DB-590568349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PERIODISMO POLÍ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átedra: Prof. Sergio Ca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GV: Comunistas proscri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ª. Guerra Mund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fere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 con el fascismo ni con el capital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que a la URSS: EL PC se ali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PC expulsado del gb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 de Defensa de la de la Democracia (194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C propicia revolución arm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OBLEMAS SOCIA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igración del campo a la ciu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isis del salit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scasez de viviendas en las ciu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alubr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sant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amb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gin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pero del pueb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952: elecci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ro Enrique Alfonso, rad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uro Matte, derec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vador Allende, izquier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Ibáñez, pequeños grupo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mayoría absoluta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O QUE VIENE: 195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 visualizan 3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idad socialista-comun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DC emerge al cen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berales-conserv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de 1958  Hasta 197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plazan a radic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recha monolí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e va el caudillo carismá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essand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dependiente a la derec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opción de los tecnóc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ierno opa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e crisis econó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unicipales de 196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DC 1ª. Fuer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rrota de la Dere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l Naranjazo de Curic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erfila los DC y la izquierda para la presidencial de 196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C y FR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derecha se vuelca a Fr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a Revolución en Libertad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unfo de Eduardo Frei Monta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 oposición al comu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unfo de la Revolución cub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yectos políticos glob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orma Agr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 de sindicalización campes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ción popular: juntas de veci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0 mil casas x añ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fragio universal: Analfabetos y ci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enovación de la derecha: P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les+conserv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izquierda d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Partid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itación en el cam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os, huelgas, re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echos hum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Voto+fus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65: Nace el M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 y Libert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naz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piración cub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osición armada a cambios estructu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l. Viaux: ¿equipamientos, sueld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a crisis DC: El MAPU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uerra F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drigo Ambros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íticas al gobie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ción marx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EL MODELO ECONÓM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risis del 29: AL al descubie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erre de los mercados europ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ización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portación materias prim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ortación productos manufactur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sarrollo hacia afuera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crecimiento NO estabilida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ienes industriales, mineros y agrícol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LLENDE: 1ª. Mayoría relati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o P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antías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noviembre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ierno de la Unidad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tuto de Garant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e asume en el Congreso P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tas, comunistas, radicales, independi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ITLER AL PO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naza a la UR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te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a estrategia: Los “frentes populare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ianzas con fuerzas burguesas, antifascis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C+PR= 3 Pdtes. Radic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o modelo desarrol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STADO: MOTOR DE LA INDUSTRIALIZ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rategia técnico econó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stituyen import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jora nivel de vi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ja la cesant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as Indust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va el consumo inter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nomía de mercados exter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L ESTADO:ROL EMPRESARI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pliación de crédi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ción para regul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ulación de pre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s mix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ific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rucción de fundicion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joramiento de cami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entes, tún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939: AGUIRRE CER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r radical al p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ernar es edu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crea la CORF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es termo, hidroeléctr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pección petró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ON TINTO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ofesor y abog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studió en U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s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inistro de JLS (191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Radical:diputado y sen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erremoto y exilio españ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1941 muere: Cardenal Caro,lo des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Pedro Aguirre Cerda"/>
          <p:cNvPicPr/>
          <p:nvPr/>
        </p:nvPicPr>
        <p:blipFill>
          <a:blip r:embed="rId2"/>
          <a:stretch/>
        </p:blipFill>
        <p:spPr>
          <a:xfrm>
            <a:off x="5619600" y="3009960"/>
            <a:ext cx="30560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ÉCADA DEL 40: Juan A Rí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ile dependiente d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titución del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Guerra Mund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lta inf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stanciosos préstam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ducción iniciativa parlamen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dependencia contralo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uptura con el Eje (Alemania, Italia, Jap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946: Gabriel González Vide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 Ser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ra. Base antár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a la EN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organización sind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mig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muje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.Media, Técnica, 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tos hornos de Huachipato y Concep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 petróleo en manos de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dic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e media + fue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mbramiento (1935:vot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erte impul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11:38Z</dcterms:created>
  <dc:creator>*</dc:creator>
  <dc:description/>
  <dc:language>en-US</dc:language>
  <cp:lastModifiedBy>*</cp:lastModifiedBy>
  <dcterms:modified xsi:type="dcterms:W3CDTF">2009-04-06T13:37:21Z</dcterms:modified>
  <cp:revision>2</cp:revision>
  <dc:subject/>
  <dc:title>PERIODISMO POLÍTICO</dc:title>
</cp:coreProperties>
</file>