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B97-78D7-484B-A0E8-86BA2827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F8F-1A04-4DF0-8A3A-C059C87D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761-C7F8-4B29-A57F-9C31499A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090-D246-416B-840F-E5780346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F80FF-8A9D-4621-9D81-A19217CF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2B033-49BF-4C9A-AF95-2441374B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8A690-55B9-4E67-BC11-2F4A53D5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65693-D286-4797-A4FA-A8B03D6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EF262-2F2C-443E-B07E-C9AAE03B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6E15-773B-4A50-A61A-5D33F0D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FA80-3C6A-4569-9340-855E1BC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5B4-2EB8-41D1-A0F9-F3A7E49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AD805-8C69-4F77-A1C5-0690F7C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75DDD-30FB-49A5-BA09-34634DE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88B12-6AE7-4B6C-A890-5D0198A1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E01F2-451D-4934-BA2F-41ADE25C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869BA-6A1E-426E-AE31-AAC96253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CC0-E499-440F-9612-B43C74CE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52E-7836-4A8C-A058-E7057809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58F-4D88-4322-AD43-0BFC327F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159-31A8-4FCC-AB74-341CBDC0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A1E-FCEE-4342-AF21-C511BDC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E26-6CDE-49CE-A721-A7CF646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45A-D9B7-4919-B94C-849CCD7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1E23-A624-43D5-8673-42ACABD89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1D72-DF36-4D2A-B549-E40DFCA49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PERIODISM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átedra: Prof. Sergio Ca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GV: Comunistas proscri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ª. Guerra Mund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fere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 con el fascismo ni con el capital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que a la URSS: EL PC se ali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PC expulsado del gb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Defensa de la de la Democracia (19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 propicia revolución arm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BLEMAS SOCIA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igración del campo a la ciu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isis del salit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casez de viviendas en las ciu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alubr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sant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amb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gin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pero del pueb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52: elecci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ro Enrique Alfonso, rad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uro Matte,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vador Allende, izquier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Ibáñez, pequeños grupo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mayoría absoluta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O QUE VIENE: 195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 visualizan 3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idad socialista-comu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emerge al cen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berales-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de 1958  Hasta 197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plazan a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recha monolí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e va el caudillo carismá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essand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dependiente a la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opción de los tecnóc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opa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e crisis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unicipales de 196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1ª. Fuer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rrota de la Dere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l Naranjazo de Curic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erfila los DC y la izquierda para la presidencial de 196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C y F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derecha se vuelca a Fr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Revolución en Libertad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Eduardo Frei Monta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 oposición al comu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la Revolu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yectos políticos glob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orma Agr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sindicalización campes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ción popular: juntas de vec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0 mil casas x añ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fragio universal: Analfabetos y ci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enovación de la derecha: P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les+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izquierda 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Partid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itación en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os, huelgas, re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Voto+fus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65: Nace el M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 y Libert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naz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pira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osición armada a cambios estructu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l. Viaux: ¿equipamientos, sueld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crisis DC: El MAPU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uerra F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drigo Ambros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íticas al gobi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ción marx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EL MODELO ECONÓ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risis del 29: AL al descubie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erre de los mercados europ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ización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ortación materias prim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ortación productos manufactur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sarrollo hacia afuera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crecimiento NO estabilida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ienes industriales, mineros y agríco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LLENDE: 1ª. Mayoría rel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antías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noviembre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de la Unidad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tuto de Garant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e asume en el 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tas, comunistas, radicales, indepen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ITLER AL PO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aza a la UR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te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 estrategia: Los “frentes populare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ianzas con fuerzas burguesas, antifascis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C+PR= 3 Pdtes.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o modelo desarrol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STADO: MOTOR DE LA INDUSTRIALIZ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rategia técnico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stituyen import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jora nivel de vi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ja la cesant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s Indust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va el consumo inter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nomía de mercados exter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L ESTADO:ROL EMPRESARI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pliación de crédi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ción para regul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ulación de pre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s mix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ific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rucción de fundici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joramiento de cam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ntes, tún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39: AGUIRRE CER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r radical al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ernar es edu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crea la COR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es termo, hidroeléctr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pección petró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ON TINT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ofesor y abo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studió en U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s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inistro de JLS (19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Radical:diputado y sen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erremoto y exilio españ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941 muere: Cardenal Caro,lo des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Pedro Aguirre Cerda"/>
          <p:cNvPicPr/>
          <p:nvPr/>
        </p:nvPicPr>
        <p:blipFill>
          <a:blip r:embed="rId2"/>
          <a:stretch/>
        </p:blipFill>
        <p:spPr>
          <a:xfrm>
            <a:off x="5619600" y="3009960"/>
            <a:ext cx="30560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ÉCADA DEL 40: Juan A Rí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ile dependiente d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titución del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Guerra Mund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lta inf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stanciosos préstam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ducción iniciativa parlamen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ependencia contralo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uptura con el Eje (Alemania, Italia, Jap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946: Gabriel González Vide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 Ser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ra. Base antár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 la EN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organización sind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mig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muje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.Media, Técnica, 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os hornos de Huachipato y Concep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petróleo en manos de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dic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e media + fue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bramiento (1935:vo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erte impul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11:38Z</dcterms:created>
  <dc:creator>*</dc:creator>
  <dc:description/>
  <dc:language>en-US</dc:language>
  <cp:lastModifiedBy>*</cp:lastModifiedBy>
  <dcterms:modified xsi:type="dcterms:W3CDTF">2009-04-06T13:37:21Z</dcterms:modified>
  <cp:revision>2</cp:revision>
  <dc:subject/>
  <dc:title>PERIODISMO POLÍTICO</dc:title>
</cp:coreProperties>
</file>