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5BD-0CC5-4991-AB47-A0035AFC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D6D-1449-40DA-90A2-71D9F17A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719-23D3-41FB-948C-E48B5912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F59-95C1-421D-BF26-9C44532E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869-7C50-4728-9F3A-A27AA229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8EA-317C-4ADD-8E4E-0F6EB84A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E1F-E351-4C3D-A994-1DFF20E7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317-E973-46F7-A0A4-EE9CA809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5BD-56B5-4862-A578-EB05E58B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E5D-CAA6-4E1C-9B37-4FC950C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8BF-9D40-4370-AF58-F335698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029-B71A-4C4D-B0A5-E6916DB3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44E9-7F14-4040-8296-65EF9E5D7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0" y="4983120"/>
            <a:ext cx="2438280" cy="1722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26320" y="4305240"/>
            <a:ext cx="1784160" cy="2171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ituto de la Comunicación e Imag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rera de Cine y Televisió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ller Inicial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819520"/>
            <a:ext cx="62485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reatividad audiovisua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sión del trabajo en el equip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ord" descr=""/>
          <p:cNvPicPr/>
          <p:nvPr/>
        </p:nvPicPr>
        <p:blipFill>
          <a:blip r:embed="rId1"/>
          <a:stretch/>
        </p:blipFill>
        <p:spPr>
          <a:xfrm>
            <a:off x="558720" y="1143000"/>
            <a:ext cx="5079960" cy="3975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 estilos de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21337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hn Cassavetes registrando él mismo uno de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1814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hn Ford sentado, dando órdenes a un enorme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assavetes2" descr=""/>
          <p:cNvPicPr/>
          <p:nvPr/>
        </p:nvPicPr>
        <p:blipFill>
          <a:blip r:embed="rId2"/>
          <a:srcRect l="0" t="0" r="0" b="22148"/>
          <a:stretch/>
        </p:blipFill>
        <p:spPr>
          <a:xfrm>
            <a:off x="5257800" y="3913200"/>
            <a:ext cx="2384280" cy="271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noir_Le-fleuve-" descr=""/>
          <p:cNvPicPr/>
          <p:nvPr/>
        </p:nvPicPr>
        <p:blipFill>
          <a:blip r:embed="rId1"/>
          <a:stretch/>
        </p:blipFill>
        <p:spPr>
          <a:xfrm>
            <a:off x="533520" y="1479600"/>
            <a:ext cx="5486400" cy="4083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5654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ean Renoir dirige una escena de The River (19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1295280"/>
            <a:ext cx="236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igir un filme exige coordinar el trabajo de un gran número de colaboradores de las más diversas especia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plin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200400" y="685800"/>
            <a:ext cx="5105520" cy="3836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590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entado junto a la cámara y el camarógraf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 una de las imágenes más difundidas del medio. Pero su trabajo no concluye en ese instan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8006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harles Chaplin en la filmación de The Golden Rush (19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ruffaut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5638680" cy="3190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ores y fotógrafos entablan duraderas relacion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0200" y="541008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éstor Almendros y François Truffaut en la  filmación d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L´enfant sauvage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197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wilder2" descr=""/>
          <p:cNvPicPr/>
          <p:nvPr/>
        </p:nvPicPr>
        <p:blipFill>
          <a:blip r:embed="rId1"/>
          <a:stretch/>
        </p:blipFill>
        <p:spPr>
          <a:xfrm>
            <a:off x="4267080" y="762120"/>
            <a:ext cx="4011840" cy="4297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6640" y="609480"/>
            <a:ext cx="354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el momento del montaje, el director vuelve a tomar decisiones que le darán su forma definitiva a lo que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5029200"/>
            <a:ext cx="30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illy Wilder montando uno de sus fil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vens1" descr=""/>
          <p:cNvPicPr/>
          <p:nvPr/>
        </p:nvPicPr>
        <p:blipFill>
          <a:blip r:embed="rId2"/>
          <a:stretch/>
        </p:blipFill>
        <p:spPr>
          <a:xfrm>
            <a:off x="914400" y="4122720"/>
            <a:ext cx="3809880" cy="243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3048120"/>
            <a:ext cx="33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ris Ivens editando un docu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emille" descr=""/>
          <p:cNvPicPr/>
          <p:nvPr/>
        </p:nvPicPr>
        <p:blipFill>
          <a:blip r:embed="rId1">
            <a:grayscl/>
          </a:blip>
          <a:srcRect l="1036" t="1393" r="1036" b="1393"/>
          <a:stretch/>
        </p:blipFill>
        <p:spPr>
          <a:xfrm>
            <a:off x="762120" y="1854360"/>
            <a:ext cx="5651280" cy="4171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29040" y="1371600"/>
            <a:ext cx="205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 actores más famosos, dependen del director. Pero la situación puede verse desde otra perspectiva. ¿Qué sería del director sin los ac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14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ecil B. De Mille dirige a Gary Co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mohsen-makhmalbaf" descr=""/>
          <p:cNvPicPr/>
          <p:nvPr/>
        </p:nvPicPr>
        <p:blipFill>
          <a:blip r:embed="rId1"/>
          <a:stretch/>
        </p:blipFill>
        <p:spPr>
          <a:xfrm>
            <a:off x="2590920" y="596880"/>
            <a:ext cx="5790960" cy="4106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4876560"/>
            <a:ext cx="63248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producción, el director es el único autorizado para dar órdenes de manera ostensible al resto del equipo, pero se aprecia que no abuse de su pod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40984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ohsen Makhmalfab, director de cine ira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deren" descr=""/>
          <p:cNvPicPr/>
          <p:nvPr/>
        </p:nvPicPr>
        <p:blipFill>
          <a:blip r:embed="rId1"/>
          <a:stretch/>
        </p:blipFill>
        <p:spPr>
          <a:xfrm>
            <a:off x="1333440" y="1143000"/>
            <a:ext cx="308628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maya-deren" descr=""/>
          <p:cNvPicPr/>
          <p:nvPr/>
        </p:nvPicPr>
        <p:blipFill>
          <a:blip r:embed="rId2"/>
          <a:stretch/>
        </p:blipFill>
        <p:spPr>
          <a:xfrm>
            <a:off x="4114800" y="3733920"/>
            <a:ext cx="3581280" cy="259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14400" y="5181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ya Deren, cineasta de vanguardia norteameric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1640" y="457200"/>
            <a:ext cx="380988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as producciones independientes, hechas con pocos recursos, el director suele encargarse del registro y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visconti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952880" y="425520"/>
            <a:ext cx="3530880" cy="4680000"/>
          </a:xfrm>
          <a:prstGeom prst="rect">
            <a:avLst/>
          </a:prstGeom>
          <a:ln w="0">
            <a:noFill/>
          </a:ln>
        </p:spPr>
      </p:pic>
      <p:pic>
        <p:nvPicPr>
          <p:cNvPr id="101" name="sunset%20boulevard" descr=""/>
          <p:cNvPicPr/>
          <p:nvPr/>
        </p:nvPicPr>
        <p:blipFill>
          <a:blip r:embed="rId2"/>
          <a:stretch/>
        </p:blipFill>
        <p:spPr>
          <a:xfrm>
            <a:off x="304920" y="2975040"/>
            <a:ext cx="3786120" cy="28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95280" y="304920"/>
            <a:ext cx="332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uele ser solitario en medio de un  gran equipo que espera sus órdenes y se paraliza si él f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7913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illy Wilder en la filmación de Sunset Boule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24560" y="5060880"/>
            <a:ext cx="39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uchino Visconti en la filmación de Gruppo di famiglia in interno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vertigo-13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800600" cy="341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67080" y="413064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fred Hichcock durante la filmación de Ver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3276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filmación, el director puede entablar una relación de control sobre los 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lasirfilmacion" descr=""/>
          <p:cNvPicPr/>
          <p:nvPr/>
        </p:nvPicPr>
        <p:blipFill>
          <a:blip r:embed="rId2"/>
          <a:stretch/>
        </p:blipFill>
        <p:spPr>
          <a:xfrm>
            <a:off x="677880" y="2514600"/>
            <a:ext cx="3360600" cy="358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7560" y="609588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x Ophüls dirigiendo La Ro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895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os primeros diez años del cine, desde 1895 a 1905, el productor y el camarógrafo eran los principales responsables del proceso de producció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ch_camerman2" descr=""/>
          <p:cNvPicPr/>
          <p:nvPr/>
        </p:nvPicPr>
        <p:blipFill>
          <a:blip r:embed="rId2"/>
          <a:stretch/>
        </p:blipFill>
        <p:spPr>
          <a:xfrm>
            <a:off x="3809880" y="533520"/>
            <a:ext cx="3517920" cy="424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9880" y="51055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 el director, ni los actores, ni el montajista, ni el sonidista, ni el encargado de continuidad exist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van_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749920" cy="4533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24480" y="1143000"/>
            <a:ext cx="243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rguei Eisenstein muestra uno de sus bocetos de vestuario al compositor Serguei Prokof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isenstein%20apuntes" descr=""/>
          <p:cNvPicPr/>
          <p:nvPr/>
        </p:nvPicPr>
        <p:blipFill>
          <a:blip r:embed="rId2"/>
          <a:stretch/>
        </p:blipFill>
        <p:spPr>
          <a:xfrm>
            <a:off x="685800" y="3679920"/>
            <a:ext cx="2440080" cy="3025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125880" y="5638680"/>
            <a:ext cx="54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untes de filmación de Eisen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81480" y="68580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ay cineastas que improvisan con un gran equipo, como hizo  Chaplin durante sus primeros años de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4956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ay otros que trabajan solos, como Norman MacLaren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chaplin%20filmando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508280" cy="3421080"/>
          </a:xfrm>
          <a:prstGeom prst="rect">
            <a:avLst/>
          </a:prstGeom>
          <a:ln w="0">
            <a:noFill/>
          </a:ln>
        </p:spPr>
      </p:pic>
      <p:pic>
        <p:nvPicPr>
          <p:cNvPr id="117" name="mclaren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581280" cy="285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3131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zu" descr=""/>
          <p:cNvPicPr/>
          <p:nvPr/>
        </p:nvPicPr>
        <p:blipFill>
          <a:blip r:embed="rId1"/>
          <a:srcRect l="0" t="0" r="886" b="0"/>
          <a:stretch/>
        </p:blipFill>
        <p:spPr>
          <a:xfrm>
            <a:off x="533520" y="457200"/>
            <a:ext cx="5486400" cy="4102200"/>
          </a:xfrm>
          <a:prstGeom prst="rect">
            <a:avLst/>
          </a:prstGeom>
          <a:ln w="0">
            <a:noFill/>
          </a:ln>
        </p:spPr>
      </p:pic>
      <p:pic>
        <p:nvPicPr>
          <p:cNvPr id="119" name="mizoguchi" descr=""/>
          <p:cNvPicPr/>
          <p:nvPr/>
        </p:nvPicPr>
        <p:blipFill>
          <a:blip r:embed="rId2"/>
          <a:srcRect l="1417" t="1890" r="1417" b="1890"/>
          <a:stretch/>
        </p:blipFill>
        <p:spPr>
          <a:xfrm>
            <a:off x="5084640" y="3789360"/>
            <a:ext cx="3775320" cy="2803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48520" y="7621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asujiro Ozu ensaya una escena desde su altura favorita,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51814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Kenji Mizoguchi dirige Ugetsu Monoga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ope2" descr=""/>
          <p:cNvPicPr/>
          <p:nvPr/>
        </p:nvPicPr>
        <p:blipFill>
          <a:blip r:embed="rId1"/>
          <a:stretch/>
        </p:blipFill>
        <p:spPr>
          <a:xfrm>
            <a:off x="2057400" y="603360"/>
            <a:ext cx="6324480" cy="4954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81080" y="557676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fred Hitchcock durante filmación de 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oderbergh2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5562720" cy="3708360"/>
          </a:xfrm>
          <a:prstGeom prst="rect">
            <a:avLst/>
          </a:prstGeom>
          <a:ln w="0">
            <a:noFill/>
          </a:ln>
        </p:spPr>
      </p:pic>
      <p:pic>
        <p:nvPicPr>
          <p:cNvPr id="125" name="soderbergh" descr=""/>
          <p:cNvPicPr/>
          <p:nvPr/>
        </p:nvPicPr>
        <p:blipFill>
          <a:blip r:embed="rId2"/>
          <a:stretch/>
        </p:blipFill>
        <p:spPr>
          <a:xfrm>
            <a:off x="2286000" y="3835440"/>
            <a:ext cx="2706840" cy="271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05520" y="4191120"/>
            <a:ext cx="32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mbién puede borrar las categorías. Steven Soderbergh produce, dirige, registra y monta él mismo las imágenes de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2880" y="933480"/>
            <a:ext cx="262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puede reorganizar la división del trabajo de su equipo, de acuerdo a sus necesidades de producció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amsonSet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14600" y="304920"/>
            <a:ext cx="6369120" cy="5124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692280"/>
            <a:ext cx="205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es la imagen mítica del director de Hollywood, con un enorme equipo que se subordina a sus órdenes, (pero se subordina al produ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54291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ecil De Mille dirigiendo Samson and Deli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rsenwells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457200"/>
            <a:ext cx="3335040" cy="4494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14800" y="609480"/>
            <a:ext cx="4495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cos son los directores que logran asumir con el mismo éxito varias responsabilidades. Orson Welles escribe, produce, interpreta, dirige y monta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commdev_kubrick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105520" y="4137120"/>
            <a:ext cx="3504960" cy="2340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53341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tanley Kubrick escribe, produce, dirige, edita y a veces fotogtafía sus film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6d6d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419720" y="3123720"/>
            <a:ext cx="1218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oris%20kaufman" descr=""/>
          <p:cNvPicPr/>
          <p:nvPr/>
        </p:nvPicPr>
        <p:blipFill>
          <a:blip r:embed="rId1"/>
          <a:stretch/>
        </p:blipFill>
        <p:spPr>
          <a:xfrm>
            <a:off x="4495680" y="2168640"/>
            <a:ext cx="4191120" cy="3314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71600" y="492444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ilmación de Cloveka s kinoapattom de Dziga Vert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3505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los documentalistas, el equipo estuvo constituido por dos o tre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ta la mitad del siglo XX, la cámara era incapaz de registrar sonido sincró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4640" y="990720"/>
            <a:ext cx="2438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a actualidad, el camarógrafo dispone de equipamien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jo, que también registra el sonido, y continúa siendo el centro del proceso de producción audiovisual (en el caso del document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teady%20cam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4876560" cy="384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6782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ni Riefenstahl, documentalista del régimen na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riumf3" descr=""/>
          <p:cNvPicPr/>
          <p:nvPr/>
        </p:nvPicPr>
        <p:blipFill>
          <a:blip r:embed="rId1">
            <a:grayscl/>
            <a:lum contrast="6000"/>
          </a:blip>
          <a:stretch/>
        </p:blipFill>
        <p:spPr>
          <a:xfrm>
            <a:off x="3276720" y="1219320"/>
            <a:ext cx="5410080" cy="403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5000" y="411480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221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de cine disfruta de grandes poderes durante la producción. También es el responsable de todo lo que hace y deja de hacer el resto del equip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riumph_leni" descr=""/>
          <p:cNvPicPr/>
          <p:nvPr/>
        </p:nvPicPr>
        <p:blipFill>
          <a:blip r:embed="rId1"/>
          <a:stretch/>
        </p:blipFill>
        <p:spPr>
          <a:xfrm>
            <a:off x="5511960" y="3987720"/>
            <a:ext cx="2489040" cy="2489400"/>
          </a:xfrm>
          <a:prstGeom prst="rect">
            <a:avLst/>
          </a:prstGeom>
          <a:ln w="0">
            <a:noFill/>
          </a:ln>
        </p:spPr>
      </p:pic>
      <p:pic>
        <p:nvPicPr>
          <p:cNvPr id="58" name="triumf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550800"/>
            <a:ext cx="4648320" cy="345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10080" y="137484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e encuentra presente en todas las etapas del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42544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equipo lo siguen sin cuestionar sus decisiones.  La obra elaborada por todos es considerada suy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riumf%20des%20w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762120"/>
            <a:ext cx="4038840" cy="297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52480" y="403848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 tal de realizar su obra, el director suele aceptar compromisos de los que luego se arrep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76212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ni Riefenstahl durante la filmación de Triunf des Willens, un documental de propa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191120" y="5335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filmación y el montaje, el director tiene que tomar decisiones complejas, que afectan la suerte de su obra,  con escaso tiempo para medita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meras2" descr=""/>
          <p:cNvPicPr/>
          <p:nvPr/>
        </p:nvPicPr>
        <p:blipFill>
          <a:blip r:embed="rId1"/>
          <a:stretch/>
        </p:blipFill>
        <p:spPr>
          <a:xfrm>
            <a:off x="380880" y="1274760"/>
            <a:ext cx="3676680" cy="3552840"/>
          </a:xfrm>
          <a:prstGeom prst="rect">
            <a:avLst/>
          </a:prstGeom>
          <a:ln w="0">
            <a:noFill/>
          </a:ln>
        </p:spPr>
      </p:pic>
      <p:pic>
        <p:nvPicPr>
          <p:cNvPr id="66" name="cameraman" descr=""/>
          <p:cNvPicPr/>
          <p:nvPr/>
        </p:nvPicPr>
        <p:blipFill>
          <a:blip r:embed="rId2"/>
          <a:stretch/>
        </p:blipFill>
        <p:spPr>
          <a:xfrm>
            <a:off x="4191120" y="3273480"/>
            <a:ext cx="4267080" cy="316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0" y="5335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veces, el director es también actor y debe turnarse detrás y delante de la cámara. Nanni Moretti en La Stanza del figli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oretti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57600" cy="322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160" t="0" r="0" b="0"/>
          <a:stretch/>
        </p:blipFill>
        <p:spPr>
          <a:xfrm>
            <a:off x="4952880" y="3613320"/>
            <a:ext cx="3657600" cy="2811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3880" y="4495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harles Chaplin fue simultáneamente actor, productor, escritor, compositor mu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0T11:57:30Z</dcterms:created>
  <dc:creator>OSCAR1</dc:creator>
  <dc:description/>
  <dc:language>en-US</dc:language>
  <cp:lastModifiedBy>OSCAR1</cp:lastModifiedBy>
  <dcterms:modified xsi:type="dcterms:W3CDTF">2008-03-06T00:48:24Z</dcterms:modified>
  <cp:revision>248</cp:revision>
  <dc:subject/>
  <dc:title>Universidad de Chile Instituto de la Comunicación e Imagen Carrera de Cine y Televisión Taller Inicial 2007</dc:title>
</cp:coreProperties>
</file>