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A89-5102-4628-8202-899BA122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552-10EB-4A80-9F47-6821D473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DC3-3B68-4881-8A6E-F0DF59A1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90E-BC03-427F-ACA7-3C9B2629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511-F3FA-4DB7-87D2-885BDFB5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EAD-82A3-4175-B330-E1AD44F1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20C-0E23-4A16-B106-079639C6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E3D-5256-498E-89F9-62825E7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DC9-ABC3-44A0-8ABD-76EA0A6C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60D-DB2D-407A-B907-4611963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F5D-3D9B-41BD-AC3D-BAB9838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BE0-A07D-4591-8F20-479662BC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1019-5A77-4332-9BA2-53658BBC7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0" y="498312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26320" y="4305240"/>
            <a:ext cx="1784160" cy="217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ituto de la Comunicación e Imag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rera de Cine y Televisió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ller Inicia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819520"/>
            <a:ext cx="62485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eatividad audiovisua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sión del trabajo en el equip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ord" descr=""/>
          <p:cNvPicPr/>
          <p:nvPr/>
        </p:nvPicPr>
        <p:blipFill>
          <a:blip r:embed="rId1"/>
          <a:stretch/>
        </p:blipFill>
        <p:spPr>
          <a:xfrm>
            <a:off x="558720" y="1143000"/>
            <a:ext cx="5079960" cy="3975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 estilos de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Cassavetes registrando él mismo uno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181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Ford sentado, dando órdenes a un enorme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assavetes2" descr=""/>
          <p:cNvPicPr/>
          <p:nvPr/>
        </p:nvPicPr>
        <p:blipFill>
          <a:blip r:embed="rId2"/>
          <a:srcRect l="0" t="0" r="0" b="22148"/>
          <a:stretch/>
        </p:blipFill>
        <p:spPr>
          <a:xfrm>
            <a:off x="5257800" y="3913200"/>
            <a:ext cx="238428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noir_Le-fleuve-" descr=""/>
          <p:cNvPicPr/>
          <p:nvPr/>
        </p:nvPicPr>
        <p:blipFill>
          <a:blip r:embed="rId1"/>
          <a:stretch/>
        </p:blipFill>
        <p:spPr>
          <a:xfrm>
            <a:off x="533520" y="1479600"/>
            <a:ext cx="548640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5654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ean Renoir dirige una escena de The River (19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1295280"/>
            <a:ext cx="236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igir un filme exige coordinar el trabajo de un gran número de colaboradores de las más diversas especia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plin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00400" y="685800"/>
            <a:ext cx="5105520" cy="3836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590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ntado junto a la cámara y el camarógraf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 una de las imágenes más difundidas del medio. Pero su trabajo no concluye en ese instan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8006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en la filmación de The Golden Rush (19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ruffaut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5638680" cy="3190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es y fotógrafos entablan duraderas relacion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200" y="541008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éstor Almendros y François Truffaut en la  filmación d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L´enfant sauvage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197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wilder2" descr=""/>
          <p:cNvPicPr/>
          <p:nvPr/>
        </p:nvPicPr>
        <p:blipFill>
          <a:blip r:embed="rId1"/>
          <a:stretch/>
        </p:blipFill>
        <p:spPr>
          <a:xfrm>
            <a:off x="4267080" y="762120"/>
            <a:ext cx="4011840" cy="4297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6640" y="609480"/>
            <a:ext cx="35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momento del montaje, el director vuelve a tomar decisiones que le darán su forma definitiva a lo que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5029200"/>
            <a:ext cx="30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montando uno de sus fil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vens1" descr=""/>
          <p:cNvPicPr/>
          <p:nvPr/>
        </p:nvPicPr>
        <p:blipFill>
          <a:blip r:embed="rId2"/>
          <a:stretch/>
        </p:blipFill>
        <p:spPr>
          <a:xfrm>
            <a:off x="91440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048120"/>
            <a:ext cx="33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ris Ivens editando un docu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emille" descr=""/>
          <p:cNvPicPr/>
          <p:nvPr/>
        </p:nvPicPr>
        <p:blipFill>
          <a:blip r:embed="rId1">
            <a:grayscl/>
          </a:blip>
          <a:srcRect l="1036" t="1393" r="1036" b="1393"/>
          <a:stretch/>
        </p:blipFill>
        <p:spPr>
          <a:xfrm>
            <a:off x="762120" y="1854360"/>
            <a:ext cx="5651280" cy="4171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29040" y="1371600"/>
            <a:ext cx="205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 actores más famosos, dependen del director. Pero la situación puede verse desde otra perspectiva. ¿Qué sería del director sin los ac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14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B. De Mille dirige a Gary Co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ohsen-makhmalbaf" descr=""/>
          <p:cNvPicPr/>
          <p:nvPr/>
        </p:nvPicPr>
        <p:blipFill>
          <a:blip r:embed="rId1"/>
          <a:stretch/>
        </p:blipFill>
        <p:spPr>
          <a:xfrm>
            <a:off x="2590920" y="596880"/>
            <a:ext cx="5790960" cy="4106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4876560"/>
            <a:ext cx="6324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producción, el director es el único autorizado para dar órdenes de manera ostensible al resto del equipo, pero se aprecia que no abuse de su pod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40984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ohsen Makhmalfab, director de cine ir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eren" descr=""/>
          <p:cNvPicPr/>
          <p:nvPr/>
        </p:nvPicPr>
        <p:blipFill>
          <a:blip r:embed="rId1"/>
          <a:stretch/>
        </p:blipFill>
        <p:spPr>
          <a:xfrm>
            <a:off x="1333440" y="1143000"/>
            <a:ext cx="308628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maya-deren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3581280" cy="259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5181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ya Deren, cineasta de vanguardia norteameric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1640" y="457200"/>
            <a:ext cx="380988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s producciones independientes, hechas con pocos recursos, el director suele encargarse del registro y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visconti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952880" y="425520"/>
            <a:ext cx="353088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sunset%20boulevard" descr=""/>
          <p:cNvPicPr/>
          <p:nvPr/>
        </p:nvPicPr>
        <p:blipFill>
          <a:blip r:embed="rId2"/>
          <a:stretch/>
        </p:blipFill>
        <p:spPr>
          <a:xfrm>
            <a:off x="304920" y="2975040"/>
            <a:ext cx="3786120" cy="28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304920"/>
            <a:ext cx="332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uele ser solitario en medio de un  gran equipo que espera sus órdenes y se paraliza si él f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7913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en la filmación de Sunset Boule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560" y="506088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uchino Visconti en la filmación de Gruppo di famiglia in intern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vertigo-13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800600" cy="341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67080" y="41306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fred Hichcock durante la filmación de Ver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3276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, el director puede entablar una relación de control sobre los 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lasirfilmacion" descr=""/>
          <p:cNvPicPr/>
          <p:nvPr/>
        </p:nvPicPr>
        <p:blipFill>
          <a:blip r:embed="rId2"/>
          <a:stretch/>
        </p:blipFill>
        <p:spPr>
          <a:xfrm>
            <a:off x="677880" y="2514600"/>
            <a:ext cx="336060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7560" y="609588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x Ophüls dirigiendo La R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895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os primeros diez años del cine, desde 1895 a 1905, el productor y el camarógrafo eran los principales responsables del proceso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ch_camerman2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3517920" cy="424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51055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 el director, ni los actores, ni el montajista, ni el sonidista, ni el encargado de continuidad exist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van_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49920" cy="453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24480" y="114300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rguei Eisenstein muestra uno de sus bocetos de vestuario al compositor Serguei Prokof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isenstein%20apuntes" descr=""/>
          <p:cNvPicPr/>
          <p:nvPr/>
        </p:nvPicPr>
        <p:blipFill>
          <a:blip r:embed="rId2"/>
          <a:stretch/>
        </p:blipFill>
        <p:spPr>
          <a:xfrm>
            <a:off x="685800" y="3679920"/>
            <a:ext cx="2440080" cy="3025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25880" y="5638680"/>
            <a:ext cx="54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untes de filmación de Eise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81480" y="68580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cineastas que improvisan con un gran equipo, como hizo  Chaplin durante sus primeros año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otros que trabajan solos, como Norman MacLare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haplin%20filmando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08280" cy="3421080"/>
          </a:xfrm>
          <a:prstGeom prst="rect">
            <a:avLst/>
          </a:prstGeom>
          <a:ln w="0">
            <a:noFill/>
          </a:ln>
        </p:spPr>
      </p:pic>
      <p:pic>
        <p:nvPicPr>
          <p:cNvPr id="117" name="mclaren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581280" cy="285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131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zu" descr=""/>
          <p:cNvPicPr/>
          <p:nvPr/>
        </p:nvPicPr>
        <p:blipFill>
          <a:blip r:embed="rId1"/>
          <a:srcRect l="0" t="0" r="886" b="0"/>
          <a:stretch/>
        </p:blipFill>
        <p:spPr>
          <a:xfrm>
            <a:off x="533520" y="457200"/>
            <a:ext cx="5486400" cy="4102200"/>
          </a:xfrm>
          <a:prstGeom prst="rect">
            <a:avLst/>
          </a:prstGeom>
          <a:ln w="0">
            <a:noFill/>
          </a:ln>
        </p:spPr>
      </p:pic>
      <p:pic>
        <p:nvPicPr>
          <p:cNvPr id="119" name="mizoguchi" descr=""/>
          <p:cNvPicPr/>
          <p:nvPr/>
        </p:nvPicPr>
        <p:blipFill>
          <a:blip r:embed="rId2"/>
          <a:srcRect l="1417" t="1890" r="1417" b="1890"/>
          <a:stretch/>
        </p:blipFill>
        <p:spPr>
          <a:xfrm>
            <a:off x="5084640" y="3789360"/>
            <a:ext cx="3775320" cy="28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48520" y="7621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asujiro Ozu ensaya una escena desde su altura favorita,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Kenji Mizoguchi dirige Ugetsu Monoga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ope2" descr=""/>
          <p:cNvPicPr/>
          <p:nvPr/>
        </p:nvPicPr>
        <p:blipFill>
          <a:blip r:embed="rId1"/>
          <a:stretch/>
        </p:blipFill>
        <p:spPr>
          <a:xfrm>
            <a:off x="2057400" y="603360"/>
            <a:ext cx="6324480" cy="495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81080" y="557676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fred Hitchcock durante filmación de 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oderbergh2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562720" cy="3708360"/>
          </a:xfrm>
          <a:prstGeom prst="rect">
            <a:avLst/>
          </a:prstGeom>
          <a:ln w="0">
            <a:noFill/>
          </a:ln>
        </p:spPr>
      </p:pic>
      <p:pic>
        <p:nvPicPr>
          <p:cNvPr id="125" name="soderbergh" descr=""/>
          <p:cNvPicPr/>
          <p:nvPr/>
        </p:nvPicPr>
        <p:blipFill>
          <a:blip r:embed="rId2"/>
          <a:stretch/>
        </p:blipFill>
        <p:spPr>
          <a:xfrm>
            <a:off x="2286000" y="3835440"/>
            <a:ext cx="2706840" cy="271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05520" y="4191120"/>
            <a:ext cx="32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mbién puede borrar las categorías. Steven Soderbergh produce, dirige, registra y monta él mismo las imágenes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" y="933480"/>
            <a:ext cx="262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puede reorganizar la división del trabajo de su equipo, de acuerdo a sus necesidades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amsonSet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14600" y="304920"/>
            <a:ext cx="6369120" cy="512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692280"/>
            <a:ext cx="205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es la imagen mítica del director de Hollywood, con un enorme equipo que se subordina a sus órdenes, (pero se subordina al prod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54291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De Mille dirigiendo Samson and Deli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rsenwells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457200"/>
            <a:ext cx="3335040" cy="449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14800" y="609480"/>
            <a:ext cx="4495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cos son los directores que logran asumir con el mismo éxito varias responsabilidades. Orson Welles escribe, produce, interpreta, dirige y monta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ommdev_kubrick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4137120"/>
            <a:ext cx="3504960" cy="2340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53341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tanley Kubrick escribe, produce, dirige, edita y a veces fotogtafía sus film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419720" y="3123720"/>
            <a:ext cx="1218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oris%20kaufman" descr=""/>
          <p:cNvPicPr/>
          <p:nvPr/>
        </p:nvPicPr>
        <p:blipFill>
          <a:blip r:embed="rId1"/>
          <a:stretch/>
        </p:blipFill>
        <p:spPr>
          <a:xfrm>
            <a:off x="4495680" y="2168640"/>
            <a:ext cx="4191120" cy="331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71600" y="492444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ilmación de Cloveka s kinoapattom de Dziga Vert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3505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los documentalistas, el equipo estuvo constituido por dos o tre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ta la mitad del siglo XX, la cámara era incapaz de registrar sonido sincr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4640" y="99072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 actualidad, el camarógrafo dispone de equipamie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jo, que también registra el sonido, y continúa siendo el centro del proceso de producción audiovisual (en el caso del documen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teady%20cam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4876560" cy="384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6782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, documentalista del régimen na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riumf3" descr=""/>
          <p:cNvPicPr/>
          <p:nvPr/>
        </p:nvPicPr>
        <p:blipFill>
          <a:blip r:embed="rId1">
            <a:grayscl/>
            <a:lum contrast="6000"/>
          </a:blip>
          <a:stretch/>
        </p:blipFill>
        <p:spPr>
          <a:xfrm>
            <a:off x="3276720" y="1219320"/>
            <a:ext cx="5410080" cy="403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41148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221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de cine disfruta de grandes poderes durante la producción. También es el responsable de todo lo que hace y deja de hacer el resto del equip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riumph_leni" descr=""/>
          <p:cNvPicPr/>
          <p:nvPr/>
        </p:nvPicPr>
        <p:blipFill>
          <a:blip r:embed="rId1"/>
          <a:stretch/>
        </p:blipFill>
        <p:spPr>
          <a:xfrm>
            <a:off x="5511960" y="3987720"/>
            <a:ext cx="2489040" cy="2489400"/>
          </a:xfrm>
          <a:prstGeom prst="rect">
            <a:avLst/>
          </a:prstGeom>
          <a:ln w="0">
            <a:noFill/>
          </a:ln>
        </p:spPr>
      </p:pic>
      <p:pic>
        <p:nvPicPr>
          <p:cNvPr id="58" name="triumf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550800"/>
            <a:ext cx="4648320" cy="345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080" y="137484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 encuentra presente en todas las etapas del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2544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equipo lo siguen sin cuestionar sus decisiones.  La obra elaborada por todos es considerada suy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riumf%20des%20w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762120"/>
            <a:ext cx="403884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2480" y="40384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 tal de realizar su obra, el director suele aceptar compromisos de los que luego se arrep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76212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 durante la filmación de Triunf des Willens, un documental de 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91120" y="5335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 y el montaje, el director tiene que tomar decisiones complejas, que afectan la suerte de su obra,  con escaso tiempo para medit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meras2" descr=""/>
          <p:cNvPicPr/>
          <p:nvPr/>
        </p:nvPicPr>
        <p:blipFill>
          <a:blip r:embed="rId1"/>
          <a:stretch/>
        </p:blipFill>
        <p:spPr>
          <a:xfrm>
            <a:off x="380880" y="1274760"/>
            <a:ext cx="3676680" cy="3552840"/>
          </a:xfrm>
          <a:prstGeom prst="rect">
            <a:avLst/>
          </a:prstGeom>
          <a:ln w="0">
            <a:noFill/>
          </a:ln>
        </p:spPr>
      </p:pic>
      <p:pic>
        <p:nvPicPr>
          <p:cNvPr id="66" name="cameraman" descr=""/>
          <p:cNvPicPr/>
          <p:nvPr/>
        </p:nvPicPr>
        <p:blipFill>
          <a:blip r:embed="rId2"/>
          <a:stretch/>
        </p:blipFill>
        <p:spPr>
          <a:xfrm>
            <a:off x="4191120" y="3273480"/>
            <a:ext cx="4267080" cy="31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0" y="5335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veces, el director es también actor y debe turnarse detrás y delante de la cámara. Nanni Moretti en La Stanza del figli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retti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7600" cy="322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160" t="0" r="0" b="0"/>
          <a:stretch/>
        </p:blipFill>
        <p:spPr>
          <a:xfrm>
            <a:off x="4952880" y="3613320"/>
            <a:ext cx="3657600" cy="2811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3880" y="4495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fue simultáneamente actor, productor, escritor, compositor mu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0T11:57:30Z</dcterms:created>
  <dc:creator>OSCAR1</dc:creator>
  <dc:description/>
  <dc:language>en-US</dc:language>
  <cp:lastModifiedBy>OSCAR1</cp:lastModifiedBy>
  <dcterms:modified xsi:type="dcterms:W3CDTF">2008-03-06T00:48:24Z</dcterms:modified>
  <cp:revision>248</cp:revision>
  <dc:subject/>
  <dc:title>Universidad de Chile Instituto de la Comunicación e Imagen Carrera de Cine y Televisión Taller Inicial 2007</dc:title>
</cp:coreProperties>
</file>