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80F-FAFA-4298-A08C-266B1264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49D-7F79-4379-8276-A6E3D998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D4D-1ED5-42C5-B728-8281ED05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CBC-5543-4146-84FD-BD52F0C0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4C0-24EB-4423-8AC9-6EC92C9D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D60-1931-4B5F-BDF6-B39061F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15D-DD87-462A-9524-EEF2070C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339-D5B4-41A6-86A2-88BBA5EF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113-AC59-4CE7-8B68-4472958F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C03-78DA-418C-A615-1C47524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813-3A39-4095-B7B3-1C97701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D0C-104E-4D21-B7CE-8A6738E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1C4-B6F8-442B-A274-008D46D18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0" y="498312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26320" y="4305240"/>
            <a:ext cx="178416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ituto de la Comunicación e Imag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rera de Cine y Televisió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ller Inicial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2485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ividad audiovisua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ón del trabajo en el equip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ord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5079960" cy="3975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 estilos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Cassavetes registrando él mismo uno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181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hn Ford sentado, dando órdenes a un enorme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assavetes2" descr=""/>
          <p:cNvPicPr/>
          <p:nvPr/>
        </p:nvPicPr>
        <p:blipFill>
          <a:blip r:embed="rId2"/>
          <a:srcRect l="0" t="0" r="0" b="22148"/>
          <a:stretch/>
        </p:blipFill>
        <p:spPr>
          <a:xfrm>
            <a:off x="5257800" y="3913200"/>
            <a:ext cx="238428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noir_Le-fleuve-" descr=""/>
          <p:cNvPicPr/>
          <p:nvPr/>
        </p:nvPicPr>
        <p:blipFill>
          <a:blip r:embed="rId1"/>
          <a:stretch/>
        </p:blipFill>
        <p:spPr>
          <a:xfrm>
            <a:off x="533520" y="1479600"/>
            <a:ext cx="548640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654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ean Renoir dirige una escena de The River 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295280"/>
            <a:ext cx="236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igir un filme exige coordinar el trabajo de un gran número de colaboradores de las más diversas especi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plin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00400" y="685800"/>
            <a:ext cx="5105520" cy="3836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590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ntado junto a la cámara y el camarógraf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una de las imágenes más difundidas del medio. Pero su trabajo no concluye en ese instan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800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en la filmación de The Golden Rush (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ruffaut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638680" cy="3190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es y fotógrafos entablan duraderas relacion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200" y="541008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éstor Almendros y François Truffaut en la  filmación d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´enfant sauvage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197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ilder2" descr=""/>
          <p:cNvPicPr/>
          <p:nvPr/>
        </p:nvPicPr>
        <p:blipFill>
          <a:blip r:embed="rId1"/>
          <a:stretch/>
        </p:blipFill>
        <p:spPr>
          <a:xfrm>
            <a:off x="4267080" y="762120"/>
            <a:ext cx="4011840" cy="4297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6640" y="609480"/>
            <a:ext cx="35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momento del montaje, el director vuelve a tomar decisiones que le darán su forma definitiva a lo que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5029200"/>
            <a:ext cx="30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montando uno de sus fil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vens1" descr=""/>
          <p:cNvPicPr/>
          <p:nvPr/>
        </p:nvPicPr>
        <p:blipFill>
          <a:blip r:embed="rId2"/>
          <a:stretch/>
        </p:blipFill>
        <p:spPr>
          <a:xfrm>
            <a:off x="91440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8120"/>
            <a:ext cx="33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oris Ivens editando un docu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emille" descr=""/>
          <p:cNvPicPr/>
          <p:nvPr/>
        </p:nvPicPr>
        <p:blipFill>
          <a:blip r:embed="rId1">
            <a:grayscl/>
          </a:blip>
          <a:srcRect l="1036" t="1393" r="1036" b="1393"/>
          <a:stretch/>
        </p:blipFill>
        <p:spPr>
          <a:xfrm>
            <a:off x="762120" y="1854360"/>
            <a:ext cx="5651280" cy="4171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29040" y="1371600"/>
            <a:ext cx="205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 actores más famosos, dependen del director. Pero la situación puede verse desde otra perspectiva. ¿Qué sería del director sin los ac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B. De Mille dirige a Gary C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ohsen-makhmalbaf" descr=""/>
          <p:cNvPicPr/>
          <p:nvPr/>
        </p:nvPicPr>
        <p:blipFill>
          <a:blip r:embed="rId1"/>
          <a:stretch/>
        </p:blipFill>
        <p:spPr>
          <a:xfrm>
            <a:off x="2590920" y="596880"/>
            <a:ext cx="5790960" cy="4106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6324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producción, el director es el único autorizado para dar órdenes de manera ostensible al resto del equipo, pero se aprecia que no abuse de su pod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40984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hsen Makhmalfab, director de cine ir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eren" descr=""/>
          <p:cNvPicPr/>
          <p:nvPr/>
        </p:nvPicPr>
        <p:blipFill>
          <a:blip r:embed="rId1"/>
          <a:stretch/>
        </p:blipFill>
        <p:spPr>
          <a:xfrm>
            <a:off x="1333440" y="1143000"/>
            <a:ext cx="308628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maya-deren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581280" cy="25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5181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ya Deren, cineasta de vanguardia norteameric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1640" y="457200"/>
            <a:ext cx="380988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s producciones independientes, hechas con pocos recursos, el director suele encargarse del registro y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visconti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952880" y="425520"/>
            <a:ext cx="353088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sunset%20boulevard" descr=""/>
          <p:cNvPicPr/>
          <p:nvPr/>
        </p:nvPicPr>
        <p:blipFill>
          <a:blip r:embed="rId2"/>
          <a:stretch/>
        </p:blipFill>
        <p:spPr>
          <a:xfrm>
            <a:off x="304920" y="2975040"/>
            <a:ext cx="3786120" cy="28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304920"/>
            <a:ext cx="332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uele ser solitario en medio de un  gran equipo que espera sus órdenes y se paraliza si él 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7913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illy Wilder en la filmación de Sunset Boule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560" y="50608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uchino Visconti en la filmación de Gruppo di famiglia in intern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vertigo-13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800600" cy="341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67080" y="41306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fred Hichcock durante la filmación de Ver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3276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, el director puede entablar una relación de control sobre los 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lasirfilmacion" descr=""/>
          <p:cNvPicPr/>
          <p:nvPr/>
        </p:nvPicPr>
        <p:blipFill>
          <a:blip r:embed="rId2"/>
          <a:stretch/>
        </p:blipFill>
        <p:spPr>
          <a:xfrm>
            <a:off x="677880" y="2514600"/>
            <a:ext cx="336060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7560" y="609588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x Ophüls dirigiendo La R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9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os primeros diez años del cine, desde 1895 a 1905, el productor y el camarógrafo eran los principales responsables del proceso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h_camerman2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3517920" cy="424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5105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 el director, ni los actores, ni el montajista, ni el sonidista, ni el encargado de continuidad existí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van_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4992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114300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guei Eisenstein muestra uno de sus bocetos de vestuario al compositor Serguei Prokof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isenstein%20apuntes" descr=""/>
          <p:cNvPicPr/>
          <p:nvPr/>
        </p:nvPicPr>
        <p:blipFill>
          <a:blip r:embed="rId2"/>
          <a:stretch/>
        </p:blipFill>
        <p:spPr>
          <a:xfrm>
            <a:off x="685800" y="3679920"/>
            <a:ext cx="2440080" cy="302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25880" y="5638680"/>
            <a:ext cx="54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untes de filmación de Eis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81480" y="6858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cineastas que improvisan con un gran equipo, como hizo  Chaplin durante sus primeros año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y otros que trabajan solos, como Norman MacLare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haplin%20filmando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508280" cy="3421080"/>
          </a:xfrm>
          <a:prstGeom prst="rect">
            <a:avLst/>
          </a:prstGeom>
          <a:ln w="0">
            <a:noFill/>
          </a:ln>
        </p:spPr>
      </p:pic>
      <p:pic>
        <p:nvPicPr>
          <p:cNvPr id="117" name="mclaren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581280" cy="285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131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zu" descr=""/>
          <p:cNvPicPr/>
          <p:nvPr/>
        </p:nvPicPr>
        <p:blipFill>
          <a:blip r:embed="rId1"/>
          <a:srcRect l="0" t="0" r="886" b="0"/>
          <a:stretch/>
        </p:blipFill>
        <p:spPr>
          <a:xfrm>
            <a:off x="533520" y="457200"/>
            <a:ext cx="5486400" cy="4102200"/>
          </a:xfrm>
          <a:prstGeom prst="rect">
            <a:avLst/>
          </a:prstGeom>
          <a:ln w="0">
            <a:noFill/>
          </a:ln>
        </p:spPr>
      </p:pic>
      <p:pic>
        <p:nvPicPr>
          <p:cNvPr id="119" name="mizoguchi" descr=""/>
          <p:cNvPicPr/>
          <p:nvPr/>
        </p:nvPicPr>
        <p:blipFill>
          <a:blip r:embed="rId2"/>
          <a:srcRect l="1417" t="1890" r="1417" b="1890"/>
          <a:stretch/>
        </p:blipFill>
        <p:spPr>
          <a:xfrm>
            <a:off x="5084640" y="3789360"/>
            <a:ext cx="3775320" cy="280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48520" y="7621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asujiro Ozu ensaya una escena desde su altura favorita,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enji Mizoguchi dirige Ugetsu Monoga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5000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pe2" descr=""/>
          <p:cNvPicPr/>
          <p:nvPr/>
        </p:nvPicPr>
        <p:blipFill>
          <a:blip r:embed="rId1"/>
          <a:stretch/>
        </p:blipFill>
        <p:spPr>
          <a:xfrm>
            <a:off x="2057400" y="603360"/>
            <a:ext cx="6324480" cy="49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81080" y="55767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fred Hitchcock durante filmación de 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oderbergh2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125" name="soderbergh" descr=""/>
          <p:cNvPicPr/>
          <p:nvPr/>
        </p:nvPicPr>
        <p:blipFill>
          <a:blip r:embed="rId2"/>
          <a:stretch/>
        </p:blipFill>
        <p:spPr>
          <a:xfrm>
            <a:off x="2286000" y="3835440"/>
            <a:ext cx="2706840" cy="271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41911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mbién puede borrar las categorías. Steven Soderbergh produce, dirige, registra y monta él mismo las imágenes de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933480"/>
            <a:ext cx="262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puede reorganizar la división del trabajo de su equipo, de acuerdo a sus necesidades de producció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amsonSet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14600" y="304920"/>
            <a:ext cx="6369120" cy="51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692280"/>
            <a:ext cx="205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es la imagen mítica del director de Hollywood, con un enorme equipo que se subordina a sus órdenes, (pero se subordina al prod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54291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ecil De Mille dirigiendo Samson and Deli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rsenwells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57200"/>
            <a:ext cx="3335040" cy="449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4800" y="609480"/>
            <a:ext cx="4495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cos son los directores que logran asumir con el mismo éxito varias responsabilidades. Orson Welles escribe, produce, interpreta, dirige y monta sus fi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ommdev_kubrick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4137120"/>
            <a:ext cx="3504960" cy="23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53341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tanley Kubrick escribe, produce, dirige, edita y a veces fotogtafía sus film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19720" y="3123720"/>
            <a:ext cx="121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oris%20kaufman" descr=""/>
          <p:cNvPicPr/>
          <p:nvPr/>
        </p:nvPicPr>
        <p:blipFill>
          <a:blip r:embed="rId1"/>
          <a:stretch/>
        </p:blipFill>
        <p:spPr>
          <a:xfrm>
            <a:off x="4495680" y="2168640"/>
            <a:ext cx="4191120" cy="331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71600" y="492444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lmación de Cloveka s kinoapattom de Dziga Vert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los documentalistas, el equipo estuvo constituido por dos o tre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ta la mitad del siglo XX, la cámara era incapaz de registrar sonido sincr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a actualidad, el camarógrafo dispone de equipamie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jo, que también registra el sonido, y continúa siendo el centro del proceso de producción audiovisual (en el caso del documen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teady%20cam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876560" cy="384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82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, documentalista del régimen na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riumf3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3276720" y="12193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41148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221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de cine disfruta de grandes poderes durante la producción. También es el responsable de todo lo que hace y deja de hacer el resto del equip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d6d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umph_leni" descr=""/>
          <p:cNvPicPr/>
          <p:nvPr/>
        </p:nvPicPr>
        <p:blipFill>
          <a:blip r:embed="rId1"/>
          <a:stretch/>
        </p:blipFill>
        <p:spPr>
          <a:xfrm>
            <a:off x="5511960" y="3987720"/>
            <a:ext cx="2489040" cy="2489400"/>
          </a:xfrm>
          <a:prstGeom prst="rect">
            <a:avLst/>
          </a:prstGeom>
          <a:ln w="0">
            <a:noFill/>
          </a:ln>
        </p:spPr>
      </p:pic>
      <p:pic>
        <p:nvPicPr>
          <p:cNvPr id="58" name="triumf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550800"/>
            <a:ext cx="4648320" cy="345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137484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director se encuentra presente en todas las etapas del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254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quipo lo siguen sin cuestionar sus decisiones.  La obra elaborada por todos es considerada suy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6d6d6d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riumf%20des%20w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762120"/>
            <a:ext cx="4038840" cy="2976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40384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tal de realizar su obra, el director suele aceptar compromisos de los que luego se arrep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76212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ni Riefenstahl durante la filmación de Triunf des Willens, un documental de 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1120" y="533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nte la filmación y el montaje, el director tiene que tomar decisiones complejas, que afectan la suerte de su obra,  con escaso tiempo para medit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meras2" descr=""/>
          <p:cNvPicPr/>
          <p:nvPr/>
        </p:nvPicPr>
        <p:blipFill>
          <a:blip r:embed="rId1"/>
          <a:stretch/>
        </p:blipFill>
        <p:spPr>
          <a:xfrm>
            <a:off x="380880" y="1274760"/>
            <a:ext cx="367668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cameraman" descr=""/>
          <p:cNvPicPr/>
          <p:nvPr/>
        </p:nvPicPr>
        <p:blipFill>
          <a:blip r:embed="rId2"/>
          <a:stretch/>
        </p:blipFill>
        <p:spPr>
          <a:xfrm>
            <a:off x="4191120" y="3273480"/>
            <a:ext cx="4267080" cy="31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6d6d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veces, el director es también actor y debe turnarse detrás y delante de la cámara. Nanni Moretti en La Stanza del figli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retti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322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160" t="0" r="0" b="0"/>
          <a:stretch/>
        </p:blipFill>
        <p:spPr>
          <a:xfrm>
            <a:off x="4952880" y="3613320"/>
            <a:ext cx="3657600" cy="2811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3880" y="4495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harles Chaplin fue simultáneamente actor, productor, escritor, compositor mu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1:57:30Z</dcterms:created>
  <dc:creator>OSCAR1</dc:creator>
  <dc:description/>
  <dc:language>en-US</dc:language>
  <cp:lastModifiedBy>OSCAR1</cp:lastModifiedBy>
  <dcterms:modified xsi:type="dcterms:W3CDTF">2008-03-06T00:48:24Z</dcterms:modified>
  <cp:revision>248</cp:revision>
  <dc:subject/>
  <dc:title>Universidad de Chile Instituto de la Comunicación e Imagen Carrera de Cine y Televisión Taller Inicial 2007</dc:title>
</cp:coreProperties>
</file>