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9.jpeg" ContentType="image/jpeg"/>
  <Override PartName="/ppt/media/image35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8.jpeg" ContentType="image/jpeg"/>
  <Override PartName="/ppt/media/image39.jpeg" ContentType="image/jpeg"/>
  <Override PartName="/ppt/media/image41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2.jpeg" ContentType="image/jpeg"/>
  <Override PartName="/ppt/media/image34.png" ContentType="image/png"/>
  <Override PartName="/ppt/media/image13.jpeg" ContentType="image/jpeg"/>
  <Override PartName="/ppt/media/image40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26.jpeg" ContentType="image/jpeg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FE04-AF13-4B20-BBE9-76931F855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3C77-0F57-4A73-A89A-9B6FCB8DF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AB48-283C-4A44-829F-767A4213B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EB63-D666-481D-8C0C-F97EB0982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AE51-0889-42AA-A2A8-37AC9003F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DD13-F3D3-4422-BA77-6A4B80C24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017C-1320-46A3-B27A-37A805694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2EC3-7EF8-4F16-800C-37A954425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8FD7-D1C8-4C3E-BDEC-33241A0D6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859D-4D05-4D45-8917-E99028C65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42F0-F3E2-4E27-8D69-FB0AC17C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CFE3-47E3-424F-A270-4D02A2DD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6d6d6d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41177-3C44-4B0E-8514-A0E9131C34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4572000" y="4983120"/>
            <a:ext cx="2438280" cy="1722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>
            <a:lum bright="18000"/>
          </a:blip>
          <a:stretch/>
        </p:blipFill>
        <p:spPr>
          <a:xfrm>
            <a:off x="6826320" y="4305240"/>
            <a:ext cx="1784160" cy="21718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niversidad de Chil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stituto de la Comunicación e Imag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arrera de Cine y Televisió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aller Inicial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71600" y="2819520"/>
            <a:ext cx="6248520" cy="19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reatividad audiovisual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visión del trabajo en el equipo de pro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6d6d6d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ford" descr=""/>
          <p:cNvPicPr/>
          <p:nvPr/>
        </p:nvPicPr>
        <p:blipFill>
          <a:blip r:embed="rId1"/>
          <a:stretch/>
        </p:blipFill>
        <p:spPr>
          <a:xfrm>
            <a:off x="558720" y="1143000"/>
            <a:ext cx="5079960" cy="39751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80880" y="60948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s estilos de dire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19920" y="213372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John Cassavetes registrando él mismo uno de sus fil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518148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John Ford sentado, dando órdenes a un enorme equi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cassavetes2" descr=""/>
          <p:cNvPicPr/>
          <p:nvPr/>
        </p:nvPicPr>
        <p:blipFill>
          <a:blip r:embed="rId2"/>
          <a:srcRect l="0" t="0" r="0" b="22148"/>
          <a:stretch/>
        </p:blipFill>
        <p:spPr>
          <a:xfrm>
            <a:off x="5257800" y="3913200"/>
            <a:ext cx="2384280" cy="2716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6d6d"/>
            </a:gs>
            <a:gs pos="50000">
              <a:srgbClr val="b2b2b2"/>
            </a:gs>
            <a:gs pos="100000">
              <a:srgbClr val="6d6d6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Renoir_Le-fleuve-" descr=""/>
          <p:cNvPicPr/>
          <p:nvPr/>
        </p:nvPicPr>
        <p:blipFill>
          <a:blip r:embed="rId1"/>
          <a:stretch/>
        </p:blipFill>
        <p:spPr>
          <a:xfrm>
            <a:off x="533520" y="1479600"/>
            <a:ext cx="5486400" cy="40831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57200" y="56545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Jean Renoir dirige una escena de The River (195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248520" y="1295280"/>
            <a:ext cx="2361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rigir un filme exige coordinar el trabajo de un gran número de colaboradores de las más diversas especial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6d6d6d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chaplin2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3200400" y="685800"/>
            <a:ext cx="5105520" cy="38368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2590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 director sentado junto a la cámara y el camarógrafo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s una de las imágenes más difundidas del medio. Pero su trabajo no concluye en ese instant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24080" y="4800600"/>
            <a:ext cx="563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harles Chaplin en la filmación de The Golden Rush (192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6d6d"/>
            </a:gs>
            <a:gs pos="50000">
              <a:srgbClr val="b2b2b2"/>
            </a:gs>
            <a:gs pos="100000">
              <a:srgbClr val="6d6d6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ruffaut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5638680" cy="31906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50292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rectores y fotógrafos entablan duraderas relacione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0200" y="5410080"/>
            <a:ext cx="54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Néstor Almendros y François Truffaut en la  filmación de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L´enfant sauvage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(1970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6d6d6d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wilder2" descr=""/>
          <p:cNvPicPr/>
          <p:nvPr/>
        </p:nvPicPr>
        <p:blipFill>
          <a:blip r:embed="rId1"/>
          <a:stretch/>
        </p:blipFill>
        <p:spPr>
          <a:xfrm>
            <a:off x="4267080" y="762120"/>
            <a:ext cx="4011840" cy="42973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66640" y="609480"/>
            <a:ext cx="3548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 el momento del montaje, el director vuelve a tomar decisiones que le darán su forma definitiva a lo que está producien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57800" y="5029200"/>
            <a:ext cx="308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Billy Wilder montando uno de sus fil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vens1" descr=""/>
          <p:cNvPicPr/>
          <p:nvPr/>
        </p:nvPicPr>
        <p:blipFill>
          <a:blip r:embed="rId2"/>
          <a:stretch/>
        </p:blipFill>
        <p:spPr>
          <a:xfrm>
            <a:off x="914400" y="4122720"/>
            <a:ext cx="3809880" cy="2430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04920" y="3048120"/>
            <a:ext cx="331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Joris Ivens editando un documen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6d6d"/>
            </a:gs>
            <a:gs pos="100000">
              <a:srgbClr val="b2b2b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demille" descr=""/>
          <p:cNvPicPr/>
          <p:nvPr/>
        </p:nvPicPr>
        <p:blipFill>
          <a:blip r:embed="rId1">
            <a:grayscl/>
          </a:blip>
          <a:srcRect l="1036" t="1393" r="1036" b="1393"/>
          <a:stretch/>
        </p:blipFill>
        <p:spPr>
          <a:xfrm>
            <a:off x="762120" y="1854360"/>
            <a:ext cx="5651280" cy="41716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629040" y="1371600"/>
            <a:ext cx="205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s actores más famosos, dependen del director. Pero la situación puede verse desde otra perspectiva. ¿Qué sería del director sin los actor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11430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ecil B. De Mille dirige a Gary Co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6d6d6d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mohsen-makhmalbaf" descr=""/>
          <p:cNvPicPr/>
          <p:nvPr/>
        </p:nvPicPr>
        <p:blipFill>
          <a:blip r:embed="rId1"/>
          <a:stretch/>
        </p:blipFill>
        <p:spPr>
          <a:xfrm>
            <a:off x="2590920" y="596880"/>
            <a:ext cx="5790960" cy="41068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7920" y="4876560"/>
            <a:ext cx="632484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urante la producción, el director es el único autorizado para dar órdenes de manera ostensible al resto del equipo, pero se aprecia que no abuse de su poder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2409840"/>
            <a:ext cx="2057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Mohsen Makhmalfab, director de cine ira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6d6d6d"/>
            </a:gs>
            <a:gs pos="100000">
              <a:srgbClr val="b2b2b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deren" descr=""/>
          <p:cNvPicPr/>
          <p:nvPr/>
        </p:nvPicPr>
        <p:blipFill>
          <a:blip r:embed="rId1"/>
          <a:stretch/>
        </p:blipFill>
        <p:spPr>
          <a:xfrm>
            <a:off x="1333440" y="1143000"/>
            <a:ext cx="3086280" cy="3733920"/>
          </a:xfrm>
          <a:prstGeom prst="rect">
            <a:avLst/>
          </a:prstGeom>
          <a:ln w="0">
            <a:noFill/>
          </a:ln>
        </p:spPr>
      </p:pic>
      <p:pic>
        <p:nvPicPr>
          <p:cNvPr id="97" name="maya-deren" descr=""/>
          <p:cNvPicPr/>
          <p:nvPr/>
        </p:nvPicPr>
        <p:blipFill>
          <a:blip r:embed="rId2"/>
          <a:stretch/>
        </p:blipFill>
        <p:spPr>
          <a:xfrm>
            <a:off x="4114800" y="3733920"/>
            <a:ext cx="3581280" cy="2590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914400" y="518148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Maya Deren, cineasta de vanguardia norteameric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1640" y="457200"/>
            <a:ext cx="3809880" cy="29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 las producciones independientes, hechas con pocos recursos, el director suele encargarse del registro y mont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6d6d6d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visconti2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4952880" y="425520"/>
            <a:ext cx="3530880" cy="4680000"/>
          </a:xfrm>
          <a:prstGeom prst="rect">
            <a:avLst/>
          </a:prstGeom>
          <a:ln w="0">
            <a:noFill/>
          </a:ln>
        </p:spPr>
      </p:pic>
      <p:pic>
        <p:nvPicPr>
          <p:cNvPr id="101" name="sunset%20boulevard" descr=""/>
          <p:cNvPicPr/>
          <p:nvPr/>
        </p:nvPicPr>
        <p:blipFill>
          <a:blip r:embed="rId2"/>
          <a:stretch/>
        </p:blipFill>
        <p:spPr>
          <a:xfrm>
            <a:off x="304920" y="2975040"/>
            <a:ext cx="3786120" cy="28162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295280" y="304920"/>
            <a:ext cx="3326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 director suele ser solitario en medio de un  gran equipo que espera sus órdenes y se paraliza si él fal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5791320"/>
            <a:ext cx="378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Billy Wilder en la filmación de Sunset Boulev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624560" y="5060880"/>
            <a:ext cx="390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Luchino Visconti en la filmación de Gruppo di famiglia in interno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6d6d6d"/>
            </a:gs>
            <a:gs pos="100000">
              <a:srgbClr val="b2b2b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vertigo-13" descr=""/>
          <p:cNvPicPr/>
          <p:nvPr/>
        </p:nvPicPr>
        <p:blipFill>
          <a:blip r:embed="rId1"/>
          <a:stretch/>
        </p:blipFill>
        <p:spPr>
          <a:xfrm>
            <a:off x="3809880" y="533520"/>
            <a:ext cx="4800600" cy="34178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267080" y="413064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lfred Hichcock durante la filmación de Verti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3276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urante la filmación, el director puede entablar una relación de control sobre los act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lasirfilmacion" descr=""/>
          <p:cNvPicPr/>
          <p:nvPr/>
        </p:nvPicPr>
        <p:blipFill>
          <a:blip r:embed="rId2"/>
          <a:stretch/>
        </p:blipFill>
        <p:spPr>
          <a:xfrm>
            <a:off x="677880" y="2514600"/>
            <a:ext cx="3360600" cy="3581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47560" y="6095880"/>
            <a:ext cx="50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Max Ophüls dirigiendo La Ron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2895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urante los primeros diez años del cine, desde 1895 a 1905, el productor y el camarógrafo eran los principales responsables del proceso de producción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tech_camerman2" descr=""/>
          <p:cNvPicPr/>
          <p:nvPr/>
        </p:nvPicPr>
        <p:blipFill>
          <a:blip r:embed="rId2"/>
          <a:stretch/>
        </p:blipFill>
        <p:spPr>
          <a:xfrm>
            <a:off x="3809880" y="533520"/>
            <a:ext cx="3517920" cy="42415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809880" y="5105520"/>
            <a:ext cx="487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Ni el director, ni los actores, ni el montajista, ni el sonidista, ni el encargado de continuidad existí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6d6d6d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ivan_1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5749920" cy="4533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324480" y="1143000"/>
            <a:ext cx="2438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erguei Eisenstein muestra uno de sus bocetos de vestuario al compositor Serguei Prokof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eisenstein%20apuntes" descr=""/>
          <p:cNvPicPr/>
          <p:nvPr/>
        </p:nvPicPr>
        <p:blipFill>
          <a:blip r:embed="rId2"/>
          <a:stretch/>
        </p:blipFill>
        <p:spPr>
          <a:xfrm>
            <a:off x="685800" y="3679920"/>
            <a:ext cx="2440080" cy="30258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125880" y="5638680"/>
            <a:ext cx="540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puntes de filmación de Eisens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6d6d"/>
            </a:gs>
            <a:gs pos="100000">
              <a:srgbClr val="b2b2b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181480" y="685800"/>
            <a:ext cx="3353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Hay cineastas que improvisan con un gran equipo, como hizo  Chaplin durante sus primeros años de activ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28800" y="4495680"/>
            <a:ext cx="2666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Hay otros que trabajan solos, como Norman MacLaren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chaplin%20filmando2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4508280" cy="3421080"/>
          </a:xfrm>
          <a:prstGeom prst="rect">
            <a:avLst/>
          </a:prstGeom>
          <a:ln w="0">
            <a:noFill/>
          </a:ln>
        </p:spPr>
      </p:pic>
      <p:pic>
        <p:nvPicPr>
          <p:cNvPr id="117" name="mclaren" descr=""/>
          <p:cNvPicPr/>
          <p:nvPr/>
        </p:nvPicPr>
        <p:blipFill>
          <a:blip r:embed="rId2"/>
          <a:stretch/>
        </p:blipFill>
        <p:spPr>
          <a:xfrm>
            <a:off x="4800600" y="3505320"/>
            <a:ext cx="3581280" cy="2855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3131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ozu" descr=""/>
          <p:cNvPicPr/>
          <p:nvPr/>
        </p:nvPicPr>
        <p:blipFill>
          <a:blip r:embed="rId1"/>
          <a:srcRect l="0" t="0" r="886" b="0"/>
          <a:stretch/>
        </p:blipFill>
        <p:spPr>
          <a:xfrm>
            <a:off x="533520" y="457200"/>
            <a:ext cx="5486400" cy="4102200"/>
          </a:xfrm>
          <a:prstGeom prst="rect">
            <a:avLst/>
          </a:prstGeom>
          <a:ln w="0">
            <a:noFill/>
          </a:ln>
        </p:spPr>
      </p:pic>
      <p:pic>
        <p:nvPicPr>
          <p:cNvPr id="119" name="mizoguchi" descr=""/>
          <p:cNvPicPr/>
          <p:nvPr/>
        </p:nvPicPr>
        <p:blipFill>
          <a:blip r:embed="rId2"/>
          <a:srcRect l="1417" t="1890" r="1417" b="1890"/>
          <a:stretch/>
        </p:blipFill>
        <p:spPr>
          <a:xfrm>
            <a:off x="5084640" y="3789360"/>
            <a:ext cx="3775320" cy="28036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248520" y="762120"/>
            <a:ext cx="1828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Yasujiro Ozu ensaya una escena desde su altura favorita, en el 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90720" y="518148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Kenji Mizoguchi dirige Ugetsu Monogata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6d6d"/>
            </a:gs>
            <a:gs pos="50000">
              <a:srgbClr val="b2b2b2"/>
            </a:gs>
            <a:gs pos="100000">
              <a:srgbClr val="6d6d6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rope2" descr=""/>
          <p:cNvPicPr/>
          <p:nvPr/>
        </p:nvPicPr>
        <p:blipFill>
          <a:blip r:embed="rId1"/>
          <a:stretch/>
        </p:blipFill>
        <p:spPr>
          <a:xfrm>
            <a:off x="2057400" y="603360"/>
            <a:ext cx="6324480" cy="49543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981080" y="557676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Alfred Hitchcock durante filmación de R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6d6d6d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soderbergh2" descr=""/>
          <p:cNvPicPr/>
          <p:nvPr/>
        </p:nvPicPr>
        <p:blipFill>
          <a:blip r:embed="rId1"/>
          <a:stretch/>
        </p:blipFill>
        <p:spPr>
          <a:xfrm>
            <a:off x="3124080" y="380880"/>
            <a:ext cx="5562720" cy="3708360"/>
          </a:xfrm>
          <a:prstGeom prst="rect">
            <a:avLst/>
          </a:prstGeom>
          <a:ln w="0">
            <a:noFill/>
          </a:ln>
        </p:spPr>
      </p:pic>
      <p:pic>
        <p:nvPicPr>
          <p:cNvPr id="125" name="soderbergh" descr=""/>
          <p:cNvPicPr/>
          <p:nvPr/>
        </p:nvPicPr>
        <p:blipFill>
          <a:blip r:embed="rId2"/>
          <a:stretch/>
        </p:blipFill>
        <p:spPr>
          <a:xfrm>
            <a:off x="2286000" y="3835440"/>
            <a:ext cx="2706840" cy="2717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105520" y="4191120"/>
            <a:ext cx="327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También puede borrar las categorías. Steven Soderbergh produce, dirige, registra y monta él mismo las imágenes de sus fil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72880" y="933480"/>
            <a:ext cx="2622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 director puede reorganizar la división del trabajo de su equipo, de acuerdo a sus necesidades de producción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6d6d"/>
            </a:gs>
            <a:gs pos="100000">
              <a:srgbClr val="b2b2b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SamsonSet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514600" y="304920"/>
            <a:ext cx="6369120" cy="51242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28600" y="692280"/>
            <a:ext cx="2057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sta es la imagen mítica del director de Hollywood, con un enorme equipo que se subordina a sus órdenes, (pero se subordina al produc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14600" y="542916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ecil De Mille dirigiendo Samson and Delila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6d6d"/>
            </a:gs>
            <a:gs pos="100000">
              <a:srgbClr val="b2b2b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orsenwells4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533520" y="457200"/>
            <a:ext cx="3335040" cy="44942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114800" y="609480"/>
            <a:ext cx="449568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ocos son los directores que logran asumir con el mismo éxito varias responsabilidades. Orson Welles escribe, produce, interpreta, dirige y monta sus fil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commdev_kubrick3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5105520" y="4137120"/>
            <a:ext cx="3504960" cy="2340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33520" y="533412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tanley Kubrick escribe, produce, dirige, edita y a veces fotogtafía sus filmes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6d6d6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419720" y="3123720"/>
            <a:ext cx="1218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6d6d6d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boris%20kaufman" descr=""/>
          <p:cNvPicPr/>
          <p:nvPr/>
        </p:nvPicPr>
        <p:blipFill>
          <a:blip r:embed="rId1"/>
          <a:stretch/>
        </p:blipFill>
        <p:spPr>
          <a:xfrm>
            <a:off x="4495680" y="2168640"/>
            <a:ext cx="4191120" cy="3314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371600" y="4924440"/>
            <a:ext cx="281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Filmación de Cloveka s kinoapattom de Dziga Verto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609480"/>
            <a:ext cx="350532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a los documentalistas, el equipo estuvo constituido por dos o tres person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sta la mitad del siglo XX, la cámara era incapaz de registrar sonido sincrón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6d6d6d"/>
            </a:gs>
            <a:gs pos="100000">
              <a:srgbClr val="b2b2b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14640" y="990720"/>
            <a:ext cx="2438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 la actualidad, el camarógrafo dispone de equipamiento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lejo, que también registra el sonido, y continúa siendo el centro del proceso de producción audiovisual (en el caso del documental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steady%20cam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4876560" cy="3841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6d6d6d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09320" y="609480"/>
            <a:ext cx="67820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Leni Riefenstahl, documentalista del régimen naz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triumf3" descr=""/>
          <p:cNvPicPr/>
          <p:nvPr/>
        </p:nvPicPr>
        <p:blipFill>
          <a:blip r:embed="rId1">
            <a:grayscl/>
            <a:lum contrast="6000"/>
          </a:blip>
          <a:stretch/>
        </p:blipFill>
        <p:spPr>
          <a:xfrm>
            <a:off x="3276720" y="1219320"/>
            <a:ext cx="5410080" cy="40384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715000" y="4114800"/>
            <a:ext cx="3048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1752480"/>
            <a:ext cx="2210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 director de cine disfruta de grandes poderes durante la producción. También es el responsable de todo lo que hace y deja de hacer el resto del equipo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6d6d6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triumph_leni" descr=""/>
          <p:cNvPicPr/>
          <p:nvPr/>
        </p:nvPicPr>
        <p:blipFill>
          <a:blip r:embed="rId1"/>
          <a:stretch/>
        </p:blipFill>
        <p:spPr>
          <a:xfrm>
            <a:off x="5511960" y="3987720"/>
            <a:ext cx="2489040" cy="2489400"/>
          </a:xfrm>
          <a:prstGeom prst="rect">
            <a:avLst/>
          </a:prstGeom>
          <a:ln w="0">
            <a:noFill/>
          </a:ln>
        </p:spPr>
      </p:pic>
      <p:pic>
        <p:nvPicPr>
          <p:cNvPr id="58" name="triumf2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609480" y="550800"/>
            <a:ext cx="4648320" cy="3451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410080" y="1374840"/>
            <a:ext cx="2438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 director se encuentra presente en todas las etapas del proceso de produ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0" y="4254480"/>
            <a:ext cx="3048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 equipo lo siguen sin cuestionar sus decisiones.  La obra elaborada por todos es considerada suy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6d6d6d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triumf%20des%20w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752480" y="762120"/>
            <a:ext cx="4038840" cy="2976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752480" y="4038480"/>
            <a:ext cx="4038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 tal de realizar su obra, el director suele aceptar compromisos de los que luego se arrep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5880" y="762120"/>
            <a:ext cx="2590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Leni Riefenstahl durante la filmación de Triunf des Willens, un documental de propag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6d6d"/>
            </a:gs>
            <a:gs pos="100000">
              <a:srgbClr val="b2b2b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191120" y="533520"/>
            <a:ext cx="426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urante la filmación y el montaje, el director tiene que tomar decisiones complejas, que afectan la suerte de su obra,  con escaso tiempo para meditarl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Cameras2" descr=""/>
          <p:cNvPicPr/>
          <p:nvPr/>
        </p:nvPicPr>
        <p:blipFill>
          <a:blip r:embed="rId1"/>
          <a:stretch/>
        </p:blipFill>
        <p:spPr>
          <a:xfrm>
            <a:off x="380880" y="1274760"/>
            <a:ext cx="3676680" cy="3552840"/>
          </a:xfrm>
          <a:prstGeom prst="rect">
            <a:avLst/>
          </a:prstGeom>
          <a:ln w="0">
            <a:noFill/>
          </a:ln>
        </p:spPr>
      </p:pic>
      <p:pic>
        <p:nvPicPr>
          <p:cNvPr id="66" name="cameraman" descr=""/>
          <p:cNvPicPr/>
          <p:nvPr/>
        </p:nvPicPr>
        <p:blipFill>
          <a:blip r:embed="rId2"/>
          <a:stretch/>
        </p:blipFill>
        <p:spPr>
          <a:xfrm>
            <a:off x="4191120" y="3273480"/>
            <a:ext cx="4267080" cy="3160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6d6d"/>
            </a:gs>
            <a:gs pos="100000">
              <a:srgbClr val="b2b2b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572000" y="533520"/>
            <a:ext cx="3886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 veces, el director es también actor y debe turnarse detrás y delante de la cámara. Nanni Moretti en La Stanza del figlio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Moretti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3657600" cy="32274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rcRect l="2160" t="0" r="0" b="0"/>
          <a:stretch/>
        </p:blipFill>
        <p:spPr>
          <a:xfrm>
            <a:off x="4952880" y="3613320"/>
            <a:ext cx="3657600" cy="28112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523880" y="4495680"/>
            <a:ext cx="304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harles Chaplin fue simultáneamente actor, productor, escritor, compositor musi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30T11:57:30Z</dcterms:created>
  <dc:creator>OSCAR1</dc:creator>
  <dc:description/>
  <dc:language>en-US</dc:language>
  <cp:lastModifiedBy>OSCAR1</cp:lastModifiedBy>
  <dcterms:modified xsi:type="dcterms:W3CDTF">2008-03-06T00:48:24Z</dcterms:modified>
  <cp:revision>248</cp:revision>
  <dc:subject/>
  <dc:title>Universidad de Chile Instituto de la Comunicación e Imagen Carrera de Cine y Televisión Taller Inicial 2007</dc:title>
</cp:coreProperties>
</file>