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D3E-3ACB-42B1-B52F-09107C9B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DE5-3E75-43F7-BF5D-F1FC08B9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8C4-9B04-4A34-9F96-07A881EB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96E-35FC-4957-B17C-8E593FE0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067-8266-42A5-AF52-563944D9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230-38D6-4277-A05B-D331D2C8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948-4D6C-43EC-BC69-8B3BE378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F16-96AF-4D04-B19B-CAB8E5B5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DBD-C93E-4433-9747-1516969E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7FB-09F8-402D-BE46-5403B599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5F2-3544-4922-871E-42C701B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F89-CC91-43E0-8E77-DE8EDC54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8FF9-27FE-40AB-8D10-609F73DBBAA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76360" y="404640"/>
            <a:ext cx="56880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eficiente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071720" y="2000160"/>
            <a:ext cx="198576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Bal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348000" y="1989000"/>
            <a:ext cx="2374920" cy="45972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ff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000840" y="2000160"/>
            <a:ext cx="2143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1763280" y="1125360"/>
            <a:ext cx="259236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4500720" y="1125360"/>
            <a:ext cx="0" cy="8654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4643280" y="1125360"/>
            <a:ext cx="288000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14200" y="3214800"/>
            <a:ext cx="17859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Endeu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908000" y="5516640"/>
            <a:ext cx="1800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Oper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356000" y="5516640"/>
            <a:ext cx="1800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Rent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6715080" y="5500800"/>
            <a:ext cx="1800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7596360" y="3500280"/>
            <a:ext cx="136836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Económico-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928800" y="4500720"/>
            <a:ext cx="143964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Liqu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9"/>
          <p:cNvSpPr/>
          <p:nvPr/>
        </p:nvSpPr>
        <p:spPr>
          <a:xfrm>
            <a:off x="2143080" y="2500200"/>
            <a:ext cx="5958000" cy="9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>
            <a:off x="2143080" y="2500200"/>
            <a:ext cx="3149640" cy="294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"/>
          <p:cNvSpPr/>
          <p:nvPr/>
        </p:nvSpPr>
        <p:spPr>
          <a:xfrm>
            <a:off x="2214720" y="2571840"/>
            <a:ext cx="628560" cy="287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1809720" y="2428920"/>
            <a:ext cx="333360" cy="214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 flipH="1">
            <a:off x="1213920" y="2500200"/>
            <a:ext cx="100044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2143080" y="2500200"/>
            <a:ext cx="5500800" cy="300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5"/>
          <p:cNvSpPr/>
          <p:nvPr/>
        </p:nvSpPr>
        <p:spPr>
          <a:xfrm>
            <a:off x="4500720" y="2500200"/>
            <a:ext cx="3600360" cy="1001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6"/>
          <p:cNvSpPr/>
          <p:nvPr/>
        </p:nvSpPr>
        <p:spPr>
          <a:xfrm>
            <a:off x="4500720" y="2428920"/>
            <a:ext cx="3143160" cy="3071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7"/>
          <p:cNvSpPr/>
          <p:nvPr/>
        </p:nvSpPr>
        <p:spPr>
          <a:xfrm>
            <a:off x="4572000" y="2500200"/>
            <a:ext cx="720720" cy="3017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8"/>
          <p:cNvSpPr/>
          <p:nvPr/>
        </p:nvSpPr>
        <p:spPr>
          <a:xfrm flipH="1">
            <a:off x="2916000" y="2500200"/>
            <a:ext cx="1584360" cy="29466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 flipH="1">
            <a:off x="1714320" y="2428920"/>
            <a:ext cx="2857320" cy="2071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 flipH="1">
            <a:off x="1142640" y="2500200"/>
            <a:ext cx="3357720" cy="7146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1"/>
          <p:cNvSpPr/>
          <p:nvPr/>
        </p:nvSpPr>
        <p:spPr>
          <a:xfrm>
            <a:off x="7072200" y="2428920"/>
            <a:ext cx="478080" cy="3079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2"/>
          <p:cNvSpPr/>
          <p:nvPr/>
        </p:nvSpPr>
        <p:spPr>
          <a:xfrm>
            <a:off x="7000920" y="2428920"/>
            <a:ext cx="1098360" cy="9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333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 de Endeud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ican el apalancamiento o leverage de un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0" y="1628640"/>
            <a:ext cx="9144000" cy="138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sivo No Corr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eficiente de Endeudamiento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sivo No Corriente + Patrimo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4572000" y="2214720"/>
            <a:ext cx="374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3357720"/>
            <a:ext cx="914400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de Intereses          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Íteme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0" y="5143680"/>
            <a:ext cx="914400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BIT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 Líquida de Intereses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ter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4857840" y="3857760"/>
            <a:ext cx="264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5000760" y="564372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de Liquide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ican si hay suficiente efectivo para cubrir los pasivos corr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1"/>
          <p:cNvGrpSpPr/>
          <p:nvPr/>
        </p:nvGrpSpPr>
        <p:grpSpPr>
          <a:xfrm>
            <a:off x="0" y="1500120"/>
            <a:ext cx="9144000" cy="1008720"/>
            <a:chOff x="0" y="1500120"/>
            <a:chExt cx="9144000" cy="1008720"/>
          </a:xfrm>
        </p:grpSpPr>
        <p:sp>
          <p:nvSpPr>
            <p:cNvPr id="81" name="Text Box 8"/>
            <p:cNvSpPr/>
            <p:nvPr/>
          </p:nvSpPr>
          <p:spPr>
            <a:xfrm>
              <a:off x="0" y="1500120"/>
              <a:ext cx="914400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5826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Activos Corri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5826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Coeficiente Liquidez Corriente    =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5826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Pasivos Corri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9"/>
            <p:cNvSpPr/>
            <p:nvPr/>
          </p:nvSpPr>
          <p:spPr>
            <a:xfrm>
              <a:off x="5357880" y="2000160"/>
              <a:ext cx="29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"/>
          <p:cNvGrpSpPr/>
          <p:nvPr/>
        </p:nvGrpSpPr>
        <p:grpSpPr>
          <a:xfrm>
            <a:off x="0" y="3071880"/>
            <a:ext cx="9144000" cy="1313640"/>
            <a:chOff x="0" y="3071880"/>
            <a:chExt cx="9144000" cy="1313640"/>
          </a:xfrm>
        </p:grpSpPr>
        <p:sp>
          <p:nvSpPr>
            <p:cNvPr id="84" name="Text Box 5"/>
            <p:cNvSpPr/>
            <p:nvPr/>
          </p:nvSpPr>
          <p:spPr>
            <a:xfrm>
              <a:off x="0" y="3071880"/>
              <a:ext cx="9144000" cy="131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95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Activos Corrientes - Exist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95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Prueba Ácida           =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95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Pasivos Corri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>
              <a:off x="4500720" y="3571920"/>
              <a:ext cx="381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0" y="5000760"/>
            <a:ext cx="9144000" cy="1008720"/>
            <a:chOff x="0" y="5000760"/>
            <a:chExt cx="9144000" cy="1008720"/>
          </a:xfrm>
        </p:grpSpPr>
        <p:sp>
          <p:nvSpPr>
            <p:cNvPr id="87" name="Text Box 9"/>
            <p:cNvSpPr/>
            <p:nvPr/>
          </p:nvSpPr>
          <p:spPr>
            <a:xfrm>
              <a:off x="0" y="5000760"/>
              <a:ext cx="914400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520"/>
                  <a:tab algn="l" pos="712800"/>
                  <a:tab algn="l" pos="4484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Activos Corrientes - Exist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520"/>
                  <a:tab algn="l" pos="712800"/>
                  <a:tab algn="l" pos="4484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Cobertura  Gastos de Explotación =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520"/>
                  <a:tab algn="l" pos="712800"/>
                  <a:tab algn="l" pos="4484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edia Diaria Gastos Operacion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"/>
            <p:cNvSpPr/>
            <p:nvPr/>
          </p:nvSpPr>
          <p:spPr>
            <a:xfrm>
              <a:off x="4500720" y="5500800"/>
              <a:ext cx="43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333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Opera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ican la intensidad de uso del capital en la empr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16286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greso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otación de Activ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otal Ac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4357800" y="2143080"/>
            <a:ext cx="307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321480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sto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otación de Existencias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50720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eríodo Medio de Cobro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omedio Diari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429080" y="3714840"/>
            <a:ext cx="30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500720" y="5572080"/>
            <a:ext cx="307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2142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de Renta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iden de diferentes modos la rentabilidad de la empr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143680" y="2214720"/>
            <a:ext cx="29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5214960" y="478620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3933720"/>
            <a:ext cx="914400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OE (Rentabilidad sobre el Patrimonio)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1428840"/>
            <a:ext cx="914400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OA (Rentabilidad sobre los Activos)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otal Ac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de Mer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ican relaciones de valor  económico entre  empresa y merc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27860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cio de un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elación Precio/Utilidad (RPU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Utilidad por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929120" y="60721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0" y="41432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ividendo por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entabilidad por Dividendo        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cio de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5000760" y="4714920"/>
            <a:ext cx="31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0" y="14288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esultado del Ejerc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Utilidad por Acción (UPA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úmero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5143680" y="200016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072040" y="328608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0" y="557208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cio de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Valor de Mercado a Valor Libro  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Valor de Libro de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Económico-Financie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presentan la creación de valor durante el ejercic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2143080"/>
            <a:ext cx="9144000" cy="149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lor de Mercado Agreg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VA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 Valor de Mercado de la Empresa - 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0" y="4214880"/>
            <a:ext cx="9144000" cy="149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lor Económico Agreg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VA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 EBIT*(1-T) – Costo Capital * Activos Oper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9:35:48Z</dcterms:created>
  <dc:creator>Cristobal Videla</dc:creator>
  <dc:description/>
  <dc:language>en-US</dc:language>
  <cp:lastModifiedBy>c</cp:lastModifiedBy>
  <dcterms:modified xsi:type="dcterms:W3CDTF">2012-10-11T14:50:31Z</dcterms:modified>
  <cp:revision>19</cp:revision>
  <dc:subject/>
  <dc:title>Diapositiva 1</dc:title>
</cp:coreProperties>
</file>