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5915-4A5F-4D8B-B201-8C4A40CA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7B09-D102-470C-8448-6EEBDE54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15C4-CF93-4CD8-886F-A5664651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D7A1-094C-4A7A-AAE1-C1649327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E2C3-4D67-4A91-96C0-AD24D397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3BDC-8797-4473-8287-0E3B8E19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983F-09DE-4731-8B92-3AFDF402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76FA-6C1C-4A4C-BB39-76C32091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3173-20F2-4E94-80DB-0004E52C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EBA7-1D79-4374-BE55-5B0002E8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CCA6-CB9B-4C8F-955F-DEDC3EBC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9818-725E-420E-A9AD-72771628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1843-E58C-48A6-9372-5F4D574779D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476360" y="404640"/>
            <a:ext cx="568800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Times New Roman"/>
              </a:rPr>
              <a:t>Coeficientes Financi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071720" y="2000160"/>
            <a:ext cx="1985760" cy="45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Bal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348000" y="1989000"/>
            <a:ext cx="2374920" cy="459720"/>
          </a:xfrm>
          <a:prstGeom prst="rect">
            <a:avLst/>
          </a:prstGeom>
          <a:noFill/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ff"/>
                </a:solidFill>
                <a:latin typeface="Times New Roman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6000840" y="2000160"/>
            <a:ext cx="21430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 flipH="1">
            <a:off x="1763280" y="1125360"/>
            <a:ext cx="259236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4500720" y="1125360"/>
            <a:ext cx="0" cy="8654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1"/>
          <p:cNvSpPr/>
          <p:nvPr/>
        </p:nvSpPr>
        <p:spPr>
          <a:xfrm>
            <a:off x="4643280" y="1125360"/>
            <a:ext cx="2880000" cy="79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14200" y="3214800"/>
            <a:ext cx="178596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eficientes Endeud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1908000" y="5516640"/>
            <a:ext cx="180036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eficientes Oper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4356000" y="5516640"/>
            <a:ext cx="180036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eficientes Rent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6715080" y="5500800"/>
            <a:ext cx="180036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eficientes Merc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7596360" y="3500280"/>
            <a:ext cx="136836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eficientes Económico-Financi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928800" y="4500720"/>
            <a:ext cx="143964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eficientes Liqui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9"/>
          <p:cNvSpPr/>
          <p:nvPr/>
        </p:nvSpPr>
        <p:spPr>
          <a:xfrm>
            <a:off x="2143080" y="2500200"/>
            <a:ext cx="5958000" cy="928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0"/>
          <p:cNvSpPr/>
          <p:nvPr/>
        </p:nvSpPr>
        <p:spPr>
          <a:xfrm>
            <a:off x="2143080" y="2500200"/>
            <a:ext cx="3149640" cy="2944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1"/>
          <p:cNvSpPr/>
          <p:nvPr/>
        </p:nvSpPr>
        <p:spPr>
          <a:xfrm>
            <a:off x="2214720" y="2571840"/>
            <a:ext cx="628560" cy="2873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2"/>
          <p:cNvSpPr/>
          <p:nvPr/>
        </p:nvSpPr>
        <p:spPr>
          <a:xfrm flipH="1">
            <a:off x="1809720" y="2428920"/>
            <a:ext cx="333360" cy="2143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3"/>
          <p:cNvSpPr/>
          <p:nvPr/>
        </p:nvSpPr>
        <p:spPr>
          <a:xfrm flipH="1">
            <a:off x="1213920" y="2500200"/>
            <a:ext cx="1000440" cy="714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4"/>
          <p:cNvSpPr/>
          <p:nvPr/>
        </p:nvSpPr>
        <p:spPr>
          <a:xfrm>
            <a:off x="2143080" y="2500200"/>
            <a:ext cx="5500800" cy="3000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5"/>
          <p:cNvSpPr/>
          <p:nvPr/>
        </p:nvSpPr>
        <p:spPr>
          <a:xfrm>
            <a:off x="4500720" y="2500200"/>
            <a:ext cx="3600360" cy="10018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6"/>
          <p:cNvSpPr/>
          <p:nvPr/>
        </p:nvSpPr>
        <p:spPr>
          <a:xfrm>
            <a:off x="4500720" y="2428920"/>
            <a:ext cx="3143160" cy="30718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7"/>
          <p:cNvSpPr/>
          <p:nvPr/>
        </p:nvSpPr>
        <p:spPr>
          <a:xfrm>
            <a:off x="4572000" y="2500200"/>
            <a:ext cx="720720" cy="30178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8"/>
          <p:cNvSpPr/>
          <p:nvPr/>
        </p:nvSpPr>
        <p:spPr>
          <a:xfrm flipH="1">
            <a:off x="2916000" y="2500200"/>
            <a:ext cx="1584360" cy="29466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9"/>
          <p:cNvSpPr/>
          <p:nvPr/>
        </p:nvSpPr>
        <p:spPr>
          <a:xfrm flipH="1">
            <a:off x="1714320" y="2428920"/>
            <a:ext cx="2857320" cy="20718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0"/>
          <p:cNvSpPr/>
          <p:nvPr/>
        </p:nvSpPr>
        <p:spPr>
          <a:xfrm flipH="1">
            <a:off x="1142640" y="2500200"/>
            <a:ext cx="3357720" cy="7146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1"/>
          <p:cNvSpPr/>
          <p:nvPr/>
        </p:nvSpPr>
        <p:spPr>
          <a:xfrm>
            <a:off x="7072200" y="2428920"/>
            <a:ext cx="478080" cy="3079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2"/>
          <p:cNvSpPr/>
          <p:nvPr/>
        </p:nvSpPr>
        <p:spPr>
          <a:xfrm>
            <a:off x="7000920" y="2428920"/>
            <a:ext cx="1098360" cy="9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0" y="33336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8252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eficientes  de Endeudami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52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dican el apalancamiento o leverage de una empre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0" y="1700280"/>
            <a:ext cx="845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0" y="1628640"/>
            <a:ext cx="9144000" cy="1389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9676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asivo No Corr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Coeficiente de Endeudamiento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9676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asivo No Corriente + Patrimo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9676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4572000" y="2214720"/>
            <a:ext cx="374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0" y="3357720"/>
            <a:ext cx="9144000" cy="131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520"/>
                <a:tab algn="l" pos="630360"/>
                <a:tab algn="l" pos="3767040"/>
                <a:tab algn="l" pos="4479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630360"/>
                <a:tab algn="l" pos="3767040"/>
                <a:tab algn="l" pos="4479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Cobertura de Intereses               =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630360"/>
                <a:tab algn="l" pos="3767040"/>
                <a:tab algn="l" pos="4479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Ítemes Financi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630360"/>
                <a:tab algn="l" pos="3767040"/>
                <a:tab algn="l" pos="4479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0" y="5143680"/>
            <a:ext cx="9144000" cy="131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520"/>
                <a:tab algn="l" pos="71280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BIT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Cobertura  Líquida de Intereses    =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Intere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4857840" y="3857760"/>
            <a:ext cx="2643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5000760" y="5643720"/>
            <a:ext cx="172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0" y="33336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eficientes de Liquidez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dican si hay suficiente efectivo para cubrir los pasivos corrien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11"/>
          <p:cNvGrpSpPr/>
          <p:nvPr/>
        </p:nvGrpSpPr>
        <p:grpSpPr>
          <a:xfrm>
            <a:off x="0" y="1500120"/>
            <a:ext cx="9144000" cy="1008720"/>
            <a:chOff x="0" y="1500120"/>
            <a:chExt cx="9144000" cy="1008720"/>
          </a:xfrm>
        </p:grpSpPr>
        <p:sp>
          <p:nvSpPr>
            <p:cNvPr id="81" name="Text Box 8"/>
            <p:cNvSpPr/>
            <p:nvPr/>
          </p:nvSpPr>
          <p:spPr>
            <a:xfrm>
              <a:off x="0" y="1500120"/>
              <a:ext cx="9144000" cy="1008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6760"/>
                  <a:tab algn="l" pos="5826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Activos Corrien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96760"/>
                  <a:tab algn="l" pos="5826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Coeficiente Liquidez Corriente    =  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96760"/>
                  <a:tab algn="l" pos="5826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Pasivos Corrien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9"/>
            <p:cNvSpPr/>
            <p:nvPr/>
          </p:nvSpPr>
          <p:spPr>
            <a:xfrm>
              <a:off x="5357880" y="2000160"/>
              <a:ext cx="295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1"/>
          <p:cNvGrpSpPr/>
          <p:nvPr/>
        </p:nvGrpSpPr>
        <p:grpSpPr>
          <a:xfrm>
            <a:off x="0" y="3071880"/>
            <a:ext cx="9144000" cy="1313640"/>
            <a:chOff x="0" y="3071880"/>
            <a:chExt cx="9144000" cy="1313640"/>
          </a:xfrm>
        </p:grpSpPr>
        <p:sp>
          <p:nvSpPr>
            <p:cNvPr id="84" name="Text Box 5"/>
            <p:cNvSpPr/>
            <p:nvPr/>
          </p:nvSpPr>
          <p:spPr>
            <a:xfrm>
              <a:off x="0" y="3071880"/>
              <a:ext cx="9144000" cy="1313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959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Activos Corrientes - Existenci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3959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Prueba Ácida           =  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3959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Pasivos Corrien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6"/>
            <p:cNvSpPr/>
            <p:nvPr/>
          </p:nvSpPr>
          <p:spPr>
            <a:xfrm>
              <a:off x="4500720" y="3571920"/>
              <a:ext cx="3817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12"/>
          <p:cNvGrpSpPr/>
          <p:nvPr/>
        </p:nvGrpSpPr>
        <p:grpSpPr>
          <a:xfrm>
            <a:off x="0" y="5000760"/>
            <a:ext cx="9144000" cy="1008720"/>
            <a:chOff x="0" y="5000760"/>
            <a:chExt cx="9144000" cy="1008720"/>
          </a:xfrm>
        </p:grpSpPr>
        <p:sp>
          <p:nvSpPr>
            <p:cNvPr id="87" name="Text Box 9"/>
            <p:cNvSpPr/>
            <p:nvPr/>
          </p:nvSpPr>
          <p:spPr>
            <a:xfrm>
              <a:off x="0" y="5000760"/>
              <a:ext cx="9144000" cy="1008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2520"/>
                  <a:tab algn="l" pos="712800"/>
                  <a:tab algn="l" pos="44845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Activos Corrientes - Existenci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520"/>
                  <a:tab algn="l" pos="712800"/>
                  <a:tab algn="l" pos="44845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Cobertura  Gastos de Explotación =  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520"/>
                  <a:tab algn="l" pos="712800"/>
                  <a:tab algn="l" pos="44845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Media Diaria Gastos Operaciona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0"/>
            <p:cNvSpPr/>
            <p:nvPr/>
          </p:nvSpPr>
          <p:spPr>
            <a:xfrm>
              <a:off x="4500720" y="5500800"/>
              <a:ext cx="431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0" y="33336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8252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eficientes Operacion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52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dican la intensidad de uso del capital en la empre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0" y="1700280"/>
            <a:ext cx="845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0" y="1628640"/>
            <a:ext cx="9144000" cy="100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676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Ingresos Oper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Rotación de Activo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Total Activ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>
            <a:off x="4357800" y="2143080"/>
            <a:ext cx="3071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0" y="3214800"/>
            <a:ext cx="9144000" cy="100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520"/>
                <a:tab algn="l" pos="630360"/>
                <a:tab algn="l" pos="3767040"/>
                <a:tab algn="l" pos="4479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Gastos Oper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630360"/>
                <a:tab algn="l" pos="3767040"/>
                <a:tab algn="l" pos="4479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Rotación de Existencias    =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630360"/>
                <a:tab algn="l" pos="3767040"/>
                <a:tab algn="l" pos="4479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0" y="5072040"/>
            <a:ext cx="9144000" cy="100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Cuentas por Cob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eríodo Medio de Cobro    =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romedio Diario de V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429080" y="3714840"/>
            <a:ext cx="300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4500720" y="5572080"/>
            <a:ext cx="3071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0" y="2142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8252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eficientes de Rentabi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52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iden de diferentes modos la rentabilidad de la empre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0" y="1700280"/>
            <a:ext cx="845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5143680" y="2214720"/>
            <a:ext cx="29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5214960" y="4786200"/>
            <a:ext cx="27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0" y="3933720"/>
            <a:ext cx="9144000" cy="1618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ROE (Rentabilidad sobre el Patrimonio)     =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atrimo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0" y="1428840"/>
            <a:ext cx="9144000" cy="1618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ROA (Rentabilidad sobre los Activos)     =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Total Activ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52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eficientes de Merc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52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dican relaciones de valor  económico entre  empresa y merc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0" y="1700280"/>
            <a:ext cx="845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0" y="2786040"/>
            <a:ext cx="9144000" cy="100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676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recio de una 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Relación Precio/Utilidad (RPU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Utilidad por 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4929120" y="60721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0" y="4143240"/>
            <a:ext cx="9144000" cy="100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676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Dividendo por 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Rentabilidad por Dividendo             =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recio de la 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5000760" y="4714920"/>
            <a:ext cx="31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0" y="1428840"/>
            <a:ext cx="9144000" cy="100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676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Resultado del Ejerc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Utilidad por Acción (UPA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Número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5143680" y="2000160"/>
            <a:ext cx="27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5072040" y="3286080"/>
            <a:ext cx="27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0" y="5572080"/>
            <a:ext cx="9144000" cy="100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676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recio de la 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Valor de Mercado a Valor Libro       =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Valor de Libro de la 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52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eficientes Económico-Financier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52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presentan la creación de valor durante el ejercic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0" y="1700280"/>
            <a:ext cx="845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0" y="2143080"/>
            <a:ext cx="9144000" cy="1496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676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Valor de Mercado Agreg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VA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  Valor de Mercado de la Empresa - Patrimo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0" y="4214880"/>
            <a:ext cx="9144000" cy="1496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676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Valor Económico Agreg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VA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  EBIT*(1-T) – Costo Capital * Activos Oper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7T19:35:48Z</dcterms:created>
  <dc:creator>Cristobal Videla</dc:creator>
  <dc:description/>
  <dc:language>en-US</dc:language>
  <cp:lastModifiedBy>c</cp:lastModifiedBy>
  <dcterms:modified xsi:type="dcterms:W3CDTF">2012-10-11T14:50:31Z</dcterms:modified>
  <cp:revision>19</cp:revision>
  <dc:subject/>
  <dc:title>Diapositiva 1</dc:title>
</cp:coreProperties>
</file>