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B0E-816C-4B16-8F29-326A9678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B7D-EE25-4955-85DB-57BB904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645-66D7-4099-9674-555A2427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773-E37B-45DA-9CF3-2E492739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EE9-2CBB-4333-9E74-6BEF993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A05-D9A8-4362-B084-D3A83C50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CE5-7B8C-43AE-AE63-0843693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214-9478-4FEE-B300-036D944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A8C-AE9A-40E3-93DD-DB43D00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CB3-7E6B-40AB-BE96-86621510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C18-0010-4819-B439-F5131DC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858-B0D7-492F-B533-E360775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06FC-50B9-4149-A3FB-189804E482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76360" y="404640"/>
            <a:ext cx="5688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eficiente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71720" y="2000160"/>
            <a:ext cx="19857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Bal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48000" y="1989000"/>
            <a:ext cx="2374920" cy="45972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ff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00840" y="2000160"/>
            <a:ext cx="2143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1763280" y="1125360"/>
            <a:ext cx="2592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4500720" y="1125360"/>
            <a:ext cx="0" cy="8654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4643280" y="1125360"/>
            <a:ext cx="288000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14200" y="3214800"/>
            <a:ext cx="17859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ndeu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908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Oper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356000" y="551664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Rent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715080" y="5500800"/>
            <a:ext cx="18003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596360" y="3500280"/>
            <a:ext cx="136836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Económico-Financi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928800" y="4500720"/>
            <a:ext cx="143964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eficientes Liqu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2143080" y="2500200"/>
            <a:ext cx="5958000" cy="9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2143080" y="2500200"/>
            <a:ext cx="3149640" cy="2944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2214720" y="2571840"/>
            <a:ext cx="628560" cy="287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1809720" y="2428920"/>
            <a:ext cx="333360" cy="214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 flipH="1">
            <a:off x="1213920" y="2500200"/>
            <a:ext cx="100044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2143080" y="2500200"/>
            <a:ext cx="5500800" cy="300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4500720" y="2500200"/>
            <a:ext cx="3600360" cy="100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4500720" y="2428920"/>
            <a:ext cx="3143160" cy="3071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4572000" y="2500200"/>
            <a:ext cx="720720" cy="3017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 flipH="1">
            <a:off x="2916000" y="2500200"/>
            <a:ext cx="1584360" cy="2946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 flipH="1">
            <a:off x="1714320" y="2428920"/>
            <a:ext cx="2857320" cy="20718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 flipH="1">
            <a:off x="1142640" y="2500200"/>
            <a:ext cx="3357720" cy="7146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7072200" y="2428920"/>
            <a:ext cx="478080" cy="3079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7000920" y="2428920"/>
            <a:ext cx="1098360" cy="9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 de Endeud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el apalancamiento o leverage de un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1628640"/>
            <a:ext cx="9144000" cy="138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eficiente de Endeudamient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sivo No Corriente + 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4572000" y="2214720"/>
            <a:ext cx="37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335772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Intereses  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Íteme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143680"/>
            <a:ext cx="9144000" cy="131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BIT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 Líquida de Interese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ter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4857840" y="3857760"/>
            <a:ext cx="264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5000760" y="564372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Liquide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si hay suficiente efectivo para cubrir los pasivos corri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1"/>
          <p:cNvGrpSpPr/>
          <p:nvPr/>
        </p:nvGrpSpPr>
        <p:grpSpPr>
          <a:xfrm>
            <a:off x="0" y="1500120"/>
            <a:ext cx="9144000" cy="1008720"/>
            <a:chOff x="0" y="1500120"/>
            <a:chExt cx="9144000" cy="1008720"/>
          </a:xfrm>
        </p:grpSpPr>
        <p:sp>
          <p:nvSpPr>
            <p:cNvPr id="81" name="Text Box 8"/>
            <p:cNvSpPr/>
            <p:nvPr/>
          </p:nvSpPr>
          <p:spPr>
            <a:xfrm>
              <a:off x="0" y="150012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eficiente Liquidez Corriente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96760"/>
                  <a:tab algn="l" pos="58262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5357880" y="200016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"/>
          <p:cNvGrpSpPr/>
          <p:nvPr/>
        </p:nvGrpSpPr>
        <p:grpSpPr>
          <a:xfrm>
            <a:off x="0" y="3071880"/>
            <a:ext cx="9144000" cy="1313640"/>
            <a:chOff x="0" y="3071880"/>
            <a:chExt cx="9144000" cy="1313640"/>
          </a:xfrm>
        </p:grpSpPr>
        <p:sp>
          <p:nvSpPr>
            <p:cNvPr id="84" name="Text Box 5"/>
            <p:cNvSpPr/>
            <p:nvPr/>
          </p:nvSpPr>
          <p:spPr>
            <a:xfrm>
              <a:off x="0" y="3071880"/>
              <a:ext cx="9144000" cy="131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rueba Ácida          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3959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Pasivos Corrien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4500720" y="3571920"/>
              <a:ext cx="38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0" y="5000760"/>
            <a:ext cx="9144000" cy="1008720"/>
            <a:chOff x="0" y="5000760"/>
            <a:chExt cx="9144000" cy="1008720"/>
          </a:xfrm>
        </p:grpSpPr>
        <p:sp>
          <p:nvSpPr>
            <p:cNvPr id="87" name="Text Box 9"/>
            <p:cNvSpPr/>
            <p:nvPr/>
          </p:nvSpPr>
          <p:spPr>
            <a:xfrm>
              <a:off x="0" y="5000760"/>
              <a:ext cx="914400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Activos Corrientes - Exist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Cobertura  Gastos de Explotación =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2520"/>
                  <a:tab algn="l" pos="712800"/>
                  <a:tab algn="l" pos="44845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edia Diaria Gastos Operacion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4500720" y="5500800"/>
              <a:ext cx="43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333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la intensidad de uso del capital en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16286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gres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Activ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357800" y="2143080"/>
            <a:ext cx="307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21480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tación de Existencias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630360"/>
                <a:tab algn="l" pos="376704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5072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íodo Medio de Cobro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omedio Diari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429080" y="3714840"/>
            <a:ext cx="30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500720" y="5572080"/>
            <a:ext cx="307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214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Renta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den de diferentes modos la rentabilidad de la empr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43680" y="2214720"/>
            <a:ext cx="29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5214960" y="478620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393372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E (Rentabilidad sobre el Patrimonio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1428840"/>
            <a:ext cx="914400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OA (Rentabilidad sobre los Activos)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otal Ac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520"/>
                <a:tab algn="l" pos="71280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de Mer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dican relaciones de valor  económico entre  empresa y mer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27860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lación Precio/Utilidad (RPU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929120" y="60721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0" y="41432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videndo por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ntabilidad por Dividendo      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000760" y="471492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142884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Resultado del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Utilidad por Acción (UPA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úmero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5143680" y="200016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072040" y="32860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5572080"/>
            <a:ext cx="9144000" cy="100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ci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Mercado a Valor Libro       =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4484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Valor de Libro de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eficientes Económico-Financie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52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presentan la creación de valor durante el ejerci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700280"/>
            <a:ext cx="84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21430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de Mercad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Valor de Mercado de la Empresa -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4214880"/>
            <a:ext cx="9144000" cy="149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lor Económico Agreg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  EBIT*(1-T) – Costo Capital * Activo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676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9:35:48Z</dcterms:created>
  <dc:creator>Cristobal Videla</dc:creator>
  <dc:description/>
  <dc:language>en-US</dc:language>
  <cp:lastModifiedBy>c</cp:lastModifiedBy>
  <dcterms:modified xsi:type="dcterms:W3CDTF">2012-10-11T14:50:31Z</dcterms:modified>
  <cp:revision>19</cp:revision>
  <dc:subject/>
  <dc:title>Diapositiva 1</dc:title>
</cp:coreProperties>
</file>