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973-0915-4587-804E-8F7FAA25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837-D015-4D70-B66B-E3B75096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B13-9893-4D3D-A396-AAB9FF04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D05-2404-410E-95D3-B28D2E3A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FC2-4D81-4ADD-85D4-BBF6BE89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6FB-DE77-4D52-9F4B-12F80703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0A2-8F17-4CDB-AD75-755A85B0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16F-D273-4CD0-9473-A85A10F6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759-2753-4036-A78A-B2CED72D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2AE-1CA4-4DDD-8816-2405E4DC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44D-32FC-4EE4-B42D-E061E04B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502-9C30-43C0-A963-9465E3A9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0629-ED9B-48F4-8A0E-2D3E958780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144000" cy="6340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Resultados de la Empresa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 Operacionales  (Total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Operacionales (Total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ITDA (Resultado Operacional Brut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53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ción y Amortiz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IT (Resultado Operacional Net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T (Resultado antes de Impuesto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ues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DAD (PERDIDA) del EJERCICI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Line 128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9"/>
          <p:cNvSpPr/>
          <p:nvPr/>
        </p:nvSpPr>
        <p:spPr>
          <a:xfrm>
            <a:off x="0" y="5661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0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1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2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571680"/>
            <a:ext cx="91440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empresa entrega la siguiente información al 31 de diciembre de 2011 (en millones de pesos): ingresos por servicios prestados 17; documentos por cobrar 4; cuentas por pagar 2; pago por arriendo de locales del año 9; documentos por pagar 5; capital pagado 10; no se conoce el monto de las utilidades retenidas; equipos 16; gastos por seguros anual 1; existencias 1,8; gastos generales 0,2; disponible 1,4; dividendos pagados a cuenta de utilidades 0,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ide: el balance y 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18900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DE RESULTADOS Añ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 Operacional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 (Servicios prestados)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Operacionales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o de arrien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9.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 por segu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.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genera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ITD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álculo de Utilidades Retenidas al 31.12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 del Ejercici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ndos pag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es retenida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0"/>
            <a:ext cx="9144000" cy="71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mpresa  al 31.12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l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os por cobr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cia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 no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ACTIV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os por pag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ntas por pag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rimonio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pagad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es retenida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ASIV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3:46:33Z</dcterms:created>
  <dc:creator>Cristobal Videla</dc:creator>
  <dc:description/>
  <dc:language>en-US</dc:language>
  <cp:lastModifiedBy>c</cp:lastModifiedBy>
  <dcterms:modified xsi:type="dcterms:W3CDTF">2012-10-11T14:49:01Z</dcterms:modified>
  <cp:revision>16</cp:revision>
  <dc:subject/>
  <dc:title>Diapositiva 1</dc:title>
</cp:coreProperties>
</file>