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F32-2194-4D39-BEA4-7D898351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8EA-C160-433C-9E93-D4A3E70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A31-5B07-49FD-8031-83879252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CD8-D960-4ED6-90E9-F5ECDD18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D70-234A-4ED6-ACF4-660F8BFD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523-F3D0-4F39-8032-06E2A83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54B-2554-4CEE-B426-EE9837F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AAE-6FCC-44AC-A8E5-6B3D30D2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B09-7415-4474-9B77-A796F5F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E98-9FE7-491E-96A3-8C939458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465-08C7-45DB-904F-1D563D9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CDD-32A7-46B3-AA49-9D2D8BF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163-8956-43CB-9C37-0548DA8545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6340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Resultados de la Empres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Operacionales 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cionales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DA (Resultado Operacional Bru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53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y Amort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 (Resultado Operacional Ne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T (Resultado antes de Impuesto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 (PERDIDA) del EJERCIC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128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9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0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1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2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57168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mpresa entrega la siguiente información al 31 de diciembre de 2011 (en millones de pesos): ingresos por servicios prestados 17; documentos por cobrar 4; cuentas por pagar 2; pago por arriendo de locales del año 9; documentos por pagar 5; capital pagado 10; no se conoce el monto de las utilidades retenidas; equipos 16; gastos por seguros anual 1; existencias 1,8; gastos generales 0,2; disponible 1,4; dividendos pagados a cuenta de utilidades 0,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ide: el balance y 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 Añ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Operacional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(Servicios prestados)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Operacionales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o de arrien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9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 por segu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gene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ITD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lculo de Utilidades Retenidas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ndos pag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0"/>
            <a:ext cx="9144000" cy="71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mpresa 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l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cobr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i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no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nta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imoni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paga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S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9:01Z</dcterms:modified>
  <cp:revision>16</cp:revision>
  <dc:subject/>
  <dc:title>Diapositiva 1</dc:title>
</cp:coreProperties>
</file>