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71B3-257E-46E5-AFE7-52143F62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944-9EFB-45A4-A730-B00E498A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5CE-6FAB-4DBF-92CC-4692BD5A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9A2-D5DA-47E7-B742-5145B9CA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385-2A2E-4FF3-B11B-DFBF680D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3DA-C62C-4C3C-B42C-340E2B98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BDA9-55EC-4085-B25E-42EAD00C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A6C-AD5E-426B-8F32-EE9B07A3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594-3F00-4E87-87DD-35A9691D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47F7-F98C-4077-B185-67F336B7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8F3-0352-4B40-9DD9-A13323BF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630-E71C-4955-9422-208871AF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19A0-82CB-4B4C-8AC7-12B0D96464C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144000" cy="6340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Resultados de la Empresa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 Operacionales  (Total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Operacionales (Total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ITDA (Resultado Operacional Brut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53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ción y Amortiz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IT (Resultado Operacional Net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T (Resultado antes de Impuesto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ues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DAD (PERDIDA) del EJERCICI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Line 128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9"/>
          <p:cNvSpPr/>
          <p:nvPr/>
        </p:nvSpPr>
        <p:spPr>
          <a:xfrm>
            <a:off x="0" y="5661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0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1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2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571680"/>
            <a:ext cx="91440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empresa entrega la siguiente información al 31 de diciembre de 2011 (en millones de pesos): ingresos por servicios prestados 17; documentos por cobrar 4; cuentas por pagar 2; pago por arriendo de locales del año 9; documentos por pagar 5; capital pagado 10; no se conoce el monto de las utilidades retenidas; equipos 16; gastos por seguros anual 1; existencias 1,8; gastos generales 0,2; disponible 1,4; dividendos pagados a cuenta de utilidades 0,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ide: el balance y 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18900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DE RESULTADOS Añ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les de pe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 Operacional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 (Servicios prestados)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Operacionales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o de arrien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9.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 por segu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.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genera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ITD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álculo de Utilidades Retenidas al 31.12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les de pe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 del Ejercici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ndos pag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es retenida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0"/>
            <a:ext cx="9144000" cy="71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mpresa  al 31.12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les de pe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 corrient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l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os por cobr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cia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 no corrient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ACTIV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os corrient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os por pag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ntas por pag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rimonio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pagad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es retenida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ASIV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3:46:33Z</dcterms:created>
  <dc:creator>Cristobal Videla</dc:creator>
  <dc:description/>
  <dc:language>en-US</dc:language>
  <cp:lastModifiedBy>c</cp:lastModifiedBy>
  <dcterms:modified xsi:type="dcterms:W3CDTF">2012-10-11T14:49:01Z</dcterms:modified>
  <cp:revision>16</cp:revision>
  <dc:subject/>
  <dc:title>Diapositiva 1</dc:title>
</cp:coreProperties>
</file>