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2FE-F5C0-41B1-BDCB-258471DE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59B-932B-4894-BF2F-852502EA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49B-F4ED-45FB-9F52-BF3A9CBE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6BF0-6905-43BB-A87A-F33D4B9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092-8CC3-4347-A11B-34EA8485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78E-EEF3-4AFF-848C-E112272C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3D3-5BB0-4376-B36D-03788262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777-F4D3-403F-B1C0-E828062D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02D-CF15-4CAE-BE0A-CDF6C961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236-3A5C-4229-80E9-31610938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287-370D-4E86-A441-56EEB15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B0F-AA92-42A2-A417-6B3425D1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7022-6BD8-4F9E-9C3C-C3390EF02A6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6340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Resultados de la Empres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 Operacionales 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 Operacionales (Total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27120" indent="-6271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DA (Resultado Operacional Bru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534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ción y Amortiz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IT (Resultado Operacional Net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BT (Resultado antes de Impuesto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s-C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DAD (PERDIDA) del EJERCICI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Line 128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9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0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1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32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571680"/>
            <a:ext cx="914400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empresa entrega la siguiente información al 31 de diciembre de 2011 (en millones de pesos): ingresos por servicios prestados 17; documentos por cobrar 4; cuentas por pagar 2; pago por arriendo de locales del año 9; documentos por pagar 5; capital pagado 10; no se conoce el monto de las utilidades retenidas; equipos 16; gastos por seguros anual 1; existencias 1,8; gastos generales 0,2; disponible 1,4; dividendos pagados a cuenta de utilidades 0,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ide: el balance y 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DE RESULTADOS Año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Operacionales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(Servicios prestados)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Operacionales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o de arrien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9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 por segu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.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genera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BITDA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933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0" y="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álculo de Utilidades Retenidas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 del Ejercici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ndos pag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0"/>
            <a:ext cx="9144000" cy="71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mpresa  al 31.12.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les de p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l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cobr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i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os no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ACT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r" pos="4664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ivos corriente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o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ntas por paga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rimonio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 pagad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dades retenida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4753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ASIVOS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23:46:33Z</dcterms:created>
  <dc:creator>Cristobal Videla</dc:creator>
  <dc:description/>
  <dc:language>en-US</dc:language>
  <cp:lastModifiedBy>c</cp:lastModifiedBy>
  <dcterms:modified xsi:type="dcterms:W3CDTF">2012-10-11T14:49:01Z</dcterms:modified>
  <cp:revision>16</cp:revision>
  <dc:subject/>
  <dc:title>Diapositiva 1</dc:title>
</cp:coreProperties>
</file>