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F805-01B6-4ABF-AA05-A9298C48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7AB5-AA8E-4D05-B9EA-143BA99B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0594-7B74-42E2-B573-D902FDE1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723F-6240-4AE5-8AD4-09ACAAC6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9C9-7E4B-4D67-92BD-54187344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CEB-3B40-445C-A621-CA051C38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721-09D3-4BFA-A2A0-261FAC14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DA9-EFCF-49DD-8DE7-AA727EBE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514B-D940-4525-90CC-EE12E7F3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C008-40C7-41AF-B95A-793BBDE3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3DF-9E21-40E5-8A8E-F501511F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3F0E-8943-4B3B-AA92-83360777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9C67-4A73-42C9-9937-5BB545F9651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3"/>
          <p:cNvSpPr/>
          <p:nvPr/>
        </p:nvSpPr>
        <p:spPr>
          <a:xfrm>
            <a:off x="250920" y="620640"/>
            <a:ext cx="8642160" cy="576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059280" y="4797360"/>
            <a:ext cx="32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squema general del proceso de contabi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"/>
          <p:cNvSpPr/>
          <p:nvPr/>
        </p:nvSpPr>
        <p:spPr>
          <a:xfrm>
            <a:off x="250920" y="59500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arco : Normas Internacionales de Contabilidad (IF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6"/>
          <p:cNvSpPr/>
          <p:nvPr/>
        </p:nvSpPr>
        <p:spPr>
          <a:xfrm>
            <a:off x="6659640" y="2421000"/>
            <a:ext cx="165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23"/>
          <p:cNvGrpSpPr/>
          <p:nvPr/>
        </p:nvGrpSpPr>
        <p:grpSpPr>
          <a:xfrm>
            <a:off x="900000" y="1197000"/>
            <a:ext cx="7704360" cy="4032360"/>
            <a:chOff x="900000" y="1197000"/>
            <a:chExt cx="7704360" cy="4032360"/>
          </a:xfrm>
        </p:grpSpPr>
        <p:sp>
          <p:nvSpPr>
            <p:cNvPr id="48" name="AutoShape 19"/>
            <p:cNvSpPr/>
            <p:nvPr/>
          </p:nvSpPr>
          <p:spPr>
            <a:xfrm flipV="1">
              <a:off x="2987640" y="3789360"/>
              <a:ext cx="3313080" cy="1440000"/>
            </a:xfrm>
            <a:prstGeom prst="wedgeRectCallout">
              <a:avLst>
                <a:gd name="adj1" fmla="val -36152"/>
                <a:gd name="adj2" fmla="val 79106"/>
              </a:avLst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22"/>
            <p:cNvGrpSpPr/>
            <p:nvPr/>
          </p:nvGrpSpPr>
          <p:grpSpPr>
            <a:xfrm>
              <a:off x="900000" y="1197000"/>
              <a:ext cx="7704360" cy="3752640"/>
              <a:chOff x="900000" y="1197000"/>
              <a:chExt cx="7704360" cy="3752640"/>
            </a:xfrm>
          </p:grpSpPr>
          <p:grpSp>
            <p:nvGrpSpPr>
              <p:cNvPr id="50" name="Group 21"/>
              <p:cNvGrpSpPr/>
              <p:nvPr/>
            </p:nvGrpSpPr>
            <p:grpSpPr>
              <a:xfrm>
                <a:off x="900000" y="1197000"/>
                <a:ext cx="7704360" cy="3752640"/>
                <a:chOff x="900000" y="1197000"/>
                <a:chExt cx="7704360" cy="3752640"/>
              </a:xfrm>
            </p:grpSpPr>
            <p:sp>
              <p:nvSpPr>
                <p:cNvPr id="51" name="Oval 4"/>
                <p:cNvSpPr/>
                <p:nvPr/>
              </p:nvSpPr>
              <p:spPr>
                <a:xfrm>
                  <a:off x="900000" y="1269720"/>
                  <a:ext cx="2376720" cy="2880000"/>
                </a:xfrm>
                <a:prstGeom prst="ellipse">
                  <a:avLst/>
                </a:prstGeom>
                <a:solidFill>
                  <a:srgbClr val="ccff33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Oval 5"/>
                <p:cNvSpPr/>
                <p:nvPr/>
              </p:nvSpPr>
              <p:spPr>
                <a:xfrm>
                  <a:off x="6227640" y="1197000"/>
                  <a:ext cx="2376720" cy="2879640"/>
                </a:xfrm>
                <a:prstGeom prst="ellipse">
                  <a:avLst/>
                </a:prstGeom>
                <a:solidFill>
                  <a:srgbClr val="ccff33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Rectangle 6"/>
                <p:cNvSpPr/>
                <p:nvPr/>
              </p:nvSpPr>
              <p:spPr>
                <a:xfrm>
                  <a:off x="3780000" y="1485720"/>
                  <a:ext cx="1944360" cy="1152720"/>
                </a:xfrm>
                <a:prstGeom prst="rect">
                  <a:avLst/>
                </a:prstGeom>
                <a:solidFill>
                  <a:srgbClr val="ccff33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Line 8"/>
                <p:cNvSpPr/>
                <p:nvPr/>
              </p:nvSpPr>
              <p:spPr>
                <a:xfrm flipH="1">
                  <a:off x="3131640" y="3357360"/>
                  <a:ext cx="3240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Line 9"/>
                <p:cNvSpPr/>
                <p:nvPr/>
              </p:nvSpPr>
              <p:spPr>
                <a:xfrm>
                  <a:off x="3132000" y="2062080"/>
                  <a:ext cx="648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10"/>
                <p:cNvSpPr/>
                <p:nvPr/>
              </p:nvSpPr>
              <p:spPr>
                <a:xfrm>
                  <a:off x="5796000" y="2062080"/>
                  <a:ext cx="504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ext Box 15"/>
                <p:cNvSpPr/>
                <p:nvPr/>
              </p:nvSpPr>
              <p:spPr>
                <a:xfrm>
                  <a:off x="971640" y="1989000"/>
                  <a:ext cx="2160360" cy="14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Arial"/>
                    </a:rPr>
                    <a:t>Inputs/Entrad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Arial"/>
                    </a:rPr>
                    <a:t>Transaccio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Arial"/>
                    </a:rPr>
                    <a:t>Eventos económic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Text Box 17"/>
                <p:cNvSpPr/>
                <p:nvPr/>
              </p:nvSpPr>
              <p:spPr>
                <a:xfrm>
                  <a:off x="6443640" y="1630080"/>
                  <a:ext cx="2016000" cy="189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Arial"/>
                    </a:rPr>
                    <a:t>Outputs/Salid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Arial"/>
                    </a:rPr>
                    <a:t>Estados Financier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Arial"/>
                    </a:rPr>
                    <a:t>Memoria Anu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Arial"/>
                    </a:rPr>
                    <a:t>Informes Vari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Text Box 20"/>
                <p:cNvSpPr/>
                <p:nvPr/>
              </p:nvSpPr>
              <p:spPr>
                <a:xfrm>
                  <a:off x="3276720" y="3933720"/>
                  <a:ext cx="2950920" cy="1015920"/>
                </a:xfrm>
                <a:prstGeom prst="rect">
                  <a:avLst/>
                </a:pr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000000"/>
                      </a:solidFill>
                      <a:latin typeface="Arial"/>
                    </a:rPr>
                    <a:t>Retroalimentació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000000"/>
                      </a:solidFill>
                      <a:latin typeface="Arial"/>
                    </a:rPr>
                    <a:t>Feedback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" name="Text Box 18"/>
              <p:cNvSpPr/>
              <p:nvPr/>
            </p:nvSpPr>
            <p:spPr>
              <a:xfrm>
                <a:off x="3708360" y="1555920"/>
                <a:ext cx="2016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Arial"/>
                  </a:rPr>
                  <a:t>Proceso Contab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 CuadroTexto"/>
          <p:cNvSpPr/>
          <p:nvPr/>
        </p:nvSpPr>
        <p:spPr>
          <a:xfrm>
            <a:off x="0" y="428760"/>
            <a:ext cx="9144000" cy="48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s de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o conceptual de las IF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 principal: asegurar c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arabilidad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información financi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que los estados financieros sean en formato IFRS se debe cumplir con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cada una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s normas existentes de las IF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FRS utilizan terminología propia de las empresas con ánimo de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r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incipales estados financieros son el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el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de resultado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tesis de la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resa en fun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tesis del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n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formación en los estados financieros se expresa en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ades moneta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parte integral del bal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deben compensar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activos con los pa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0"/>
          <a:ext cx="9144000" cy="6916680"/>
        </p:xfrm>
        <a:graphic>
          <a:graphicData uri="http://schemas.openxmlformats.org/drawingml/2006/table">
            <a:tbl>
              <a:tblPr/>
              <a:tblGrid>
                <a:gridCol w="4284720"/>
                <a:gridCol w="4859280"/>
              </a:tblGrid>
              <a:tr h="681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de Balan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iv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1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Activos Corrient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71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ntas  por  Cobr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nc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nt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s Biológicos Corr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71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os Activos Corr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71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Pasivos Corrient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ligaciones Corto Pla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ntas por Pag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os Pasivos Corrie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Pasivos No Corri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das con Ban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das con el Público (Bon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0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os Pasiv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1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Activos No Corri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iedades, Plantas y Equip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1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s Biológ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71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Patrimo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 Pag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dades Reteni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as Reserv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Otros Activos No Corri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s-CL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s                   =     Pasivo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0" y="260280"/>
            <a:ext cx="9144000" cy="60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la empresa UNO S.A. elabore el balance a partir de los siguientes datos : documentos por pagar 85.000 UF; documentos por cobrar 81.000 UF; disponible 32.000 UF; capital pagado (acciones) 28.000 U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la empresa DOS S.A. las obligaciones totales son 90.000 UF y el patrimonio de los accionistas es de 230.000 UF ¿Cuánto son los activos de la empre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la empresa TRES S.A. los activos suman 170.000 UF y el patrimonio de los accionistas es de 90.000 UF. ¿Cuánto alcanza el monto de las deud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mpresa CUATRO S.A. tiene activos por 700.000 UF y sus obligaciones financieras son exactamente la mitad de sus activos. ¿Cuál es el patrimonio de los accionist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mpresa CINCO S.A. a comienzos de año tiene activos totales por 900.000 UF y obligaciones por 500.000 U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os activos aumentan en 150.000 UF durante el año y las obligaciones disminuyen en 80.000 UF, ¿cuánto patrimonio tienen los accionistas a final de añ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durante el año las obligaciones se incrementan en 100.000 UF y el patrimonio disminuye en 70.000 UF. ¿Cuál será el monto de los activos a final de añ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os activos descienden en 90.000 UF y el patrimonio de los accionistas se incrementa en 110.000 UF durante el año, ¿cuántas obligaciones tiene a final de añ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23:46:33Z</dcterms:created>
  <dc:creator>Cristobal Videla</dc:creator>
  <dc:description/>
  <dc:language>en-US</dc:language>
  <cp:lastModifiedBy>c</cp:lastModifiedBy>
  <dcterms:modified xsi:type="dcterms:W3CDTF">2012-10-11T14:45:46Z</dcterms:modified>
  <cp:revision>26</cp:revision>
  <dc:subject/>
  <dc:title>Diapositiva 1</dc:title>
</cp:coreProperties>
</file>