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17.jpeg" ContentType="image/jpeg"/>
  <Override PartName="/ppt/media/image49.gif" ContentType="image/gif"/>
  <Override PartName="/ppt/media/image3.png" ContentType="image/png"/>
  <Override PartName="/ppt/media/image33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44.jpeg" ContentType="image/jpeg"/>
  <Override PartName="/ppt/media/image36.png" ContentType="image/png"/>
  <Override PartName="/ppt/media/image43.jpeg" ContentType="image/jpeg"/>
  <Override PartName="/ppt/media/image35.png" ContentType="image/pn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50.gif" ContentType="image/gif"/>
  <Override PartName="/ppt/media/image53.png" ContentType="image/png"/>
  <Override PartName="/ppt/media/image31.jpeg" ContentType="image/jpeg"/>
  <Override PartName="/ppt/media/image34.png" ContentType="image/png"/>
  <Override PartName="/ppt/media/image12.jpeg" ContentType="image/jpeg"/>
  <Override PartName="/ppt/media/image37.png" ContentType="image/png"/>
  <Override PartName="/ppt/media/image7.png" ContentType="image/png"/>
  <Override PartName="/ppt/media/image22.jpeg" ContentType="image/jpeg"/>
  <Override PartName="/ppt/media/image39.png" ContentType="image/png"/>
  <Override PartName="/ppt/media/image11.jpeg" ContentType="image/jpeg"/>
  <Override PartName="/ppt/media/image48.png" ContentType="image/png"/>
  <Override PartName="/ppt/media/image9.jpeg" ContentType="image/jpeg"/>
  <Override PartName="/ppt/media/image38.png" ContentType="image/png"/>
  <Override PartName="/ppt/media/image8.png" ContentType="image/png"/>
  <Override PartName="/ppt/media/image41.jpeg" ContentType="image/jpeg"/>
  <Override PartName="/ppt/media/image54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193F-A07A-46CC-9592-1DACFEC34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E7F1-C800-4DAF-A638-EB554893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4ECC-52A7-431A-ACD3-14FDB3B16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AE79-9157-4D44-B26D-C9FA0A53D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8A45-F9D4-4855-9DC7-66AFE6F0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8741-9B1F-4C37-A215-1FE368A0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93D4-7B00-4ADF-8B9E-7B095218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4F6D-91B2-4686-B274-B8766271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68AD-DE66-489B-B5AB-B6AE3376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82A9-CA50-4B9B-8610-915DA985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8BA1-32FC-4A85-AF7C-23F82C7A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A26E-9482-43D7-B5A6-8A4BC509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2E3A-9984-4E79-88FC-BC13EA711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gif"/><Relationship Id="rId3" Type="http://schemas.openxmlformats.org/officeDocument/2006/relationships/image" Target="../media/image50.gi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RECIMIENTO DEL ÁRBOL Y FORMACIÓN DELA MADE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777240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s plantas leñosas, tipos y clas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pos de Tej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mbium vas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pos de divisiones de las células iniciales del cambiu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978600" y="5710320"/>
            <a:ext cx="164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ónica Ra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2349360"/>
            <a:ext cx="2646360" cy="4104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905440" y="3284640"/>
            <a:ext cx="3238560" cy="3114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818760" y="5950080"/>
            <a:ext cx="232668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iprés de las Guaite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000" y="6021360"/>
            <a:ext cx="79200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le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987640" y="1197000"/>
            <a:ext cx="2903400" cy="3600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274920" y="4365720"/>
            <a:ext cx="226404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iprés de la Cordill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25920" y="433440"/>
            <a:ext cx="197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UPRESAC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168720" cy="2376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24000" y="3500280"/>
            <a:ext cx="4103640" cy="2436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059640" y="5516640"/>
            <a:ext cx="93204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leu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76360" y="260280"/>
            <a:ext cx="2053800" cy="337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Times New Roman"/>
              </a:rPr>
              <a:t>Podocarpus nubigen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Podocarpaceae Saxegothaea conspicua"/>
          <p:cNvPicPr/>
          <p:nvPr/>
        </p:nvPicPr>
        <p:blipFill>
          <a:blip r:embed="rId3"/>
          <a:stretch/>
        </p:blipFill>
        <p:spPr>
          <a:xfrm>
            <a:off x="4572000" y="189000"/>
            <a:ext cx="4289400" cy="6421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724360" y="6094440"/>
            <a:ext cx="233712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Saxegothaea conspic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31640" y="280368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docarpac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4000" y="260280"/>
            <a:ext cx="7010280" cy="36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Angiosper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Clase Monocotiledóneas</a:t>
            </a:r>
            <a:r>
              <a:rPr b="1" i="1" lang="es-E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Clase Dicotiledóneas</a:t>
            </a:r>
            <a:r>
              <a:rPr b="1" lang="es-ES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1484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palmeras.jpg image by xonistica"/>
          <p:cNvPicPr/>
          <p:nvPr/>
        </p:nvPicPr>
        <p:blipFill>
          <a:blip r:embed="rId1"/>
          <a:stretch/>
        </p:blipFill>
        <p:spPr>
          <a:xfrm>
            <a:off x="4859280" y="189000"/>
            <a:ext cx="4103640" cy="307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332000" y="3284640"/>
            <a:ext cx="3197160" cy="32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292720" y="3357720"/>
            <a:ext cx="2808360" cy="331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lasificación Taxonomica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 Lenga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vision - Spermatophyta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lase - Angiospermae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bclase - Dicotyledoneae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rden - Fagales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amilia – Nothofagaceae (Fagaceae)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o -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Nothofagus</a:t>
            </a:r>
            <a:br>
              <a:rPr sz="3200"/>
            </a:b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E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cie -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pumil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7160" y="5451480"/>
            <a:ext cx="809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mbre científ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thofagus pumili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Poepp.et. Endl.)Kras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2133720"/>
            <a:ext cx="5486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</a:t>
            </a:r>
            <a:r>
              <a:rPr b="1" i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istema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n tejidos embr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a planta madura. Las células del meristem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ividen indefinidamen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regándose así nuevas células a la pla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roceso de crecimiento y especialización morfo-fisiológica de las células producidas, es llamado </a:t>
            </a:r>
            <a:r>
              <a:rPr b="1" i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erenciación cel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6600" y="1295280"/>
            <a:ext cx="22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ERIST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372280" y="838080"/>
            <a:ext cx="3771720" cy="5410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837800" y="304920"/>
            <a:ext cx="52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FORMACIÓN DE LA MAD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42228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304920"/>
            <a:ext cx="4952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l árbol se pueden distingu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erentes tipos de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ji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istemátic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éstos se pu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ificar de acuerdo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teri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ún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 posició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istema apica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e encuen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bicado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ápice de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órg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istema latera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ubica en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feria d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 órga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istem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calar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 los tejidos que el m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257800" y="914400"/>
            <a:ext cx="359892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27160" y="80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91440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) Según su ori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Meristema primario: prov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rectamente de células que nun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n perdido su capacidad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v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ristema secundario: se origi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 partir de células diferencia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ue nuevamente adquieren 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de div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724280" y="914400"/>
            <a:ext cx="398952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8600" y="304920"/>
            <a:ext cx="8458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recimiento primari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s  un crecimiento de  tipo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ongitudinal,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ue se origina por la producción de nuevas células en el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er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pica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; éste se encuentra ubicado en el ápice del tallo, ramas y raí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recimiento secundari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s el incremento e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iámetr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l tallo, ramas y raíces y es producido por  u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eristema latera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el cambium vasc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286000" y="3048120"/>
            <a:ext cx="4995720" cy="35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340360" y="330120"/>
            <a:ext cx="40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MBIUM VAS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4154" t="21685" r="20833" b="24863"/>
          <a:stretch/>
        </p:blipFill>
        <p:spPr>
          <a:xfrm>
            <a:off x="762120" y="3886200"/>
            <a:ext cx="3752640" cy="1979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28600" y="1981080"/>
            <a:ext cx="4495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ambium vascular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es una fila de células meristemáticas situadas entre el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xilema secundari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y el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floema secund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743360" y="1752480"/>
            <a:ext cx="440064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3429000" cy="27320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33520" y="3809880"/>
            <a:ext cx="3429000" cy="1828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114800" y="1066680"/>
            <a:ext cx="4800600" cy="44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14400" y="3808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L ORIGEN DE LA MAD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2193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ARACTERÍSTICAS DE LAS PLANTAS LEÑO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752480"/>
            <a:ext cx="3816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ben S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lantas </a:t>
            </a:r>
            <a:r>
              <a:rPr b="0" lang="es-MX" sz="2400" spc="-1" strike="noStrike">
                <a:solidFill>
                  <a:srgbClr val="3333cc"/>
                </a:solidFill>
                <a:latin typeface="Times New Roman"/>
              </a:rPr>
              <a:t>vasc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(Xilema y Floe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lantas  </a:t>
            </a:r>
            <a:r>
              <a:rPr b="0" lang="es-MX" sz="2400" spc="-1" strike="noStrike">
                <a:solidFill>
                  <a:srgbClr val="3333cc"/>
                </a:solidFill>
                <a:latin typeface="Times New Roman"/>
              </a:rPr>
              <a:t>perenne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(deben vivir por muchos añ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ener un tallo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3333cc"/>
                </a:solidFill>
                <a:latin typeface="Times New Roman"/>
              </a:rPr>
              <a:t>persist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de año en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733920" y="1828800"/>
            <a:ext cx="3429000" cy="2732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354816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foto 2" descr=""/>
          <p:cNvPicPr/>
          <p:nvPr/>
        </p:nvPicPr>
        <p:blipFill>
          <a:blip r:embed="rId2"/>
          <a:stretch/>
        </p:blipFill>
        <p:spPr>
          <a:xfrm>
            <a:off x="5181480" y="3733920"/>
            <a:ext cx="204804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905120" y="533520"/>
            <a:ext cx="497196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9480" y="1066680"/>
            <a:ext cx="7239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1520"/>
                <a:tab algn="l" pos="182520"/>
                <a:tab algn="l" pos="66816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1520"/>
                <a:tab algn="l" pos="182520"/>
                <a:tab algn="l" pos="66816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células en el cambium vascular son de dos tip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1520"/>
                <a:tab algn="l" pos="182520"/>
                <a:tab algn="l" pos="66816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1520"/>
                <a:tab algn="l" pos="182520"/>
                <a:tab algn="l" pos="66816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ciales fusiforme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 dan origen a las células orientadas longitudinalmente en el xilema y floema, son células de forma alargada, con sus extremos cerr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1520"/>
                <a:tab algn="l" pos="182520"/>
                <a:tab algn="l" pos="66816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1520"/>
                <a:tab algn="l" pos="182520"/>
                <a:tab algn="l" pos="66816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ciales radiale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 dan origen a los radios leñosos y elementos orientados en sentido transversal en xilema y floema; son células de forma isodiamétrica y más pequeñ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1520"/>
                <a:tab algn="l" pos="182520"/>
                <a:tab algn="l" pos="66816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50920" y="533520"/>
            <a:ext cx="58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OS DE CÉLULAS CAMB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7914240" y="2448720"/>
            <a:ext cx="1149480" cy="366480"/>
          </a:xfrm>
          <a:prstGeom prst="hexagon">
            <a:avLst>
              <a:gd name="adj" fmla="val 43519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77320" y="4114800"/>
            <a:ext cx="685800" cy="60948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2286000" cy="5410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657600" y="838080"/>
            <a:ext cx="4038480" cy="3319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657600" y="4343400"/>
            <a:ext cx="403848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4200" y="457200"/>
            <a:ext cx="40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ulas inicia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48696" t="6116" r="2610" b="0"/>
          <a:stretch/>
        </p:blipFill>
        <p:spPr>
          <a:xfrm>
            <a:off x="457200" y="1676520"/>
            <a:ext cx="4267080" cy="4680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029200" y="1676520"/>
            <a:ext cx="351936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72200" y="380880"/>
            <a:ext cx="76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SIONES DE LAS CÉLULAS CAMB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9120" y="12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7840" y="1303200"/>
            <a:ext cx="8011800" cy="25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nticli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ivide la célula en forma perpendicular al e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itudinal de el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cli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se divide la célula por su eje longitud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transvers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e divide la célula en forma oblicua 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ecto a su eje longitud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900000" y="4005360"/>
            <a:ext cx="1587240" cy="1793880"/>
            <a:chOff x="900000" y="4005360"/>
            <a:chExt cx="1587240" cy="179388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rcRect l="33772" t="21159" r="32431" b="15166"/>
            <a:stretch/>
          </p:blipFill>
          <p:spPr>
            <a:xfrm>
              <a:off x="1239480" y="4005360"/>
              <a:ext cx="957240" cy="17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900000" y="4945320"/>
              <a:ext cx="1587240" cy="1440"/>
            </a:xfrm>
            <a:custGeom>
              <a:avLst/>
              <a:gdLst/>
              <a:ahLst/>
              <a:rect l="l" t="t" r="r" b="b"/>
              <a:pathLst>
                <a:path w="1000" h="1">
                  <a:moveTo>
                    <a:pt x="0" y="0"/>
                  </a:moveTo>
                  <a:lnTo>
                    <a:pt x="100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6" name="" descr=""/>
          <p:cNvPicPr/>
          <p:nvPr/>
        </p:nvPicPr>
        <p:blipFill>
          <a:blip r:embed="rId2"/>
          <a:srcRect l="33772" t="21159" r="32431" b="15166"/>
          <a:stretch/>
        </p:blipFill>
        <p:spPr>
          <a:xfrm>
            <a:off x="3708360" y="4005360"/>
            <a:ext cx="957240" cy="179388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5651640" y="4005360"/>
            <a:ext cx="1295280" cy="1793880"/>
            <a:chOff x="5651640" y="4005360"/>
            <a:chExt cx="1295280" cy="1793880"/>
          </a:xfrm>
        </p:grpSpPr>
        <p:pic>
          <p:nvPicPr>
            <p:cNvPr id="148" name="" descr=""/>
            <p:cNvPicPr/>
            <p:nvPr/>
          </p:nvPicPr>
          <p:blipFill>
            <a:blip r:embed="rId3"/>
            <a:srcRect l="33772" t="21159" r="32431" b="15166"/>
            <a:stretch/>
          </p:blipFill>
          <p:spPr>
            <a:xfrm>
              <a:off x="5867280" y="4005360"/>
              <a:ext cx="957240" cy="17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 flipH="1">
              <a:off x="5651640" y="4365720"/>
              <a:ext cx="1295280" cy="13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3995640" y="3716280"/>
            <a:ext cx="12960" cy="2387520"/>
          </a:xfrm>
          <a:custGeom>
            <a:avLst/>
            <a:gdLst/>
            <a:ahLst/>
            <a:rect l="l" t="t" r="r" b="b"/>
            <a:pathLst>
              <a:path w="8" h="1504">
                <a:moveTo>
                  <a:pt x="8" y="0"/>
                </a:moveTo>
                <a:lnTo>
                  <a:pt x="0" y="15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66400" y="594684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Anticl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64360" y="6165720"/>
            <a:ext cx="12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ericl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72600" y="5946840"/>
            <a:ext cx="217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seudotransver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zONA cambial2" descr=""/>
          <p:cNvPicPr/>
          <p:nvPr/>
        </p:nvPicPr>
        <p:blipFill>
          <a:blip r:embed="rId1"/>
          <a:srcRect l="4211" t="12530" r="2646" b="0"/>
          <a:stretch/>
        </p:blipFill>
        <p:spPr>
          <a:xfrm>
            <a:off x="684360" y="476280"/>
            <a:ext cx="7848360" cy="56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3657600" cy="2286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914400" y="2895480"/>
            <a:ext cx="3635280" cy="560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248520" y="3733920"/>
            <a:ext cx="2011320" cy="24001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106720" y="406440"/>
            <a:ext cx="387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 CAMB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286000" y="45720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ANILLOS AN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4937400" cy="3360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038480" y="3657600"/>
            <a:ext cx="42404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142720" y="533520"/>
            <a:ext cx="44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ERENCIACION CEL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1219320"/>
            <a:ext cx="815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he-I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sión Celular</a:t>
            </a:r>
            <a:r>
              <a:rPr b="0" lang="he-I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ambium (divisiones periclinal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he-I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ción xilema y floema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cimiento Celular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asta tamaño definitivo del ele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ared primaria), es en longitud y en diámetro o en ambos sentidos dependien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ele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Engrosamiento Celular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formación de la pared secund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Lignificación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Muerte Celular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05040" y="23004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85800" y="4343400"/>
            <a:ext cx="3962520" cy="22575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724120" y="23097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724280" y="4343400"/>
            <a:ext cx="3924360" cy="2238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222920" y="3733920"/>
            <a:ext cx="69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DE  UNA CELULA VIVA A FIBRA DE MADE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38080" y="304920"/>
            <a:ext cx="7010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ben ten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Times New Roman"/>
              </a:rPr>
              <a:t>crecimiento en diámetro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l tallo, esto se logra a través de la actividad del cambium vas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71500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7621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IPOS DE PLANTAS LEÑO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600200"/>
            <a:ext cx="373356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Árbole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: Son plantas leñosas que se caracterizan por tener más de 7 m de altu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rbusto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: Tienen menos de 7 m de altura, poseen por lo general mas de un e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iana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: Son plantas trepadoras que se caracterizan por tener sistema radicular aér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781680" y="3962520"/>
            <a:ext cx="1851120" cy="25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800600" y="2895480"/>
            <a:ext cx="1714680" cy="17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3"/>
          <a:srcRect l="4261" t="5529" r="1231" b="5576"/>
          <a:stretch/>
        </p:blipFill>
        <p:spPr>
          <a:xfrm>
            <a:off x="6789600" y="981000"/>
            <a:ext cx="1849680" cy="259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38080" y="38088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LASIFICACION DE LAS PLA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5238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066680"/>
            <a:ext cx="7924680" cy="63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En el Reino Vegetal hay cuatro Divisiones principales; cada una dividida en</a:t>
            </a:r>
            <a:r>
              <a:rPr b="0" lang="es-ES_tradnl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clases, órdenes, familias, géneros y espe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TALO</a:t>
            </a:r>
            <a:r>
              <a:rPr b="1" lang="es-MX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PHYTA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: 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algas, hongos, bacteria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BRIO</a:t>
            </a:r>
            <a:r>
              <a:rPr b="1" lang="es-MX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PHYTA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: 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hepáticas y mus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PTERIDOPHYTA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: 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helech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SPERMATOPHYTA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: 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Gimnospermas y Angiospermas</a:t>
            </a:r>
            <a:r>
              <a:rPr b="0" lang="es-ES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OPHYTA :</a:t>
            </a:r>
            <a:r>
              <a:rPr b="1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e-IL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e-IL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LANTAS NO VASCULARES</a:t>
            </a:r>
            <a:r>
              <a:rPr b="1" lang="es-ES_tradnl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20574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62160" y="22525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3247920" cy="2352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76560" y="22575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48320" y="990720"/>
            <a:ext cx="3219480" cy="2342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066680" y="3352680"/>
            <a:ext cx="656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pátic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g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72920" y="3952800"/>
            <a:ext cx="6756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ERIDOPHYTA: </a:t>
            </a:r>
            <a:r>
              <a:rPr b="1" lang="he-IL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.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e-IL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LANTAS VASC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r>
              <a:rPr b="1" lang="he-IL" sz="2400" spc="-1" strike="noStrike" u="sng">
                <a:solidFill>
                  <a:srgbClr val="008080"/>
                </a:solidFill>
                <a:uFillTx/>
                <a:latin typeface="Book Antiqua"/>
                <a:ea typeface="Times New Roman"/>
              </a:rPr>
              <a:t>Plantas sin semillas</a:t>
            </a:r>
            <a:r>
              <a:rPr b="1" lang="es-ES_tradnl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Helech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572000" y="4724280"/>
            <a:ext cx="220968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1066680"/>
            <a:ext cx="5486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304920"/>
            <a:ext cx="822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SPERMATOPHYTA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he-IL" sz="2400" spc="-1" strike="noStrike">
                <a:solidFill>
                  <a:srgbClr val="0000ff"/>
                </a:solidFill>
                <a:latin typeface="Book Antiqua"/>
                <a:ea typeface="Times New Roman"/>
              </a:rPr>
              <a:t>I</a:t>
            </a:r>
            <a:r>
              <a:rPr b="1" lang="es-ES_tradnl" sz="2400" spc="-1" strike="noStrike">
                <a:solidFill>
                  <a:srgbClr val="0000ff"/>
                </a:solidFill>
                <a:latin typeface="Book Antiqua"/>
                <a:ea typeface="Times New Roman"/>
              </a:rPr>
              <a:t>I.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r>
              <a:rPr b="1" lang="he-IL" sz="2400" spc="-1" strike="noStrike">
                <a:solidFill>
                  <a:srgbClr val="0000ff"/>
                </a:solidFill>
                <a:latin typeface="Book Antiqua"/>
                <a:ea typeface="Times New Roman"/>
              </a:rPr>
              <a:t>PLANTAS VASC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8080"/>
                </a:solidFill>
                <a:uFillTx/>
                <a:latin typeface="Book Antiqua"/>
                <a:ea typeface="Times New Roman"/>
              </a:rPr>
              <a:t>Plantas con semi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1371600"/>
            <a:ext cx="2895480" cy="77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Gimnospermas</a:t>
            </a:r>
            <a:r>
              <a:rPr b="0" i="1" lang="es-ES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</a:t>
            </a:r>
            <a:r>
              <a:rPr b="0" i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Cycad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</a:t>
            </a:r>
            <a:r>
              <a:rPr b="0" i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Ginko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</a:t>
            </a:r>
            <a:r>
              <a:rPr b="0" i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Gne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505320" y="1371600"/>
            <a:ext cx="1979640" cy="1230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505320" y="2743200"/>
            <a:ext cx="1981080" cy="1816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715000" y="2743200"/>
            <a:ext cx="1803240" cy="1828800"/>
          </a:xfrm>
          <a:prstGeom prst="rect">
            <a:avLst/>
          </a:prstGeom>
          <a:ln w="0">
            <a:noFill/>
          </a:ln>
        </p:spPr>
      </p:pic>
      <p:pic>
        <p:nvPicPr>
          <p:cNvPr id="75" name="3160-0132Ephed2" descr="Ephedra sp., female flowers - New Mexico"/>
          <p:cNvPicPr/>
          <p:nvPr/>
        </p:nvPicPr>
        <p:blipFill>
          <a:blip r:embed="rId4"/>
          <a:stretch/>
        </p:blipFill>
        <p:spPr>
          <a:xfrm>
            <a:off x="3505320" y="4648320"/>
            <a:ext cx="1523880" cy="1752480"/>
          </a:xfrm>
          <a:prstGeom prst="rect">
            <a:avLst/>
          </a:prstGeom>
          <a:ln w="0">
            <a:noFill/>
          </a:ln>
        </p:spPr>
      </p:pic>
      <p:pic>
        <p:nvPicPr>
          <p:cNvPr id="76" name="3160-0133Ephed2" descr="Ephedra sp., male flowers - New Mexico"/>
          <p:cNvPicPr/>
          <p:nvPr/>
        </p:nvPicPr>
        <p:blipFill>
          <a:blip r:embed="rId5"/>
          <a:stretch/>
        </p:blipFill>
        <p:spPr>
          <a:xfrm>
            <a:off x="5715000" y="46483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5715000" y="1371600"/>
            <a:ext cx="21384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948120" y="21337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380360" y="4076640"/>
            <a:ext cx="1476360" cy="2590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95280" y="3429000"/>
            <a:ext cx="833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s Gimnospermas son las más antiguas, pero queda un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uy reducido de ellas. Sólo existen 650   formas hoy día agrupa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as en 4 órdenes las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Cycadales, Ginkoales, Coniferales y Gnetale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s Gimnospermas nativas en Chile están representadas por 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guientes Famili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raucariaceas – Cupresaceas - Podocarpac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4520" y="284040"/>
            <a:ext cx="18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Book Antiqua"/>
              </a:rPr>
              <a:t>Conif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516720" y="260280"/>
            <a:ext cx="2216160" cy="29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3" name="" descr="Bosque de Ciprés de la Cordillera"/>
          <p:cNvPicPr/>
          <p:nvPr/>
        </p:nvPicPr>
        <p:blipFill>
          <a:blip r:embed="rId3"/>
          <a:stretch/>
        </p:blipFill>
        <p:spPr>
          <a:xfrm>
            <a:off x="1476360" y="765000"/>
            <a:ext cx="446400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4314960" cy="28684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724360" y="18900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raucariac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435640" y="692280"/>
            <a:ext cx="2381040" cy="2971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851280" y="3789360"/>
            <a:ext cx="4319640" cy="28306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1042920" y="3213000"/>
            <a:ext cx="22510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9T19:54:09Z</dcterms:created>
  <dc:creator>Compaq</dc:creator>
  <dc:description/>
  <dc:language>en-US</dc:language>
  <cp:lastModifiedBy>Monica Rallo</cp:lastModifiedBy>
  <dcterms:modified xsi:type="dcterms:W3CDTF">2011-11-22T20:31:05Z</dcterms:modified>
  <cp:revision>33</cp:revision>
  <dc:subject/>
  <dc:title>Presentación de PowerPoint</dc:title>
</cp:coreProperties>
</file>