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0.gif" ContentType="image/gif"/>
  <Override PartName="/ppt/media/image53.png" ContentType="image/png"/>
  <Override PartName="/ppt/media/image31.jpeg" ContentType="image/jpeg"/>
  <Override PartName="/ppt/media/image34.png" ContentType="image/png"/>
  <Override PartName="/ppt/media/image12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54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02E-EFDD-4264-9DB5-BECD9079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540-B439-41B4-8242-D9FEA44A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2DD-76DA-49E9-BA75-ED06DE52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07A-3E7E-4870-8CAC-D377EE91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5DF-AEDA-44AF-B9DF-A1C8A267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88A-F6BD-4342-A450-9BCB692D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FE1-184E-49FD-B4C5-AB0E38CB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EBA-74C1-42A6-A51D-3F1010A8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09B-3E3C-416D-ACAA-252B1724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AEE-416E-4A19-B393-8499CB6A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AA2-105F-4132-89D9-0BF19E3F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2E7-CA5F-41AF-AA05-FDBFC705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3A34-A073-4FCC-BC5E-1C3A42CCA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ECIMIENTO DEL ÁRBOL Y FORMACIÓN DE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 plantas leñosas, tipos y clas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Tej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divisiones de las células iniciales del camb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78600" y="5710320"/>
            <a:ext cx="164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ónica Ra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2646360" cy="4104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905440" y="3284640"/>
            <a:ext cx="3238560" cy="311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18760" y="5950080"/>
            <a:ext cx="23266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iprés de las Guaite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000" y="6021360"/>
            <a:ext cx="792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987640" y="1197000"/>
            <a:ext cx="2903400" cy="3600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74920" y="4365720"/>
            <a:ext cx="2264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iprés de la Cordil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25920" y="43344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PRESAC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4103640" cy="2436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59640" y="5516640"/>
            <a:ext cx="932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leu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260280"/>
            <a:ext cx="205380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Podocarpus nubige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Podocarpaceae Saxegothaea conspicua"/>
          <p:cNvPicPr/>
          <p:nvPr/>
        </p:nvPicPr>
        <p:blipFill>
          <a:blip r:embed="rId3"/>
          <a:stretch/>
        </p:blipFill>
        <p:spPr>
          <a:xfrm>
            <a:off x="4572000" y="189000"/>
            <a:ext cx="4289400" cy="6421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24360" y="6094440"/>
            <a:ext cx="23371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Saxegothaea conspic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1640" y="280368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docarp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260280"/>
            <a:ext cx="701028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ngiosper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 Monocotiledóneas</a:t>
            </a:r>
            <a:r>
              <a:rPr b="1" i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 Dicotiledóneas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48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palmeras.jpg image by xonistica"/>
          <p:cNvPicPr/>
          <p:nvPr/>
        </p:nvPicPr>
        <p:blipFill>
          <a:blip r:embed="rId1"/>
          <a:stretch/>
        </p:blipFill>
        <p:spPr>
          <a:xfrm>
            <a:off x="4859280" y="189000"/>
            <a:ext cx="4103640" cy="307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319716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92720" y="3357720"/>
            <a:ext cx="2808360" cy="33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ificación Taxonomic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Leng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on - Spermatophyt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 - Angiosperma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clase - Dicotyledonea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den - Fagal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milia – Nothofagaceae (Fagaceae)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o -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Nothofagu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cie -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umi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7160" y="5451480"/>
            <a:ext cx="80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mbre cient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hofagus pumil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oepp.et. Endl.)Kra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13372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tejidos embr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lanta madura. Las células del meristem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den indefinidamen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ándose así nuevas células a la pl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so de crecimiento y especialización morfo-fisiológica de las células producidas, es llamado </a:t>
            </a:r>
            <a:r>
              <a:rPr b="1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ación 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6600" y="12952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72280" y="838080"/>
            <a:ext cx="377172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37800" y="30492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ORMACIÓN DE LA M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222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04920"/>
            <a:ext cx="4952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árbol se pueden distingu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tes tipos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j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át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éstos se pu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ificar de acuerdo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posi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 apic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encuen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bicado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pice d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órg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 later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bica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feria d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 órg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la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 los tejidos que el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598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271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44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egún su ori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ristema primario: prov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rectamente de células que nun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n perdido su capac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ristema secundario: se orig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partir de células diferenci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nuevamente adquieren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de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39895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30492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primar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 un crecimiento de  tipo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ngitudinal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se origina por la producción de nuevas células en 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pic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; éste se encuentra ubicado en el ápice del tallo, ramas y raí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secundar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el incremento e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ámet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l tallo, ramas y raíces y es producido por  u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 later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l cambium vas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499572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340360" y="33012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4154" t="21685" r="20833" b="24863"/>
          <a:stretch/>
        </p:blipFill>
        <p:spPr>
          <a:xfrm>
            <a:off x="762120" y="3886200"/>
            <a:ext cx="3752640" cy="197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" y="198108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s una fila de células meristemáticas situadas entre 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ilema secund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loema secund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43360" y="1752480"/>
            <a:ext cx="44006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429000" cy="2732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480060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380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L ORIGEN DE LA M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19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RACTERÍSTICAS DE LAS PLANTAS LEÑ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75248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en S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tas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Xilema y Floe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tas 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perenn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deben vivir por muchos a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ner un tal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persis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año en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3429000" cy="27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54816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oto 2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204804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497196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10666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élulas en el cambium vascular son de dos tip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les fusiform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dan origen a las células orientadas longitudinalmente en el xilema y floema, son células de forma alargada, con sus extremos cer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les radial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dan origen a los radios leñosos y elementos orientados en sentido transversal en xilema y floema; son células de forma isodiamétrica y más pequeñ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0920" y="53352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ÉLULAS CAMB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7914240" y="2448720"/>
            <a:ext cx="1149480" cy="366480"/>
          </a:xfrm>
          <a:prstGeom prst="hexagon">
            <a:avLst>
              <a:gd name="adj" fmla="val 43519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4114800"/>
            <a:ext cx="68580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2286000" cy="541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57600" y="838080"/>
            <a:ext cx="4038480" cy="3319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657600" y="4343400"/>
            <a:ext cx="40384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200" y="457200"/>
            <a:ext cx="40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ulas inici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48696" t="6116" r="2610" b="0"/>
          <a:stretch/>
        </p:blipFill>
        <p:spPr>
          <a:xfrm>
            <a:off x="457200" y="1676520"/>
            <a:ext cx="4267080" cy="468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5193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72200" y="380880"/>
            <a:ext cx="76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ES DE LAS CÉLULAS CAMB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9120" y="12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840" y="1303200"/>
            <a:ext cx="8011800" cy="25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ticl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de la célula en forma perpendicular al e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inal de 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cl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se divide la célula por su eje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transvers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divide la célula en forma oblicua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ecto a su eje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00000" y="4005360"/>
            <a:ext cx="1587240" cy="1793880"/>
            <a:chOff x="900000" y="4005360"/>
            <a:chExt cx="1587240" cy="1793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33772" t="21159" r="32431" b="15166"/>
            <a:stretch/>
          </p:blipFill>
          <p:spPr>
            <a:xfrm>
              <a:off x="1239480" y="4005360"/>
              <a:ext cx="95724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900000" y="4945320"/>
              <a:ext cx="1587240" cy="1440"/>
            </a:xfrm>
            <a:custGeom>
              <a:avLst/>
              <a:gdLst/>
              <a:ahLst/>
              <a:rect l="l" t="t" r="r" b="b"/>
              <a:pathLst>
                <a:path w="1000" h="1">
                  <a:moveTo>
                    <a:pt x="0" y="0"/>
                  </a:moveTo>
                  <a:lnTo>
                    <a:pt x="10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rcRect l="33772" t="21159" r="32431" b="15166"/>
          <a:stretch/>
        </p:blipFill>
        <p:spPr>
          <a:xfrm>
            <a:off x="3708360" y="4005360"/>
            <a:ext cx="957240" cy="17938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5651640" y="4005360"/>
            <a:ext cx="1295280" cy="1793880"/>
            <a:chOff x="5651640" y="4005360"/>
            <a:chExt cx="1295280" cy="17938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rcRect l="33772" t="21159" r="32431" b="15166"/>
            <a:stretch/>
          </p:blipFill>
          <p:spPr>
            <a:xfrm>
              <a:off x="5867280" y="4005360"/>
              <a:ext cx="95724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flipH="1">
              <a:off x="5651640" y="4365720"/>
              <a:ext cx="1295280" cy="13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995640" y="3716280"/>
            <a:ext cx="12960" cy="2387520"/>
          </a:xfrm>
          <a:custGeom>
            <a:avLst/>
            <a:gdLst/>
            <a:ahLst/>
            <a:rect l="l" t="t" r="r" b="b"/>
            <a:pathLst>
              <a:path w="8" h="1504">
                <a:moveTo>
                  <a:pt x="8" y="0"/>
                </a:moveTo>
                <a:lnTo>
                  <a:pt x="0" y="15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6400" y="59468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nticl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4360" y="616572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ericl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72600" y="594684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seudotrans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zONA cambial2" descr=""/>
          <p:cNvPicPr/>
          <p:nvPr/>
        </p:nvPicPr>
        <p:blipFill>
          <a:blip r:embed="rId1"/>
          <a:srcRect l="4211" t="12530" r="2646" b="0"/>
          <a:stretch/>
        </p:blipFill>
        <p:spPr>
          <a:xfrm>
            <a:off x="684360" y="476280"/>
            <a:ext cx="78483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3635280" cy="560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248520" y="3733920"/>
            <a:ext cx="2011320" cy="2400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06720" y="406440"/>
            <a:ext cx="38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 CAMB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0" y="457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NILLOS 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937400" cy="336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4240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42720" y="533520"/>
            <a:ext cx="44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ACION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21932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Celular</a:t>
            </a: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mbium (divisiones periclinal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ción xilema y floem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cimiento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sta tamaño definitivo del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ed primaria), es en longitud y en diámetro o en ambos sentidos dependie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ele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ngrosamiento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ormación de la pared secund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Lignificació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Muerte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5040" y="2300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3962520" cy="2257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24120" y="2309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924360" cy="2238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22920" y="3733920"/>
            <a:ext cx="69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  UNA CELULA VIVA A FIBRA DE MAD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304920"/>
            <a:ext cx="7010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en ten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crecimiento en diámetr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l tallo, esto se logra a través de la actividad del cambium 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762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POS DE PLANTAS LEÑ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37335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Árbol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Son plantas leñosas que se caracterizan por tener más de 7 m de al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rbu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Tienen menos de 7 m de altura, poseen por lo general mas de un 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ia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Son plantas trepadoras que se caracterizan por tener sistema radicular aér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18511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171468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rcRect l="4261" t="5529" r="1231" b="5576"/>
          <a:stretch/>
        </p:blipFill>
        <p:spPr>
          <a:xfrm>
            <a:off x="6789600" y="981000"/>
            <a:ext cx="184968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380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LASIFICACION DE LAS PLA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523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066680"/>
            <a:ext cx="7924680" cy="63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n el Reino Vegetal hay cuatro Divisiones principales; cada una dividida en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s, órdenes, familias, géneros y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ALO</a:t>
            </a: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lgas, hongos, bacteria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RIO</a:t>
            </a: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páticas y mu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TERIDO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l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PERMATO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mnospermas y Angiospermas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OPHYTA :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TAS NO VASCULARES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2057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62160" y="2252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247920" cy="2352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76560" y="2257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3219480" cy="2342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335268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át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2920" y="3952800"/>
            <a:ext cx="6756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ERIDOPHYTA: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.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TAS 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8080"/>
                </a:solidFill>
                <a:uFillTx/>
                <a:latin typeface="Book Antiqua"/>
                <a:ea typeface="Times New Roman"/>
              </a:rPr>
              <a:t>Plantas sin semillas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l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2209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06668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0492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PERMATOPHYTA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I.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PLANTAS 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80"/>
                </a:solidFill>
                <a:uFillTx/>
                <a:latin typeface="Book Antiqua"/>
                <a:ea typeface="Times New Roman"/>
              </a:rPr>
              <a:t>Plantas con semi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71600"/>
            <a:ext cx="289548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mnospermas</a:t>
            </a:r>
            <a:r>
              <a:rPr b="0" i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yca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nko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n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1979640" cy="1230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05320" y="2743200"/>
            <a:ext cx="1981080" cy="1816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15000" y="2743200"/>
            <a:ext cx="18032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3160-0132Ephed2" descr="Ephedra sp., female flowers - New Mexico"/>
          <p:cNvPicPr/>
          <p:nvPr/>
        </p:nvPicPr>
        <p:blipFill>
          <a:blip r:embed="rId4"/>
          <a:stretch/>
        </p:blipFill>
        <p:spPr>
          <a:xfrm>
            <a:off x="3505320" y="464832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3160-0133Ephed2" descr="Ephedra sp., male flowers - New Mexico"/>
          <p:cNvPicPr/>
          <p:nvPr/>
        </p:nvPicPr>
        <p:blipFill>
          <a:blip r:embed="rId5"/>
          <a:stretch/>
        </p:blipFill>
        <p:spPr>
          <a:xfrm>
            <a:off x="5715000" y="46483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715000" y="1371600"/>
            <a:ext cx="2138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48120" y="2133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380360" y="4076640"/>
            <a:ext cx="1476360" cy="2590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3429000"/>
            <a:ext cx="83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Gimnospermas son las más antiguas, pero queda un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uy reducido de ellas. Sólo existen 650   formas hoy día agrup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s en 4 órdenes las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ycadales, Ginkoales, Coniferales y Gnetal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Gimnospermas nativas en Chile están representadas por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guientes Famil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raucariaceas – Cupresaceas - Podocarp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4520" y="28404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Book Antiqua"/>
              </a:rPr>
              <a:t>Conif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516720" y="260280"/>
            <a:ext cx="221616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Bosque de Ciprés de la Cordillera"/>
          <p:cNvPicPr/>
          <p:nvPr/>
        </p:nvPicPr>
        <p:blipFill>
          <a:blip r:embed="rId3"/>
          <a:stretch/>
        </p:blipFill>
        <p:spPr>
          <a:xfrm>
            <a:off x="1476360" y="765000"/>
            <a:ext cx="446400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314960" cy="2868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360" y="1890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raucari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435640" y="692280"/>
            <a:ext cx="238104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51280" y="3789360"/>
            <a:ext cx="4319640" cy="2830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042920" y="3213000"/>
            <a:ext cx="2251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19:54:09Z</dcterms:created>
  <dc:creator>Compaq</dc:creator>
  <dc:description/>
  <dc:language>en-US</dc:language>
  <cp:lastModifiedBy>Monica Rallo</cp:lastModifiedBy>
  <dcterms:modified xsi:type="dcterms:W3CDTF">2011-11-22T20:31:05Z</dcterms:modified>
  <cp:revision>33</cp:revision>
  <dc:subject/>
  <dc:title>Presentación de PowerPoint</dc:title>
</cp:coreProperties>
</file>