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17.jpeg" ContentType="image/jpeg"/>
  <Override PartName="/ppt/media/image49.gif" ContentType="image/gif"/>
  <Override PartName="/ppt/media/image3.png" ContentType="image/png"/>
  <Override PartName="/ppt/media/image3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0.gif" ContentType="image/gif"/>
  <Override PartName="/ppt/media/image53.png" ContentType="image/png"/>
  <Override PartName="/ppt/media/image31.jpeg" ContentType="image/jpeg"/>
  <Override PartName="/ppt/media/image34.png" ContentType="image/png"/>
  <Override PartName="/ppt/media/image12.jpeg" ContentType="image/jpe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11.jpeg" ContentType="image/jpeg"/>
  <Override PartName="/ppt/media/image48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54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0565-2DAB-4C2F-B7DC-48D88391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7CF-FADD-4053-BD19-D6C93EBB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2FD-8D6D-4593-B7A6-79226154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4D33-7540-4B6E-B894-29C294479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56B1-0608-48A2-BEF3-7CFAF30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B1F-7F34-43A5-ACC9-7E250D6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44C-03A1-4C7A-AEB3-F1A60C9E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2E31-D6C8-4244-B5F7-17B666C7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6778-ED65-4EA2-AB5E-202F9F61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57E-73B8-46EC-894E-A667DF46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101-C776-4D1A-ABFB-02FB87F1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B935-4945-4306-83DB-34CC29AC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3DF8-3819-4F65-9AD3-4F268B28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CIMIENTO DEL ÁRBOL Y FORMACIÓN DELA MAD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 plantas leñosas, tipos y clas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Tej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divisiones de las células iniciales del camb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978600" y="5710320"/>
            <a:ext cx="164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ónica Ra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2646360" cy="4104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905440" y="3284640"/>
            <a:ext cx="3238560" cy="311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8760" y="5950080"/>
            <a:ext cx="232668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s Guaite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000" y="6021360"/>
            <a:ext cx="79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903400" cy="3600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74920" y="4365720"/>
            <a:ext cx="2264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iprés de la Cordil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25920" y="433440"/>
            <a:ext cx="19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PRESAC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4000" y="3500280"/>
            <a:ext cx="41036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59640" y="5516640"/>
            <a:ext cx="93204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leu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260280"/>
            <a:ext cx="205380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000000"/>
                </a:solidFill>
                <a:latin typeface="Times New Roman"/>
              </a:rPr>
              <a:t>Podocarpus nubige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Podocarpaceae Saxegothaea conspicua"/>
          <p:cNvPicPr/>
          <p:nvPr/>
        </p:nvPicPr>
        <p:blipFill>
          <a:blip r:embed="rId3"/>
          <a:stretch/>
        </p:blipFill>
        <p:spPr>
          <a:xfrm>
            <a:off x="4572000" y="189000"/>
            <a:ext cx="4289400" cy="6421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24360" y="6094440"/>
            <a:ext cx="23371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Saxegothaea conspic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1640" y="280368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701028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ngiosper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Monocotiledóneas</a:t>
            </a:r>
            <a:r>
              <a:rPr b="1" i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 Dicotiledóneas</a:t>
            </a:r>
            <a:r>
              <a:rPr b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1484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palmeras.jpg image by xonistica"/>
          <p:cNvPicPr/>
          <p:nvPr/>
        </p:nvPicPr>
        <p:blipFill>
          <a:blip r:embed="rId1"/>
          <a:stretch/>
        </p:blipFill>
        <p:spPr>
          <a:xfrm>
            <a:off x="4859280" y="189000"/>
            <a:ext cx="4103640" cy="307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32000" y="3284640"/>
            <a:ext cx="3197160" cy="32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292720" y="3357720"/>
            <a:ext cx="2808360" cy="33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ificación Taxonomic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ara Leng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on - Spermatophyta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se - Angiosperm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clase - Dicotyledoneae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den - Fagal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milia – Nothofagaceae (Fagaceae)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o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Nothofagus</a:t>
            </a:r>
            <a:br>
              <a:rPr sz="3200"/>
            </a:b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cie - </a:t>
            </a: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umi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7160" y="5451480"/>
            <a:ext cx="809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mbre cient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hofagus pumil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Poepp.et. Endl.)K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133720"/>
            <a:ext cx="5486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tejidos embr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planta madura. Las células del meristem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n indefinidamen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gándose así nuevas células a la pl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proceso de crecimiento y especialización morfo-fisiológica de las células producidas, es llamado </a:t>
            </a:r>
            <a:r>
              <a:rPr b="1" i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ón cel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6600" y="1295280"/>
            <a:ext cx="22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72280" y="838080"/>
            <a:ext cx="377172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837800" y="304920"/>
            <a:ext cx="52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FORMACIÓ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4222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304920"/>
            <a:ext cx="4952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árbol se pueden distingu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tes tipos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át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éstos se pu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ificar de acuerdo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posició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apic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encuen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bicado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pice de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órg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 lateral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bica en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feria d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 órg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stem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alar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 los tejidos que el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9892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271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144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) Según su ori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ristema primario: prov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rectamente de células que nun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n perdido su capa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ristema secundario: se orig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 partir de células diferenci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nuevamente adquieren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8720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de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98952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04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prim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 un crecimiento de  tipo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ngitudinal,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 se origina por la producción de nuevas células en 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pic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; éste se encuentra ubicado en el ápice del tallo, ramas y raí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secundari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incremento e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ámetr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l tallo, ramas y raíces y es producido por  u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ristema latera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, el cambium vas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9957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40360" y="330120"/>
            <a:ext cx="40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4154" t="21685" r="20833" b="24863"/>
          <a:stretch/>
        </p:blipFill>
        <p:spPr>
          <a:xfrm>
            <a:off x="762120" y="3886200"/>
            <a:ext cx="3752640" cy="197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8600" y="1981080"/>
            <a:ext cx="449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mbium vasc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s una fila de células meristemáticas situadas entre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xilema secundari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y el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floema secund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43360" y="1752480"/>
            <a:ext cx="440064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429000" cy="27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3429000" cy="18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480060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380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ORIGEN DE LA MAD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219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ARACTERÍSTICAS DE LAS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7524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Xilema y Flo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lantas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enn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(deben vivir por muchos añ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ener un tall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persis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año en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429000" cy="2732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54816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foto 2" descr=""/>
          <p:cNvPicPr/>
          <p:nvPr/>
        </p:nvPicPr>
        <p:blipFill>
          <a:blip r:embed="rId2"/>
          <a:stretch/>
        </p:blipFill>
        <p:spPr>
          <a:xfrm>
            <a:off x="5181480" y="3733920"/>
            <a:ext cx="20480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497196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480" y="10666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células en el cambium vascular son de dos tip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fusiform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as células orientadas longitudinalmente en el xilema y floema, son células de forma alargada, con sus extremos cer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ales radiales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dan origen a los radios leñosos y elementos orientados en sentido transversal en xilema y floema; son células de forma isodiamétrica y más pequeñ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1520"/>
                <a:tab algn="l" pos="182520"/>
                <a:tab algn="l" pos="66816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50920" y="533520"/>
            <a:ext cx="58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POS DE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7914240" y="2448720"/>
            <a:ext cx="1149480" cy="366480"/>
          </a:xfrm>
          <a:prstGeom prst="hexagon">
            <a:avLst>
              <a:gd name="adj" fmla="val 43519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4114800"/>
            <a:ext cx="685800" cy="6094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2286000" cy="541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4038480" cy="3319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40384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4200" y="457200"/>
            <a:ext cx="40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ulas inici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48696" t="6116" r="2610" b="0"/>
          <a:stretch/>
        </p:blipFill>
        <p:spPr>
          <a:xfrm>
            <a:off x="457200" y="1676520"/>
            <a:ext cx="4267080" cy="4680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029200" y="1676520"/>
            <a:ext cx="351936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72200" y="380880"/>
            <a:ext cx="76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ONES DE LAS CÉLULAS CAMB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9120" y="12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840" y="1303200"/>
            <a:ext cx="8011800" cy="25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ivide la célula en forma perpendicular al 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inal d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cl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e divide la célula por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transvers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e divide la célula en forma oblicua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ecto a su eje longitud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00000" y="4005360"/>
            <a:ext cx="1587240" cy="1793880"/>
            <a:chOff x="900000" y="4005360"/>
            <a:chExt cx="1587240" cy="1793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33772" t="21159" r="32431" b="15166"/>
            <a:stretch/>
          </p:blipFill>
          <p:spPr>
            <a:xfrm>
              <a:off x="12394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900000" y="4945320"/>
              <a:ext cx="1587240" cy="1440"/>
            </a:xfrm>
            <a:custGeom>
              <a:avLst/>
              <a:gdLst/>
              <a:ahLst/>
              <a:rect l="l" t="t" r="r" b="b"/>
              <a:pathLst>
                <a:path w="1000" h="1">
                  <a:moveTo>
                    <a:pt x="0" y="0"/>
                  </a:moveTo>
                  <a:lnTo>
                    <a:pt x="100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2"/>
          <a:srcRect l="33772" t="21159" r="32431" b="15166"/>
          <a:stretch/>
        </p:blipFill>
        <p:spPr>
          <a:xfrm>
            <a:off x="3708360" y="4005360"/>
            <a:ext cx="957240" cy="17938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5651640" y="4005360"/>
            <a:ext cx="1295280" cy="1793880"/>
            <a:chOff x="5651640" y="4005360"/>
            <a:chExt cx="1295280" cy="17938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rcRect l="33772" t="21159" r="32431" b="15166"/>
            <a:stretch/>
          </p:blipFill>
          <p:spPr>
            <a:xfrm>
              <a:off x="5867280" y="4005360"/>
              <a:ext cx="957240" cy="17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 flipH="1">
              <a:off x="5651640" y="4365720"/>
              <a:ext cx="1295280" cy="13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995640" y="3716280"/>
            <a:ext cx="12960" cy="2387520"/>
          </a:xfrm>
          <a:custGeom>
            <a:avLst/>
            <a:gdLst/>
            <a:ahLst/>
            <a:rect l="l" t="t" r="r" b="b"/>
            <a:pathLst>
              <a:path w="8" h="1504">
                <a:moveTo>
                  <a:pt x="8" y="0"/>
                </a:moveTo>
                <a:lnTo>
                  <a:pt x="0" y="15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66400" y="59468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nt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64360" y="616572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ericl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72600" y="594684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Pseudotrans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zONA cambial2" descr=""/>
          <p:cNvPicPr/>
          <p:nvPr/>
        </p:nvPicPr>
        <p:blipFill>
          <a:blip r:embed="rId1"/>
          <a:srcRect l="4211" t="12530" r="2646" b="0"/>
          <a:stretch/>
        </p:blipFill>
        <p:spPr>
          <a:xfrm>
            <a:off x="684360" y="476280"/>
            <a:ext cx="784836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65760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3635280" cy="560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248520" y="3733920"/>
            <a:ext cx="2011320" cy="2400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06720" y="40644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 CAM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NILLOS AN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937400" cy="336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240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42720" y="533520"/>
            <a:ext cx="44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ERENCIACION CE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219320"/>
            <a:ext cx="815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ión Celular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mbium (divisiones periclinal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e-I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ción xilema y floem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ci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tamaño definitivo del ele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ed primaria), es en longitud y en diámetro o en ambos sentidos dependien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ele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Engrosamiento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mación de la pared secunda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Lignificación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Muerte Celular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5040" y="23004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3962520" cy="2257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4120" y="23097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24280" y="4343400"/>
            <a:ext cx="3924360" cy="2238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22920" y="3733920"/>
            <a:ext cx="69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  UNA CELULA VIVA A FIBRA DE MADE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304920"/>
            <a:ext cx="7010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ben ten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Times New Roman"/>
              </a:rPr>
              <a:t>crecimiento en diámetr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l tallo, esto se logra a través de la actividad del cambium 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71500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762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IPOS DE PLANTAS LEÑ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00200"/>
            <a:ext cx="37335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Árbo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leñosas que se caracterizan por tener más de 7 m 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rbu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Tienen menos de 7 m de altura, poseen por lo general mas de un e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ia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: Son plantas trepadoras que se caracterizan por tener sistema radicular aé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8511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2895480"/>
            <a:ext cx="171468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rcRect l="4261" t="5529" r="1231" b="5576"/>
          <a:stretch/>
        </p:blipFill>
        <p:spPr>
          <a:xfrm>
            <a:off x="6789600" y="981000"/>
            <a:ext cx="1849680" cy="259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LASIFICACION DE LAS PLA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523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066680"/>
            <a:ext cx="7924680" cy="63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En el Reino Vegetal hay cuatro Divisiones principales; cada una dividida en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lases, órdenes, familias, géneros y espe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TAL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lgas, hongos, bacteri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O</a:t>
            </a: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páticas y mu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PTERID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: 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 y Angiospermas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OPHYTA :</a:t>
            </a:r>
            <a:r>
              <a:rPr b="1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NO VASCULARE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057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62160" y="22525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247920" cy="2352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76560" y="2257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990720"/>
            <a:ext cx="3219480" cy="234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66680" y="3352680"/>
            <a:ext cx="65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átic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g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2920" y="3952800"/>
            <a:ext cx="675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ERIDOPHYTA: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sin semillas</a:t>
            </a:r>
            <a:r>
              <a:rPr b="1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Hel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4724280"/>
            <a:ext cx="2209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066680"/>
            <a:ext cx="5486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3049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PERMATOPHYTA</a:t>
            </a:r>
            <a:r>
              <a:rPr b="0" lang="es-MX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</a:t>
            </a:r>
            <a:r>
              <a:rPr b="1" lang="es-ES_tradn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I.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he-IL" sz="2400" spc="-1" strike="noStrike">
                <a:solidFill>
                  <a:srgbClr val="0000ff"/>
                </a:solidFill>
                <a:latin typeface="Book Antiqua"/>
                <a:ea typeface="Times New Roman"/>
              </a:rPr>
              <a:t>PLANTAS VAS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8080"/>
                </a:solidFill>
                <a:uFillTx/>
                <a:latin typeface="Book Antiqua"/>
                <a:ea typeface="Times New Roman"/>
              </a:rPr>
              <a:t>Plantas con semi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71600"/>
            <a:ext cx="2895480" cy="77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mnospermas</a:t>
            </a:r>
            <a:r>
              <a:rPr b="0" i="1" lang="es-E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Cycad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inko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      </a:t>
            </a:r>
            <a:r>
              <a:rPr b="0" i="1" lang="es-MX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Gne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505320" y="1371600"/>
            <a:ext cx="1979640" cy="1230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505320" y="2743200"/>
            <a:ext cx="1981080" cy="1816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15000" y="2743200"/>
            <a:ext cx="18032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3160-0132Ephed2" descr="Ephedra sp., female flowers - New Mexico"/>
          <p:cNvPicPr/>
          <p:nvPr/>
        </p:nvPicPr>
        <p:blipFill>
          <a:blip r:embed="rId4"/>
          <a:stretch/>
        </p:blipFill>
        <p:spPr>
          <a:xfrm>
            <a:off x="3505320" y="4648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76" name="3160-0133Ephed2" descr="Ephedra sp., male flowers - New Mexico"/>
          <p:cNvPicPr/>
          <p:nvPr/>
        </p:nvPicPr>
        <p:blipFill>
          <a:blip r:embed="rId5"/>
          <a:stretch/>
        </p:blipFill>
        <p:spPr>
          <a:xfrm>
            <a:off x="5715000" y="46483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5715000" y="1371600"/>
            <a:ext cx="213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948120" y="21337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380360" y="4076640"/>
            <a:ext cx="1476360" cy="2590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34290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son las más antiguas, pero queda un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y reducido de ellas. Sólo existen 650   formas hoy día agrup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s en 4 órdenes las </a:t>
            </a: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Cycadales, Ginkoales, Coniferales y Gnetal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s Gimnospermas nativas en Chile están representadas po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guientes Famil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aucariaceas – Cupresaceas - Podocarp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520" y="28404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Conif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516720" y="260280"/>
            <a:ext cx="2216160" cy="29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Bosque de Ciprés de la Cordillera"/>
          <p:cNvPicPr/>
          <p:nvPr/>
        </p:nvPicPr>
        <p:blipFill>
          <a:blip r:embed="rId3"/>
          <a:stretch/>
        </p:blipFill>
        <p:spPr>
          <a:xfrm>
            <a:off x="1476360" y="765000"/>
            <a:ext cx="446400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4314960" cy="2868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18900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raucariac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435640" y="692280"/>
            <a:ext cx="2381040" cy="2971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51280" y="3789360"/>
            <a:ext cx="4319640" cy="2830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042920" y="3213000"/>
            <a:ext cx="2251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19:54:09Z</dcterms:created>
  <dc:creator>Compaq</dc:creator>
  <dc:description/>
  <dc:language>en-US</dc:language>
  <cp:lastModifiedBy>Monica Rallo</cp:lastModifiedBy>
  <dcterms:modified xsi:type="dcterms:W3CDTF">2011-11-22T20:31:05Z</dcterms:modified>
  <cp:revision>33</cp:revision>
  <dc:subject/>
  <dc:title>Presentación de PowerPoint</dc:title>
</cp:coreProperties>
</file>