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0.gif" ContentType="image/gif"/>
  <Override PartName="/ppt/media/image53.png" ContentType="image/png"/>
  <Override PartName="/ppt/media/image31.jpeg" ContentType="image/jpeg"/>
  <Override PartName="/ppt/media/image34.png" ContentType="image/png"/>
  <Override PartName="/ppt/media/image12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510-ED49-4694-AB72-83E19630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553-2196-4CC0-B4D2-B17BC45F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69A-76D6-4D74-94A5-0A4A93AA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B9D-20F1-4B46-8779-8213B63B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85C-75D0-4D4C-8EE0-4DD58216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156-E823-4C0D-9F96-47CCB27F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630-C16F-475E-ACEF-54FD3873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0FF3-41EB-4FB0-8B31-1D0169F5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3C8-8452-4EB5-821D-1C41B483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34F-DD4F-4000-888D-1BABA220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53B-69C4-48FC-A060-A45BA6BD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982-A290-454E-BE65-C0FF4B34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E2F0-DD54-4A97-82C4-E3F4C7D69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CIMIENTO DEL ÁRBOL Y FORMACIÓN DE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 plantas leñosas, tipos y clas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Tej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divisiones de las células iniciales del camb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78600" y="5710320"/>
            <a:ext cx="164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ónica Ra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2646360" cy="410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905440" y="3284640"/>
            <a:ext cx="3238560" cy="311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8760" y="5950080"/>
            <a:ext cx="2326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s Guaite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000" y="6021360"/>
            <a:ext cx="79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987640" y="1197000"/>
            <a:ext cx="2903400" cy="360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4920" y="4365720"/>
            <a:ext cx="2264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 Cordil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25920" y="43344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PRESAC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103640" cy="243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59640" y="5516640"/>
            <a:ext cx="93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leu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260280"/>
            <a:ext cx="205380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Podocarpus nubig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Podocarpaceae Saxegothaea conspicua"/>
          <p:cNvPicPr/>
          <p:nvPr/>
        </p:nvPicPr>
        <p:blipFill>
          <a:blip r:embed="rId3"/>
          <a:stretch/>
        </p:blipFill>
        <p:spPr>
          <a:xfrm>
            <a:off x="4572000" y="189000"/>
            <a:ext cx="4289400" cy="642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24360" y="6094440"/>
            <a:ext cx="23371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Saxegothaea conspic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1640" y="28036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60280"/>
            <a:ext cx="701028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ngiospe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Monocotiledóneas</a:t>
            </a:r>
            <a:r>
              <a:rPr b="1" i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Dicotiledóneas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48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palmeras.jpg image by xonistica"/>
          <p:cNvPicPr/>
          <p:nvPr/>
        </p:nvPicPr>
        <p:blipFill>
          <a:blip r:embed="rId1"/>
          <a:stretch/>
        </p:blipFill>
        <p:spPr>
          <a:xfrm>
            <a:off x="4859280" y="189000"/>
            <a:ext cx="4103640" cy="30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31971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2808360" cy="33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 Taxonomic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Leng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on - Spermatophyt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- Angiosperm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clase - Dicotyledone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den - Fagal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milia – Nothofagaceae (Fagaceae)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o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thofagu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cie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um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160" y="5451480"/>
            <a:ext cx="80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cient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hofagus pumil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oepp.et. Endl.)Kr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13372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tejidos embr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lanta madura. Las células del meristem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n indefinidam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ándose así nuevas células a la pl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so de crecimiento y especialización morfo-fisiológica de las células producidas, es llamado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ón 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6600" y="12952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72280" y="838080"/>
            <a:ext cx="377172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37800" y="30492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ORMACIÓ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222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04920"/>
            <a:ext cx="4952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árbol se pueden disting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tes tipos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j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át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éstos se pu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r de acuerdo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posi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apic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encuen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bicado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pice d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órg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later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bic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a 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 órg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los tejidos que el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98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271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egún su ori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ristema primario: prov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rectamente de células que nu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n perdido su capa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istema secundario: se orig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partir de células diferenci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nuevamente adquieren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de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39895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049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prim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 un crecimiento de  tipo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ngitudinal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se origina por la producción de nuevas células en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ic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éste se encuentra ubicado en el ápice del tallo, ramas y raí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secund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incremento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met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l tallo, ramas y raíces y es producido por  u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 late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l cambium vas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99572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40360" y="33012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4154" t="21685" r="20833" b="24863"/>
          <a:stretch/>
        </p:blipFill>
        <p:spPr>
          <a:xfrm>
            <a:off x="762120" y="3886200"/>
            <a:ext cx="3752640" cy="19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198108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 una fila de células meristemáticas situadas entre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ilema secund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oema secund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43360" y="1752480"/>
            <a:ext cx="44006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480060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ORIGE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ACTERÍSTICAS DE LAS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7524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Xilema y Flo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enn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deben vivir por muchos a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 tal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sis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año en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429000" cy="27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5481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oto 2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0480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9719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0666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élulas en el cambium vascular son de dos ti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fusiform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as células orientadas longitudinalmente en el xilema y floema, son células de forma alargada, con sus extremos cer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radial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os radios leñosos y elementos orientados en sentido transversal en xilema y floema; son células de forma isodiamétrica y más pequeñ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0920" y="53352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7914240" y="2448720"/>
            <a:ext cx="1149480" cy="366480"/>
          </a:xfrm>
          <a:prstGeom prst="hexagon">
            <a:avLst>
              <a:gd name="adj" fmla="val 43519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14800"/>
            <a:ext cx="68580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286000" cy="541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4038480" cy="3319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40384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200" y="457200"/>
            <a:ext cx="40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ulas inici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48696" t="6116" r="2610" b="0"/>
          <a:stretch/>
        </p:blipFill>
        <p:spPr>
          <a:xfrm>
            <a:off x="457200" y="1676520"/>
            <a:ext cx="4267080" cy="468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519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72200" y="3808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ES DE LAS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120" y="12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840" y="1303200"/>
            <a:ext cx="801180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 la célula en forma perpendicular al e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de 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e divide la célula por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transvers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divide la célula en forma oblicu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o a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00000" y="4005360"/>
            <a:ext cx="1587240" cy="1793880"/>
            <a:chOff x="900000" y="4005360"/>
            <a:chExt cx="1587240" cy="1793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33772" t="21159" r="32431" b="15166"/>
            <a:stretch/>
          </p:blipFill>
          <p:spPr>
            <a:xfrm>
              <a:off x="12394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900000" y="4945320"/>
              <a:ext cx="1587240" cy="1440"/>
            </a:xfrm>
            <a:custGeom>
              <a:avLst/>
              <a:gdLst/>
              <a:ahLst/>
              <a:rect l="l" t="t" r="r" b="b"/>
              <a:pathLst>
                <a:path w="1000" h="1">
                  <a:moveTo>
                    <a:pt x="0" y="0"/>
                  </a:moveTo>
                  <a:lnTo>
                    <a:pt x="10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rcRect l="33772" t="21159" r="32431" b="15166"/>
          <a:stretch/>
        </p:blipFill>
        <p:spPr>
          <a:xfrm>
            <a:off x="3708360" y="4005360"/>
            <a:ext cx="957240" cy="17938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651640" y="4005360"/>
            <a:ext cx="1295280" cy="1793880"/>
            <a:chOff x="5651640" y="4005360"/>
            <a:chExt cx="1295280" cy="17938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rcRect l="33772" t="21159" r="32431" b="15166"/>
            <a:stretch/>
          </p:blipFill>
          <p:spPr>
            <a:xfrm>
              <a:off x="58672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flipH="1">
              <a:off x="5651640" y="4365720"/>
              <a:ext cx="1295280" cy="13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995640" y="3716280"/>
            <a:ext cx="12960" cy="2387520"/>
          </a:xfrm>
          <a:custGeom>
            <a:avLst/>
            <a:gdLst/>
            <a:ahLst/>
            <a:rect l="l" t="t" r="r" b="b"/>
            <a:pathLst>
              <a:path w="8" h="1504">
                <a:moveTo>
                  <a:pt x="8" y="0"/>
                </a:moveTo>
                <a:lnTo>
                  <a:pt x="0" y="15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6400" y="59468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360" y="61657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er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2600" y="594684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seudotrans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zONA cambial2" descr=""/>
          <p:cNvPicPr/>
          <p:nvPr/>
        </p:nvPicPr>
        <p:blipFill>
          <a:blip r:embed="rId1"/>
          <a:srcRect l="4211" t="12530" r="2646" b="0"/>
          <a:stretch/>
        </p:blipFill>
        <p:spPr>
          <a:xfrm>
            <a:off x="684360" y="476280"/>
            <a:ext cx="78483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635280" cy="56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248520" y="3733920"/>
            <a:ext cx="2011320" cy="2400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06720" y="40644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 CAM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0" y="457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NILLOS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93740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4240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42720" y="533520"/>
            <a:ext cx="44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ON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21932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Celular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mbium (divisiones periclina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ción xilema y floem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ci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tamaño definitivo del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ed primaria), es en longitud y en diámetro o en ambos sentidos dependie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ele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ngrosa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mación de la pared secund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Lignific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uerte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5040" y="2300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3962520" cy="2257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24120" y="2309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924360" cy="22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22920" y="3733920"/>
            <a:ext cx="69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  UNA CELULA VIVA A FIBRA DE MAD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04920"/>
            <a:ext cx="7010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te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crecimiento en diámetr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l tallo, esto se logra a través de la actividad del cambium 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762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POS DE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37335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rbo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leñosas que se caracterizan por tener más de 7 m de al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rbu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Tienen menos de 7 m de altura, poseen por lo general mas de un 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ia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trepadoras que se caracterizan por tener sistema radicular aé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18511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171468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261" t="5529" r="1231" b="5576"/>
          <a:stretch/>
        </p:blipFill>
        <p:spPr>
          <a:xfrm>
            <a:off x="6789600" y="981000"/>
            <a:ext cx="18496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LASIFICACION DE LAS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523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066680"/>
            <a:ext cx="7924680" cy="63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n el Reino Vegetal hay cuatro Divisiones principales; cada una dividida e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s, órdenes, familias, géneros y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AL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lgas, hongos, bacteri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RI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páticas y mu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TERID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 y Angiospermas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OPHYTA :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NO VASCULARE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057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62160" y="2252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247920" cy="235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76560" y="2257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219480" cy="234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335268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át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2920" y="3952800"/>
            <a:ext cx="6756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IDOPHYTA: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sin semilla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209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0666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049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con sem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71600"/>
            <a:ext cx="289548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</a:t>
            </a:r>
            <a:r>
              <a:rPr b="0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yca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nko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n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1979640" cy="1230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05320" y="2743200"/>
            <a:ext cx="1981080" cy="181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15000" y="2743200"/>
            <a:ext cx="18032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3160-0132Ephed2" descr="Ephedra sp., female flowers - New Mexico"/>
          <p:cNvPicPr/>
          <p:nvPr/>
        </p:nvPicPr>
        <p:blipFill>
          <a:blip r:embed="rId4"/>
          <a:stretch/>
        </p:blipFill>
        <p:spPr>
          <a:xfrm>
            <a:off x="3505320" y="46483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3160-0133Ephed2" descr="Ephedra sp., male flowers - New Mexico"/>
          <p:cNvPicPr/>
          <p:nvPr/>
        </p:nvPicPr>
        <p:blipFill>
          <a:blip r:embed="rId5"/>
          <a:stretch/>
        </p:blipFill>
        <p:spPr>
          <a:xfrm>
            <a:off x="5715000" y="4648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715000" y="1371600"/>
            <a:ext cx="2138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48120" y="2133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80360" y="4076640"/>
            <a:ext cx="147636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3429000"/>
            <a:ext cx="83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son las más antiguas, pero queda un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y reducido de ellas. Sólo existen 650   formas hoy día agrup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s en 4 órdenes las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ycadales, Ginkoales, Coniferales y Gneta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nativas en Chile están representadas por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guientes Famil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aucariaceas – Cupresaceas - 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4520" y="284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Book Antiqua"/>
              </a:rPr>
              <a:t>Conif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21616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Bosque de Ciprés de la Cordillera"/>
          <p:cNvPicPr/>
          <p:nvPr/>
        </p:nvPicPr>
        <p:blipFill>
          <a:blip r:embed="rId3"/>
          <a:stretch/>
        </p:blipFill>
        <p:spPr>
          <a:xfrm>
            <a:off x="1476360" y="765000"/>
            <a:ext cx="446400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314960" cy="2868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189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raucari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238104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4319640" cy="2830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225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9:54:09Z</dcterms:created>
  <dc:creator>Compaq</dc:creator>
  <dc:description/>
  <dc:language>en-US</dc:language>
  <cp:lastModifiedBy>Monica Rallo</cp:lastModifiedBy>
  <dcterms:modified xsi:type="dcterms:W3CDTF">2011-11-22T20:31:05Z</dcterms:modified>
  <cp:revision>33</cp:revision>
  <dc:subject/>
  <dc:title>Presentación de PowerPoint</dc:title>
</cp:coreProperties>
</file>