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3D6ED-01CF-4CB3-8A6F-0A7DBBDE7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17EC3-83EF-480C-86DA-72EEA1A1E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2050E-7424-4C65-A8AB-7ADA3AF6C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05B70-8C21-4CBE-97B4-0676F3DCE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7039-40CF-47A1-8428-07F638130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B395-E806-490F-9AC0-FE50B46D2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4B6E-8342-40B3-98B8-8B28B9D2A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55E9-5300-4F39-A6DB-1F67A123E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D1B3-5BF6-4ADA-BDCE-7A378CC6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295C-B268-4DCB-8A7F-A0FB1BA2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0B37-EFE9-4DF3-9BA7-5F0B6E739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E431-D463-428D-8900-E69B63C02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4C3B-75B7-4435-8EE7-8B3F68D23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49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s-CL" sz="4000" spc="-1" strike="noStrike">
                <a:solidFill>
                  <a:srgbClr val="000000"/>
                </a:solidFill>
                <a:latin typeface="Arial"/>
              </a:rPr>
              <a:t>Dinero como un indicador:</a:t>
            </a:r>
            <a:br>
              <a:rPr sz="4000"/>
            </a:br>
            <a:br>
              <a:rPr sz="4000"/>
            </a:br>
            <a:r>
              <a:rPr b="0" lang="es-CL" sz="4000" spc="-1" strike="noStrike">
                <a:solidFill>
                  <a:srgbClr val="000000"/>
                </a:solidFill>
                <a:latin typeface="Arial"/>
              </a:rPr>
              <a:t>Evaluación económica de la conservación de la biodiversidad</a:t>
            </a:r>
            <a:br>
              <a:rPr sz="4000"/>
            </a:br>
            <a:br>
              <a:rPr sz="2800"/>
            </a:br>
            <a:r>
              <a:rPr b="0" lang="es-CL" sz="2800" spc="-1" strike="noStrike">
                <a:solidFill>
                  <a:srgbClr val="000000"/>
                </a:solidFill>
                <a:latin typeface="Arial"/>
              </a:rPr>
              <a:t>Dra. Claudia Cerda</a:t>
            </a:r>
            <a:br>
              <a:rPr sz="4000"/>
            </a:br>
            <a:br>
              <a:rPr sz="4000"/>
            </a:br>
            <a:r>
              <a:rPr b="0" lang="es-CL" sz="2400" spc="-1" strike="noStrike">
                <a:solidFill>
                  <a:srgbClr val="000000"/>
                </a:solidFill>
                <a:latin typeface="Arial"/>
              </a:rPr>
              <a:t>8 de julio 2009</a:t>
            </a:r>
            <a:br>
              <a:rPr sz="2400"/>
            </a:br>
            <a:br>
              <a:rPr sz="4000"/>
            </a:b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8900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importante impulso para el desarrollo de la valoración económica de recursos naturales, vino desde la política y autoridades públ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a valoración económica como ayuda en la toma de decisiones no es una tendencia reci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enzó en USA hace 60 años, cuando el gobierno consideró que los impactos de proyectos de desarrollo sobre le medio ambiente “intangible” debería ser también consider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imeros intereses en el ámbito de la valoración económica de intangibles, se enfocaron en el ámbito de la recreación, estimando preferencias sociales (DAP) por este serv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ualmente la Unión Europea está poniendo mayor énfasis en los resultados de proyectos que incluyen valoración económica de aspectos ambientales intangi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Valores económicos como indicadores</a:t>
            </a:r>
            <a:endParaRPr b="0" lang="en-US" sz="3200" spc="-1" strike="noStrike">
              <a:solidFill>
                <a:srgbClr val="000000"/>
              </a:solidFill>
              <a:latin typeface="Arial"/>
            </a:endParaRPr>
          </a:p>
        </p:txBody>
      </p:sp>
      <p:sp>
        <p:nvSpPr>
          <p:cNvPr id="63" name="PlaceHolder 2"/>
          <p:cNvSpPr>
            <a:spLocks noGrp="1"/>
          </p:cNvSpPr>
          <p:nvPr>
            <p:ph/>
          </p:nvPr>
        </p:nvSpPr>
        <p:spPr>
          <a:xfrm>
            <a:off x="179280" y="981000"/>
            <a:ext cx="8785440" cy="5145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érmino valor causa mucha confusión porque es usado de diferente manera por ecológos y economist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álisis económico envuelve un análisis de consecuencias socia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o que se busca es una ayuda de decisión en el ámbito de la conservación de la biodiversidad, es relevante concentrarse en el aspecto económic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edida de valor en términos monetarios mostrará la importancia de un proyecto para la sociedad, y la </a:t>
            </a:r>
            <a:r>
              <a:rPr b="1" i="1" lang="es-CL" sz="2000" spc="-1" strike="noStrike">
                <a:solidFill>
                  <a:srgbClr val="99cc00"/>
                </a:solidFill>
                <a:latin typeface="Arial"/>
              </a:rPr>
              <a:t>habilidad social</a:t>
            </a:r>
            <a:r>
              <a:rPr b="0" lang="es-CL" sz="2000" spc="-1" strike="noStrike">
                <a:solidFill>
                  <a:srgbClr val="000000"/>
                </a:solidFill>
                <a:latin typeface="Arial"/>
              </a:rPr>
              <a:t> para pagar por la conserv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 ser visto como un </a:t>
            </a:r>
            <a:r>
              <a:rPr b="0" i="1" lang="es-CL" sz="2000" spc="-1" strike="noStrike">
                <a:solidFill>
                  <a:srgbClr val="99cc00"/>
                </a:solidFill>
                <a:latin typeface="Arial"/>
              </a:rPr>
              <a:t>compromiso</a:t>
            </a:r>
            <a:r>
              <a:rPr b="0" lang="es-CL" sz="2000" spc="-1" strike="noStrike">
                <a:solidFill>
                  <a:srgbClr val="000000"/>
                </a:solidFill>
                <a:latin typeface="Arial"/>
              </a:rPr>
              <a:t> a unir recursos para la conservación de la biodivers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Valores económicos como indicadores</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nque no todos los beneficios de la conservación de la biodiversidad han jugado un rol importante en los análisis Costo-Beneficio, existe un amplio rango de beneficios que puede ser descrito a través del Valor Económico To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T= VUD+VULL+V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Valores económicos como indicadores</a:t>
            </a:r>
            <a:endParaRPr b="0" lang="en-US" sz="3600" spc="-1" strike="noStrike">
              <a:solidFill>
                <a:srgbClr val="000000"/>
              </a:solidFill>
              <a:latin typeface="Arial"/>
            </a:endParaRPr>
          </a:p>
        </p:txBody>
      </p:sp>
      <p:sp>
        <p:nvSpPr>
          <p:cNvPr id="67"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a conservación de la biodiversidad, el Valor de Opción adquiere gran importancia, ya que la pérdida de biodiversidad está asociada con pérdida de información genét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ecisión respecto a qué componentes del VET considerar, depende de qué tipo de recurso natural será evalu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componentes bióticos (parámetros químicos, físicos) como agua o calidad de agua valores de uso directo/indirecto son de interés. Valores de no-uso pueden ser ignor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casos que programas de conservación envuelvan especies o ecosistemas, los valores de no uso pueden ser componentes importantes del valor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ómo usar la valoración económica?</a:t>
            </a:r>
            <a:endParaRPr b="0" lang="en-US" sz="3200" spc="-1" strike="noStrike">
              <a:solidFill>
                <a:srgbClr val="000000"/>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requerimientos debe cumplir un programa de conservación de la biodiversidad para una valoración económ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Los requerimientos pueden ser divididos en aspectos políticos y metodológ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5992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usar la valoración económica?</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un punto de vista político, dinero y tiempo pueden ser indicativ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ar proyectos en vez de especies específ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ón en programas de conservación controversiales: valoración económica puede contribuir a la aceptación de proyectos si es que los beneficios están bien explicit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usar la valoración económica?</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de el punto de vista metodológico:</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s indirectos: requieren conocimiento científico respecto a las consecuencias de los programas de conserv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usan VC o CE, los objetivos del programa y consecuencias deberían ser exhaustivamente descritos. El bien/servicio a valorar debe ser de interés para quienes valo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rmalmente, métodos indirectos tienen mayor aceptación a nivel político, debido a que valores estimados bajo parámetros físicos/biológicos, generan mayor confianza que aquellos obtenidos a través de consulta públ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tanto, la elección de los métodos es altamente dependiente de las circunstancias políticas en las cuales los resultados serán usad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dinero nunca reemplazará a los indicadores científicos comúnmente requeridos para los procesos de toma de decis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dinero no ofrece ninguna información biofísica respecto a potenciales impactos de proyectos al medio ambiente, como pueden hacer indicadores científic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n embar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nero es el único indicador compatible con el mundo económico, y ofrece la posibilidad de integrar los bienes/servicios ambientales a los procesos políticos de toma de decis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88640"/>
            <a:ext cx="8229600" cy="77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ecisiones políticas</a:t>
            </a:r>
            <a:endParaRPr b="0" lang="en-US" sz="3600" spc="-1" strike="noStrike">
              <a:solidFill>
                <a:srgbClr val="000000"/>
              </a:solidFill>
              <a:latin typeface="Arial"/>
            </a:endParaRPr>
          </a:p>
        </p:txBody>
      </p:sp>
      <p:sp>
        <p:nvSpPr>
          <p:cNvPr id="4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conomía ambiental ha desarrollado métodos de valoración que usan un indicador común: </a:t>
            </a:r>
            <a:r>
              <a:rPr b="0" i="1" lang="es-CL" sz="2400" spc="-1" strike="noStrike">
                <a:solidFill>
                  <a:srgbClr val="99cc00"/>
                </a:solidFill>
                <a:latin typeface="Arial"/>
              </a:rPr>
              <a:t>el dinero</a:t>
            </a:r>
            <a:r>
              <a:rPr b="0" lang="es-CL" sz="2400" spc="-1" strike="noStrike">
                <a:solidFill>
                  <a:srgbClr val="000000"/>
                </a:solidFill>
                <a:latin typeface="Arial"/>
              </a:rPr>
              <a:t>, para facilitar decisiones polí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indicador permite llevar a cabo </a:t>
            </a:r>
            <a:r>
              <a:rPr b="0" i="1" lang="es-CL" sz="2400" spc="-1" strike="noStrike">
                <a:solidFill>
                  <a:srgbClr val="99cc00"/>
                </a:solidFill>
                <a:latin typeface="Arial"/>
              </a:rPr>
              <a:t>análisis costo-beneficio</a:t>
            </a:r>
            <a:r>
              <a:rPr b="0" lang="es-CL" sz="2400" spc="-1" strike="noStrike">
                <a:solidFill>
                  <a:srgbClr val="000000"/>
                </a:solidFill>
                <a:latin typeface="Arial"/>
              </a:rPr>
              <a:t> para evaluaciones de las consecuencias económicas de diversas alternativas de desarroll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cusión</a:t>
            </a:r>
            <a:endParaRPr b="0" lang="en-US" sz="4000" spc="-1" strike="noStrike">
              <a:solidFill>
                <a:srgbClr val="000000"/>
              </a:solidFill>
              <a:latin typeface="Arial"/>
            </a:endParaRPr>
          </a:p>
        </p:txBody>
      </p:sp>
      <p:sp>
        <p:nvSpPr>
          <p:cNvPr id="7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Los antagonistas de la valoración económica normalmente usan la regla de lexicografía para rechazarla. Es decir, cuando las personas no son capaces de sustituir la naturaleza porque consideran su derecho intrínseco a exist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que el valor de la naturaleza es infinito ya que los humanos dependemos de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los antagonistas deberían mantener en consideración que un valor lexicográfico para la naturaleza, implicaría que cualquier proceso de producción debería ser prohibido. De esta manera bienes de mercado no serían disponibles para los seres human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otra parte, ignorar la valoración económica implicaría otorgar un valor “cero” a muchos bienes y servic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objetivo de la valoración económica es investigar respecto a la utilidad y eficiencia de la política ambien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ficiencia desde el punto de vista económico, quiere decir que el dinero es gastado de acuerdo a las preferencias del público (Marggraf &amp; Streb 199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tanto, sólo cambios marginales en la oferta de bienes y servicios deberían ser evaluados y no esos bienes y servicios en si mism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ecuentemente, los resultados de los análisis costo-beneficio ayudan sólo a decir si un proyecto que cambiará la oferta de bienes/servicios (ej. una especie en peligro), es eficiente desde un punto de vista o no. No dice nada respecto al valor de la especi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60280"/>
            <a:ext cx="822960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isiones políticas</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loración económica del ambiente natural no ha sido desarrollada por su propio bi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 solicitada por autoridades políticas, quienes buscaban metodologías para incorporar bienes y servicios no transables en los análisis costo-beneficio, así como también por la administración Americana de justi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uropa, reclamos por daños ambientales es menos común y la valoración económica se desarrolla a nivel d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cisiones políticas</a:t>
            </a:r>
            <a:endParaRPr b="0" lang="en-US" sz="4000" spc="-1" strike="noStrike">
              <a:solidFill>
                <a:srgbClr val="000000"/>
              </a:solidFill>
              <a:latin typeface="Arial"/>
            </a:endParaRPr>
          </a:p>
        </p:txBody>
      </p:sp>
      <p:sp>
        <p:nvSpPr>
          <p:cNvPr id="47" name="PlaceHolder 2"/>
          <p:cNvSpPr>
            <a:spLocks noGrp="1"/>
          </p:cNvSpPr>
          <p:nvPr>
            <p:ph/>
          </p:nvPr>
        </p:nvSpPr>
        <p:spPr>
          <a:xfrm>
            <a:off x="431640" y="981000"/>
            <a:ext cx="828072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érminos generales, la mayoría de los programas/proyectos de conservación están diseñados de tal forma que es posible su valoración económ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casos, la valoración económica no sólo actúa como ayuda de decisión. Adicionalmente, la estimación de beneficios de los programas de conservación, que de otra forma habrían sido ignorados, ayuda a promover la aceptación de los programas de conserv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49"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loración económica puede ser vista como un método para determinar la importancia relativa de consecuencias ambientales de actividades económ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 a autoridades políticas a tomar decisiones mejor informadas respecto a la conservación de la biodivers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otras palabras, el dinero actúa como un indicador para transformar problemas ambientales hacia la polít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8900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Valoración económica</a:t>
            </a:r>
            <a:endParaRPr b="0" lang="en-US" sz="3600" spc="-1" strike="noStrike">
              <a:solidFill>
                <a:srgbClr val="000000"/>
              </a:solidFill>
              <a:latin typeface="Arial"/>
            </a:endParaRPr>
          </a:p>
        </p:txBody>
      </p:sp>
      <p:sp>
        <p:nvSpPr>
          <p:cNvPr id="51" name="PlaceHolder 2"/>
          <p:cNvSpPr>
            <a:spLocks noGrp="1"/>
          </p:cNvSpPr>
          <p:nvPr>
            <p:ph/>
          </p:nvPr>
        </p:nvSpPr>
        <p:spPr>
          <a:xfrm>
            <a:off x="250560" y="1125000"/>
            <a:ext cx="87138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lmente hablando, los indicadores deberían simplificar y permitir un ranking de opciones de polí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la mayoría de los indicadores científicos (calidad de agua, niveles de contaminación, otros), son aplicables exclusivamente en su contexto científ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189000"/>
            <a:ext cx="822960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oración Económica</a:t>
            </a:r>
            <a:endParaRPr b="0" lang="en-US" sz="3200" spc="-1" strike="noStrike">
              <a:solidFill>
                <a:srgbClr val="000000"/>
              </a:solidFill>
              <a:latin typeface="Arial"/>
            </a:endParaRPr>
          </a:p>
        </p:txBody>
      </p:sp>
      <p:sp>
        <p:nvSpPr>
          <p:cNvPr id="53" name="PlaceHolder 2"/>
          <p:cNvSpPr>
            <a:spLocks noGrp="1"/>
          </p:cNvSpPr>
          <p:nvPr>
            <p:ph/>
          </p:nvPr>
        </p:nvSpPr>
        <p:spPr>
          <a:xfrm>
            <a:off x="213840" y="892080"/>
            <a:ext cx="8713800" cy="507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yoría de las veces, los tomadores de decisión necesitan indicadores que permitan tomar decisiones “intersectoriales” como por ejemplo, la conservación de la biodiversidad versus el uso de la tier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nero puede ser un indicador que permitiría unir ambos campos y así evitar una errónea asignación de recurs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consideración de diferentes opciones de acción/conservación/desarrollo, el conocimiento científico no es suficiente para tomar decisiones racionales. Por lo tanto una dimensión de </a:t>
            </a:r>
            <a:r>
              <a:rPr b="1" i="1" lang="es-CL" sz="2400" spc="-1" strike="noStrike">
                <a:solidFill>
                  <a:srgbClr val="99cc00"/>
                </a:solidFill>
                <a:latin typeface="Arial"/>
              </a:rPr>
              <a:t>valores</a:t>
            </a:r>
            <a:r>
              <a:rPr b="0" lang="es-CL" sz="2400" spc="-1" strike="noStrike">
                <a:solidFill>
                  <a:srgbClr val="000000"/>
                </a:solidFill>
                <a:latin typeface="Arial"/>
              </a:rPr>
              <a:t> y normas es neces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5"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de esto ha sido de especialidad de la economí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valores económicos son derivados desde las preferencias individuales y se basan en la ética antropocéntr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azones principales de por qué valores monetarios deberían ser estim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99cc00"/>
                </a:solidFill>
                <a:latin typeface="Arial"/>
              </a:rPr>
              <a:t>	</a:t>
            </a:r>
            <a:r>
              <a:rPr b="0" i="1" lang="es-CL" sz="2400" spc="-1" strike="noStrike">
                <a:solidFill>
                  <a:srgbClr val="99cc00"/>
                </a:solidFill>
                <a:latin typeface="Arial"/>
              </a:rPr>
              <a:t>- Comprehensibilidad</a:t>
            </a:r>
            <a:r>
              <a:rPr b="0" lang="es-CL" sz="2400" spc="-1" strike="noStrike">
                <a:solidFill>
                  <a:srgbClr val="000000"/>
                </a:solidFill>
                <a:latin typeface="Arial"/>
              </a:rPr>
              <a:t>: el dinero puede demostrar la importancia social de los programas de conservación de una forma fácilmente entend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99cc00"/>
                </a:solidFill>
                <a:latin typeface="Arial"/>
              </a:rPr>
              <a:t>-</a:t>
            </a:r>
            <a:r>
              <a:rPr b="0" lang="es-CL" sz="2400" spc="-1" strike="noStrike">
                <a:solidFill>
                  <a:srgbClr val="000000"/>
                </a:solidFill>
                <a:latin typeface="Arial"/>
              </a:rPr>
              <a:t> </a:t>
            </a:r>
            <a:r>
              <a:rPr b="0" i="1" lang="es-CL" sz="2400" spc="-1" strike="noStrike">
                <a:solidFill>
                  <a:srgbClr val="99cc00"/>
                </a:solidFill>
                <a:latin typeface="Arial"/>
              </a:rPr>
              <a:t>Análisis costo-beneficio</a:t>
            </a:r>
            <a:r>
              <a:rPr b="0" lang="es-CL" sz="2400" spc="-1" strike="noStrike">
                <a:solidFill>
                  <a:srgbClr val="000000"/>
                </a:solidFill>
                <a:latin typeface="Arial"/>
              </a:rPr>
              <a:t>: demanda una incorporación crítica de todos los costos y beneficios. Ello permite tener una mejor visión de las consecuencias de proyec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4:50:54Z</dcterms:created>
  <dc:creator>Claudia</dc:creator>
  <dc:description/>
  <dc:language>en-US</dc:language>
  <cp:lastModifiedBy>Claudia</cp:lastModifiedBy>
  <dcterms:modified xsi:type="dcterms:W3CDTF">2009-07-08T19:49:40Z</dcterms:modified>
  <cp:revision>58</cp:revision>
  <dc:subject/>
  <dc:title>  Dinero como un indicador:  Evaluación económica de la conservación de la biodiversidad   8 de julio 2009   </dc:title>
</cp:coreProperties>
</file>