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3A8-FE63-4E89-BFF0-5F9076EE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587-A8A0-4771-AEB3-1A81F70B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3BA-D6D4-4E2F-83DD-1DA91EAA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21F-0787-45E8-A29C-1268C3D0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688-DD23-4531-B0B9-0E70AC9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11C-53EB-4D3F-AE58-79366B1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53A-8A4B-4D3A-83AC-1456F828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D40-C7FD-47B4-A766-721D8278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714-F494-49A8-9F7C-FCA93CCC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58C-0D8E-4FAC-AC94-3F1C854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5E9-89CD-4F90-8E05-5A03DD19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6CC-9A17-4E18-91F3-B17894C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D2D8-7CBB-4DFD-A997-1FC8B3DD64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erramientas d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estión en Áreas Silve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tud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 septiembr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840" y="76464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Objetivos de un programa de educación ambiental (estánda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ir al aprecio por la conservación de la bio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ersificar las actividades de los vis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ver el apoyo de la comunidad a temas ambientales y a novedosas formas de conserv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mponentes de un programa de educación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entario y localización de los elementos naturales y culturales signif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álisis de las oportunidades de educación ambiental e interpretación en el área protegida, seleccionando los temas más idóne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ción de las opciones a través de las cuales desarrollar los programas de educación ambiental (ej. contacto personal con guardaparques, materiales escritos, senderos peatonales autoguiados, senderos interpretativos, exhibiciones exteriores, ot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interdisciplinaria de la biod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nque el concepto “biodiversidad” tiene un contexto ecológico, también tiene estrecha relación con aspectos sociales y 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lo tanto para comprender las consecuencias reales de su pérdida los estudiantes deben tener una educación interdisciplinaria de la biodiver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, los aspectos ecológicos de la biodiversidad, principalmente la “variedad de especies” son enfat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Arial"/>
              </a:rPr>
              <a:t>Educación como condición necesaria para la conservación de la biod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érdida de biodiversidad es muchas veces causada por actividad humana. Por lo tanto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ambi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ducta huma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drían ayudar a reducir su pérd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ibilidades de forzar cambios en la conducta hu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cc00"/>
                </a:solidFill>
                <a:latin typeface="Arial"/>
              </a:rPr>
              <a:t>Políticas y leyes, incluyendo sanciones para conductas inacep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mbar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cc00"/>
                </a:solidFill>
                <a:latin typeface="Arial"/>
              </a:rPr>
              <a:t>En una sociedad democrática se espera que los ciudadanos deberían ser capaces de entender y mostrar responsabilidad frente a las regulaciones que el Estado im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vención sobre Diversidad Biológica explícitamente en el artículo 13 toma en consideración el rol de la educación y conciencia pública de la siguiente man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) Promover el entendimiento e importancia de la conservación de la diversidad biológica, así como también su inclusión en programas de educación ambien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Cooperar tanto como sea posible con otros estados y organizaciones internacionales en el desarrollo de programas educacionales y para fortalecer la conciencia pública con respecto a la conservación y el uso sustentable de la diversidad bi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81864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e contexto: escuelas y colegios juegan un rol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rían impartir competencias clave que permitan a los estudiantes llevar una vida ambientalmente responsable (Goody 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odiversidad es un tema clave que debería ser incorporado a las mallas curric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ía de los países que firmaron la CDB están incorporando estos lineamientos en su quehacer educacional, sin embargo existen algunos problemas y desafí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50920" y="981000"/>
            <a:ext cx="8642160" cy="84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co es conocido respecto a qué ideas tienen los estudiantes respecto al concepto de biodivers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endo un concepto relativamente nuevo y complejo, que incluye usos sociales y globales, poca investigación ha sido llevada a cabo para indagar cómo los estudiantes perciben la pérdida de biodiversidad y si han alguna vez escuchado hablar de este 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y poca información disponible sobre factores psicológicos que positiva o negativamente influyen en el compromiso de los estudiantes para conservar y proteger los recursos natur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lo es un vacío grave por cuanto los valores, normas y creencias de los estudiantes respecto la conservación de la naturaleza y sus recursos, son requisitos importantes que pueden influir en el entendimiento y compromiso para “hacer algo” respecto a la pérdida de biodivers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hay estudios empíricos que explícitamente hayan considerado la educación intercultural de la biodiversidad. Sin embargo, cooperación internacional con respecto a la educación de la biodiversidad es explícitamente enfatizado en la CDB ( (CBD, 1992, Art. 13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lítica Nacional de Áreas Proteg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neamiento estratégico N° 10: “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ortalecer la conciencia ciudadana, respecto a los beneficios de las AP, a través del acceso, la información, la difusión y la edu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r condiciones en las áreas protegidas para que en ellas puedan realizarse las visitas a terreno establecidas por los programas educacionales, conforme a los lineamientos de la reforma educ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licar programas educativos, orientados a la generación de buenas prácticas de conducta de visitantes y comunidades locales, a fin de reducir amenzadas y presiones no dese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r rutas de acceso ciudadano para el conocimiento y disfrute de los bienes del patrimonio cultural y natural contenido en las AP (por ej. los programas del Sendero de Chile y Rutas Patrimon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ar una página web para el Sistema Nacional de Áreas Prote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ar e implementar campañas comunicacionales orientadas a mejorar la vinculación entre la ciudadanía y las Áreas Proteg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lmente los programas de educación ambiental en ASP se orientan en el contexto de los planes de manejo de las á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enen el propósito de entregar a los visitantes oportunidades para apreciar y comprender mejor los recursos y valores del área que vis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literatura especializada la educación ambiental es un término más amplio que la interpretación, al incluir actividades educativas sobre el ambiente no necesariamente desarrolladas en contacto directo con los recursos o valores (por ej. una charla en una escue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rpretación es la educación ambiental en contacto directo con los recursos y val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ducación ambiental y la interpretación son actividades educativas que están orientadas a revelar a los visitantes el significado, la importancia y las relaciones de la flora, la fauna, el suelo, el paisaje, los ecosistemas y los valores culturales asociados, a través de medios ilustra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rpretación es más que entregar información. Es revelar por qué los recursos y valores están presentes en el área, cuál es el significado de la presencia de estos recursos y valores etc., de una forma atractiva y motivado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que tener en cuenta las diferentes audiencias que visitan o visitarán el área y en lo posible desarrollar actividades o medios para cubrir estas distintas demandas por educación ambiental e interpre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840" y="76464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 a enriquecer la experiencia de los vis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valorar los recursos del área protegida y comprender sus complej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 a fortalecer la sensibi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uce los daños a la propiedad y sus insta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rea una buena imagen pública de la institución que administra las áreas protegidas estatales y de los propietarios en el caso de áreas protegidas priv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ueve el ecoturismo y otros usos deseados en el área proteg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9:50:34Z</dcterms:created>
  <dc:creator>Claudia</dc:creator>
  <dc:description/>
  <dc:language>en-US</dc:language>
  <cp:lastModifiedBy>Claudia</cp:lastModifiedBy>
  <dcterms:modified xsi:type="dcterms:W3CDTF">2010-09-28T02:14:08Z</dcterms:modified>
  <cp:revision>35</cp:revision>
  <dc:subject/>
  <dc:title>Herramientas de  Gestión en Áreas Silvestres</dc:title>
</cp:coreProperties>
</file>