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3E5-38ED-454A-9198-980B1CFC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75E-BCCD-462F-85D8-DBC3FE65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5F5-27C8-4C35-8BFA-CD28945B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CBA-F5BF-4BEB-990D-431FE2E1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7C3-7A4E-42A0-B7D5-46CA5C5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F75-F326-4D4D-AEC5-B567CAF6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12D-036A-4377-8078-E219CAC1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292-5219-43EA-B266-FDF372DD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7EB-83E1-4115-B19E-1E501EC2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04C-3663-4EF5-AC43-B45102EC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E02-6A6C-4322-8623-3D5A768C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CF4-FE2A-470C-881E-524CB8D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1BA4-8854-4200-8A2C-5EF996EFAA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ve clase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GESTIÓN DE ÁREAS SILVESTRES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Conceptos, fundamentos y tend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7 agosto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ra. Claudia Cerda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Organiz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ómo los gestores asignan y organizan recursos humanos, monetarios, …., para permitir que los planes sean implementados (Bartol et al. 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que nunca se det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estructura organizacional, organizar el trabajo horizontal y verticalmente de tal forma de lograr una coordinación efectiva a través de toda la organiz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parando políticas y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orcionando delegaciones efe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Lideraz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ué tan bien funciona una organización, depende del compromiso y motivación del capital humano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ar el rendimiento de un organización contrastándolo con las metas propue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yuda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cer frente a incerte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tectar irregular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r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ejar situaciones compl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centralizar a la auto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99972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buen gestor es aquel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s capaz de aprender de la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tiende claramente las meta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Persigue excelencia y buenas prác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s sensitivo a tendencias y condi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Poseen herramientas para resolver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Posee resiliencia emocional y es capaz de trabajar efectivamente bajo pr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Trabaja ét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tiende el impacto sobre otros de su po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s capaz de inno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403280" cy="138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1403280" cy="142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403280" cy="129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403280" cy="1584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987640" y="1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 EN LA GESTIÓN DE ÁREAS PROTEGIDA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19280" y="105264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experiencias de poner las áreas protegidas bajo manejo no son recientes, sin embargo se han acentuado en los últimos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71320" y="1989000"/>
            <a:ext cx="7585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Últimos años: más de 20 planes de manejo para áreas del Sist. N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han iniciado acciones que complementen el manejo y gestión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s protegidas: ej. recuperación y reintroducción de fauna silve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s planes de manejo por lo general contemplan la implemen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royectos de uso sostenible, programas educativos, de investig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de infraestruc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modernas tecnologías computacionales (SI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olucramiento de todos los actores actuales y potenciales a trav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rocesos de planificación particip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territorios o zonas aledañas a las áreas proteg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ificación considera las AP como parte del paisaje circund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403280" cy="138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1403280" cy="142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403280" cy="129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40328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987640" y="18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 EN LA PLANIFICACIÓN DE ÁREAS PROTEGIDA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619280" y="105264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ndencia a favorecer procesos más participativos y menos costos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471680" y="1989000"/>
            <a:ext cx="77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Énfasis en Manejo Adapt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conoce la necesidad de planificar espacios más amplios que las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la necesaria inserción de las áreas protegidas en el desarrollo loc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onal y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s planes de manejo por lo general contemplan la implemen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royectos de uso sostenible, programas educativos, de investig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de infraestruc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sidera imprescindible en la planificación la particip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actores involuc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TENDENCIAS ACTUALES EN LA GESTIÓN DE LAS ÁREAS PROTEG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201400" y="1341360"/>
            <a:ext cx="66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evidencia de que las AP deberían estar conectadas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isajes adyac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109600" y="2224080"/>
            <a:ext cx="67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ás atención es requerida respecto a la relación de las AP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 alred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183760" y="3160800"/>
            <a:ext cx="69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nder mejor cómo las áreas protegidas benefician e imp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a las comunidades hum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124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256840" y="3952800"/>
            <a:ext cx="65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es como Bawa, Seidler y Raven (2006), sug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andonar” modelos clásicos de conservación a modal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optadas por comunidades humanas las cuales incorpo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mensiones ecológicas, sociales y 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166920" y="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ACTUALES EN LA GESTIÓN DE ÁREAS PROTEG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208240" y="836640"/>
            <a:ext cx="695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stóricamente, la gestión de AP separó elementos ec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biodiversidad de procesos antropocéntricos que amenaza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113560" y="184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sin embargo, y especialmente en países en vías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inámica creada por el crecimiento exponencial de la pobl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xpansión económica y globalización hac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ese enfoque esté prácticamente obso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221200" y="314172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comercial, crecimiento y cambio en el consu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por energía en países ricos y pobres compiten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ervas naturales y la conserv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2202480" y="4149720"/>
            <a:ext cx="65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ociedad debe tomar responsabilidad y tomar 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herentes respecto la conservación de los sistemas natu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el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ENDENCIAS ACTUALES EN LA GESTIÓN DE ÁREAS PROTEG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540520" y="1792440"/>
            <a:ext cx="641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ceptos emerg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Socio - ecológicos: complemento del concep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sistemas natural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sistemas emer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 na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NTENDEMOS POR GESTIÓN EN ÁREAS SILVEST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251440" y="2143080"/>
            <a:ext cx="69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a través del cual metas son alcanz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ordin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lógico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el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vie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tiga probl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el objetivo de alcan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esarrollo soste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946160" cy="138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2017800" cy="142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979640" cy="129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979640" cy="1584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NTENDEMOS POR GESTIÓN EN ÁREAS SILVEST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250720" y="2143080"/>
            <a:ext cx="6260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de la gestión de áreas proteg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Bartol et al. 1998; Robbins et al.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b050"/>
                </a:solidFill>
                <a:latin typeface="Arial"/>
              </a:rPr>
              <a:t>Inputs al proceso de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 CuadroTexto"/>
          <p:cNvSpPr/>
          <p:nvPr/>
        </p:nvSpPr>
        <p:spPr>
          <a:xfrm>
            <a:off x="3643200" y="2286000"/>
            <a:ext cx="1698840" cy="22842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puts al proceso de gestión-alcanzando las metas del área a través de la incorporación de las funciones de gestión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nific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rganiz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tr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6000840" y="2143080"/>
            <a:ext cx="1698480" cy="459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egislac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CuadroTexto"/>
          <p:cNvSpPr/>
          <p:nvPr/>
        </p:nvSpPr>
        <p:spPr>
          <a:xfrm>
            <a:off x="6072120" y="3500280"/>
            <a:ext cx="1698840" cy="459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 de gobierno y prior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CuadroTexto"/>
          <p:cNvSpPr/>
          <p:nvPr/>
        </p:nvSpPr>
        <p:spPr>
          <a:xfrm>
            <a:off x="6143760" y="4500720"/>
            <a:ext cx="1285920" cy="82404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venciones nacionales e internacionales/acuer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2714760" y="5357880"/>
            <a:ext cx="1714320" cy="459000"/>
          </a:xfrm>
          <a:prstGeom prst="rect">
            <a:avLst/>
          </a:prstGeom>
          <a:solidFill>
            <a:srgbClr val="9ed3d7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spiraciones de la comun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1285920" y="3857760"/>
            <a:ext cx="1698480" cy="45900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querimientos de los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9 CuadroTexto"/>
          <p:cNvSpPr/>
          <p:nvPr/>
        </p:nvSpPr>
        <p:spPr>
          <a:xfrm>
            <a:off x="1214280" y="2643120"/>
            <a:ext cx="1698840" cy="4590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sultados de investig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CuadroTexto"/>
          <p:cNvSpPr/>
          <p:nvPr/>
        </p:nvSpPr>
        <p:spPr>
          <a:xfrm>
            <a:off x="3571920" y="1428840"/>
            <a:ext cx="1698480" cy="276480"/>
          </a:xfrm>
          <a:prstGeom prst="rect">
            <a:avLst/>
          </a:prstGeom>
          <a:solidFill>
            <a:srgbClr val="cc00cc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egislación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12 Conector recto de flecha"/>
          <p:cNvCxnSpPr>
            <a:stCxn id="66" idx="2"/>
          </p:cNvCxnSpPr>
          <p:nvPr/>
        </p:nvCxnSpPr>
        <p:spPr>
          <a:xfrm flipH="1">
            <a:off x="4357440" y="1704960"/>
            <a:ext cx="64080" cy="510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8" name="14 Conector recto de flecha"/>
          <p:cNvCxnSpPr>
            <a:stCxn id="60" idx="1"/>
          </p:cNvCxnSpPr>
          <p:nvPr/>
        </p:nvCxnSpPr>
        <p:spPr>
          <a:xfrm flipH="1">
            <a:off x="5428800" y="2372400"/>
            <a:ext cx="572400" cy="270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69" name="16 Conector recto de flecha"/>
          <p:cNvCxnSpPr>
            <a:stCxn id="61" idx="1"/>
          </p:cNvCxnSpPr>
          <p:nvPr/>
        </p:nvCxnSpPr>
        <p:spPr>
          <a:xfrm flipH="1" flipV="1">
            <a:off x="5500080" y="3571200"/>
            <a:ext cx="572040" cy="15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0" name="18 Conector recto de flecha"/>
          <p:cNvCxnSpPr>
            <a:stCxn id="62" idx="1"/>
          </p:cNvCxnSpPr>
          <p:nvPr/>
        </p:nvCxnSpPr>
        <p:spPr>
          <a:xfrm flipH="1" flipV="1">
            <a:off x="5428440" y="4357800"/>
            <a:ext cx="715320" cy="559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20 Conector recto de flecha"/>
          <p:cNvCxnSpPr/>
          <p:nvPr/>
        </p:nvCxnSpPr>
        <p:spPr>
          <a:xfrm flipV="1">
            <a:off x="3427920" y="4714200"/>
            <a:ext cx="50076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2" name="22 Conector recto de flecha"/>
          <p:cNvCxnSpPr>
            <a:stCxn id="65" idx="3"/>
          </p:cNvCxnSpPr>
          <p:nvPr/>
        </p:nvCxnSpPr>
        <p:spPr>
          <a:xfrm flipV="1">
            <a:off x="2913120" y="2857320"/>
            <a:ext cx="659520" cy="16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3" name="24 Conector recto de flecha"/>
          <p:cNvCxnSpPr>
            <a:stCxn id="64" idx="3"/>
          </p:cNvCxnSpPr>
          <p:nvPr/>
        </p:nvCxnSpPr>
        <p:spPr>
          <a:xfrm flipV="1">
            <a:off x="2984400" y="3785760"/>
            <a:ext cx="588240" cy="302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74" name="26 CuadroTexto"/>
          <p:cNvSpPr/>
          <p:nvPr/>
        </p:nvSpPr>
        <p:spPr>
          <a:xfrm>
            <a:off x="444960" y="635796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Adaptado de Worboys et al.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4 CuadroTexto"/>
          <p:cNvSpPr/>
          <p:nvPr/>
        </p:nvSpPr>
        <p:spPr>
          <a:xfrm>
            <a:off x="727560" y="1571760"/>
            <a:ext cx="2460600" cy="15541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 de 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l área y determin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ómo pueden 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canzadas de la mej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285840" y="4429080"/>
            <a:ext cx="3000240" cy="106740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IDERAZ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bajar con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desarrollar p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ue logran 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CuadroTexto"/>
          <p:cNvSpPr/>
          <p:nvPr/>
        </p:nvSpPr>
        <p:spPr>
          <a:xfrm>
            <a:off x="5724360" y="1571760"/>
            <a:ext cx="2113200" cy="1554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GAN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tribución efici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ef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person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rsos financier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alcanzar 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CuadroTexto"/>
          <p:cNvSpPr/>
          <p:nvPr/>
        </p:nvSpPr>
        <p:spPr>
          <a:xfrm>
            <a:off x="5500800" y="4500720"/>
            <a:ext cx="2943000" cy="1067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T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gular el rend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alcanzar meta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pect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Elipse"/>
          <p:cNvSpPr/>
          <p:nvPr/>
        </p:nvSpPr>
        <p:spPr>
          <a:xfrm>
            <a:off x="3000240" y="2357280"/>
            <a:ext cx="2857680" cy="2571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ETAS DEL Á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316440" y="6429240"/>
            <a:ext cx="65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Adaptado de Bartol et al. (1998); Robbins et al. (200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1187280" cy="1384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1187280" cy="142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0" y="3645000"/>
            <a:ext cx="1187280" cy="129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0" y="5273640"/>
            <a:ext cx="118728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851280" y="476280"/>
            <a:ext cx="493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771640" y="476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NTENDEMOS POR GESTIÓN EN ÁREAS SILVESTRES PROTEGID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724760" y="2651040"/>
            <a:ext cx="1741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R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4451400" y="2075040"/>
            <a:ext cx="1655640" cy="975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 rot="16872000">
            <a:off x="2958840" y="2953800"/>
            <a:ext cx="1655640" cy="9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 rot="10800000">
            <a:off x="4500360" y="4572000"/>
            <a:ext cx="1655640" cy="9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 rot="5746800">
            <a:off x="5956200" y="3098520"/>
            <a:ext cx="1655640" cy="9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6287400" y="2071800"/>
            <a:ext cx="1401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43120" y="4500720"/>
            <a:ext cx="13399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VI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3"/>
          <p:cNvSpPr/>
          <p:nvPr/>
        </p:nvSpPr>
        <p:spPr>
          <a:xfrm>
            <a:off x="3948120" y="2786040"/>
            <a:ext cx="2552760" cy="1643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AS DEL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JOR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7436160" y="3214800"/>
            <a:ext cx="1107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436800" y="4857840"/>
            <a:ext cx="1489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la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 nive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es estratég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Para alcanzar metas princi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Analizan formas de alcanzar metas estraté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En áreas protegidas ejemplo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ificació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organiz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s de presupuestos y planificación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la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 nive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es táct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Establecen objetivos tácticos que ayudan en la implementación de planes estraté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Indican cómo objetivos de un plan estratégico deben ser alcan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picamente establecen un set de pasos para alcanzar cada meta tác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enos planes tácticos aseguran una eficiente y efectiva asignación de los recursos inter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b050"/>
                </a:solidFill>
                <a:latin typeface="Arial"/>
              </a:rPr>
              <a:t>Funciones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la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 nive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es operacion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tas de corto plazo, derivadas de planes estratégicos y tác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ibuyen a alcanzar metas t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. Creación de un curso de entrenamiento del personal que enfoque en un mejor servicio para visitantes de un 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3:24:36Z</dcterms:created>
  <dc:creator>Claudia</dc:creator>
  <dc:description/>
  <dc:language>en-US</dc:language>
  <cp:lastModifiedBy>Claudia</cp:lastModifiedBy>
  <dcterms:modified xsi:type="dcterms:W3CDTF">2010-08-17T03:35:23Z</dcterms:modified>
  <cp:revision>68</cp:revision>
  <dc:subject/>
  <dc:title>Conceptos y fundamentos de gestión en áreas silvestres</dc:title>
</cp:coreProperties>
</file>