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6A3-0D44-40CF-AA8C-8788B090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5F5-3E41-4552-BA70-4D5BD513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CA8-A936-437A-B2F2-9E37505D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30F-BDF5-4EA5-AB0D-BE1E6C6C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BE5-4B90-42A9-9837-2CC353C5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3BC-893B-4FA2-BA2C-99937AD6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0D4-9DA8-4AB1-8C7E-95E8155F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B0F-824D-4501-A1F5-59EBC5B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842-237A-4211-BED1-383DBE23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894-8706-44A4-971C-F04F224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203-1EC9-45C9-96EA-69DD4CE0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500-2B0D-413E-BB0F-D4DC90A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49E5-E1FF-4D59-8424-703ACA9FC3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ve clase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GESTIÓN DE ÁREAS SILVESTRES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Conceptos, fundamentos y tend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7 agosto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a. Claudia Cerda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Organiz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ómo los gestores asignan y organizan recursos humanos, monetarios, …., para permitir que los planes sean implementados (Bartol et al. 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que nunca se det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estructura organizacional, organizar el trabajo horizontal y verticalmente de tal forma de lograr una coordinación efectiva a través de toda la organiz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parando políticas y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orcionando delegaciones efe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Lideraz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tan bien funciona una organización, depende del compromiso y motivación del capital humano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ar el rendimiento de un organización contrastándolo con las metas prop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yuda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frente a incert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tectar irregular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ar situacione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centralizar a la auto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99972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buen gestor es aquel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capaz de aprender de la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tiende claramente las meta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ersigue excelencia y buenas prác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sensitivo a tendencias y condi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oseen herramientas para resolver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osee resiliencia emocional y es capaz de trabajar efectivamente bajo pr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Trabaja é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tiende el impacto sobre otros de su po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capaz de inno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403280" cy="138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403280" cy="142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403280" cy="129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403280" cy="1584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987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EN LA GESTIÓN DE ÁREAS PROTEGIDA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19280" y="1052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experiencias de poner las áreas protegidas bajo manejo no son recientes, sin embargo se han acentuado en los últimos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71320" y="1989000"/>
            <a:ext cx="758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Últimos años: más de 20 planes de manejo para áreas del Sist. N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han iniciado acciones que complementen el manejo y gestión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s protegidas: ej. recuperación y reintroducción de fauna silv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planes de manejo por lo general contemplan la implemen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yectos de uso sostenible, programas educativos, de investig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de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modernas tecnologías computacionales (SI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olucramiento de todos los actores actuales y potenciales a trav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cesos de planificación particip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territorios o zonas aledañas a las áreas prote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ificación considera las AP como parte del paisaje circun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40328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403280" cy="142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403280" cy="129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40328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87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EN LA PLANIFICACIÓN DE ÁREAS PROTEGIDA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619280" y="1052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ndencia a favorecer procesos más participativos y menos costo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471680" y="1989000"/>
            <a:ext cx="77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nfasis en Manejo Adapt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conoce la necesidad de planificar espacios más amplios que las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la necesaria inserción de las áreas protegidas en el desarrollo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onal y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planes de manejo por lo general contemplan la implemen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yectos de uso sostenible, programas educativos, de investig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de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sidera imprescindible en la planificación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actores involuc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TENDENCIAS ACTUALES EN LA GESTIÓN DE LAS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201400" y="1341360"/>
            <a:ext cx="66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evidencia de que las AP deberían estar conectad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isajes adyac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109600" y="2224080"/>
            <a:ext cx="67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s atención es requerida respecto a la relación de las AP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alred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183760" y="3160800"/>
            <a:ext cx="69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nder mejor cómo las áreas protegidas benefician e imp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a las comunidades hum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124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256840" y="395280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es como Bawa, Seidler y Raven (2006), sug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andonar” modelos clásicos de conservación a modal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optadas por comunidades humanas las cuales incorpo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mensiones ecológicas, sociales y 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166920" y="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ACTUALES EN LA GESTIÓN DE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08240" y="836640"/>
            <a:ext cx="695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stóricamente, la gestión de AP separó elementos ec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biodiversidad de procesos antropocéntricos que amenaza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113560" y="184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sin embargo, y especialmente en países en vía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inámica creada por el crecimiento exponencial de la pobl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xpansión económica y globalización ha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ese enfoque esté prácticamente obso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221200" y="314172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comercial, crecimiento y cambio en el consu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por energía en países ricos y pobres compite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ervas naturales y la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2202480" y="4149720"/>
            <a:ext cx="65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ociedad debe tomar responsabilidad y tomar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herentes respecto la conservación de los sistemas na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el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ACTUALES EN LA GESTIÓN DE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40520" y="1792440"/>
            <a:ext cx="641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ptos emerg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Socio - ecológicos: complemento del concep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sistemas natura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sistemas emer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251440" y="2143080"/>
            <a:ext cx="69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a través del cual metas son alcan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rdi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lógico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el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vi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tiga probl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el objetivo de alcan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sarrollo soste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250720" y="2143080"/>
            <a:ext cx="626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de la gestión de áreas proteg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Bartol et al. 1998; Robbins et al.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b050"/>
                </a:solidFill>
                <a:latin typeface="Arial"/>
              </a:rPr>
              <a:t>Inputs al proceso de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CuadroTexto"/>
          <p:cNvSpPr/>
          <p:nvPr/>
        </p:nvSpPr>
        <p:spPr>
          <a:xfrm>
            <a:off x="3643200" y="2286000"/>
            <a:ext cx="1698840" cy="22842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puts al proceso de gestión-alcanzando las metas del área a través de la incorporación de las funciones de gestión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nific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6000840" y="2143080"/>
            <a:ext cx="1698480" cy="459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egislac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CuadroTexto"/>
          <p:cNvSpPr/>
          <p:nvPr/>
        </p:nvSpPr>
        <p:spPr>
          <a:xfrm>
            <a:off x="6072120" y="3500280"/>
            <a:ext cx="1698840" cy="459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 de gobierno y prior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6143760" y="4500720"/>
            <a:ext cx="1285920" cy="82404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venciones nacionales e internacionales/acuer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2714760" y="5357880"/>
            <a:ext cx="1714320" cy="459000"/>
          </a:xfrm>
          <a:prstGeom prst="rect">
            <a:avLst/>
          </a:prstGeom>
          <a:solidFill>
            <a:srgbClr val="9ed3d7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spiraciones de la comun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1285920" y="3857760"/>
            <a:ext cx="1698480" cy="45900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querimientos de los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1214280" y="2643120"/>
            <a:ext cx="1698840" cy="4590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sultados de investig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CuadroTexto"/>
          <p:cNvSpPr/>
          <p:nvPr/>
        </p:nvSpPr>
        <p:spPr>
          <a:xfrm>
            <a:off x="3571920" y="1428840"/>
            <a:ext cx="1698480" cy="276480"/>
          </a:xfrm>
          <a:prstGeom prst="rect">
            <a:avLst/>
          </a:prstGeom>
          <a:solidFill>
            <a:srgbClr val="cc00cc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egislación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12 Conector recto de flecha"/>
          <p:cNvCxnSpPr>
            <a:stCxn id="66" idx="2"/>
          </p:cNvCxnSpPr>
          <p:nvPr/>
        </p:nvCxnSpPr>
        <p:spPr>
          <a:xfrm flipH="1">
            <a:off x="4357440" y="1704960"/>
            <a:ext cx="64080" cy="510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8" name="14 Conector recto de flecha"/>
          <p:cNvCxnSpPr>
            <a:stCxn id="60" idx="1"/>
          </p:cNvCxnSpPr>
          <p:nvPr/>
        </p:nvCxnSpPr>
        <p:spPr>
          <a:xfrm flipH="1">
            <a:off x="5428800" y="2372400"/>
            <a:ext cx="572400" cy="270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16 Conector recto de flecha"/>
          <p:cNvCxnSpPr>
            <a:stCxn id="61" idx="1"/>
          </p:cNvCxnSpPr>
          <p:nvPr/>
        </p:nvCxnSpPr>
        <p:spPr>
          <a:xfrm flipH="1" flipV="1">
            <a:off x="5500080" y="3571200"/>
            <a:ext cx="572040" cy="15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0" name="18 Conector recto de flecha"/>
          <p:cNvCxnSpPr>
            <a:stCxn id="62" idx="1"/>
          </p:cNvCxnSpPr>
          <p:nvPr/>
        </p:nvCxnSpPr>
        <p:spPr>
          <a:xfrm flipH="1" flipV="1">
            <a:off x="5428440" y="4357800"/>
            <a:ext cx="715320" cy="559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20 Conector recto de flecha"/>
          <p:cNvCxnSpPr/>
          <p:nvPr/>
        </p:nvCxnSpPr>
        <p:spPr>
          <a:xfrm flipV="1">
            <a:off x="3427920" y="4714200"/>
            <a:ext cx="50076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2" name="22 Conector recto de flecha"/>
          <p:cNvCxnSpPr>
            <a:stCxn id="65" idx="3"/>
          </p:cNvCxnSpPr>
          <p:nvPr/>
        </p:nvCxnSpPr>
        <p:spPr>
          <a:xfrm flipV="1">
            <a:off x="2913120" y="2857320"/>
            <a:ext cx="659520" cy="16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3" name="24 Conector recto de flecha"/>
          <p:cNvCxnSpPr>
            <a:stCxn id="64" idx="3"/>
          </p:cNvCxnSpPr>
          <p:nvPr/>
        </p:nvCxnSpPr>
        <p:spPr>
          <a:xfrm flipV="1">
            <a:off x="2984400" y="3785760"/>
            <a:ext cx="588240" cy="30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4" name="26 CuadroTexto"/>
          <p:cNvSpPr/>
          <p:nvPr/>
        </p:nvSpPr>
        <p:spPr>
          <a:xfrm>
            <a:off x="444960" y="635796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Adaptado de Worboys et al.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 CuadroTexto"/>
          <p:cNvSpPr/>
          <p:nvPr/>
        </p:nvSpPr>
        <p:spPr>
          <a:xfrm>
            <a:off x="727560" y="1571760"/>
            <a:ext cx="2460600" cy="1554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 de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área y determin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ómo pueden 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canzadas de la mej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285840" y="4429080"/>
            <a:ext cx="3000240" cy="10674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IDERAZ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bajar con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desarrollar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logran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5724360" y="1571760"/>
            <a:ext cx="2113200" cy="1554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GAN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tribución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person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rsos financie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alcanzar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5500800" y="4500720"/>
            <a:ext cx="294300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r el rend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alcanzar meta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pect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Elipse"/>
          <p:cNvSpPr/>
          <p:nvPr/>
        </p:nvSpPr>
        <p:spPr>
          <a:xfrm>
            <a:off x="3000240" y="2357280"/>
            <a:ext cx="2857680" cy="257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ETAS DEL Á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316440" y="6429240"/>
            <a:ext cx="65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Adaptado de Bartol et al. (1998); Robbins et al. (20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187280" cy="138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187280" cy="14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187280" cy="129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18728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 PROTEGI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724760" y="2651040"/>
            <a:ext cx="1741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R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4451400" y="2075040"/>
            <a:ext cx="1655640" cy="97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 rot="16872000">
            <a:off x="2958840" y="295380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 rot="10800000">
            <a:off x="4500360" y="457200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 rot="5746800">
            <a:off x="5956200" y="309852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287400" y="2071800"/>
            <a:ext cx="1401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43120" y="4500720"/>
            <a:ext cx="13399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VI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3"/>
          <p:cNvSpPr/>
          <p:nvPr/>
        </p:nvSpPr>
        <p:spPr>
          <a:xfrm>
            <a:off x="3948120" y="2786040"/>
            <a:ext cx="2552760" cy="1643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AS DEL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JOR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436160" y="3214800"/>
            <a:ext cx="1107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436800" y="4857840"/>
            <a:ext cx="148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estratég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Para alcanzar meta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Analizan formas de alcanzar metas 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En áreas protegidas ejemplo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ció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de presupuestos y planificación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táct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stablecen objetivos tácticos que ayudan en la implementación de planes estraté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Indican cómo objetivos de un plan estratégico deben ser alcan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picamente establecen un set de pasos para alcanzar cada meta tác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enos planes tácticos aseguran una eficiente y efectiva asignación de los recursos inter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operacion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tas de corto plazo, derivadas de planes estratégicos y tác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ibuyen a alcanzar metas t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Creación de un curso de entrenamiento del personal que enfoque en un mejor servicio para visitantes de u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3:24:36Z</dcterms:created>
  <dc:creator>Claudia</dc:creator>
  <dc:description/>
  <dc:language>en-US</dc:language>
  <cp:lastModifiedBy>Claudia</cp:lastModifiedBy>
  <dcterms:modified xsi:type="dcterms:W3CDTF">2010-08-17T03:35:23Z</dcterms:modified>
  <cp:revision>68</cp:revision>
  <dc:subject/>
  <dc:title>Conceptos y fundamentos de gestión en áreas silvestres</dc:title>
</cp:coreProperties>
</file>