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F1F06E-F1FB-4593-B21D-F2EFCA697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9F9C5-1988-4DBD-A09E-7BBE70D90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A75B7-E3E8-4B31-BF55-F40225BA79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F6B04-2838-461C-986C-E4AEBB74C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1A250-6612-4CE2-A8A9-431AE670C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80A53-624C-429D-8BA6-A2B443CA4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E2A839-6905-4203-877A-9140C7AF5C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F7A3B-A286-4567-B817-29815B2C8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908B5-2096-41C7-979E-F1374DF41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320D4-74E3-45E9-9BA7-4FE191280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9B6D-873D-41E6-884A-9DE67735E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43BB9-9FFC-4AA2-A5C5-B4AEFF917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8A1F7-BAA8-4B98-B302-CFC23B7B151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Gestión de áreas silvestre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s Metodológicas para la elaboración de Planes de Manejo</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7 de septiembre 20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65"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4"/>
          <p:cNvSpPr/>
          <p:nvPr/>
        </p:nvSpPr>
        <p:spPr>
          <a:xfrm>
            <a:off x="231840" y="1047600"/>
            <a:ext cx="85168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roceso de ordenación territorial consistente en sectorizar la superficie del área protegida en zonas con un manejo homogéneo, que serán sometidas a determinadas normas de uso a fin de cumplir los objetivos planteados para el á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os elementos deben considerarse para la zonific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Los recursos naturales y valores culturales tienen características y capacidades de alto valor en las áreas protegid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El manejo de las áreas debe estar enfocado a mantener esas características y particularidades para asegurar que los objetivos de manejo se cumplan a través del tiemp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68"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4"/>
          <p:cNvSpPr/>
          <p:nvPr/>
        </p:nvSpPr>
        <p:spPr>
          <a:xfrm>
            <a:off x="231840" y="1047600"/>
            <a:ext cx="851688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 realiza en función de los siguientes fa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gularidad de los recu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nicidad (presencia de especies únicas, especies endémic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Fragilidad de los recursos y ambien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actual o potencial de los recu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Potencialidades para el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Limitantes para el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Necesidades de administración y servici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actual de los terrenos periféric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71"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 Box 4"/>
          <p:cNvSpPr/>
          <p:nvPr/>
        </p:nvSpPr>
        <p:spPr>
          <a:xfrm>
            <a:off x="231840" y="1047600"/>
            <a:ext cx="851688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El análisis de información dará origen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ectores frágiles y de gran valor respecto a la diversidad biológica que contienen y a su estado de conserv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uperficies poco alteradas, de alto valor ecológico y con muy limitadas capacidades de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en buen estado de conservación y con atractivos para un uso público moderad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con importantes atractivos para el ecoturismo y la educación ambiental localizados en ambientes poco frági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terrenos alterados que requieren algún tipo de restaur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aptos para la localización de infraestructura y la generación de servicios para la administr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Sectores aptos para la utilización sostenible y comercial de formaciones vegetales o especies de fauna silvest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74"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Text Box 4"/>
          <p:cNvSpPr/>
          <p:nvPr/>
        </p:nvSpPr>
        <p:spPr>
          <a:xfrm>
            <a:off x="231840" y="1047600"/>
            <a:ext cx="851688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Zonif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Los tipos de zonas a utilizar están íntimamente ligados a los objetivos de manejo de las áreas protegidas, enunciados conforme a las aptitudes y potencialidades del área. Así habrá 6 zonas diferentes orientadas a las siguientes activida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servación, preservación, protección e investig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Recreación, ecoturismo y educación ambiental para el uso públic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Preservación de valores histórico cultural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sostenible de recurso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Administració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 </a:t>
            </a:r>
            <a:r>
              <a:rPr b="1" lang="es-CL" sz="2000" spc="-1" strike="noStrike">
                <a:solidFill>
                  <a:srgbClr val="000000"/>
                </a:solidFill>
                <a:latin typeface="Arial"/>
              </a:rPr>
              <a:t>Uso de terrenos periféricos y conectiv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77"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 Box 5"/>
          <p:cNvSpPr/>
          <p:nvPr/>
        </p:nvSpPr>
        <p:spPr>
          <a:xfrm>
            <a:off x="376200" y="1216080"/>
            <a:ext cx="876780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conservación, preservación, protección e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 intangible: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ctores menos alterados que incluyen ambientes frágiles, únicos 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presentativos de la biodiversidad regional, en buen estado de conserv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bjetivo básico: mantener la pristinidad del ambiente natural, sin uso público donde la evolución de los procesos biológicos y físicos es mantenida sin intervención human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 posibilita la investigación científica en forma regula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no se permite el uso público, no existen instalaciones de ninguna naturaleza, el manejo de focaliza en mantener las condiciones naturales de los terrenos, se permite la investigación científica aprobada y reglamenta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81"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5"/>
          <p:cNvSpPr/>
          <p:nvPr/>
        </p:nvSpPr>
        <p:spPr>
          <a:xfrm>
            <a:off x="376200" y="765000"/>
            <a:ext cx="8767800" cy="66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conservación, preservación, protección e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b) Zona primitiv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Para aquellos sectores en estado natural y en apropiado estado de conservación por haber recibido poca alteración human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ede contener porciones únicas o elementos representativos de un ecosistema, especies de flora o fauna y otros elementos naturales que resisten cierto grado de uso público sin que cause impacto negativo.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objetivo del manejo es preservar el ambiente natural inalterado o poco intervenido y en forma simultánea posibilitar la investigación científica, la educación ambiental y el ecoturismo en condiciones rústica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Uso público permitido en condiciones muy rústicas, con senderos para caminatas (por ej.). Se puede disponer de materiales escritos para la educación ambiental e información de los visitantes respecto a los recursos de la zona. El manejo se centra en mantener condiciones naturales de los terrenos  impidiendo cualquier alteración de la diversidad biológica. Se permite investigación científica aprobada y reglamenta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85"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5"/>
          <p:cNvSpPr/>
          <p:nvPr/>
        </p:nvSpPr>
        <p:spPr>
          <a:xfrm>
            <a:off x="376200" y="765000"/>
            <a:ext cx="8767800" cy="4757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conservación, preservación, protección e investigació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c) Zona de recuperació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e considera una zona transitoria en el tiempo y se utiliza en aquellos sectores del área donde la vegetación natural, la fauna nativa o suelos han sido alterado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Una vez que esta zona es rehabilitada se podrá asignar  otra categoría en forma permanent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objetivo del manejo es detener la degradación de los recursos naturals o bien restaurar las condiciones naturales del secotr.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permite sólo actividades orientadas a restaurar la vegetación, fauna, o los suelos. Excluye el uso por parte de visitantes, excepto eventuales actividades de educación ambiental guiadas, para dar a conocer los métodos y técnicas desarrollados en este proceso conservacionista. Permite existencia de eventuales instalaciones para investigación o experiment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89"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5"/>
          <p:cNvSpPr/>
          <p:nvPr/>
        </p:nvSpPr>
        <p:spPr>
          <a:xfrm>
            <a:off x="376200" y="765000"/>
            <a:ext cx="876780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s para la recreación, ecoturismo y educación ambient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 Zona de uso extensiv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Zona que se utiliza para sectores con baja alteración de los recursos naturales, representativos del área protegida que ameritan una protección compatible con un uso público moderado y extensivo, evitando concentraciones del uso en superficies pequeña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l uso público en forma de recreación, investigación controlada, monitoreo ambiental, ecoturismo o educación ambiental debe ser organizado y programado para causar mínimo impacto ambiental.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bjetivo de manejo es preservar la diversidad biológica y otros componentes naturales, posibilitando el acceso de visitantes en forma controlada y para actividades debidamente planificadas, acorde con la capacidad de carga de los terreno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Normas de uso: uso público en condiciones extensivas y en sectores debidamente habilitados pudiendo disponerse de instalaciones específicas para este fin (ej. senderos caminatas, refugios de montaña, sectores de acampar, picnic). Se puede disponer de materiales escritos e instalaciones para la educación ambiental. Investigación científic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93"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Text Box 5"/>
          <p:cNvSpPr/>
          <p:nvPr/>
        </p:nvSpPr>
        <p:spPr>
          <a:xfrm>
            <a:off x="376200" y="765000"/>
            <a:ext cx="8767800" cy="5854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la recreación, ecoturismo y educación ambient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Zona de uso intensiv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concentra el uso público del área protegida.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lmente son terrenos que ya presentan un cierto grado de alteración pero resultan atractivos para los visitantes por su calidad escénic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be contener recursos naturales interesantes para la educación ambiental.</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 facilitar el uso público concentrado en términos de ecoturismo, educación ambiental, recreación, investigación, monitoreo ambiental, etc.</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s de uso: uso público permitido en condiciones intensivas y sectores debidamente habilitados con instalaciones específicas para este fin. Diseño arquitectónico de las instalaciones de uso público debe responder a criterios que aseguren una uniformidad de estil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l Manejo se centra en posibilitar el uso intensivo por parte de los visitantes, compatible con mantener las condiciones naturales de los terrenos. Permite investigación científica. Permite construcción de caminos para vehículos motorizad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97"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 Box 5"/>
          <p:cNvSpPr/>
          <p:nvPr/>
        </p:nvSpPr>
        <p:spPr>
          <a:xfrm>
            <a:off x="376200" y="765000"/>
            <a:ext cx="8767800" cy="42087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la preservación de valores histórico cultural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Zona histórico cultura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se usa donde existan rasgos o evidencias históricas, arqueológicas, paleontológicas y otras manifestaciones culturales.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uso público se establecerá sólo cuando las características de estos valores lo permitan.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objetivo de manejo es proteger y preservar sitios históricos asociados a ambientes naturales del área protegida.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s de uso: uso público habilitado en sectores autorizados, el manejo se centra en facilitar el uso público compatible con el objetivo de preservar valores bajo protección. Investigación científica debidamente aprob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360"/>
            <a:ext cx="8229600" cy="561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s metodológicas para Planes de Manejo</a:t>
            </a:r>
            <a:endParaRPr b="0" lang="en-US" sz="28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iseño metodológico para la elaboración de planes de manejo en áreas protegi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 Recopilación y análisis de información existente y visualización de objetivos de man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I: Recopilación y análisis de nueva información: inventario de recursos y valo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II: Análisis integral de la inform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IV: Programa general del manejo: la zonificac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 Programas específicos del manej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I: relación con la comunidad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II: Programación de las actividades del pl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tapa VIII: Presentación del Plan de Manej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101"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376200" y="765000"/>
            <a:ext cx="8767800" cy="558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el uso sostenible de recurso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Zona de manejo directo de recurso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contiene recursos en una condición que son susceptibles para el uso sostenible. Ej. producción maderer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s de uso: El manejo sostenible es posible en sectores habilitados para este fin. El uso sostenible debe estar libre de cualquier proceso de contaminación, degradación de recursos e impacto ambiental adverso. El manejo puede referirse a una amplia gama de alternativas de acuerdo a las potencialidades y características del área protegid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para la administración:</a:t>
            </a:r>
            <a:endParaRPr b="0" lang="en-US" sz="1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de uso especial: se usa para concentrar en ella todas las instalaciones y servicios necesarios para el adecuado manejo del área protegida. Por lo gral. Se usan terrenos de reducida extensión que ya están alterados por la acción antrópic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Normas de uso: zona debe estar aislada del uso público, tratar de mitigar impactos ambientales o acúst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V: Zonificación</a:t>
            </a:r>
            <a:endParaRPr b="0" lang="en-US" sz="2800" spc="-1" strike="noStrike">
              <a:solidFill>
                <a:srgbClr val="000000"/>
              </a:solidFill>
              <a:latin typeface="Arial"/>
            </a:endParaRPr>
          </a:p>
        </p:txBody>
      </p:sp>
      <p:sp>
        <p:nvSpPr>
          <p:cNvPr id="105" name="Text Box 3"/>
          <p:cNvSpPr/>
          <p:nvPr/>
        </p:nvSpPr>
        <p:spPr>
          <a:xfrm>
            <a:off x="35892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4"/>
          <p:cNvSpPr/>
          <p:nvPr/>
        </p:nvSpPr>
        <p:spPr>
          <a:xfrm>
            <a:off x="231840" y="1047600"/>
            <a:ext cx="851688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5"/>
          <p:cNvSpPr/>
          <p:nvPr/>
        </p:nvSpPr>
        <p:spPr>
          <a:xfrm>
            <a:off x="376200" y="765000"/>
            <a:ext cx="8767800" cy="39344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s para terrenos periféricos y conectivida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 Zona de amortiguamient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Zona que se usa para expandir los beneficios de la conservación de los recursos y valores más allá de los límites del área protegida.</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Normalmente constituyen una transición de uso conservacionistas a usos productivos tradicionale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 Zona de corredor biológico:</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iempre que sea posible se deberá intentar la conectividad entre áreas protegida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 modalidad requiere establecer convenios de manejo con propietarios vecinos para favorecer la migración de especies y el flujo de recursos genético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58560" y="-360"/>
            <a:ext cx="878508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actores que afectan la información a recopila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xtensión del área protegi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Tipos de ambientes presentes (terrestres, costeros, marin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mplejidad del ambiente natur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etas de la institución o propietari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Uso actu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Manejo histórico del á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graphicFrame>
        <p:nvGraphicFramePr>
          <p:cNvPr id="48" name=""/>
          <p:cNvGraphicFramePr/>
          <p:nvPr/>
        </p:nvGraphicFramePr>
        <p:xfrm>
          <a:off x="457200" y="1268280"/>
          <a:ext cx="8229600" cy="5173920"/>
        </p:xfrm>
        <a:graphic>
          <a:graphicData uri="http://schemas.openxmlformats.org/drawingml/2006/table">
            <a:tbl>
              <a:tblPr/>
              <a:tblGrid>
                <a:gridCol w="4114800"/>
                <a:gridCol w="4114800"/>
              </a:tblGrid>
              <a:tr h="64800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Arial"/>
                        </a:rPr>
                        <a:t>Flora silvest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u="sng">
                          <a:solidFill>
                            <a:srgbClr val="000000"/>
                          </a:solidFill>
                          <a:uFillTx/>
                          <a:latin typeface="Arial"/>
                        </a:rPr>
                        <a:t>Fauna silvestr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formaciones vegetal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bundancia y riqueza de espec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pecies ppales. que caracterizan a cada agrup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actual de conservació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ioridad nacional para conservació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amenazad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actual de conservación (ppales. procesos y agentes de amenaz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migratori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4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amenazad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demism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demismo de especies vegetale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ol trófico de las especies de faun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exótic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sencia de especies exótica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9" name="Text Box 48"/>
          <p:cNvSpPr/>
          <p:nvPr/>
        </p:nvSpPr>
        <p:spPr>
          <a:xfrm>
            <a:off x="471600" y="765000"/>
            <a:ext cx="209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bióticos</a:t>
            </a:r>
            <a:endParaRPr b="0" lang="en-US" sz="1800" spc="-1" strike="noStrike">
              <a:solidFill>
                <a:srgbClr val="000000"/>
              </a:solidFill>
              <a:latin typeface="Arial"/>
            </a:endParaRPr>
          </a:p>
        </p:txBody>
      </p:sp>
      <p:sp>
        <p:nvSpPr>
          <p:cNvPr id="50" name="Text Box 49"/>
          <p:cNvSpPr/>
          <p:nvPr/>
        </p:nvSpPr>
        <p:spPr>
          <a:xfrm>
            <a:off x="385560" y="6553080"/>
            <a:ext cx="335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daptado de Oltremari &amp; Thelen (20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52" name="Text Box 32"/>
          <p:cNvSpPr/>
          <p:nvPr/>
        </p:nvSpPr>
        <p:spPr>
          <a:xfrm>
            <a:off x="468360" y="765000"/>
            <a:ext cx="842472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abiót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Hidrografí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scripción y clasificación de los cursos y cuerpos de agu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Depósitos de aguas subterráne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 o valor dentro del área como servicio básico o elemento para recreación y turism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Externalidades del régimen hídrico: uso o valor fuera de los límites del á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Relieve y suel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pales. formaciones o unidades geomorfológic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rincipales elevacio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aracterización topográfica del á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racterísticas físicas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Cli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emperatura máxima y mínima mens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Tipos y régimen de precipitacio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Humedad relativa media mensu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irección y velocidad media mensual de los vientos predominan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Variaciones estacionales (época estival vs época inverna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54" name="Text Box 3"/>
          <p:cNvSpPr/>
          <p:nvPr/>
        </p:nvSpPr>
        <p:spPr>
          <a:xfrm>
            <a:off x="468360" y="765000"/>
            <a:ext cx="8424720" cy="640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consuntivos actu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dería, agricultura, forestal, silvoagropecuario, otr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Usos no consuntivos actual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reación, ecoturismo, educación ambiental, investigac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status legal del área: Caracterización del tipo de propie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ntecedentes cartográficos y descriptiv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pa de uso actual del suel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lanos topográfic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Plano de ubicación y acceso del á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Información histórica predial: ej. fotografías aéreas anterio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alores histórico/culturales asociados al ambiente natural: comunidades tradicionales, lugares históricos, et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cursos y usos del entorno al área protegid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ccesibilidad del áre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Ubicación respecto a centros poblad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ercanía de otras áreas protegida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Asentamientos humano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 Recopilación y Análisis de información existente</a:t>
            </a:r>
            <a:endParaRPr b="0" lang="en-US" sz="2800" spc="-1" strike="noStrike">
              <a:solidFill>
                <a:srgbClr val="000000"/>
              </a:solidFill>
              <a:latin typeface="Arial"/>
            </a:endParaRPr>
          </a:p>
        </p:txBody>
      </p:sp>
      <p:sp>
        <p:nvSpPr>
          <p:cNvPr id="56"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4"/>
          <p:cNvSpPr/>
          <p:nvPr/>
        </p:nvSpPr>
        <p:spPr>
          <a:xfrm>
            <a:off x="242640" y="1073160"/>
            <a:ext cx="8709120" cy="393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Objetivos prelimin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análisis de la información existente permite visualizar de una manera prelimin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ivos de manejo del área protegida que se irán especificando de una man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ás detallada  al incorporar mayor información en el proceso de planif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ivos de planificación estarán acorde con las expectativas de la institu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que administra el área, o con la de sus propietarios, y las potencialidades del áre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otegi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objetivos que en esta etapa se formulen deben ser sometidos a un proces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uidadosa revisión cuando se acumule y analice nueva inform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I: Recopilación y Análisis de nueva información</a:t>
            </a:r>
            <a:endParaRPr b="0" lang="en-US" sz="2800" spc="-1" strike="noStrike">
              <a:solidFill>
                <a:srgbClr val="000000"/>
              </a:solidFill>
              <a:latin typeface="Arial"/>
            </a:endParaRPr>
          </a:p>
        </p:txBody>
      </p:sp>
      <p:sp>
        <p:nvSpPr>
          <p:cNvPr id="59"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Text Box 4"/>
          <p:cNvSpPr/>
          <p:nvPr/>
        </p:nvSpPr>
        <p:spPr>
          <a:xfrm>
            <a:off x="217080" y="1047600"/>
            <a:ext cx="8027640" cy="49726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ecesidades de nueva inform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Organización del trabajo en terre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Generación de cartografía y evaluación de recursos vegetacion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racterización de otros elementos biót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racterización de los elementos abiót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Caracterización de valores histórico cultur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Potencial para el manejo y desarroll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Revisión de los lími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0"/>
            <a:ext cx="8229600" cy="851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Etapa III: Análisis integral de la información</a:t>
            </a:r>
            <a:endParaRPr b="0" lang="en-US" sz="2800" spc="-1" strike="noStrike">
              <a:solidFill>
                <a:srgbClr val="000000"/>
              </a:solidFill>
              <a:latin typeface="Arial"/>
            </a:endParaRPr>
          </a:p>
        </p:txBody>
      </p:sp>
      <p:sp>
        <p:nvSpPr>
          <p:cNvPr id="62" name="Text Box 3"/>
          <p:cNvSpPr/>
          <p:nvPr/>
        </p:nvSpPr>
        <p:spPr>
          <a:xfrm>
            <a:off x="468360" y="765000"/>
            <a:ext cx="8424720" cy="366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4"/>
          <p:cNvSpPr/>
          <p:nvPr/>
        </p:nvSpPr>
        <p:spPr>
          <a:xfrm>
            <a:off x="231840" y="1047600"/>
            <a:ext cx="8516880" cy="43628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etodologías para el análisis integr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Significancia de los recursos y valor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efinición de sectores críticos para la conservación de la diversidad biológic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nálisis de los límit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terminación de las potencialidades de usos y actividad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finición de la categoría de manejo.</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a:t>
            </a:r>
            <a:r>
              <a:rPr b="0" lang="es-CL" sz="2000" spc="-1" strike="noStrike">
                <a:solidFill>
                  <a:srgbClr val="000000"/>
                </a:solidFill>
                <a:latin typeface="Arial"/>
              </a:rPr>
              <a:t>Definición de los objetivos específicos de manej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9T01:34:09Z</dcterms:created>
  <dc:creator>Claudia</dc:creator>
  <dc:description/>
  <dc:language>en-US</dc:language>
  <cp:lastModifiedBy>Claudia</cp:lastModifiedBy>
  <dcterms:modified xsi:type="dcterms:W3CDTF">2010-09-07T03:12:44Z</dcterms:modified>
  <cp:revision>37</cp:revision>
  <dc:subject/>
  <dc:title>Gestión de áreas silvestres</dc:title>
</cp:coreProperties>
</file>