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150B0-5EF8-42F6-8B78-C68A3587D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5B9DC-E88D-4F05-8F2E-435D2FDC9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08D58-1F23-4670-8659-F902BF2DB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1742A-6E91-4802-BD9A-31ED2AC1B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B9552-9130-4913-A2D8-DC8AB7D43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FD8A2-2BD7-4396-AD2F-E93684BE6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6CAFE-9C0A-4726-A9A3-3D4673378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6B0D8-5F35-4625-BE28-FDADE4003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FA600-D49C-4D77-B3F7-8CE8371B1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0B88E-BF80-4023-8E80-E856DD637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8B971-D313-4480-B4BC-4530AC33D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D3674-95AA-4202-99B0-BBE009BF0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FDCC-A8FA-44F7-8295-D39088D8A0E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Gestión de áreas silvestr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s Metodológicas para la elaboración de Planes de Manej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7 de septiembre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65"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4"/>
          <p:cNvSpPr/>
          <p:nvPr/>
        </p:nvSpPr>
        <p:spPr>
          <a:xfrm>
            <a:off x="231840" y="1047600"/>
            <a:ext cx="85168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ceso de ordenación territorial consistente en sectorizar la superficie del área protegida en zonas con un manejo homogéneo, que serán sometidas a determinadas normas de uso a fin de cumplir los objetivos planteados para el á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s elementos deben considerarse para la zonific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recursos naturales y valores culturales tienen características y capacidades de alto valor en las áreas protegid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 manejo de las áreas debe estar enfocado a mantener esas características y particularidades para asegurar que los objetivos de manejo se cumplan a través del tie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68"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4"/>
          <p:cNvSpPr/>
          <p:nvPr/>
        </p:nvSpPr>
        <p:spPr>
          <a:xfrm>
            <a:off x="231840" y="1047600"/>
            <a:ext cx="85168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 realiza en función de los siguientes fac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gularidad de los recurs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nicidad (presencia de especies únicas, especies endémic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Fragilidad de los recursos y ambien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actual o potencial de los recurs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Potencialidades para el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Limitantes para el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Necesidades de administración y servici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actual de los terrenos perifér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71"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4"/>
          <p:cNvSpPr/>
          <p:nvPr/>
        </p:nvSpPr>
        <p:spPr>
          <a:xfrm>
            <a:off x="231840" y="1047600"/>
            <a:ext cx="8516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análisis de información dará origen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ctores frágiles y de gran valor respecto a la diversidad biológica que contienen y a su estado de conserv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uperficies poco alteradas, de alto valor ecológico y con muy limitadas capacidades de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en buen estado de conservación y con atractivos para un uso público moderad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con importantes atractivos para el ecoturismo y la educación ambiental localizados en ambientes poco frági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terrenos alterados que requieren algún tipo de restaur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aptos para la localización de infraestructura y la generación de servicios para la administr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aptos para la utilización sostenible y comercial de formaciones vegetales o especies de fauna silvest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74"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4"/>
          <p:cNvSpPr/>
          <p:nvPr/>
        </p:nvSpPr>
        <p:spPr>
          <a:xfrm>
            <a:off x="231840" y="1047600"/>
            <a:ext cx="85168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os tipos de zonas a utilizar están íntimamente ligados a los objetivos de manejo de las áreas protegidas, enunciados conforme a las aptitudes y potencialidades del área. Así habrá 6 zonas diferentes orientadas a las siguientes activida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servación, preservación, protección e investig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Recreación, ecoturismo y educación ambiental para el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Preservación de valores histórico cultura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sostenible de recurs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Administr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de terrenos periféricos y conectiv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77"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5"/>
          <p:cNvSpPr/>
          <p:nvPr/>
        </p:nvSpPr>
        <p:spPr>
          <a:xfrm>
            <a:off x="376200" y="1216080"/>
            <a:ext cx="876780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conservación, preservación, protección e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 intangible: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tores menos alterados que incluyen ambientes frágiles, únicos 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presentativos de la biodiversidad regional, en buen estado de conserv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bjetivo básico: mantener la pristinidad del ambiente natural, sin uso público donde la evolución de los procesos biológicos y físicos es mantenida sin intervención human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 posibilita la investigación científica en forma regula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no se permite el uso público, no existen instalaciones de ninguna naturaleza, el manejo de focaliza en mantener las condiciones naturales de los terrenos, se permite la investigación científica aprobada y reglamenta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81"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5"/>
          <p:cNvSpPr/>
          <p:nvPr/>
        </p:nvSpPr>
        <p:spPr>
          <a:xfrm>
            <a:off x="376200" y="765000"/>
            <a:ext cx="876780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conservación, preservación, protección e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 Zona primitiv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Para aquellos sectores en estado natural y en apropiado estado de conservación por haber recibido poca alteración human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ede contener porciones únicas o elementos representativos de un ecosistema, especies de flora o fauna y otros elementos naturales que resisten cierto grado de uso público sin que cause impacto negativ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objetivo del manejo es preservar el ambiente natural inalterado o poco intervenido y en forma simultánea posibilitar la investigación científica, la educación ambiental y el ecoturismo en condiciones rústic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Uso público permitido en condiciones muy rústicas, con senderos para caminatas (por ej.). Se puede disponer de materiales escritos para la educación ambiental e información de los visitantes respecto a los recursos de la zona. El manejo se centra en mantener condiciones naturales de los terrenos  impidiendo cualquier alteración de la diversidad biológica. Se permite investigación científica aprobada y reglamenta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85"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5"/>
          <p:cNvSpPr/>
          <p:nvPr/>
        </p:nvSpPr>
        <p:spPr>
          <a:xfrm>
            <a:off x="376200" y="765000"/>
            <a:ext cx="8767800" cy="475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conservación, preservación, protección e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 Zona de recuperació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 considera una zona transitoria en el tiempo y se utiliza en aquellos sectores del área donde la vegetación natural, la fauna nativa o suelos han sido alterado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Una vez que esta zona es rehabilitada se podrá asignar  otra categoría en forma permanent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objetivo del manejo es detener la degradación de los recursos naturals o bien restaurar las condiciones naturales del secotr.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permite sólo actividades orientadas a restaurar la vegetación, fauna, o los suelos. Excluye el uso por parte de visitantes, excepto eventuales actividades de educación ambiental guiadas, para dar a conocer los métodos y técnicas desarrollados en este proceso conservacionista. Permite existencia de eventuales instalaciones para investigación o experimen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89"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5"/>
          <p:cNvSpPr/>
          <p:nvPr/>
        </p:nvSpPr>
        <p:spPr>
          <a:xfrm>
            <a:off x="376200" y="765000"/>
            <a:ext cx="8767800" cy="612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recreación, ecoturismo y educación ambient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 Zona de uso extensiv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 que se utiliza para sectores con baja alteración de los recursos naturales, representativos del área protegida que ameritan una protección compatible con un uso público moderado y extensivo, evitando concentraciones del uso en superficies pequeña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uso público en forma de recreación, investigación controlada, monitoreo ambiental, ecoturismo o educación ambiental debe ser organizado y programado para causar mínimo impacto ambiental.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bjetivo de manejo es preservar la diversidad biológica y otros componentes naturales, posibilitando el acceso de visitantes en forma controlada y para actividades debidamente planificadas, acorde con la capacidad de carga de los terreno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uso público en condiciones extensivas y en sectores debidamente habilitados pudiendo disponerse de instalaciones específicas para este fin (ej. senderos caminatas, refugios de montaña, sectores de acampar, picnic). Se puede disponer de materiales escritos e instalaciones para la educación ambiental. Investigación científ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93"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5"/>
          <p:cNvSpPr/>
          <p:nvPr/>
        </p:nvSpPr>
        <p:spPr>
          <a:xfrm>
            <a:off x="376200" y="765000"/>
            <a:ext cx="876780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la recreación, ecoturismo y educación ambient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Zona de uso intensiv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concentra el uso público del área protegid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lmente son terrenos que ya presentan un cierto grado de alteración pero resultan atractivos para los visitantes por su calidad escénic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contener recursos naturales interesantes para la educación ambient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facilitar el uso público concentrado en términos de ecoturismo, educación ambiental, recreación, investigación, monitoreo ambiental, etc.</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s de uso: uso público permitido en condiciones intensivas y sectores debidamente habilitados con instalaciones específicas para este fin. Diseño arquitectónico de las instalaciones de uso público debe responder a criterios que aseguren una uniformidad de estil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l Manejo se centra en posibilitar el uso intensivo por parte de los visitantes, compatible con mantener las condiciones naturales de los terrenos. Permite investigación científica. Permite construcción de caminos para vehículos motoriz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97"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376200" y="765000"/>
            <a:ext cx="876780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la preservación de valores histórico cultur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Zona histórico cultura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se usa donde existan rasgos o evidencias históricas, arqueológicas, paleontológicas y otras manifestaciones culturale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uso público se establecerá sólo cuando las características de estos valores lo permita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objetivo de manejo es proteger y preservar sitios históricos asociados a ambientes naturales del área protegida.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s de uso: uso público habilitado en sectores autorizados, el manejo se centra en facilitar el uso público compatible con el objetivo de preservar valores bajo protección. Investigación científica debidamente aprob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36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s metodológicas para Planes de Manejo</a:t>
            </a:r>
            <a:endParaRPr b="0" lang="en-US" sz="2800" spc="-1" strike="noStrike">
              <a:solidFill>
                <a:srgbClr val="000000"/>
              </a:solidFill>
              <a:latin typeface="Arial"/>
            </a:endParaRPr>
          </a:p>
        </p:txBody>
      </p:sp>
      <p:sp>
        <p:nvSpPr>
          <p:cNvPr id="44" name="PlaceHolder 2"/>
          <p:cNvSpPr>
            <a:spLocks noGrp="1"/>
          </p:cNvSpPr>
          <p:nvPr>
            <p:ph/>
          </p:nvPr>
        </p:nvSpPr>
        <p:spPr>
          <a:xfrm>
            <a:off x="457200" y="836280"/>
            <a:ext cx="8229600" cy="5289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o metodológico para la elaboración de planes de manejo en áreas protegid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 Recopilación y análisis de información existente y visualización de objetivos de man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I: Recopilación y análisis de nueva información: inventario de recursos y valo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II: Análisis integral de la inform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V: Programa general del manejo: la zonific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 Programas específicos del man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I: relación con la comunidad lo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II: Programación de las actividades del pl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III: Presentación del Plan de Manej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101"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376200" y="765000"/>
            <a:ext cx="876780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el uso sostenible de recurs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Zona de manejo directo de recurso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contiene recursos en una condición que son susceptibles para el uso sostenible. Ej. producción maderer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s de uso: El manejo sostenible es posible en sectores habilitados para este fin. El uso sostenible debe estar libre de cualquier proceso de contaminación, degradación de recursos e impacto ambiental adverso. El manejo puede referirse a una amplia gama de alternativas de acuerdo a las potencialidades y características del área proteg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para la administración:</a:t>
            </a: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de uso especial: se usa para concentrar en ella todas las instalaciones y servicios necesarios para el adecuado manejo del área protegida. Por lo gral. Se usan terrenos de reducida extensión que ya están alterados por la acción antrópic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Normas de uso: zona debe estar aislada del uso público, tratar de mitigar impactos ambientales o acúst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105"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5"/>
          <p:cNvSpPr/>
          <p:nvPr/>
        </p:nvSpPr>
        <p:spPr>
          <a:xfrm>
            <a:off x="376200" y="765000"/>
            <a:ext cx="876780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terrenos periféricos y conectivida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Zona de amortiguamient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se usa para expandir los beneficios de la conservación de los recursos y valores más allá de los límites del área protegi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lmente constituyen una transición de uso conservacionistas a usos productivos tradicional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Zona de corredor biológic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empre que sea posible se deberá intentar la conectividad entre áreas protegida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modalidad requiere establecer convenios de manejo con propietarios vecinos para favorecer la migración de especies y el flujo de recursos genétic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58560" y="-360"/>
            <a:ext cx="878508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tores que afectan la información a recopila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tensión del área protegi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pos de ambientes presentes (terrestres, costeros, mari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lejidad del ambiente natu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s de la institución o propie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o act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histórico del á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graphicFrame>
        <p:nvGraphicFramePr>
          <p:cNvPr id="48" name=""/>
          <p:cNvGraphicFramePr/>
          <p:nvPr/>
        </p:nvGraphicFramePr>
        <p:xfrm>
          <a:off x="457200" y="1268280"/>
          <a:ext cx="8229600" cy="5173920"/>
        </p:xfrm>
        <a:graphic>
          <a:graphicData uri="http://schemas.openxmlformats.org/drawingml/2006/table">
            <a:tbl>
              <a:tblPr/>
              <a:tblGrid>
                <a:gridCol w="4114800"/>
                <a:gridCol w="4114800"/>
              </a:tblGrid>
              <a:tr h="648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Arial"/>
                        </a:rPr>
                        <a:t>Flora silvest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Arial"/>
                        </a:rPr>
                        <a:t>Fauna silvest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formaciones veget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bundancia y riqueza de espec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pecies ppales. que caracterizan a cada agrup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actual de conservació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ioridad nacional para conserv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amenazad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actual de conservación (ppales. procesos y agentes de amenaz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migratori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amenazad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demism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demismo de especies vegetal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ol trófico de las especies de fau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exótic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exótic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Text Box 48"/>
          <p:cNvSpPr/>
          <p:nvPr/>
        </p:nvSpPr>
        <p:spPr>
          <a:xfrm>
            <a:off x="471600" y="765000"/>
            <a:ext cx="209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bióticos</a:t>
            </a:r>
            <a:endParaRPr b="0" lang="en-US" sz="1800" spc="-1" strike="noStrike">
              <a:solidFill>
                <a:srgbClr val="000000"/>
              </a:solidFill>
              <a:latin typeface="Arial"/>
            </a:endParaRPr>
          </a:p>
        </p:txBody>
      </p:sp>
      <p:sp>
        <p:nvSpPr>
          <p:cNvPr id="50" name="Text Box 49"/>
          <p:cNvSpPr/>
          <p:nvPr/>
        </p:nvSpPr>
        <p:spPr>
          <a:xfrm>
            <a:off x="385560" y="6553080"/>
            <a:ext cx="33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daptado de Oltremari &amp; Thelen (20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52" name="Text Box 32"/>
          <p:cNvSpPr/>
          <p:nvPr/>
        </p:nvSpPr>
        <p:spPr>
          <a:xfrm>
            <a:off x="468360" y="765000"/>
            <a:ext cx="8424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abiót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Hidrografí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ripción y clasificación de los cursos y cuerpos de agu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ósitos de aguas subterráne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 o valor dentro del área como servicio básico o elemento para recreación y tur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ternalidades del régimen hídrico: uso o valor fuera de los límites del á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lieve y suel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pales. formaciones o unidades geomorfológic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incipales elevacio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racterización topográfica del á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físicas del s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li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mperatura máxima y mínima mens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ipos y régimen de precipitacio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Humedad relativa media mens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irección y velocidad media mensual de los vientos predominan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Variaciones estacionales (época estival vs época invern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54" name="Text Box 3"/>
          <p:cNvSpPr/>
          <p:nvPr/>
        </p:nvSpPr>
        <p:spPr>
          <a:xfrm>
            <a:off x="468360" y="765000"/>
            <a:ext cx="84247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consuntivos actua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dería, agricultura, forestal, silvoagropecuario,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no consuntivos actua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reación, ecoturismo, educación ambiental, investig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tus legal del área: Caracterización del tipo de prop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cedentes cartográficos y descriptiv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pa de uso actual del suel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lanos topográfic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lano de ubicación y acceso del á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formación histórica predial: ej. fotografías aéreas anteri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es histórico/culturales asociados al ambiente natural: comunidades tradicionales, lugares histórico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y usos del entorno al área protegid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esibilidad del á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Ubicación respecto a centros poblad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rcanía de otras áreas protegid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sentamientos human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56"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4"/>
          <p:cNvSpPr/>
          <p:nvPr/>
        </p:nvSpPr>
        <p:spPr>
          <a:xfrm>
            <a:off x="242640" y="1073160"/>
            <a:ext cx="870912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prelimin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nálisis de la información existente permite visualizar de una manera prelimin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ivos de manejo del área protegida que se irán especificando de una man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ás detallada  al incorporar mayor información en el proceso de planif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ivos de planificación estarán acorde con las expectativas de la institu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administra el área, o con la de sus propietarios, y las potencialidades del á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gi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ivos que en esta etapa se formulen deben ser sometidos a un proces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idadosa revisión cuando se acumule y analice nueva in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I: Recopilación y Análisis de nueva información</a:t>
            </a:r>
            <a:endParaRPr b="0" lang="en-US" sz="2800" spc="-1" strike="noStrike">
              <a:solidFill>
                <a:srgbClr val="000000"/>
              </a:solidFill>
              <a:latin typeface="Arial"/>
            </a:endParaRPr>
          </a:p>
        </p:txBody>
      </p:sp>
      <p:sp>
        <p:nvSpPr>
          <p:cNvPr id="59"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4"/>
          <p:cNvSpPr/>
          <p:nvPr/>
        </p:nvSpPr>
        <p:spPr>
          <a:xfrm>
            <a:off x="217080" y="1047600"/>
            <a:ext cx="8027640" cy="4972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ecesidades de nueva inform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Organización del trabajo en terre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eneración de cartografía y evaluación de recursos vegetacion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racterización de otros elementos biót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racterización de los elementos abiót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racterización de valores histórico cultur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otencial para el manejo y desarroll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visión de los lími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II: Análisis integral de la información</a:t>
            </a:r>
            <a:endParaRPr b="0" lang="en-US" sz="2800" spc="-1" strike="noStrike">
              <a:solidFill>
                <a:srgbClr val="000000"/>
              </a:solidFill>
              <a:latin typeface="Arial"/>
            </a:endParaRPr>
          </a:p>
        </p:txBody>
      </p:sp>
      <p:sp>
        <p:nvSpPr>
          <p:cNvPr id="62"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
          <p:cNvSpPr/>
          <p:nvPr/>
        </p:nvSpPr>
        <p:spPr>
          <a:xfrm>
            <a:off x="231840" y="1047600"/>
            <a:ext cx="8516880" cy="43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todologías para el análisis integr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gnificancia de los recursos y valor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sectores críticos para la conservación de la diversidad bioló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álisis de los lími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terminación de las potencialidades de usos y activida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finición de la categoría de manej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finición de los objetivos específicos de man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34:09Z</dcterms:created>
  <dc:creator>Claudia</dc:creator>
  <dc:description/>
  <dc:language>en-US</dc:language>
  <cp:lastModifiedBy>Claudia</cp:lastModifiedBy>
  <dcterms:modified xsi:type="dcterms:W3CDTF">2010-09-07T03:12:44Z</dcterms:modified>
  <cp:revision>37</cp:revision>
  <dc:subject/>
  <dc:title>Gestión de áreas silvestres</dc:title>
</cp:coreProperties>
</file>