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201-73B2-4F0D-89D2-EDC68639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DB7-B524-4E57-9B7D-31D03176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EC1-2B65-4488-B00D-09750385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964-3C4B-4ECC-BE0F-DF32047A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C1D-435F-408D-909A-535600A7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00E-D9B0-415D-9FD9-532D3802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68A-8751-457E-832E-990F3EB6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39B-07D6-47C9-9748-066EC835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AF0-D8CA-497D-8E93-4329924B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462-2DA5-4FE8-8DC3-2CB92595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9FB-2495-466C-AE0D-E7E229F0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21E-AF7A-4CD3-A4FC-C2120BB8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6728-038F-4500-9ACF-401B3EEB43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8786880" cy="642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ENFOQUES DE CONSER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4 de agosto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lan de Mane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o metodológico para la elaboración de planes de manejo en áreas protegi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apa I: Recopilación y análisis de información existente y visualización de objetivos de man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apa II: Recopilación y análisis de nueva información: inventario de recursos y val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apa III: Análisis integral de l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apa IV: Programa general del manejo: la zon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apa V: Programas específicos del man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apa VI: relación con la comunidad lo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apa VII: Programación de las actividades del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apa VIII: Presentación del Plan de Man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96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El Enfoque por Eco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5690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nvención sobre Diversidad Biol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- Proteger y usar la diversidad en una manera susten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i="1" lang="es-ES" sz="2400" spc="-1" strike="noStrike">
                <a:solidFill>
                  <a:srgbClr val="003366"/>
                </a:solidFill>
                <a:latin typeface="Arial"/>
              </a:rPr>
              <a:t>Enfoque por Ecosistemas: e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strategias de conservación económica y socialmente bien informadas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Concepto de ecosiste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un complejo dinámico de plantas, animales y microorganismos comunidades y su ambiente no viviente interactuando como una unidad funcional” 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(Convención sobre Diversidad Biológi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Oportun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- Relaciones entre las personas y su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- Gestión integrada de tierras, aguas y recursos 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viv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- Conservación y uso sustentable en una forma 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equit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Equilibro ent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- Conservació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- Uso sustentab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- Distribución equitativa de los benefi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908000" y="189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l Enfoque por Eco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l Enfoque por Eco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24000" y="1413000"/>
            <a:ext cx="849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Basado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- Métodos científicos enfocando sobre 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diferentes niveles de organización biológ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- Reconoce que los humanos con su diversidad 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cultural son componentes integrales de 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muchos eco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De acuerdo a la Convención sobre Diversidad Biológica, el término “ecosistema” se puede referir a cualquier unidad de funcionamiento a cualquier esc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ste enfoque requiere gestión adaptativa para tratar c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- la compleja y dinámica naturaleza de los ecosistem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- ausencia de completo conocimiento acerca de su 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funcion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l enfoque no excluye otros enfoques de gestión y conservación (Reservas de Biósfera, Áreas Protegidas, Programas de Conservación de especies), sino que prop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- Integrar diferentes enfoques para tratar con situaciones 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comple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- No hay sólo una forma de implementar el enfoque por 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ecosistemas ya que eso depende de condiciones locales, 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cc0000"/>
                </a:solidFill>
                <a:latin typeface="Arial"/>
              </a:rPr>
              <a:t>regionales y glob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omadores de decisión no deberían adoptar medidas de gestión de ecosistemas sin incluir enfoque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y criterios que orientan la gestión en áreas proteg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pio. de la integridad en el ámbito espa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egración en contextos locales, regionales y 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lanificación en varios niveles a nivel del área protegida, nivel regional, nivel 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pio. de la coherencia en el ámbito institucion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coherencia entre diferentes niveles de planificación y gestión de instituciones involucradas a nivel central regional y loc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pio. de la integralidad y continuidad del proces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analizar todos los componentes que afectan la implementación de lo planific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pio. del manejo con niveles adecuados de in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pio. de la función social de la conserv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Criterio de la construcción colec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Criterio de adaptación de metodologí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Criterio sobre conocimiento del área: complejidad del área y su ento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Criterio a responder a los cambios externos e intern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cambios externos como procesos sociales, económicos y polí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riterio del lenguaje utilizado en los docum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riterio sobre la forma de presentación de los document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deben cumplir los requisitos de flexibi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Criterio sobre el acceso a los docum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lanificación en áreas proteg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significa planific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metodológico continuo de análisis y diagnóstico en situaciones determinadas, que establece objetivos concretos para permitir optimizar las acciones destinadas a alcanzar resultados en procesos futu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partir de la planificación se definen objetivos y acciones que se requieren para resolver determinados problemas o mejorar situ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lanificación en áreas proteg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existe una única manera de planificar sino que depende de las características de la realidad a la que se quiere llevar a cabo la plan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Herramientas de plan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 de Manej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mento básico de planificación, técnico, regulador y propositivo, para la gestión de un área protegid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ograr los objetivos de conservación de las áreas protegidas los planes de manejo son herramientas de apoyo y orientación. Específicamente los planes orientan en 3 dimens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n el espacio, diciendo qué se debe y/o qué no se debe hacer en un sitio o lugar 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n el tiempo, diciendo qué se debe y/o qué no se debe hacer en un momento 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En el método, diciendo cómo se debe y/o cómo no se debe ha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7:12:52Z</dcterms:created>
  <dc:creator>Claudia</dc:creator>
  <dc:description/>
  <dc:language>en-US</dc:language>
  <cp:lastModifiedBy>Claudia</cp:lastModifiedBy>
  <dcterms:modified xsi:type="dcterms:W3CDTF">2010-08-24T03:27:32Z</dcterms:modified>
  <cp:revision>30</cp:revision>
  <dc:subject/>
  <dc:title>GESTIÓN DE ÁREAS SILVESTRES</dc:title>
</cp:coreProperties>
</file>